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AD29-8A18-4D54-A367-866A392C2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CBE9-0B40-4F4B-8373-40A0D5C4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C201-5E0A-4ADB-ABBC-A734224F0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A8C5-A9F6-4AB1-96AD-84DAC4681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34C5-B49F-49A5-8058-6004635C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D7F7-E45F-4A89-A314-347A87F1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891D-875F-4E53-8F71-41A8E54F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A265-6D38-458D-B1E6-E79EA593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6C48-09E7-4148-BE80-22994DC9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D004-9BAD-4128-A560-3403626E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0BC2-DA81-4F43-B33C-8CD654A1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F876-D8A8-4474-9204-DEDFDFCD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B152-F132-46EF-BDE0-B8BFFC342C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vetlo-korichnevyj_2"/>
          <p:cNvPicPr/>
          <p:nvPr/>
        </p:nvPicPr>
        <p:blipFill>
          <a:blip r:embed="rId1"/>
          <a:stretch/>
        </p:blipFill>
        <p:spPr>
          <a:xfrm>
            <a:off x="73080" y="-71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1042920" y="1844640"/>
            <a:ext cx="64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Bookman Old Style"/>
              </a:rPr>
              <a:t>«Заколдованное место»     Н.В.Гого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3276720" y="335772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Татьяна Ивановна Савель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 flipV="1" rot="10800000">
            <a:off x="2268000" y="579636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Город Ульяновск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 flipV="1">
            <a:off x="2286000" y="3478320"/>
            <a:ext cx="408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svetlo-korichnevyj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collection214"/>
          <p:cNvPicPr/>
          <p:nvPr/>
        </p:nvPicPr>
        <p:blipFill>
          <a:blip r:embed="rId2"/>
          <a:stretch/>
        </p:blipFill>
        <p:spPr>
          <a:xfrm>
            <a:off x="5006880" y="1700280"/>
            <a:ext cx="3021120" cy="3833640"/>
          </a:xfrm>
          <a:prstGeom prst="rect">
            <a:avLst/>
          </a:prstGeom>
          <a:ln w="25560">
            <a:solidFill>
              <a:srgbClr val="996600"/>
            </a:solidFill>
            <a:miter/>
          </a:ln>
        </p:spPr>
      </p:pic>
      <p:sp>
        <p:nvSpPr>
          <p:cNvPr id="101" name="Rectangle 6"/>
          <p:cNvSpPr/>
          <p:nvPr/>
        </p:nvSpPr>
        <p:spPr>
          <a:xfrm>
            <a:off x="900000" y="1628640"/>
            <a:ext cx="3959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«Ещё не было у нас автора с такою весёлою весёлостью, у нас на севере она великая редкость. Яновский — человек с решительным талантом. Слог его жив, оригинален, исполнен красок и часто вкуса. Во многих местах в нём виден наблюдатель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Е.А.Бараты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2290680" y="2349360"/>
            <a:ext cx="300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900000" y="2602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Отзывы о первой книге Гог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svetlo-korichnevyj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belinsky11-e1340959086683"/>
          <p:cNvPicPr/>
          <p:nvPr/>
        </p:nvPicPr>
        <p:blipFill>
          <a:blip r:embed="rId2"/>
          <a:stretch/>
        </p:blipFill>
        <p:spPr>
          <a:xfrm>
            <a:off x="5154480" y="1846440"/>
            <a:ext cx="2946600" cy="38862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826920" y="1773360"/>
            <a:ext cx="3889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„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Гоголь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, так мило прикинувшийся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Пасичником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, принадлежит к числу необыкновенных талантов. Кому не известны его Вечера на хуторе близ Диканьки? Сколько в них остроумия, веселости, поэзии и народности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.Г.Бели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900000" y="33336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Отзывы о первой книге Гог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svetlo-korichnevyj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image"/>
          <p:cNvPicPr/>
          <p:nvPr/>
        </p:nvPicPr>
        <p:blipFill>
          <a:blip r:embed="rId2"/>
          <a:stretch/>
        </p:blipFill>
        <p:spPr>
          <a:xfrm>
            <a:off x="5076720" y="1600200"/>
            <a:ext cx="3181320" cy="45259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611280" y="189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Какие произведения вошли в   «Вечера на хуторе близ Дикань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290680" y="2133720"/>
            <a:ext cx="912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826920" y="1773360"/>
            <a:ext cx="4032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рочинская ярма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ечер накануне Ивана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уп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Майская ночь,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топлен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опавшая грам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очь перед Рожде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трашная м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ван Федорович Шпонька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его тету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Заколдованное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svetlo-korichnevyj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971640" y="47628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Смысл названия «Вечеров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1042920" y="1341360"/>
            <a:ext cx="7129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Вечер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– время отдохновения, располагающего к задумчивости, мечтательности; время таинственного, чудесного, иррациональ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Хутор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 - так, в противоположность деревне, называется отдельная усадьба, которая расположена на обособленном участке земли, состоящем в пользовании данного хозяина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Диканька –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ечто удаленное от центра, от «света», сохранившее самобытность, далекое от цивилизации. Но в то же время Диканька – и нечто невероятное, «дикие речи, вздор, враки, пустяки» (значение слова «дичь» в словаре Даля), и не только пустяки, но и невероятно страшное, пугающ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svetlo-korichnevyj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art_0000037_06"/>
          <p:cNvPicPr/>
          <p:nvPr/>
        </p:nvPicPr>
        <p:blipFill>
          <a:blip r:embed="rId2"/>
          <a:srcRect l="10476" t="13483" r="43997" b="22021"/>
          <a:stretch/>
        </p:blipFill>
        <p:spPr>
          <a:xfrm>
            <a:off x="4427640" y="1989000"/>
            <a:ext cx="2392200" cy="3436920"/>
          </a:xfrm>
          <a:prstGeom prst="rect">
            <a:avLst/>
          </a:prstGeom>
          <a:ln w="28440">
            <a:solidFill>
              <a:srgbClr val="339966"/>
            </a:solidFill>
            <a:miter/>
          </a:ln>
        </p:spPr>
      </p:pic>
      <p:pic>
        <p:nvPicPr>
          <p:cNvPr id="126" name="Picture 7" descr="art_0000037_06"/>
          <p:cNvPicPr/>
          <p:nvPr/>
        </p:nvPicPr>
        <p:blipFill>
          <a:blip r:embed="rId3"/>
          <a:srcRect l="52378" t="13483" r="8799" b="22021"/>
          <a:stretch/>
        </p:blipFill>
        <p:spPr>
          <a:xfrm>
            <a:off x="6443640" y="1989000"/>
            <a:ext cx="2041560" cy="3435480"/>
          </a:xfrm>
          <a:prstGeom prst="rect">
            <a:avLst/>
          </a:prstGeom>
          <a:ln w="31680">
            <a:solidFill>
              <a:srgbClr val="339966"/>
            </a:solidFill>
            <a:miter/>
          </a:ln>
        </p:spPr>
      </p:pic>
      <p:sp>
        <p:nvSpPr>
          <p:cNvPr id="127" name="Rectangle 8"/>
          <p:cNvSpPr/>
          <p:nvPr/>
        </p:nvSpPr>
        <p:spPr>
          <a:xfrm>
            <a:off x="1042920" y="40464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Рассказчики в «Вечерах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900000" y="1413000"/>
            <a:ext cx="36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Пасечник Рудый Панько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ымышленный «изд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«Вечеров...», котор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азъясняет читателям, ч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материал для книги он получил  от разных рассказчи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удый Панько - не прос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севдоним; в его имени  была скрытая отсылка к реальному автору: писатель был рыжеватым, а будь он простым крестьянином, звали бы его по местному  обычаю не по отцу, 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 деду – Паньком (дед Гоголя –  Панас, Афанасий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svetlo-korichnevyj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684360" y="26028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Рассказчики в «Вечерах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3995640" y="1413000"/>
            <a:ext cx="4321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А один из гостей... Бывало, поставит перед собою палец и, глядя на конец его, пойдет рассказывать - вычурно да хитро, как в печатных книжках!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от, например, знаете ли вы дьяка диканьской церкви? Эх, голова! Что за истории умел он отпускать!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ед мой (царство ему небесное!) умел чудно рассказывать. Бывало, поведет речь - целый день не подвинулся бы с места и все бы слуш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900000" y="1628640"/>
            <a:ext cx="3024360" cy="43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анич в гороховом кафтане Макар Наза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Дьяк диканьской церкви Фома Григор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Дед Фомы Григорьевича  Макс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svetlo-korichnevyj_2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>
            <a:off x="395280" y="189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Жанр рассказов Фомы Григорьеви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755640" y="1341360"/>
            <a:ext cx="360036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Бы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Фоме Григорьевичу принадлежат в цикле 3 повести: «Вечер накануне Ивана Купала», «Пропавшая грамота», «Заколдованное мест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х связь друг с другом, и прежде всего их жанровое единство, отмечены общим для них     подзаголовком – «Быль, рассказанная дьячком ***ской церкв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4284720" y="1700280"/>
            <a:ext cx="388764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о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пределению В.Я. Проппа, «были», или «былички», «бывальщины», - «это рассказы, отражающие народную демонологи, страшные, но название их говорит о том, что в них веря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Былички рассказывают о пережитом самим рассказчиком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Фома Григорьевич ссылается на авторитет деда: «Но главное в рассказах деда было то, что в жизнь свою он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никогда не лгал, и что, бывало, ни скажет, то именно так и был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svetlo-korichnevyj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539640" y="189000"/>
            <a:ext cx="77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«Заколдованное место» в    литературных произведени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86937639_003_Fedoskino__Alenkiy_cvetochek"/>
          <p:cNvPicPr/>
          <p:nvPr/>
        </p:nvPicPr>
        <p:blipFill>
          <a:blip r:embed="rId2"/>
          <a:stretch/>
        </p:blipFill>
        <p:spPr>
          <a:xfrm>
            <a:off x="2484360" y="1536840"/>
            <a:ext cx="2664000" cy="1933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загруженное (3)"/>
          <p:cNvPicPr/>
          <p:nvPr/>
        </p:nvPicPr>
        <p:blipFill>
          <a:blip r:embed="rId3"/>
          <a:stretch/>
        </p:blipFill>
        <p:spPr>
          <a:xfrm>
            <a:off x="5796000" y="1557360"/>
            <a:ext cx="2685960" cy="1901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Rip-Van-Winkle-port"/>
          <p:cNvPicPr/>
          <p:nvPr/>
        </p:nvPicPr>
        <p:blipFill>
          <a:blip r:embed="rId4"/>
          <a:stretch/>
        </p:blipFill>
        <p:spPr>
          <a:xfrm>
            <a:off x="2411280" y="4005360"/>
            <a:ext cx="2735280" cy="2160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загруженное (2)"/>
          <p:cNvPicPr/>
          <p:nvPr/>
        </p:nvPicPr>
        <p:blipFill>
          <a:blip r:embed="rId5"/>
          <a:srcRect l="0" t="1979" r="0" b="1979"/>
          <a:stretch/>
        </p:blipFill>
        <p:spPr>
          <a:xfrm>
            <a:off x="5724360" y="4049640"/>
            <a:ext cx="2808360" cy="21160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0"/>
          <p:cNvSpPr/>
          <p:nvPr/>
        </p:nvSpPr>
        <p:spPr>
          <a:xfrm>
            <a:off x="684360" y="1844640"/>
            <a:ext cx="1655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стров Буя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пящ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расав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ип в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инк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Алень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цветоч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svetlo-korichnevyj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395280" y="404640"/>
            <a:ext cx="81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«Заколдованное место» в «Вечерах на хуторе близ Дикань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12866567942432184070"/>
          <p:cNvPicPr/>
          <p:nvPr/>
        </p:nvPicPr>
        <p:blipFill>
          <a:blip r:embed="rId2"/>
          <a:stretch/>
        </p:blipFill>
        <p:spPr>
          <a:xfrm>
            <a:off x="900000" y="1773360"/>
            <a:ext cx="3384720" cy="2122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gogol"/>
          <p:cNvPicPr/>
          <p:nvPr/>
        </p:nvPicPr>
        <p:blipFill>
          <a:blip r:embed="rId3"/>
          <a:stretch/>
        </p:blipFill>
        <p:spPr>
          <a:xfrm>
            <a:off x="4859280" y="1773360"/>
            <a:ext cx="3456000" cy="2165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11b472fd56ffc153d8fc192d020048dd"/>
          <p:cNvPicPr/>
          <p:nvPr/>
        </p:nvPicPr>
        <p:blipFill>
          <a:blip r:embed="rId4"/>
          <a:stretch/>
        </p:blipFill>
        <p:spPr>
          <a:xfrm>
            <a:off x="971640" y="4076640"/>
            <a:ext cx="3457440" cy="2303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dug1"/>
          <p:cNvPicPr/>
          <p:nvPr/>
        </p:nvPicPr>
        <p:blipFill>
          <a:blip r:embed="rId5"/>
          <a:stretch/>
        </p:blipFill>
        <p:spPr>
          <a:xfrm>
            <a:off x="4859280" y="4149720"/>
            <a:ext cx="3456000" cy="22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svetlo-korichnevyj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gog06"/>
          <p:cNvPicPr/>
          <p:nvPr/>
        </p:nvPicPr>
        <p:blipFill>
          <a:blip r:embed="rId2"/>
          <a:stretch/>
        </p:blipFill>
        <p:spPr>
          <a:xfrm>
            <a:off x="2050920" y="1176480"/>
            <a:ext cx="5113440" cy="31320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6"/>
          <p:cNvSpPr/>
          <p:nvPr/>
        </p:nvSpPr>
        <p:spPr>
          <a:xfrm>
            <a:off x="2340000" y="4508640"/>
            <a:ext cx="456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сновные мотивы повести: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оиски заговоренного клада;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заколдованное  мес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826920" y="26028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«Заколдованное мест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svetlo-korichnevyj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загруженное"/>
          <p:cNvPicPr/>
          <p:nvPr/>
        </p:nvPicPr>
        <p:blipFill>
          <a:blip r:embed="rId2"/>
          <a:stretch/>
        </p:blipFill>
        <p:spPr>
          <a:xfrm>
            <a:off x="4813200" y="1773360"/>
            <a:ext cx="3113280" cy="37414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50" name="Rectangle 6"/>
          <p:cNvSpPr/>
          <p:nvPr/>
        </p:nvSpPr>
        <p:spPr>
          <a:xfrm>
            <a:off x="900000" y="1844640"/>
            <a:ext cx="3743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иколай Васильевич Гоголь  (1809 – 1852) —  прозаик и драматург, классик русс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итер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Автор поэмы «Мертв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уши», пьесы  «Ревизор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борников повестей «Вечера на хуторе близ  Диканьки», «Миргород», «Петербургские повест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324000" y="47628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Николай Васильевич Гог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svetlo-korichnevyj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324000" y="404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Работа со словарем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Соедините слово с его значе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826920" y="1700280"/>
            <a:ext cx="2160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Башт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ол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аву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омо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ух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ева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юль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пил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Цибул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ерев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ум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4284720" y="1484280"/>
            <a:ext cx="4174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рбу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малороссияне, едущие за сол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и рыбою, обыкновенно в Кр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место, засеянное арбузами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дын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башм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л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 Древней Руси: местнос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бласть, подчиненная од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глиняный кувш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береговые лиственные лес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заливаемые в половодье 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тру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мб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краинский наро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музыкальный инстру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svetlo-korichnevyj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5"/>
          <p:cNvSpPr/>
          <p:nvPr/>
        </p:nvSpPr>
        <p:spPr>
          <a:xfrm>
            <a:off x="755640" y="33336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Работа со словарем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Проверьте с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971640" y="1844640"/>
            <a:ext cx="68896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Баштан – место, засеянное арбузами и дын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олость – в Древней Руси: местность, обла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одчиненная одной вла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авун – арбу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омора – амб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ухоль – глиняный кувш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евада – на Украине и на юге России: берег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иственные леса, заливаемые в половодье 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юлька – труб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пилка – украинский народный духо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музыкальный инстру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Цибуля – лу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еревики – башм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умаки – малороссияне, едущие за солью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ыбою, обыкновенно в Кр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svetlo-korichnevyj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83827_2"/>
          <p:cNvPicPr/>
          <p:nvPr/>
        </p:nvPicPr>
        <p:blipFill>
          <a:blip r:embed="rId2"/>
          <a:stretch/>
        </p:blipFill>
        <p:spPr>
          <a:xfrm>
            <a:off x="4648320" y="1770120"/>
            <a:ext cx="3825720" cy="396396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6"/>
          <p:cNvSpPr/>
          <p:nvPr/>
        </p:nvSpPr>
        <p:spPr>
          <a:xfrm>
            <a:off x="755640" y="4762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Работа с текстом по вопрос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755640" y="2205000"/>
            <a:ext cx="3745080" cy="27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о каким приметам  узнаем, что история случилась в прошл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Чем запомнился рассказчику дед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svetlo-korichnevyj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klodt"/>
          <p:cNvPicPr/>
          <p:nvPr/>
        </p:nvPicPr>
        <p:blipFill>
          <a:blip r:embed="rId2"/>
          <a:stretch/>
        </p:blipFill>
        <p:spPr>
          <a:xfrm>
            <a:off x="4500720" y="2421000"/>
            <a:ext cx="3960720" cy="30844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6"/>
          <p:cNvSpPr/>
          <p:nvPr/>
        </p:nvSpPr>
        <p:spPr>
          <a:xfrm>
            <a:off x="2340000" y="404640"/>
            <a:ext cx="45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Работа с текстом по вопрос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684360" y="1916280"/>
            <a:ext cx="381636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очему дед попал в заколдованное место и каким образом это произош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Сколько раз дед оказывался в заколдованном мест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Каковы особенности заколдованного мес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svetlo-korichnevyj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images (2)"/>
          <p:cNvPicPr/>
          <p:nvPr/>
        </p:nvPicPr>
        <p:blipFill>
          <a:blip r:embed="rId2"/>
          <a:srcRect l="0" t="0" r="0" b="5663"/>
          <a:stretch/>
        </p:blipFill>
        <p:spPr>
          <a:xfrm>
            <a:off x="5219640" y="1700280"/>
            <a:ext cx="3024360" cy="410364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8"/>
          <p:cNvSpPr/>
          <p:nvPr/>
        </p:nvSpPr>
        <p:spPr>
          <a:xfrm>
            <a:off x="826920" y="189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Особенности заколдованного ме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971640" y="1413000"/>
            <a:ext cx="417672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Заколдованное место – место, где пересекаются волшебный и обыденный ми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казочный мир притворяется знакомым, но  пространство в нем искажается. В обычном месте возникают вдруг провалы, бездны и г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Здесь происходят странные явления, слышатся странные зв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тсутствуют месяц и звезды, царит мрак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сточник света –  свеча на моги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svetlo-korichnevyj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gog04"/>
          <p:cNvPicPr/>
          <p:nvPr/>
        </p:nvPicPr>
        <p:blipFill>
          <a:blip r:embed="rId2"/>
          <a:srcRect l="0" t="0" r="8216" b="0"/>
          <a:stretch/>
        </p:blipFill>
        <p:spPr>
          <a:xfrm>
            <a:off x="4500720" y="1557360"/>
            <a:ext cx="3832200" cy="43210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6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Работа с текстом по вопрос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611280" y="1628640"/>
            <a:ext cx="381636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очему дед стремится попасть в заколдованное место? Что с ним там происходит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Какие существа встретились деду в заколдованном мес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svetlo-korichnevyj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zakoldlvannoe_mesto_5"/>
          <p:cNvPicPr/>
          <p:nvPr/>
        </p:nvPicPr>
        <p:blipFill>
          <a:blip r:embed="rId2"/>
          <a:srcRect l="0" t="0" r="0" b="3024"/>
          <a:stretch/>
        </p:blipFill>
        <p:spPr>
          <a:xfrm>
            <a:off x="5462640" y="1413000"/>
            <a:ext cx="2408040" cy="475272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6"/>
          <p:cNvSpPr/>
          <p:nvPr/>
        </p:nvSpPr>
        <p:spPr>
          <a:xfrm>
            <a:off x="324000" y="33336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Существа заколдованного ме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900000" y="1413000"/>
            <a:ext cx="4535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Медведь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— родной бра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ешему. Его иногда и называют  лешим или лесным чер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екоторые лесные духи име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блик медведя. В  христианс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имволике олицетворяет зл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ьявольские си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тичий нос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фантастическое существ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идуманное Гоголем: птич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ос без тела. Символика птиц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многообразна, некоторые бы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осредниками между ми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мертвых и жив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svetlo-korichnevyj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28090753080323"/>
          <p:cNvPicPr/>
          <p:nvPr/>
        </p:nvPicPr>
        <p:blipFill>
          <a:blip r:embed="rId2"/>
          <a:stretch/>
        </p:blipFill>
        <p:spPr>
          <a:xfrm>
            <a:off x="4356000" y="1628640"/>
            <a:ext cx="4140360" cy="316872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7"/>
          <p:cNvSpPr/>
          <p:nvPr/>
        </p:nvSpPr>
        <p:spPr>
          <a:xfrm>
            <a:off x="755640" y="3333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Существа заколдованного ме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611280" y="1268280"/>
            <a:ext cx="3889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Баранья голова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 фольклоре нечто пусто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никчемное. Имеет так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тношение к демонологии: один из демонов  изображался с тремя головами, одна 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торых была барань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Харя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дурное, отвратительное лицо, рожа, тварь.  Маска, личина и самый  окрутник, наряженный, переряженны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сякая харя (Хавронья) сама себя хвалит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svetlo-korichnevyj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5"/>
          <p:cNvSpPr/>
          <p:nvPr/>
        </p:nvSpPr>
        <p:spPr>
          <a:xfrm>
            <a:off x="179280" y="333360"/>
            <a:ext cx="88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Художественные средства, создающие образ заколдованного ме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971640" y="2349360"/>
            <a:ext cx="3095640" cy="33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Гиперб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Метаф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Эпит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4356000" y="2133720"/>
            <a:ext cx="3745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од ногами круча без дна, ноздри – хоть по ведру воды влей в каждую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нос – как мех в кузнице, губы…как две колоды, дыня… словно зме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роклятый камень, красные очи, мерзостная ро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svetlo-korichnevyj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6ra"/>
          <p:cNvPicPr/>
          <p:nvPr/>
        </p:nvPicPr>
        <p:blipFill>
          <a:blip r:embed="rId2"/>
          <a:stretch/>
        </p:blipFill>
        <p:spPr>
          <a:xfrm>
            <a:off x="4140360" y="1844640"/>
            <a:ext cx="4330440" cy="352908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6"/>
          <p:cNvSpPr/>
          <p:nvPr/>
        </p:nvSpPr>
        <p:spPr>
          <a:xfrm>
            <a:off x="324000" y="115920"/>
            <a:ext cx="849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Как еще в повести называется заколдованное место</a:t>
            </a:r>
            <a:br>
              <a:rPr sz="1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684360" y="2060640"/>
            <a:ext cx="324000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роклятое ме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Дьявольское ме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svetlo-korichnevyj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73008531_gogol_v_a"/>
          <p:cNvPicPr/>
          <p:nvPr/>
        </p:nvPicPr>
        <p:blipFill>
          <a:blip r:embed="rId2"/>
          <a:stretch/>
        </p:blipFill>
        <p:spPr>
          <a:xfrm>
            <a:off x="4859280" y="1628640"/>
            <a:ext cx="3338640" cy="43214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755640" y="1341360"/>
            <a:ext cx="4032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Отец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исателя Василий Афанасьевич Гоголь-Яновский (1777 – 1825), служил при Малороссийском почтамте. В 1805 году уволился с чином коллежского асессора и женил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асилий Афанасьевич был разносторонне одаренным человеком: талантливым рассказчиком и писателем – автором остроумных комедий, постановщиком пьес и акте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763640" y="26028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Родители писат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svetlo-korichnevyj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image_4d0d0cb308976"/>
          <p:cNvPicPr/>
          <p:nvPr/>
        </p:nvPicPr>
        <p:blipFill>
          <a:blip r:embed="rId2"/>
          <a:srcRect l="3298" t="2919" r="3298" b="2919"/>
          <a:stretch/>
        </p:blipFill>
        <p:spPr>
          <a:xfrm>
            <a:off x="5108400" y="1731960"/>
            <a:ext cx="3117960" cy="42624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6"/>
          <p:cNvSpPr/>
          <p:nvPr/>
        </p:nvSpPr>
        <p:spPr>
          <a:xfrm>
            <a:off x="539640" y="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Как закончилось приключ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де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900000" y="1125360"/>
            <a:ext cx="3888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«Посмотрите-ка, посмотрите сюда, что я вам принес!» - сказал дед и открыл котел. Что ж бы, вы думали, такое там было? …золото? вот то-то, что не золото: сор, дрязг... стыдно сказать, что так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а заколдованном месте никогда не было ничего доброго. Засеют как следует, а взойдет такое, что и разобрать нельзя: арбуз — не арбуз, тыква — не тыква, огурец — не огурец... чорт знает, что тако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svetlo-korichnevyj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gog07"/>
          <p:cNvPicPr/>
          <p:nvPr/>
        </p:nvPicPr>
        <p:blipFill>
          <a:blip r:embed="rId2"/>
          <a:srcRect l="0" t="0" r="4725" b="0"/>
          <a:stretch/>
        </p:blipFill>
        <p:spPr>
          <a:xfrm>
            <a:off x="4211640" y="1844640"/>
            <a:ext cx="4184640" cy="323064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6"/>
          <p:cNvSpPr/>
          <p:nvPr/>
        </p:nvSpPr>
        <p:spPr>
          <a:xfrm>
            <a:off x="1692360" y="333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Итоги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611280" y="1341360"/>
            <a:ext cx="352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Клад, подкинутый нечистой силой, призрачен: он обращается в сор и не приносит человеку счастья. Жажда обогащения, губительная страсть к деньгам  воплощены Гоголем в сказочных образ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svetlo-korichnevyj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73008545_gogol_m_i"/>
          <p:cNvPicPr/>
          <p:nvPr/>
        </p:nvPicPr>
        <p:blipFill>
          <a:blip r:embed="rId2"/>
          <a:stretch/>
        </p:blipFill>
        <p:spPr>
          <a:xfrm>
            <a:off x="4941720" y="1628640"/>
            <a:ext cx="3449880" cy="44643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1187280" y="26028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Родители писат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826920" y="1628640"/>
            <a:ext cx="3961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Мать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, Мария Иван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осяровская (1791 – 1868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оисходила из помещичь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емьи. По преданию, о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была первой красавицей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олтавщ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 семье, помимо Никола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было ещё пятеро детей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«Марья Ивановна женщ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еобыкновенная… Она в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сполнена самоотверж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 тихой любви к сво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етям…» - писал С.Т.Акса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svetlo-korichnevyj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l58-707-"/>
          <p:cNvPicPr/>
          <p:nvPr/>
        </p:nvPicPr>
        <p:blipFill>
          <a:blip r:embed="rId2"/>
          <a:stretch/>
        </p:blipFill>
        <p:spPr>
          <a:xfrm>
            <a:off x="4643280" y="1628640"/>
            <a:ext cx="3776760" cy="2162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gogolevo2"/>
          <p:cNvPicPr/>
          <p:nvPr/>
        </p:nvPicPr>
        <p:blipFill>
          <a:blip r:embed="rId3"/>
          <a:stretch/>
        </p:blipFill>
        <p:spPr>
          <a:xfrm>
            <a:off x="4572000" y="4076640"/>
            <a:ext cx="3887640" cy="15858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7"/>
          <p:cNvSpPr/>
          <p:nvPr/>
        </p:nvSpPr>
        <p:spPr>
          <a:xfrm>
            <a:off x="755640" y="1890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Дом, в котором проживала семья Гоголей в Василье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611280" y="1484280"/>
            <a:ext cx="3889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етство писателя прошло в Васильевке, имении родителей. «Дом небольшой, но поместительный, обширный и живописный сад и пруд…» - так описывали современники обстановку усадьбы, которая стала центром общественности всего околотка. Впоследствии  впечатления жизни в Васильевке – ярмарки, забавы молодежи, страшные рассказы деревенских балагуров - легли в основу  повестей  Гого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svetlo-korichnevyj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Nezin"/>
          <p:cNvPicPr/>
          <p:nvPr/>
        </p:nvPicPr>
        <p:blipFill>
          <a:blip r:embed="rId2">
            <a:grayscl/>
          </a:blip>
          <a:stretch/>
        </p:blipFill>
        <p:spPr>
          <a:xfrm>
            <a:off x="4427640" y="1565280"/>
            <a:ext cx="3960720" cy="2249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030138"/>
          <p:cNvPicPr/>
          <p:nvPr/>
        </p:nvPicPr>
        <p:blipFill>
          <a:blip r:embed="rId3"/>
          <a:srcRect l="0" t="3355" r="0" b="0"/>
          <a:stretch/>
        </p:blipFill>
        <p:spPr>
          <a:xfrm>
            <a:off x="4427640" y="3936960"/>
            <a:ext cx="3959280" cy="21589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7"/>
          <p:cNvSpPr/>
          <p:nvPr/>
        </p:nvSpPr>
        <p:spPr>
          <a:xfrm>
            <a:off x="900000" y="33336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Нежинская гимназ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755640" y="1557360"/>
            <a:ext cx="352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Гоголь учился в Гимназ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ысших наук в Нежине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1821   по 1828 год. Писатель обладал прекрасной памятью, делал успехи  в рисовании и русской словесности. Гимназисты затеяли свой рукописный журнал, в котором Гоголь много писал в стих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 Нежине развилась  любовь к театру, где Гоголь с успехом  исполнял ро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мических стару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svetlo-korichnevyj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d646c169d4c6"/>
          <p:cNvPicPr/>
          <p:nvPr/>
        </p:nvPicPr>
        <p:blipFill>
          <a:blip r:embed="rId2"/>
          <a:stretch/>
        </p:blipFill>
        <p:spPr>
          <a:xfrm>
            <a:off x="5187960" y="1600200"/>
            <a:ext cx="295740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1403280" y="11592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Гоголь в Петербург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55640" y="1700280"/>
            <a:ext cx="4176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 декабре 1828 года Гоголь переехал в Санкт-Петербург. Здесь впервые ждало его жестокое разочарование: в актёры не приняли; служба оказалась скучной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бессодержательной. Тем сильнее привлекало его литературное поприще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Гоголь знакомится с Жуковским и Пушкиным. В журналах печатают его первые произ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svetlo-korichnevyj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вечера"/>
          <p:cNvPicPr/>
          <p:nvPr/>
        </p:nvPicPr>
        <p:blipFill>
          <a:blip r:embed="rId2"/>
          <a:stretch/>
        </p:blipFill>
        <p:spPr>
          <a:xfrm>
            <a:off x="4859280" y="1557360"/>
            <a:ext cx="2881440" cy="42102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468360" y="40464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Вечера на хуторе близ Дикань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684360" y="1484280"/>
            <a:ext cx="3671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аботать над «Вечерам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Гоголь начал еще в 18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году. В письмах домой 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осил свою мать пис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ему «о поверьях, обыча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малороссиан, сказк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еданьях», описать наряд сельского дьяч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вадебный обря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ся работа уложилась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три года и была закончена в 1832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img7"/>
          <p:cNvPicPr/>
          <p:nvPr/>
        </p:nvPicPr>
        <p:blipFill>
          <a:blip r:embed="rId3"/>
          <a:srcRect l="27756" t="0" r="27756" b="11811"/>
          <a:stretch/>
        </p:blipFill>
        <p:spPr>
          <a:xfrm>
            <a:off x="4859280" y="1557360"/>
            <a:ext cx="287964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svetlo-korichnevyj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загруженное (1)"/>
          <p:cNvPicPr/>
          <p:nvPr/>
        </p:nvPicPr>
        <p:blipFill>
          <a:blip r:embed="rId2"/>
          <a:stretch/>
        </p:blipFill>
        <p:spPr>
          <a:xfrm>
            <a:off x="4932360" y="1844640"/>
            <a:ext cx="3192480" cy="3814920"/>
          </a:xfrm>
          <a:prstGeom prst="rect">
            <a:avLst/>
          </a:prstGeom>
          <a:ln w="25560">
            <a:solidFill>
              <a:srgbClr val="996600"/>
            </a:solidFill>
            <a:miter/>
          </a:ln>
        </p:spPr>
      </p:pic>
      <p:sp>
        <p:nvSpPr>
          <p:cNvPr id="95" name="Rectangle 6"/>
          <p:cNvSpPr/>
          <p:nvPr/>
        </p:nvSpPr>
        <p:spPr>
          <a:xfrm>
            <a:off x="900000" y="1700280"/>
            <a:ext cx="360072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ейчас прочёл «Вечера близ Диканьки». Они изумили меня.       Вот настоящая весёлость, искренняя, непринуждён- ная, без жеманства, без чопорности. А местами какая поэзия!.. Всё это так необыкновенно в нашей нынешней литературе, что я доселе не образумился…»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.С.Пу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11280" y="47628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Отзывы о первой книге Гог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9T09:50:17Z</dcterms:created>
  <dc:creator>Тома</dc:creator>
  <dc:description/>
  <dc:language>en-US</dc:language>
  <cp:lastModifiedBy>Anastasia Romanova</cp:lastModifiedBy>
  <dcterms:modified xsi:type="dcterms:W3CDTF">2016-12-04T13:40:25Z</dcterms:modified>
  <cp:revision>82</cp:revision>
  <dc:subject/>
  <dc:title>Заколдованное место</dc:title>
</cp:coreProperties>
</file>