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499-F469-4F5E-8034-2AFB7FEA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C6C-5EF9-403C-A0E3-196E8190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6EA-F8AB-40D1-A2CE-D13CA4BB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03D-507D-4C0C-8A57-E8919C4E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9A2-102A-45A9-93F5-6EFB4951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C1B-3E83-4AE0-8665-6C5D6CDB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234-972C-4C69-950C-DA1B39E0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1EB-B0F3-4FFD-B748-1CF6553E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AAB-7C9E-4AA8-B0B7-C3475F35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0145-F855-435C-A3F1-48C4DCFC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BDC-394E-4E31-97FD-920B460C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412-D2F7-42B4-AEDB-CDB2131E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E948-9092-48D3-BD83-E436E21CD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066680" y="0"/>
            <a:ext cx="6705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a5c43"/>
                </a:solidFill>
                <a:latin typeface="Calibri"/>
                <a:ea typeface="Arial"/>
              </a:rPr>
              <a:t>«Золотой век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a5c43"/>
                </a:solidFill>
                <a:latin typeface="Calibri"/>
                <a:ea typeface="Arial"/>
              </a:rPr>
              <a:t>Римской республи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a5c43"/>
                </a:solidFill>
                <a:latin typeface="Calibri"/>
                <a:ea typeface="Arial"/>
              </a:rPr>
              <a:t>II</a:t>
            </a:r>
            <a:r>
              <a:rPr b="1" lang="ru-RU" sz="5400" spc="-1" strike="noStrike">
                <a:solidFill>
                  <a:srgbClr val="1a5c43"/>
                </a:solidFill>
                <a:latin typeface="Calibri"/>
                <a:ea typeface="Arial"/>
              </a:rPr>
              <a:t>век до н.э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250040" y="5181120"/>
            <a:ext cx="1905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БОУ Школа 2033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нтан Ольга Евген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64960" y="304920"/>
            <a:ext cx="866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6f51"/>
                </a:solidFill>
                <a:latin typeface="Arial"/>
                <a:ea typeface="BatangChe"/>
              </a:rPr>
              <a:t>Между войнами с Карфаген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" descr="римские монеты.jpg"/>
          <p:cNvPicPr/>
          <p:nvPr/>
        </p:nvPicPr>
        <p:blipFill>
          <a:blip r:embed="rId1"/>
          <a:stretch/>
        </p:blipFill>
        <p:spPr>
          <a:xfrm>
            <a:off x="457200" y="1600200"/>
            <a:ext cx="2833560" cy="4419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063320" y="2286000"/>
            <a:ext cx="48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ань Карфагена Риму (10000 талантов сереб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5" descr="талант серебра.jpg"/>
          <p:cNvPicPr/>
          <p:nvPr/>
        </p:nvPicPr>
        <p:blipFill>
          <a:blip r:embed="rId2"/>
          <a:stretch/>
        </p:blipFill>
        <p:spPr>
          <a:xfrm>
            <a:off x="4267080" y="3200400"/>
            <a:ext cx="457200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184120" y="0"/>
            <a:ext cx="480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Franklin Gothic Medium"/>
                <a:ea typeface="Arial"/>
              </a:rPr>
              <a:t>Триум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триумф1.jpg"/>
          <p:cNvPicPr/>
          <p:nvPr/>
        </p:nvPicPr>
        <p:blipFill>
          <a:blip r:embed="rId1"/>
          <a:stretch/>
        </p:blipFill>
        <p:spPr>
          <a:xfrm>
            <a:off x="304920" y="1676520"/>
            <a:ext cx="5319720" cy="38862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триумфатор.jpg"/>
          <p:cNvPicPr/>
          <p:nvPr/>
        </p:nvPicPr>
        <p:blipFill>
          <a:blip r:embed="rId2"/>
          <a:stretch/>
        </p:blipFill>
        <p:spPr>
          <a:xfrm>
            <a:off x="6095880" y="1752480"/>
            <a:ext cx="28101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0" y="-20345400"/>
            <a:ext cx="9524880" cy="13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риумф устраивался следующим образом. Как только полководец одерживал крупную победу, достойную триумфа, солдаты его сразу же провозглашали императором; затем он украшал свои связки прутьев лавровыми ветвями и давал такие же ветви послам, которым поручалось возвестить в Риме о победе. После этого он являлся сам к Риму, созывал сенат и просил, чтобы ему назначили триумф. Если его ходатайство было уважено сенатом и народом, то за ним утверждался титул императора; кроме того, если еще не истек срок той должности, которую он занимал в момент своей победы, он исполнял и эту должность в течение всей триумфальной церемонии; если же срок уже прошел, он принимал какой-нибудь титул, соответствующий этой должности, так как простому частному лицу запрещалось устраивать триумф. Одетый в триумфальный костюм, с браслетами на руках, увенчанный лаврами и с лавровой ветвью в правой руке, он собирал народ. В присутствии народа триумфатор воздавал хвалу всем своим солдатам, и в особенности наиболее отличившимся; он раздавал им денежные подарки и почетные награды; случалось, что полководец награждал целые когорты и даже леги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сле этого он усаживался на триумфальную колесницу, которая не была похожа ни на боевую колесницу, ни на колесницу, использующуюся на бегах, и имела вид круглой башни. Лицо его было покрыто слоем киновари, чтобы скрыть естественную красноту его. Одеянием ему служила великолепная пурпурная тога, затканная золотом. На колеснице он не стоял, а сидел на курульном кресле; рядом с ним помещались его дочери и малолетние сыновья; более же взрослые сыновья ехали верхом на лошадях, запряженных в колесницу. Общественный раб держал над головой золотую корону, украшенную драгоценными камнями, и говорил ему: «Смотри назад», т. е. оглянись на свою жизнь, сопоставь прошлое с настоящим и будущим, не возгордись своим теперешним счастьем и не тщеславься им. К колеснице были привязаны звонок и бич в знак того, что и триумфатор может испытать на себе превратности судьбы и подвергнуться бичеванию и смертной казни (осужденным на казнь вешали на шею звонок, чтобы всякий встречный был предупрежден и не осквернял себя прикосновением к преступник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к вступал триумфатор в Рим. Впереди него несли добычу и трофеи, а также картины, на которых были изображены взятые им крепости и города, горы, реки, гавани, моря — одним словом, все, что он завоевал. Случалось, шествие со всеми этими предметами затягивалось на два и даже на три дня; так было, например, во время триумфа Павла Эмилия в 168 г. до Р. X. В первый день, рассказывал Плутарх, прошли 250 пароконных колесниц со статуями и картинами, отнятыми у неприятеля. Во'второй день римляне увидели множество повозок, на которых грудами было навалено в беспорядке македонское оружие; здесь были шлемы и щиты, панцири и набедренники, колчаны и поводья; затем 750 наполненных деньгами ваз, которые несли на плечах 3000 человек; наконец, бесчисленное количество серебряных чаш, сосудов и великолепно украшенных кубков. На третий день появились 77 возов с золотой монетой, вся золотая посуда царя Персея и чудная чаша массивного золота, которую Павел Эмилий специально заказал, чтобы принести в дар Юпитеру. Все эти богатства ослепляли зрителей, толпившихся в белых тогах на площадях и вдоль улиц. С такой же торжественностью предстала перед ними сотня отборных быков с золочеными рогами, покрытых повязками и гирляндами: их вели молодые люди, на которых были надеты прекрасные передники, и мальчики с золотыми и серебряными сосу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се войско сопровождало своего вождя с лавровыми ветвями в руках, распевая национальные песни и победные гимны, пересыпая их насмешливыми шутками по адресу полководца. Весь этот громадный кортеж вошел на форум. На конце Священной дороги нескольких пленников отделили и повели в расположенную по сосе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амертинскую тюрьму, чтобы там их задушить, а триумфатор взошел на Капитолий. Здесь он совершил установленное обычаем богослужение, принес Юпитеру жертвы и, поужинав под портиками, которые окружали храм, вернулся вечером домой под звуки флей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304920" y="304920"/>
            <a:ext cx="8610480" cy="57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Как только полководец одерживал крупную победу, достойную триумфа, солдаты его сразу же провозглашали императором; затем он украшал свои связки прутьев лавровыми ветвями и давал такие же ветви послам, которым поручалось возвестить в Риме о победе. После этого он являлся сам к Риму, созывал сенат и просил, чтобы ему назначили триумф. Если его ходатайство было уважено сенатом и народом, то за ним утверждался титул императора; кроме того, если еще не истек срок той должности, которую он занимал в момент своей победы, он исполнял и эту должность в течение всей триумфальной церемонии; если же срок уже прошел, он принимал какой-нибудь титул, соответствующий этой должности, так как простому частному лицу запрещалось устраивать триумф. Одетый в триумфальный костюм, с браслетами на руках, увенчанный лаврами и с лавровой ветвью в правой руке, он собирал народ. В присутствии народа триумфатор воздавал хвалу всем своим солдатам, и в особенности наиболее отличившимся; он раздавал им денежные подарки и почетные награды; случалось, что полководец награждал целые когорты и даже легион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После этого он усаживался на триумфальную колесницу, которая не была похожа ни на боевую колесницу, ни на колесницу, использующуюся на бегах, и имела вид круглой башни. Лицо его было покрыто слоем киновари, чтобы скрыть естественную красноту его. Одеянием ему служила великолепная пурпурная тога, затканная золотом. На колеснице он не стоял, а сидел на курульном кресле; рядом с ним помещались его дочери и малолетние сыновья; более же взрослые сыновья ехали верхом на лошадях, запряженных в колесницу. Общественный раб держал над головой золотую корону, украшенную драгоценными камнями, и говорил ему: «Смотри назад», т. е. оглянись на свою жизнь, сопоставь прошлое с настоящим и будущим, не возгордись своим теперешним счастьем и не тщеславься им. К колеснице были привязаны звонок и бич в знак того, что и триумфатор может испытать на себе превратности судьбы и подвергнуться бичеванию и смертной казни (осужденным на казнь вешали на шею звонок, чтобы всякий встречный был предупрежден и не осквернял себя прикосновением к преступнику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Так вступал триумфатор в Рим. Впереди него несли добычу и трофеи, а также картины, на которых были изображены взятые им крепости и города, горы, реки, гавани, моря — одним словом, все, что он завоевал. Случалось, шествие со всеми этими предметами затягивалось на два и даже на три дня; так было, например, во время триумфа Павла Эмилия в 168 г. до Р. X. В первый день, рассказывал Плутарх, прошли 250 пароконных колесниц со статуями и картинами, отнятыми у неприятеля. Во'второй день римляне увидели множество повозок, на которых грудами было навалено в беспорядке македонское оружие; здесь были шлемы и щиты, панцири и набедренники, колчаны и поводья; затем 750 наполненных деньгами ваз, которые несли на плечах 3000 человек; наконец, бесчисленное количество серебряных чаш, сосудов и великолепно украшенных кубков. На третий день появились 77 возов с золотой монетой, вся золотая посуда царя Персея и чудная чаша массивного золота, которую Павел Эмилий специально заказал, чтобы принести в дар Юпитеру. Все эти богатства ослепляли зрителей, толпившихся в белых тогах на площадях и вдоль улиц. С такой же торжественностью предстала перед ними сотня отборных быков с золочеными рогами, покрытых повязками и гирляндами: их вели молодые люди, на которых были надеты прекрасные передники, и мальчики с золотыми и серебряными сосуда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Все войско сопровождало своего вождя с лавровыми ветвями в руках, распевая национальные песни и победные гимны, пересыпая их насмешливыми шутками по адресу полководца. Весь этот громадный кортеж вошел на форум. На конце Священной дороги нескольких пленников отделили и повели в расположенную по соседству Мамертинскую тюрьму, чтобы там их задушить, а триумфатор взошел на Капитолий. Здесь он совершил установленное обычаем богослужение, принес Юпитеру жертвы и, поужинав под портиками, которые окружали храм, вернулся вечером домой под звуки флей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триумфальная арка.jpg"/>
          <p:cNvPicPr/>
          <p:nvPr/>
        </p:nvPicPr>
        <p:blipFill>
          <a:blip r:embed="rId1"/>
          <a:stretch/>
        </p:blipFill>
        <p:spPr>
          <a:xfrm>
            <a:off x="609480" y="457200"/>
            <a:ext cx="53625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928440" y="228600"/>
            <a:ext cx="47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5c43"/>
                </a:solidFill>
                <a:latin typeface="Calibri"/>
                <a:ea typeface="Arial"/>
              </a:rPr>
              <a:t>Образец для подраж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Катон.jpg"/>
          <p:cNvPicPr/>
          <p:nvPr/>
        </p:nvPicPr>
        <p:blipFill>
          <a:blip r:embed="rId1"/>
          <a:stretch/>
        </p:blipFill>
        <p:spPr>
          <a:xfrm>
            <a:off x="4952880" y="914400"/>
            <a:ext cx="3826080" cy="4646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Публий Сципион Эмилиан.jpg"/>
          <p:cNvPicPr/>
          <p:nvPr/>
        </p:nvPicPr>
        <p:blipFill>
          <a:blip r:embed="rId2"/>
          <a:stretch/>
        </p:blipFill>
        <p:spPr>
          <a:xfrm>
            <a:off x="380880" y="1828800"/>
            <a:ext cx="3943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894240" y="304920"/>
            <a:ext cx="71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6f51"/>
                </a:solidFill>
                <a:latin typeface="Calibri"/>
                <a:ea typeface="Arial"/>
              </a:rPr>
              <a:t>Афоризмы Марка Порция Катона Цензора (234-149гг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228600" y="1066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 всем мире мужья повелевают женами, всем миром повелеваем мы, а нами повелевают наши ж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3962520" y="1828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лядя на множество воздвигнутых статуй, он сказал: «А обо мне пусть люди спрашивают, почему Катону нет памятника, чем почему ему стоит памят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304920" y="3124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рфаген должен быть разрушен. (фраза, которой Катон заканчивал свои выступления в сена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4419720" y="3886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киньте в глубине души своей: если вы с трудом сделаете что-нибудь достойное, труд для вас быстро кончается, а содеянное добро остается с вами на всю жизнь; но если ради удовольствия вы сделаете что-нибудь дурное, удовольствие быстро оставит вас, а дурное дело всегда останется на в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7"/>
          <p:cNvSpPr/>
          <p:nvPr/>
        </p:nvSpPr>
        <p:spPr>
          <a:xfrm>
            <a:off x="533520" y="4191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от, кто бьет жену или ребенка, поднимает руку на самую высокую святы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8"/>
          <p:cNvSpPr/>
          <p:nvPr/>
        </p:nvSpPr>
        <p:spPr>
          <a:xfrm>
            <a:off x="38088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астные воры влачат жизнь в колодках и узах, общественные – в золоте и пурп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римское общество.gif"/>
          <p:cNvPicPr/>
          <p:nvPr/>
        </p:nvPicPr>
        <p:blipFill>
          <a:blip r:embed="rId1"/>
          <a:stretch/>
        </p:blipFill>
        <p:spPr>
          <a:xfrm>
            <a:off x="1219320" y="0"/>
            <a:ext cx="663228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незнатные римляне.jpg"/>
          <p:cNvPicPr/>
          <p:nvPr/>
        </p:nvPicPr>
        <p:blipFill>
          <a:blip r:embed="rId2"/>
          <a:stretch/>
        </p:blipFill>
        <p:spPr>
          <a:xfrm>
            <a:off x="7467480" y="2286000"/>
            <a:ext cx="1417680" cy="22194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новые люди.jpg"/>
          <p:cNvPicPr/>
          <p:nvPr/>
        </p:nvPicPr>
        <p:blipFill>
          <a:blip r:embed="rId3"/>
          <a:stretch/>
        </p:blipFill>
        <p:spPr>
          <a:xfrm>
            <a:off x="5791320" y="3733920"/>
            <a:ext cx="1463400" cy="2076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всадник.jpg"/>
          <p:cNvPicPr/>
          <p:nvPr/>
        </p:nvPicPr>
        <p:blipFill>
          <a:blip r:embed="rId4"/>
          <a:stretch/>
        </p:blipFill>
        <p:spPr>
          <a:xfrm>
            <a:off x="2133720" y="4343400"/>
            <a:ext cx="1655640" cy="23288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простолюдины.jpg"/>
          <p:cNvPicPr/>
          <p:nvPr/>
        </p:nvPicPr>
        <p:blipFill>
          <a:blip r:embed="rId5"/>
          <a:stretch/>
        </p:blipFill>
        <p:spPr>
          <a:xfrm>
            <a:off x="2514600" y="2362320"/>
            <a:ext cx="3124080" cy="17618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сенатор.jpg"/>
          <p:cNvPicPr/>
          <p:nvPr/>
        </p:nvPicPr>
        <p:blipFill>
          <a:blip r:embed="rId6"/>
          <a:stretch/>
        </p:blipFill>
        <p:spPr>
          <a:xfrm>
            <a:off x="152280" y="2438280"/>
            <a:ext cx="17845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1238760" y="152280"/>
            <a:ext cx="48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5c43"/>
                </a:solidFill>
                <a:latin typeface="Calibri"/>
                <a:ea typeface="Arial"/>
              </a:rPr>
              <a:t>«Поместья римского нар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2" descr="провинции Рима.jpg"/>
          <p:cNvPicPr/>
          <p:nvPr/>
        </p:nvPicPr>
        <p:blipFill>
          <a:blip r:embed="rId1"/>
          <a:stretch/>
        </p:blipFill>
        <p:spPr>
          <a:xfrm>
            <a:off x="228600" y="762120"/>
            <a:ext cx="8774280" cy="58672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наместник.jpg"/>
          <p:cNvPicPr/>
          <p:nvPr/>
        </p:nvPicPr>
        <p:blipFill>
          <a:blip r:embed="rId2"/>
          <a:stretch/>
        </p:blipFill>
        <p:spPr>
          <a:xfrm>
            <a:off x="6781680" y="152280"/>
            <a:ext cx="1494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6-12-04T09:15:16Z</dcterms:modified>
  <cp:revision>12</cp:revision>
  <dc:subject/>
  <dc:title>Слайд 1</dc:title>
</cp:coreProperties>
</file>