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038-708F-4480-87EE-0297230B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276-6F5C-42E9-8A31-689BC0FF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570-1D52-492B-A058-B58C2042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0F2-3977-41C2-A1D0-4C282928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5ED-56F6-49F7-A73B-AB2E04C6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351-99F8-4829-8900-14706C95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048-E142-419C-9258-A710D77B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B9E-47EE-4C34-ADBC-5945CA04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D87-626B-40B0-8296-81AA4286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E6B-6C21-4FE9-98C5-DC64D498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6C8-0B94-4B0F-98EE-19096D3F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95A-1595-4BF7-BC8A-F286E1FD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B829-5B75-4B6B-A775-DB3C92F0E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остраненные выражения с глаголом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'to be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3322800"/>
                <a:gridCol w="49068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glad (pleas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happy (deligh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hung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thirs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ill (health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ready for smt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la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late for smt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5 minutes la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so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(un)comfor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радостным (довольны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счастлив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голодным (хотеть е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теть пить (испытывать жажд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больным (здоровы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готовым к чему-либ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азды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аздывать куда-либ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аздывать на 5 мин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жал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вать себя (не)удоб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79280" y="274680"/>
          <a:ext cx="8785440" cy="617868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61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out of pla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sure (certain) of smth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mistak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surprised at smb./smth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ngry with smb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busy with smth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to bl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’s to blam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for (against) smth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fraid of smth./ smb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going to…/ to be about to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bsent from…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вать себя неуютно (не к месту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уверенным в чем-либ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ать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ивиться кому-либо/ чему-либ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иться на кого-либ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занятым чем-либ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виноваты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виноват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(против) чего-либ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яться ч-л./ к-л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ираться ч-л сдела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овать на …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274680"/>
          <a:ext cx="8642160" cy="6249960"/>
        </p:xfrm>
        <a:graphic>
          <a:graphicData uri="http://schemas.openxmlformats.org/drawingml/2006/table">
            <a:tbl>
              <a:tblPr/>
              <a:tblGrid>
                <a:gridCol w="3457440"/>
                <a:gridCol w="5184720"/>
              </a:tblGrid>
              <a:tr h="62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ll 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nxious about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shamed of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sleep/ aw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t a lo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in smb’s bad/ black 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 b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b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on the beach/ ro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cold/ 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dressed in smt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eager to do smt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внимательно слуш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окоиться, тревожиться 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сняться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ть/ бодрств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в растеря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на плохом счету у к-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зануд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вращ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ориться, быть на м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ёрзнуть/ ужар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одетым во ч-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хотеть ч-л. сдел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50920" y="260280"/>
          <a:ext cx="8713800" cy="6394680"/>
        </p:xfrm>
        <a:graphic>
          <a:graphicData uri="http://schemas.openxmlformats.org/drawingml/2006/table">
            <a:tbl>
              <a:tblPr/>
              <a:tblGrid>
                <a:gridCol w="3673440"/>
                <a:gridCol w="5040360"/>
              </a:tblGrid>
              <a:tr h="639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on edge = to be ner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familiar to/ with sm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famous for smt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fond of smt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good at smth/ doing smt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 good mixer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soc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on good/ b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s with sm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homes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in hot water/ soup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in tr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on the safe 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in love with sm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in (out of) luck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lucky/ unluc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in (out of) order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ич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знакомым кому-л./ с кем-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знаменитым за ч-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ь, нравить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ваться, быть способным к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хорошим собеседником, общитель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в хороших (плохи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ях с к-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учать по дому (ностальг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в б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в безопас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ь к-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)вез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в (бес)порядк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22:39:15Z</dcterms:created>
  <dc:creator>Dmitry</dc:creator>
  <dc:description/>
  <dc:language>en-US</dc:language>
  <cp:lastModifiedBy>Dmitry</cp:lastModifiedBy>
  <dcterms:modified xsi:type="dcterms:W3CDTF">2010-03-09T22:39:26Z</dcterms:modified>
  <cp:revision>1</cp:revision>
  <dc:subject/>
  <dc:title>Распространенные выражения с глаголом 'to be'</dc:title>
</cp:coreProperties>
</file>