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9.wmf" ContentType="image/x-wmf"/>
  <Override PartName="/ppt/media/image6.png" ContentType="image/png"/>
  <Override PartName="/ppt/media/image7.png" ContentType="image/png"/>
  <Override PartName="/ppt/media/image8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1149B-D48D-45A5-B594-5054D5B70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19D5A-5916-47F9-9B23-9AC73205E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EEC8C-1637-4372-969E-33D3013D0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4EC6B-0868-4849-9DC5-FDCCD8C86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1397B-6D84-4FB2-BC06-FDD21D156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A8151-C19B-4744-84CC-C1C7D4B80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C8FE1-C833-40F8-8D9A-96C72869E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DCC5C-5FA5-4F52-98D8-DAC1A0E82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2E619-821C-44EB-9DCD-4387BF4E5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CB45C-3833-405E-B94C-195C105C1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9F039-B70B-48F9-9A98-8C12C1DF9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A029D-D287-4D8B-BAC2-B82D34782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B450A-ED79-43AC-A308-04BC00CED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682D5-8B2F-4A6B-888A-65779A8E8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44B38-832F-4F7C-AC72-041B24383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629E2-BDC7-4350-9731-7DB2EF84A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AB3F4-96A7-4D07-A27B-E26709518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407B11-E8E6-4B9F-B21E-E73FA3F39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BC92A1-84D8-4928-80BF-46648D421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97F138-2B69-4DBA-9A4C-12975BC5F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A63788-CCB4-43A7-A261-4B116003D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30AD9E-A97D-47E4-9CB5-D5B0CB7B6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5C6A8-CC31-4979-BF5B-C7331E3BE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A71A18-F539-4C57-9DB3-CA3E12963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7D7747-974A-403F-B0A0-50FB142F7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4A0DA2-F166-4F39-985B-789BFC21F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222CD5-91A3-4BE3-B75F-08A75A5B1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435681-284D-460A-A55E-1FC813AC0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B6EBEC-1FB9-4230-A9F7-E221B1529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9A2350-E9FB-48F4-9D9E-30CEEDEB3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CE8C36-359C-4DD2-BF51-A2D4C8F18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05EF14-8BCF-4FC2-ACED-C0D7BA02B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5FF2BC-1444-4A4D-A91C-3234C0CAE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EC180-6536-47E3-90B6-A04B77C45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FA6ACC-9A82-43C0-9C39-CD9E638DE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6D09FF-87C2-46DA-991C-2575A22DF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4920FB-FECF-4CFB-A9BE-1CEC1F8F9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ADA634-6996-43F1-93BE-78A136B35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97F2E1-235A-4ED8-AAE1-594F9C1BE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5D8D0F-188B-49C4-AD99-B4B71A37E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CD1A8B-9D3F-4C65-9F5C-4FFE30485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0C4AAC-2487-4BED-8193-FAE1B02B1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3D4E76-C57C-4A53-8D33-0DE1968A0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F9BD40-9BFB-4DA3-99C7-C30122D75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E7320-FE29-4F73-A3DB-44960E0DA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EC7013-035C-42E0-9117-9546B83EE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AB3657-4E89-43E3-9DC4-02E4AFAA5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A63AF7-7780-4AAF-866B-191E54776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F9DD0C-FF04-4508-B7A0-5745191AA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6FC637-FD88-44D5-BFA0-96980B9FF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3D8EB7-A6CB-4E7C-BBEA-05313BCC8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66185E-5BFC-4E93-A750-211F69F3F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4B43B5-6CDC-41EC-87BB-AC7F14C5E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67E4B6-DD0D-4FF5-A422-0E169A0F4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57FC68-2D56-4D34-9BE3-8D465564D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59C03-0A4C-4648-9DE2-33E75D7EE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57DF26-A401-4FBA-A7A1-8345E9009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F5F441-2527-40CD-B865-E780A8469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610903-1F17-4AD8-8857-DB1077AC6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F1508C-48FE-4E1D-9C11-EB3CB331C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9BAD21-DDE1-4A16-B38E-5B8EA4FA3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E14337-D030-4B32-B3CA-22F8FA01C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39DEB5-BD1A-45AD-8340-75127E5E5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A98F98-CB8E-4936-86CE-50750F87B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FC5074-8992-4F8E-8DEA-593975982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4C2978-F086-4B17-B3F7-FA46129BB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8BF84-CB3B-4114-988F-77848E349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E2ACDB-3009-4D65-AD1C-FE1158C2B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6B4CFA-2039-4B7A-86A2-2C1B1F537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7D6265-F205-4562-9370-7B240CB99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5634AC-A820-47C0-B203-A28772CFB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D69F29-41BE-48B7-A033-78B6FA38E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214858-330C-4939-BA27-B6524E6EE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E59FD8-0C4B-4E50-A331-928EB2C35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3B7904-4E10-44D5-98A1-19B5037F2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F216AD-ABAA-41A1-ABDD-ABE622BD7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55DAB4-FF8D-49F8-8171-D76E95B9E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EFBB6-61E2-42D0-902E-38DC34ECB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1B4B92-038A-43B1-B196-B5DB1AFF2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7CA0C0-4DB4-4AF9-9E45-6632B259B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1A7A61-6168-4394-B9CA-A20100778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6FBF3B-EF0C-4A13-ABD7-1EE693ECB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064CE1-E57A-4CD8-B105-482FD2235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85440-9C1C-4BB5-B4AF-54DBD977A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FE750-497D-4DEE-94EC-5713B4F816C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42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3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47CC4-3803-4819-90B9-F80D57C3041B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4" descr="H:\графика\asadal\scool\scool\38 [Converted]111.png"/>
          <p:cNvPicPr/>
          <p:nvPr/>
        </p:nvPicPr>
        <p:blipFill>
          <a:blip r:embed="rId2"/>
          <a:stretch/>
        </p:blipFill>
        <p:spPr>
          <a:xfrm>
            <a:off x="-19080" y="0"/>
            <a:ext cx="9182160" cy="28717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3" descr="H:\графика\asadal\scool\scool\38 [Converted].png"/>
          <p:cNvPicPr/>
          <p:nvPr/>
        </p:nvPicPr>
        <p:blipFill>
          <a:blip r:embed="rId3"/>
          <a:srcRect l="11538" t="0" r="0" b="11937"/>
          <a:stretch/>
        </p:blipFill>
        <p:spPr>
          <a:xfrm>
            <a:off x="0" y="5357880"/>
            <a:ext cx="3286080" cy="15001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H:\графика\asadal\scool\scool\23\10101010.png"/>
          <p:cNvPicPr/>
          <p:nvPr/>
        </p:nvPicPr>
        <p:blipFill>
          <a:blip r:embed="rId4"/>
          <a:srcRect l="0" t="0" r="11854" b="0"/>
          <a:stretch/>
        </p:blipFill>
        <p:spPr>
          <a:xfrm>
            <a:off x="8215200" y="5175360"/>
            <a:ext cx="928800" cy="16826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3" descr="H:\графика\asadal\scool\scool\38 [Converted].png"/>
          <p:cNvPicPr/>
          <p:nvPr/>
        </p:nvPicPr>
        <p:blipFill>
          <a:blip r:embed="rId5"/>
          <a:srcRect l="11538" t="0" r="0" b="11937"/>
          <a:stretch/>
        </p:blipFill>
        <p:spPr>
          <a:xfrm>
            <a:off x="0" y="5357880"/>
            <a:ext cx="3286080" cy="15001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" descr="H:\графика\asadal\scool\scool\23\10101010.png"/>
          <p:cNvPicPr/>
          <p:nvPr/>
        </p:nvPicPr>
        <p:blipFill>
          <a:blip r:embed="rId6"/>
          <a:srcRect l="0" t="0" r="11854" b="0"/>
          <a:stretch/>
        </p:blipFill>
        <p:spPr>
          <a:xfrm>
            <a:off x="8215200" y="5175360"/>
            <a:ext cx="928800" cy="16826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gradFill rotWithShape="0">
            <a:gsLst>
              <a:gs pos="0">
                <a:srgbClr val="f0d9d9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f2f2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1662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206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68FBB-F489-4C41-A75A-BA0C8CAA85A0}" type="slidenum">
              <a:rPr b="0" lang="ru-RU" sz="1200" spc="-1" strike="noStrike">
                <a:solidFill>
                  <a:srgbClr val="00206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4" descr="H:\графика\asadal\scool\scool\38 [Converted]111.png"/>
          <p:cNvPicPr/>
          <p:nvPr/>
        </p:nvPicPr>
        <p:blipFill>
          <a:blip r:embed="rId2"/>
          <a:stretch/>
        </p:blipFill>
        <p:spPr>
          <a:xfrm>
            <a:off x="-19080" y="0"/>
            <a:ext cx="9182160" cy="28717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3" descr="H:\графика\asadal\scool\scool\38 [Converted].png"/>
          <p:cNvPicPr/>
          <p:nvPr/>
        </p:nvPicPr>
        <p:blipFill>
          <a:blip r:embed="rId3"/>
          <a:srcRect l="11538" t="0" r="0" b="11937"/>
          <a:stretch/>
        </p:blipFill>
        <p:spPr>
          <a:xfrm>
            <a:off x="0" y="5357880"/>
            <a:ext cx="3286080" cy="15001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" descr="H:\графика\asadal\scool\scool\23\10101010.png"/>
          <p:cNvPicPr/>
          <p:nvPr/>
        </p:nvPicPr>
        <p:blipFill>
          <a:blip r:embed="rId4"/>
          <a:srcRect l="0" t="0" r="11854" b="0"/>
          <a:stretch/>
        </p:blipFill>
        <p:spPr>
          <a:xfrm>
            <a:off x="8215200" y="5175360"/>
            <a:ext cx="928800" cy="168264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gradFill rotWithShape="0">
            <a:gsLst>
              <a:gs pos="0">
                <a:srgbClr val="f0d9d9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f2f2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EC655-266E-401F-867F-55B27F8A749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13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14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15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A02D8-2B9A-4A20-8CFA-4FB5397EE75D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84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3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4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95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8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01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02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10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211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214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215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6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217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25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Picture 2" descr="titlemaster_med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731D9-8C8E-466D-A383-42C14FC5A7AB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5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306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9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310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15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316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9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320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25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BE26D-6BF7-4059-A418-CBCD3BA2F881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Рисунок 2" descr=""/>
          <p:cNvPicPr/>
          <p:nvPr/>
        </p:nvPicPr>
        <p:blipFill>
          <a:blip r:embed="rId1"/>
          <a:stretch/>
        </p:blipFill>
        <p:spPr>
          <a:xfrm>
            <a:off x="2627280" y="1268280"/>
            <a:ext cx="6396120" cy="281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2627280" y="3213000"/>
            <a:ext cx="6400800" cy="14479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сем Удачного д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title"/>
          </p:nvPr>
        </p:nvSpPr>
        <p:spPr>
          <a:xfrm>
            <a:off x="394920" y="54900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Спасибо!</a:t>
            </a:r>
            <a:endParaRPr b="0" lang="en-US" sz="5400" spc="-1" strike="noStrike">
              <a:solidFill>
                <a:srgbClr val="8c0039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равните чис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)           ?   5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?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)           ?   5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?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8" name="Object 4"/>
              <p:cNvSpPr txBox="1"/>
              <p:nvPr/>
            </p:nvSpPr>
            <p:spPr>
              <a:xfrm>
                <a:off x="3851280" y="1844640"/>
                <a:ext cx="96516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9" name="Object 6"/>
              <p:cNvSpPr txBox="1"/>
              <p:nvPr/>
            </p:nvSpPr>
            <p:spPr>
              <a:xfrm>
                <a:off x="3830760" y="3573360"/>
                <a:ext cx="799920" cy="10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0" name="Object 7"/>
              <p:cNvSpPr txBox="1"/>
              <p:nvPr/>
            </p:nvSpPr>
            <p:spPr>
              <a:xfrm>
                <a:off x="3687840" y="4724280"/>
                <a:ext cx="904680" cy="10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1" name="Object 8"/>
              <p:cNvSpPr txBox="1"/>
              <p:nvPr/>
            </p:nvSpPr>
            <p:spPr>
              <a:xfrm>
                <a:off x="5364000" y="4581360"/>
                <a:ext cx="471600" cy="12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2" name="Object 9"/>
              <p:cNvSpPr txBox="1"/>
              <p:nvPr/>
            </p:nvSpPr>
            <p:spPr>
              <a:xfrm>
                <a:off x="5364000" y="1844640"/>
                <a:ext cx="416160" cy="10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3" name="Object 10"/>
              <p:cNvSpPr txBox="1"/>
              <p:nvPr/>
            </p:nvSpPr>
            <p:spPr>
              <a:xfrm>
                <a:off x="3832200" y="765000"/>
                <a:ext cx="938160" cy="108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omic Sans MS"/>
              </a:rPr>
              <a:t>*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ычислите удобным способом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5" name="Object 4"/>
              <p:cNvSpPr txBox="1"/>
              <p:nvPr/>
            </p:nvSpPr>
            <p:spPr>
              <a:xfrm>
                <a:off x="870120" y="2852640"/>
                <a:ext cx="7184880" cy="13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47</m:t>
                    </m:r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9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1</m:t>
                    </m:r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9</m:t>
                        </m:r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47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Прямоугольник 3" descr=""/>
          <p:cNvPicPr/>
          <p:nvPr/>
        </p:nvPicPr>
        <p:blipFill>
          <a:blip r:embed="rId1"/>
          <a:stretch/>
        </p:blipFill>
        <p:spPr>
          <a:xfrm>
            <a:off x="938160" y="2505240"/>
            <a:ext cx="7596360" cy="1176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Прямоугольник 1"/>
          <p:cNvSpPr/>
          <p:nvPr/>
        </p:nvSpPr>
        <p:spPr>
          <a:xfrm>
            <a:off x="2771640" y="1125360"/>
            <a:ext cx="59770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 u="sng">
                <a:solidFill>
                  <a:srgbClr val="000000"/>
                </a:solidFill>
                <a:uFillTx/>
                <a:latin typeface="Baskerville Old Face"/>
              </a:rPr>
              <a:t>Тема урока:</a:t>
            </a:r>
            <a:r>
              <a:rPr b="0" lang="ru-RU" sz="4800" spc="-1" strike="noStrike">
                <a:solidFill>
                  <a:srgbClr val="000000"/>
                </a:solidFill>
                <a:latin typeface="Baskerville Old Face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ru-RU" sz="4800" spc="-1" strike="noStrike">
                <a:solidFill>
                  <a:srgbClr val="000000"/>
                </a:solidFill>
                <a:latin typeface="Arbat"/>
              </a:rPr>
              <a:t>«</a:t>
            </a: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Умножение обыкновенных дробей</a:t>
            </a:r>
            <a:r>
              <a:rPr b="1" lang="ru-RU" sz="4800" spc="-1" strike="noStrike">
                <a:solidFill>
                  <a:srgbClr val="000000"/>
                </a:solidFill>
                <a:latin typeface="Arbat"/>
              </a:rPr>
              <a:t>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Рисунок 2" descr=""/>
          <p:cNvPicPr/>
          <p:nvPr/>
        </p:nvPicPr>
        <p:blipFill>
          <a:blip r:embed="rId1"/>
          <a:srcRect l="0" t="0" r="5679" b="41994"/>
          <a:stretch/>
        </p:blipFill>
        <p:spPr>
          <a:xfrm>
            <a:off x="270000" y="1989000"/>
            <a:ext cx="8854920" cy="1368720"/>
          </a:xfrm>
          <a:prstGeom prst="rect">
            <a:avLst/>
          </a:prstGeom>
          <a:ln w="0">
            <a:noFill/>
          </a:ln>
        </p:spPr>
      </p:pic>
      <p:pic>
        <p:nvPicPr>
          <p:cNvPr id="372" name="Рисунок 3" descr=""/>
          <p:cNvPicPr/>
          <p:nvPr/>
        </p:nvPicPr>
        <p:blipFill>
          <a:blip r:embed="rId2"/>
          <a:srcRect l="0" t="54157" r="9467" b="0"/>
          <a:stretch/>
        </p:blipFill>
        <p:spPr>
          <a:xfrm>
            <a:off x="108000" y="3573360"/>
            <a:ext cx="901692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" dur="2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089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Решите задачу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Comic Sans MS"/>
              </a:rPr>
              <a:t>За горами, за лесами,</a:t>
            </a:r>
            <a:endParaRPr b="0" lang="en-US" sz="17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Comic Sans MS"/>
              </a:rPr>
              <a:t>За широкими морями,</a:t>
            </a:r>
            <a:endParaRPr b="0" lang="en-US" sz="17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Comic Sans MS"/>
              </a:rPr>
              <a:t>Не на небе – на земле</a:t>
            </a:r>
            <a:endParaRPr b="0" lang="en-US" sz="17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Comic Sans MS"/>
              </a:rPr>
              <a:t>Жил старик в одном селе,</a:t>
            </a:r>
            <a:endParaRPr b="0" lang="en-US" sz="17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Comic Sans MS"/>
              </a:rPr>
              <a:t>У крестьянина три сына:</a:t>
            </a:r>
            <a:endParaRPr b="0" lang="en-US" sz="17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Comic Sans MS"/>
              </a:rPr>
              <a:t>Старший умный был детина,</a:t>
            </a:r>
            <a:endParaRPr b="0" lang="en-US" sz="17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Comic Sans MS"/>
              </a:rPr>
              <a:t>Средний был и так и сяк,</a:t>
            </a:r>
            <a:endParaRPr b="0" lang="en-US" sz="17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Comic Sans MS"/>
              </a:rPr>
              <a:t>Младший вовсе был дурак.</a:t>
            </a:r>
            <a:endParaRPr b="0" lang="en-US" sz="17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Comic Sans MS"/>
              </a:rPr>
              <a:t>Братья сеяли пшеницу</a:t>
            </a:r>
            <a:endParaRPr b="0" lang="en-US" sz="17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Comic Sans MS"/>
              </a:rPr>
              <a:t>Да возили в град-столицу.</a:t>
            </a:r>
            <a:endParaRPr b="0" lang="en-US" sz="17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Comic Sans MS"/>
              </a:rPr>
              <a:t>Знать, столица та была</a:t>
            </a:r>
            <a:endParaRPr b="0" lang="en-US" sz="17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Comic Sans MS"/>
              </a:rPr>
              <a:t>Недалече от села.</a:t>
            </a:r>
            <a:endParaRPr b="0" lang="en-US" sz="17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Comic Sans MS"/>
              </a:rPr>
              <a:t>Там пшеницу продавали,</a:t>
            </a:r>
            <a:endParaRPr b="0" lang="en-US" sz="17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Comic Sans MS"/>
              </a:rPr>
              <a:t>Деньги счетом принимали</a:t>
            </a:r>
            <a:endParaRPr b="0" lang="en-US" sz="17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Comic Sans MS"/>
              </a:rPr>
              <a:t>И с набитую сумой</a:t>
            </a:r>
            <a:endParaRPr b="0" lang="en-US" sz="17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Comic Sans MS"/>
              </a:rPr>
              <a:t>Возвращалися домой.</a:t>
            </a:r>
            <a:endParaRPr b="0" lang="en-US" sz="17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Comic Sans MS"/>
              </a:rPr>
              <a:t>                                          </a:t>
            </a:r>
            <a:r>
              <a:rPr b="1" lang="ru-RU" sz="1700" spc="-1" strike="noStrike">
                <a:solidFill>
                  <a:srgbClr val="000000"/>
                </a:solidFill>
                <a:latin typeface="Comic Sans MS"/>
              </a:rPr>
              <a:t>И. Ершов</a:t>
            </a:r>
            <a:endParaRPr b="0" lang="en-US" sz="17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Вопрос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ой урожай сняли братья с трех полей, если размеры полей были таким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ервое поле длиной      км, шириной 2 к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торое поле длиной     км, шириной     к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ретье поле длиной       км, шириной       к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 урожайность везде одинаковая -       т с одного кв. к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6" name="Object 4"/>
              <p:cNvSpPr txBox="1"/>
              <p:nvPr/>
            </p:nvSpPr>
            <p:spPr>
              <a:xfrm>
                <a:off x="4572000" y="1557360"/>
                <a:ext cx="58572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7" name="Object 5"/>
              <p:cNvSpPr txBox="1"/>
              <p:nvPr/>
            </p:nvSpPr>
            <p:spPr>
              <a:xfrm>
                <a:off x="4427640" y="2637000"/>
                <a:ext cx="58572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8" name="Object 6"/>
              <p:cNvSpPr txBox="1"/>
              <p:nvPr/>
            </p:nvSpPr>
            <p:spPr>
              <a:xfrm>
                <a:off x="7380360" y="2637000"/>
                <a:ext cx="55224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9" name="Object 7"/>
              <p:cNvSpPr txBox="1"/>
              <p:nvPr/>
            </p:nvSpPr>
            <p:spPr>
              <a:xfrm>
                <a:off x="4427640" y="3789360"/>
                <a:ext cx="61740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0" name="Object 8"/>
              <p:cNvSpPr txBox="1"/>
              <p:nvPr/>
            </p:nvSpPr>
            <p:spPr>
              <a:xfrm>
                <a:off x="7667640" y="3645000"/>
                <a:ext cx="74772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1" name="Object 9"/>
              <p:cNvSpPr txBox="1"/>
              <p:nvPr/>
            </p:nvSpPr>
            <p:spPr>
              <a:xfrm>
                <a:off x="7236000" y="4581360"/>
                <a:ext cx="725400" cy="9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/>
          </p:nvPr>
        </p:nvSpPr>
        <p:spPr>
          <a:xfrm>
            <a:off x="45720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раткая запись условия задач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3" name=""/>
          <p:cNvGraphicFramePr/>
          <p:nvPr/>
        </p:nvGraphicFramePr>
        <p:xfrm>
          <a:off x="468360" y="1397160"/>
          <a:ext cx="8207280" cy="4505040"/>
        </p:xfrm>
        <a:graphic>
          <a:graphicData uri="http://schemas.openxmlformats.org/drawingml/2006/table">
            <a:tbl>
              <a:tblPr/>
              <a:tblGrid>
                <a:gridCol w="1439640"/>
                <a:gridCol w="1368720"/>
                <a:gridCol w="1511280"/>
                <a:gridCol w="2489040"/>
                <a:gridCol w="1398600"/>
              </a:tblGrid>
              <a:tr h="1460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лин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км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ирин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км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рожайность с 1 кв. к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т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есь урожай (т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48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пол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48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пол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148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I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пол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384" name="Object 47"/>
              <p:cNvSpPr txBox="1"/>
              <p:nvPr/>
            </p:nvSpPr>
            <p:spPr>
              <a:xfrm>
                <a:off x="2195640" y="2781360"/>
                <a:ext cx="58572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5" name="Object 48"/>
              <p:cNvSpPr txBox="1"/>
              <p:nvPr/>
            </p:nvSpPr>
            <p:spPr>
              <a:xfrm>
                <a:off x="2268360" y="3789360"/>
                <a:ext cx="58608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6" name="Object 49"/>
              <p:cNvSpPr txBox="1"/>
              <p:nvPr/>
            </p:nvSpPr>
            <p:spPr>
              <a:xfrm>
                <a:off x="2268360" y="4797360"/>
                <a:ext cx="61776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7" name="Object 50"/>
              <p:cNvSpPr txBox="1"/>
              <p:nvPr/>
            </p:nvSpPr>
            <p:spPr>
              <a:xfrm>
                <a:off x="3708360" y="3789360"/>
                <a:ext cx="55260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8" name="Object 53"/>
              <p:cNvSpPr txBox="1"/>
              <p:nvPr/>
            </p:nvSpPr>
            <p:spPr>
              <a:xfrm>
                <a:off x="3578400" y="4797360"/>
                <a:ext cx="695160" cy="9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9" name="Object 54"/>
              <p:cNvSpPr txBox="1"/>
              <p:nvPr/>
            </p:nvSpPr>
            <p:spPr>
              <a:xfrm>
                <a:off x="5364000" y="2997360"/>
                <a:ext cx="1227240" cy="158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омашнее зада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 примера партне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№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514 (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№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5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* Сократите дроб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2" name="Object 5"/>
              <p:cNvSpPr txBox="1"/>
              <p:nvPr/>
            </p:nvSpPr>
            <p:spPr>
              <a:xfrm>
                <a:off x="971640" y="3645000"/>
                <a:ext cx="3733560" cy="156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56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7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9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56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56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аверзные вопрос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ожно ли 188 разделить пополам так, чтобы в каждой половине получилось по 1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ожно ли число 66 увеличить в полтора раза не производя над ним никаких арифметических действи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олщина книги в 60 листов – 1 см. Какова толщина книги, если в ней 240 страни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3T16:55:32Z</dcterms:created>
  <dc:creator>Admin</dc:creator>
  <dc:description/>
  <dc:language>en-US</dc:language>
  <cp:lastModifiedBy>Work</cp:lastModifiedBy>
  <dcterms:modified xsi:type="dcterms:W3CDTF">2016-11-16T18:41:53Z</dcterms:modified>
  <cp:revision>43</cp:revision>
  <dc:subject/>
  <dc:title> Тема урока:   «Умножение обыкновенных дробей»</dc:title>
</cp:coreProperties>
</file>