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788-6E9E-4B26-8BBF-28B9C8C9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5E5-D13D-4101-B585-3750FAC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063-3D06-47F9-B907-7ADD7CFE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665-55E3-4F5D-BC3D-AD53CC50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4864-CB23-482E-A894-FFA5E8FB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D409-7796-4BA7-93EF-78FB63A0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6EF6-8C12-45C9-93A8-B5571D4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4D6-3836-4E14-956C-7AF8646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23C4-49A5-4B4A-87E1-655C49E6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B054-FC7A-4AD3-9997-85D2D07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CC5A-842C-4A73-9AE8-E77D3A1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E2D-A845-4297-9C27-CDF7CDC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581-43C1-489D-B844-ED839D80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2F4-54F9-47F0-A92E-C6DACFC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949D-C4DA-4DAC-9405-27410A74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02AC-CCB5-4D16-B7BF-AC6804D7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EA6-C784-4237-870F-BE5872C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7B8-E3D3-4C11-8300-A653E77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190-4DA2-411C-ADAA-D388054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925-9B7D-4D64-A353-1B4447C1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2B9-15BD-451C-AF99-758E068F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453-D440-4BDF-B527-9533AED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53C-9D68-4A0B-8CBE-5439EB18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BA7-13DF-4D9F-A5EB-A5CBB89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70D3-1749-42C6-A6EA-BA163CC96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285-5C91-431A-9DAC-83D24A546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773000"/>
            <a:ext cx="720072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етский дорожно – транспортный травмат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00360" y="4581000"/>
            <a:ext cx="39589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к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14 «Берёзка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г.т.Зеленоборский, Мурманской о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04640"/>
            <a:ext cx="73040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АЖНО, ЧТОБЫ РОДИТЕЛИ БЫЛИ ПРИМЕРОМ ДЛЯ ДЕТЕЙ В СОБЛЮДЕНИИ ПРАВИЛ ДОРОЖНОГО ДВИЖЕНИЯ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00360" y="836640"/>
            <a:ext cx="439272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забывайте 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Users\Ya\Desktop\ПДД\25489581.gif"/>
          <p:cNvPicPr/>
          <p:nvPr/>
        </p:nvPicPr>
        <p:blipFill>
          <a:blip r:embed="rId1"/>
          <a:stretch/>
        </p:blipFill>
        <p:spPr>
          <a:xfrm>
            <a:off x="5248440" y="4114800"/>
            <a:ext cx="38955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86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дорожно-транспортный травматизм, как это показывает статистика, имеет, к сожалению; тенденцию к увеличению, а не к снижению, что связано с увеличением числа дорожно-транспортных происшеств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Ya\Desktop\ПДД\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94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виноват в том, что на дорогах травмируются и гибнут дет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несчастных случае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аварий на дорог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67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Игра на проезжей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6" descr="0018-026-Kakie-pravila-narushili-deti.jpg"/>
          <p:cNvPicPr/>
          <p:nvPr/>
        </p:nvPicPr>
        <p:blipFill>
          <a:blip r:embed="rId1"/>
          <a:stretch/>
        </p:blipFill>
        <p:spPr>
          <a:xfrm>
            <a:off x="457200" y="2768760"/>
            <a:ext cx="4040280" cy="2763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Текст 4"/>
          <p:cNvSpPr/>
          <p:nvPr/>
        </p:nvSpPr>
        <p:spPr>
          <a:xfrm>
            <a:off x="4797360" y="1628640"/>
            <a:ext cx="4041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 4"/>
          <p:cNvSpPr/>
          <p:nvPr/>
        </p:nvSpPr>
        <p:spPr>
          <a:xfrm>
            <a:off x="5003640" y="1557360"/>
            <a:ext cx="383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реход дороги в  неположен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11" descr="101-5-bezopasnost-dorozhnogo-dvizheniya-kartinki-dlya-detej.jpg"/>
          <p:cNvPicPr/>
          <p:nvPr/>
        </p:nvPicPr>
        <p:blipFill>
          <a:blip r:embed="rId2"/>
          <a:stretch/>
        </p:blipFill>
        <p:spPr>
          <a:xfrm>
            <a:off x="4788000" y="2781360"/>
            <a:ext cx="404172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345456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Езда на велосипеде по проезжей части доро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9" descr="0007-008-Dvizhenie-avtomobilja.jpg"/>
          <p:cNvPicPr/>
          <p:nvPr/>
        </p:nvPicPr>
        <p:blipFill>
          <a:blip r:embed="rId1"/>
          <a:stretch/>
        </p:blipFill>
        <p:spPr>
          <a:xfrm>
            <a:off x="4716360" y="2708280"/>
            <a:ext cx="4141800" cy="2924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397044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Ходьба по проезжей части при наличии троту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11" descr="risunokkkkkk6.jpg"/>
          <p:cNvPicPr/>
          <p:nvPr/>
        </p:nvPicPr>
        <p:blipFill>
          <a:blip r:embed="rId2"/>
          <a:stretch/>
        </p:blipFill>
        <p:spPr>
          <a:xfrm>
            <a:off x="279360" y="2708280"/>
            <a:ext cx="40942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488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ожиданный выход на проезжую часть дороги  из-за стоящего транспорта, зданий, зеленых насаж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image051_0.jpg"/>
          <p:cNvPicPr/>
          <p:nvPr/>
        </p:nvPicPr>
        <p:blipFill>
          <a:blip r:embed="rId1"/>
          <a:stretch/>
        </p:blipFill>
        <p:spPr>
          <a:xfrm>
            <a:off x="1547640" y="2133720"/>
            <a:ext cx="6907320" cy="4309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7354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Неподчинение сигналам  регу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7" descr="clip_image00t1.png"/>
          <p:cNvPicPr/>
          <p:nvPr/>
        </p:nvPicPr>
        <p:blipFill>
          <a:blip r:embed="rId1"/>
          <a:stretch/>
        </p:blipFill>
        <p:spPr>
          <a:xfrm>
            <a:off x="4284720" y="3429000"/>
            <a:ext cx="4622760" cy="2709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5" descr="4_html_m182fa3.jpg"/>
          <p:cNvPicPr/>
          <p:nvPr/>
        </p:nvPicPr>
        <p:blipFill>
          <a:blip r:embed="rId2"/>
          <a:stretch/>
        </p:blipFill>
        <p:spPr>
          <a:xfrm>
            <a:off x="1403280" y="2303640"/>
            <a:ext cx="3313080" cy="2947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263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рожно-транспортный травматизм детей в значительной мере обусловлен такими особенностями их психофизиологического развития, как: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зрелость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способность правильно оценивать обстановку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ыстрое образование условных рефлексов и быстрое их исчезновение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требность в движении, которая преобладает над осторожностью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ремление подражать взрослым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ереоценка своих возможностей;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ецифичность реакции на приближающийся автомобиль и др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Ya</cp:lastModifiedBy>
  <dcterms:modified xsi:type="dcterms:W3CDTF">2016-02-17T16:53:28Z</dcterms:modified>
  <cp:revision>9</cp:revision>
  <dc:subject/>
  <dc:title>Слайд 1</dc:title>
</cp:coreProperties>
</file>