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51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2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.png" ContentType="image/png"/>
  <Override PartName="/ppt/media/image34.png" ContentType="image/png"/>
  <Override PartName="/ppt/media/image26.jpeg" ContentType="image/jpeg"/>
  <Override PartName="/ppt/media/image5.jpeg" ContentType="image/jpeg"/>
  <Override PartName="/ppt/media/image50.png" ContentType="image/png"/>
  <Override PartName="/ppt/media/image27.jpeg" ContentType="image/jpeg"/>
  <Override PartName="/ppt/media/image52.png" ContentType="image/png"/>
  <Override PartName="/ppt/media/image36.png" ContentType="image/png"/>
  <Override PartName="/ppt/media/image40.png" ContentType="image/png"/>
  <Override PartName="/ppt/media/image43.jpeg" ContentType="image/jpeg"/>
  <Override PartName="/ppt/media/image45.jpeg" ContentType="image/jpeg"/>
  <Override PartName="/ppt/media/image41.jpeg" ContentType="image/jpeg"/>
  <Override PartName="/ppt/media/image44.png" ContentType="image/png"/>
  <Override PartName="/ppt/media/image47.jpeg" ContentType="image/jpeg"/>
  <Override PartName="/ppt/media/image48.jpeg" ContentType="image/jpeg"/>
  <Override PartName="/ppt/media/image53.jpeg" ContentType="image/jpeg"/>
  <Override PartName="/ppt/media/image55.jpeg" ContentType="image/jpeg"/>
  <Override PartName="/ppt/media/image56.png" ContentType="image/png"/>
  <Override PartName="/ppt/media/image46.png" ContentType="image/png"/>
  <Override PartName="/ppt/media/image57.jpeg" ContentType="image/jpeg"/>
  <Override PartName="/ppt/media/image11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32.jpeg" ContentType="image/jpeg"/>
  <Override PartName="/ppt/media/image31.jpeg" ContentType="image/jpeg"/>
  <Override PartName="/ppt/media/image30.jpeg" ContentType="image/jpeg"/>
  <Override PartName="/ppt/media/image20.jpeg" ContentType="image/jpeg"/>
  <Override PartName="/ppt/media/image7.png" ContentType="image/png"/>
  <Override PartName="/ppt/media/image22.jpeg" ContentType="image/jpeg"/>
  <Override PartName="/ppt/media/image39.png" ContentType="image/png"/>
  <Override PartName="/ppt/media/image9.png" ContentType="image/png"/>
  <Override PartName="/ppt/media/image54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2F04-C02D-424C-9E2A-9FB069DAE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6EF8-1020-4AA2-AA2C-513A8BB7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1A44-F165-4E2B-9622-050CEAC9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A8EC-75B9-4A7F-A121-86BCC7D2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FF87-C954-4881-A2F5-D7F5B93A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A010-F37C-4685-9534-AA714F2B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D6AB-3464-46E7-8482-05CA3C49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847F-5AD1-44CE-91E2-956BFD6A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7240-7A9C-43BE-AD13-F7C74DEE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CD03-5EE7-45C3-AEBB-2663CBE8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BF7C-EAF8-4C43-9F2B-555EA788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A956-0389-42BD-94C7-E8FE817B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40EA-37EA-4EE6-824D-F8C1381062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109455537_3109898_14__6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grpSp>
        <p:nvGrpSpPr>
          <p:cNvPr id="42" name="Группа 8"/>
          <p:cNvGrpSpPr/>
          <p:nvPr/>
        </p:nvGrpSpPr>
        <p:grpSpPr>
          <a:xfrm>
            <a:off x="360" y="71280"/>
            <a:ext cx="9143640" cy="6708960"/>
            <a:chOff x="360" y="71280"/>
            <a:chExt cx="9143640" cy="6708960"/>
          </a:xfrm>
        </p:grpSpPr>
        <p:pic>
          <p:nvPicPr>
            <p:cNvPr id="43" name="Рисунок 9" descr="1367741896_0_5d6e9_10af466d_xl1.jpg"/>
            <p:cNvPicPr/>
            <p:nvPr/>
          </p:nvPicPr>
          <p:blipFill>
            <a:blip r:embed="rId2">
              <a:lum bright="30000"/>
            </a:blip>
            <a:stretch/>
          </p:blipFill>
          <p:spPr>
            <a:xfrm rot="20155200">
              <a:off x="302400" y="619920"/>
              <a:ext cx="3137760" cy="21495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44" name="Рисунок 14" descr="ac5a26bbd8a2t.jpg"/>
            <p:cNvPicPr/>
            <p:nvPr/>
          </p:nvPicPr>
          <p:blipFill>
            <a:blip r:embed="rId3">
              <a:lum bright="30000"/>
            </a:blip>
            <a:stretch/>
          </p:blipFill>
          <p:spPr>
            <a:xfrm rot="1051200">
              <a:off x="5741280" y="469440"/>
              <a:ext cx="2966400" cy="20703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45" name="Прямоугольник 15" descr=""/>
            <p:cNvPicPr/>
            <p:nvPr/>
          </p:nvPicPr>
          <p:blipFill>
            <a:blip r:embed="rId4"/>
            <a:stretch/>
          </p:blipFill>
          <p:spPr>
            <a:xfrm>
              <a:off x="534240" y="1659600"/>
              <a:ext cx="8005320" cy="285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Рисунок 17" descr="o_512686.jpg"/>
            <p:cNvPicPr/>
            <p:nvPr/>
          </p:nvPicPr>
          <p:blipFill>
            <a:blip r:embed="rId5">
              <a:grayscl/>
              <a:lum bright="20000"/>
            </a:blip>
            <a:stretch/>
          </p:blipFill>
          <p:spPr>
            <a:xfrm rot="20262000">
              <a:off x="5832720" y="4038480"/>
              <a:ext cx="2930040" cy="20862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47" name="Рисунок 20" descr="30_big.jpg"/>
            <p:cNvPicPr/>
            <p:nvPr/>
          </p:nvPicPr>
          <p:blipFill>
            <a:blip r:embed="rId6"/>
            <a:stretch/>
          </p:blipFill>
          <p:spPr>
            <a:xfrm rot="1212600">
              <a:off x="261720" y="4122000"/>
              <a:ext cx="3210480" cy="20862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48" name="Прямоугольник 12" descr=""/>
            <p:cNvPicPr/>
            <p:nvPr/>
          </p:nvPicPr>
          <p:blipFill>
            <a:blip r:embed="rId7"/>
            <a:stretch/>
          </p:blipFill>
          <p:spPr>
            <a:xfrm>
              <a:off x="6320520" y="5851080"/>
              <a:ext cx="2823480" cy="929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109455537_3109898_14__6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1391539721-790726-437037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3348000" y="260280"/>
            <a:ext cx="3960720" cy="395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6" name="Рисунок 6" descr="klucis_1.jpg"/>
          <p:cNvPicPr/>
          <p:nvPr/>
        </p:nvPicPr>
        <p:blipFill>
          <a:blip r:embed="rId3"/>
          <a:stretch/>
        </p:blipFill>
        <p:spPr>
          <a:xfrm>
            <a:off x="6227640" y="4365720"/>
            <a:ext cx="2471760" cy="223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7" name="Рисунок 7" descr="301.jpg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611280" y="620640"/>
            <a:ext cx="2071440" cy="3178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8" name="Прямоугольник 8" descr=""/>
          <p:cNvPicPr/>
          <p:nvPr/>
        </p:nvPicPr>
        <p:blipFill>
          <a:blip r:embed="rId5"/>
          <a:stretch/>
        </p:blipFill>
        <p:spPr>
          <a:xfrm>
            <a:off x="85680" y="3992400"/>
            <a:ext cx="2925720" cy="106704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9" descr=""/>
          <p:cNvPicPr/>
          <p:nvPr/>
        </p:nvPicPr>
        <p:blipFill>
          <a:blip r:embed="rId6"/>
          <a:stretch/>
        </p:blipFill>
        <p:spPr>
          <a:xfrm>
            <a:off x="4443480" y="5291280"/>
            <a:ext cx="16891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109455537_3109898_14__6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3" descr=""/>
          <p:cNvPicPr/>
          <p:nvPr/>
        </p:nvPicPr>
        <p:blipFill>
          <a:blip r:embed="rId2"/>
          <a:stretch/>
        </p:blipFill>
        <p:spPr>
          <a:xfrm>
            <a:off x="3054240" y="5437080"/>
            <a:ext cx="2749680" cy="10670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4" descr="28-12.jpg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2700360" y="189000"/>
            <a:ext cx="3855960" cy="5209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109455537_3109898_14__6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6" descr="rA_KQ0MTBFM.jpg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395280" y="692280"/>
            <a:ext cx="4529160" cy="3457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5" name="Рисунок 7" descr="русланова2.jpg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5203800" y="1341360"/>
            <a:ext cx="3713040" cy="4989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6" name="Прямоугольник 8" descr=""/>
          <p:cNvPicPr/>
          <p:nvPr/>
        </p:nvPicPr>
        <p:blipFill>
          <a:blip r:embed="rId4"/>
          <a:stretch/>
        </p:blipFill>
        <p:spPr>
          <a:xfrm>
            <a:off x="1542960" y="4498920"/>
            <a:ext cx="23893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109455537_3109898_14__6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6" descr="шуль4.jpg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250920" y="333360"/>
            <a:ext cx="5257800" cy="397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9" name="Прямоугольник 5" descr=""/>
          <p:cNvPicPr/>
          <p:nvPr/>
        </p:nvPicPr>
        <p:blipFill>
          <a:blip r:embed="rId3"/>
          <a:stretch/>
        </p:blipFill>
        <p:spPr>
          <a:xfrm>
            <a:off x="6132600" y="755640"/>
            <a:ext cx="2414520" cy="10666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7" descr="шуль3.jpg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5867280" y="2276640"/>
            <a:ext cx="3125880" cy="4105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109455537_3109898_14__6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2" descr="160753.jpg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395280" y="549360"/>
            <a:ext cx="2736720" cy="4343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3" name="Рисунок 4" descr="Поэт-Е.-Долматовский-выступает-у-Бранденбургских-ворот.-Берлин-А-1024x695.jpg"/>
          <p:cNvPicPr/>
          <p:nvPr/>
        </p:nvPicPr>
        <p:blipFill>
          <a:blip r:embed="rId3"/>
          <a:stretch/>
        </p:blipFill>
        <p:spPr>
          <a:xfrm>
            <a:off x="3492360" y="2781360"/>
            <a:ext cx="5291280" cy="3591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4" name="Прямоугольник 5" descr=""/>
          <p:cNvPicPr/>
          <p:nvPr/>
        </p:nvPicPr>
        <p:blipFill>
          <a:blip r:embed="rId4"/>
          <a:stretch/>
        </p:blipFill>
        <p:spPr>
          <a:xfrm>
            <a:off x="4718160" y="828720"/>
            <a:ext cx="28717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109455537_3109898_14__6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2" descr="i_050.jpg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39640" y="1125360"/>
            <a:ext cx="8212320" cy="5469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7" name="Прямоугольник 3" descr=""/>
          <p:cNvPicPr/>
          <p:nvPr/>
        </p:nvPicPr>
        <p:blipFill>
          <a:blip r:embed="rId3"/>
          <a:stretch/>
        </p:blipFill>
        <p:spPr>
          <a:xfrm>
            <a:off x="3024360" y="103320"/>
            <a:ext cx="2943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109455537_3109898_14__6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утесов3.jpg"/>
          <p:cNvPicPr/>
          <p:nvPr/>
        </p:nvPicPr>
        <p:blipFill>
          <a:blip r:embed="rId2"/>
          <a:stretch/>
        </p:blipFill>
        <p:spPr>
          <a:xfrm>
            <a:off x="5724360" y="333360"/>
            <a:ext cx="3152880" cy="38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0" name="Рисунок 7" descr="утесов.jpg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2411280" y="2276640"/>
            <a:ext cx="3754440" cy="436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1" name="Рисунок 8" descr="утесов2.jpg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250920" y="333360"/>
            <a:ext cx="2736720" cy="3902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2" name="Прямоугольник 9" descr=""/>
          <p:cNvPicPr/>
          <p:nvPr/>
        </p:nvPicPr>
        <p:blipFill>
          <a:blip r:embed="rId5"/>
          <a:stretch/>
        </p:blipFill>
        <p:spPr>
          <a:xfrm>
            <a:off x="2981160" y="609480"/>
            <a:ext cx="2749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315326_3367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-41400" y="0"/>
            <a:ext cx="9226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109455537_3109898_14__6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-19080"/>
            <a:ext cx="9266400" cy="118908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6" descr=""/>
          <p:cNvPicPr/>
          <p:nvPr/>
        </p:nvPicPr>
        <p:blipFill>
          <a:blip r:embed="rId3"/>
          <a:stretch/>
        </p:blipFill>
        <p:spPr>
          <a:xfrm>
            <a:off x="-6480" y="1566720"/>
            <a:ext cx="9266400" cy="118908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7" descr=""/>
          <p:cNvPicPr/>
          <p:nvPr/>
        </p:nvPicPr>
        <p:blipFill>
          <a:blip r:embed="rId4"/>
          <a:stretch/>
        </p:blipFill>
        <p:spPr>
          <a:xfrm>
            <a:off x="-6480" y="3438360"/>
            <a:ext cx="9266400" cy="118908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9" descr=""/>
          <p:cNvPicPr/>
          <p:nvPr/>
        </p:nvPicPr>
        <p:blipFill>
          <a:blip r:embed="rId5"/>
          <a:stretch/>
        </p:blipFill>
        <p:spPr>
          <a:xfrm>
            <a:off x="-6480" y="4432320"/>
            <a:ext cx="9266400" cy="158436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10" descr=""/>
          <p:cNvPicPr/>
          <p:nvPr/>
        </p:nvPicPr>
        <p:blipFill>
          <a:blip r:embed="rId6"/>
          <a:stretch/>
        </p:blipFill>
        <p:spPr>
          <a:xfrm>
            <a:off x="-6480" y="5315040"/>
            <a:ext cx="9266400" cy="118908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11" descr=""/>
          <p:cNvPicPr/>
          <p:nvPr/>
        </p:nvPicPr>
        <p:blipFill>
          <a:blip r:embed="rId7"/>
          <a:stretch/>
        </p:blipFill>
        <p:spPr>
          <a:xfrm>
            <a:off x="-6480" y="2633760"/>
            <a:ext cx="9266400" cy="157788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12" descr=""/>
          <p:cNvPicPr/>
          <p:nvPr/>
        </p:nvPicPr>
        <p:blipFill>
          <a:blip r:embed="rId8"/>
          <a:stretch/>
        </p:blipFill>
        <p:spPr>
          <a:xfrm>
            <a:off x="-6480" y="974880"/>
            <a:ext cx="926640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ладога3.jpg"/>
          <p:cNvPicPr/>
          <p:nvPr/>
        </p:nvPicPr>
        <p:blipFill>
          <a:blip r:embed="rId1"/>
          <a:stretch/>
        </p:blipFill>
        <p:spPr>
          <a:xfrm>
            <a:off x="1332000" y="189000"/>
            <a:ext cx="6769080" cy="633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109455537_3109898_14__6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67b32f052168f8284d3f516ae1b537a4.jpg"/>
          <p:cNvPicPr/>
          <p:nvPr/>
        </p:nvPicPr>
        <p:blipFill>
          <a:blip r:embed="rId2"/>
          <a:stretch/>
        </p:blipFill>
        <p:spPr>
          <a:xfrm>
            <a:off x="1258920" y="1052640"/>
            <a:ext cx="7273800" cy="4905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0" name="Рисунок 6" descr="ладога.jpg"/>
          <p:cNvPicPr/>
          <p:nvPr/>
        </p:nvPicPr>
        <p:blipFill>
          <a:blip r:embed="rId3"/>
          <a:stretch/>
        </p:blipFill>
        <p:spPr>
          <a:xfrm>
            <a:off x="324000" y="189000"/>
            <a:ext cx="2808000" cy="280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1" name="Кольцо 8"/>
          <p:cNvSpPr/>
          <p:nvPr/>
        </p:nvSpPr>
        <p:spPr>
          <a:xfrm>
            <a:off x="4859280" y="3068640"/>
            <a:ext cx="2376720" cy="2305080"/>
          </a:xfrm>
          <a:custGeom>
            <a:avLst/>
            <a:gdLst>
              <a:gd name="textAreaLeft" fmla="*/ 347760 w 2376720"/>
              <a:gd name="textAreaRight" fmla="*/ 2028960 w 2376720"/>
              <a:gd name="textAreaTop" fmla="*/ 337320 h 2305080"/>
              <a:gd name="textAreaBottom" fmla="*/ 1967760 h 2305080"/>
            </a:gdLst>
            <a:ahLst/>
            <a:rect l="textAreaLeft" t="textAreaTop" r="textAreaRight" b="textAreaBottom"/>
            <a:pathLst>
              <a:path w="2376487" h="2305050">
                <a:moveTo>
                  <a:pt x="0" y="1152525"/>
                </a:moveTo>
                <a:lnTo>
                  <a:pt x="0" y="1152525"/>
                </a:lnTo>
                <a:arcTo wR="1188244" hR="1152525" stAng="-10799997" swAng="5400003"/>
                <a:lnTo>
                  <a:pt x="1188246" y="1"/>
                </a:lnTo>
                <a:arcTo wR="1188244" hR="1152525" stAng="-5399997" swAng="5400003"/>
                <a:lnTo>
                  <a:pt x="2376489" y="1152528"/>
                </a:lnTo>
                <a:arcTo wR="1188244" hR="1152525" stAng="0" swAng="5400003"/>
                <a:lnTo>
                  <a:pt x="1188244" y="2305053"/>
                </a:lnTo>
                <a:arcTo wR="1188244" hR="1152525" stAng="5400003" swAng="5400000"/>
                <a:close/>
                <a:moveTo>
                  <a:pt x="101952" y="1152525"/>
                </a:moveTo>
                <a:lnTo>
                  <a:pt x="101952" y="1152525"/>
                </a:lnTo>
                <a:arcTo wR="1086291" hR="1050573" stAng="-10799997" swAng="-5400000"/>
                <a:lnTo>
                  <a:pt x="1188242" y="2203099"/>
                </a:lnTo>
                <a:arcTo wR="1086291" hR="1050573" stAng="5400003" swAng="-5400000"/>
                <a:lnTo>
                  <a:pt x="2274534" y="1152527"/>
                </a:lnTo>
                <a:arcTo wR="1086291" hR="1050573" stAng="0" swAng="-5400000"/>
                <a:lnTo>
                  <a:pt x="1188243" y="101954"/>
                </a:lnTo>
                <a:arcTo wR="1086291" hR="1050573" stAng="-5399997" swAng="-5400000"/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109455537_3109898_14__6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russ-flyers.jpg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468360" y="404640"/>
            <a:ext cx="3887640" cy="2746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4" name="Рисунок 3" descr="FB26-1016.jpg"/>
          <p:cNvPicPr/>
          <p:nvPr/>
        </p:nvPicPr>
        <p:blipFill>
          <a:blip r:embed="rId3">
            <a:grayscl/>
            <a:lum bright="20000"/>
          </a:blip>
          <a:stretch/>
        </p:blipFill>
        <p:spPr>
          <a:xfrm>
            <a:off x="4932360" y="385920"/>
            <a:ext cx="3762360" cy="2760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5" name="Рисунок 4" descr="e9df7c52d9bf32d375006f2e7d6.jpg"/>
          <p:cNvPicPr/>
          <p:nvPr/>
        </p:nvPicPr>
        <p:blipFill>
          <a:blip r:embed="rId4"/>
          <a:stretch/>
        </p:blipFill>
        <p:spPr>
          <a:xfrm>
            <a:off x="468360" y="3573360"/>
            <a:ext cx="3887640" cy="280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5" descr="ce06ea4fb8b63456c11bcf99e52c4fdc.jpg"/>
          <p:cNvPicPr/>
          <p:nvPr/>
        </p:nvPicPr>
        <p:blipFill>
          <a:blip r:embed="rId5"/>
          <a:stretch/>
        </p:blipFill>
        <p:spPr>
          <a:xfrm>
            <a:off x="4788000" y="3602160"/>
            <a:ext cx="3978000" cy="2779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109455537_3109898_14__6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8" descr="шостакович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5651640" y="1197000"/>
            <a:ext cx="3068640" cy="230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Рисунок 10" descr="программа.jpg"/>
          <p:cNvPicPr/>
          <p:nvPr/>
        </p:nvPicPr>
        <p:blipFill>
          <a:blip r:embed="rId3"/>
          <a:stretch/>
        </p:blipFill>
        <p:spPr>
          <a:xfrm>
            <a:off x="1692360" y="3573360"/>
            <a:ext cx="4538520" cy="3044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0" name="Рисунок 12" descr="шостакович1.jpg"/>
          <p:cNvPicPr/>
          <p:nvPr/>
        </p:nvPicPr>
        <p:blipFill>
          <a:blip r:embed="rId4">
            <a:lum bright="10000"/>
          </a:blip>
          <a:stretch/>
        </p:blipFill>
        <p:spPr>
          <a:xfrm>
            <a:off x="324000" y="260280"/>
            <a:ext cx="3095640" cy="2882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1" name="Прямоугольник 7" descr=""/>
          <p:cNvPicPr/>
          <p:nvPr/>
        </p:nvPicPr>
        <p:blipFill>
          <a:blip r:embed="rId5"/>
          <a:stretch/>
        </p:blipFill>
        <p:spPr>
          <a:xfrm>
            <a:off x="3560760" y="328680"/>
            <a:ext cx="2743200" cy="92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109455537_3109898_14__6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дирижер.jpg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755640" y="476280"/>
            <a:ext cx="4311720" cy="280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4" name="Рисунок 11" descr="74942855_4000491_filar2.jpg"/>
          <p:cNvPicPr/>
          <p:nvPr/>
        </p:nvPicPr>
        <p:blipFill>
          <a:blip r:embed="rId3">
            <a:grayscl/>
            <a:lum bright="20000"/>
          </a:blip>
          <a:stretch/>
        </p:blipFill>
        <p:spPr>
          <a:xfrm>
            <a:off x="755640" y="3500280"/>
            <a:ext cx="4176720" cy="313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Рисунок 12" descr="information_items_180.jpg"/>
          <p:cNvPicPr/>
          <p:nvPr/>
        </p:nvPicPr>
        <p:blipFill>
          <a:blip r:embed="rId4">
            <a:grayscl/>
          </a:blip>
          <a:stretch/>
        </p:blipFill>
        <p:spPr>
          <a:xfrm>
            <a:off x="5559480" y="981000"/>
            <a:ext cx="3294000" cy="460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109455537_3109898_14__6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87003_bdvd_-1l.jpg"/>
          <p:cNvPicPr/>
          <p:nvPr/>
        </p:nvPicPr>
        <p:blipFill>
          <a:blip r:embed="rId2"/>
          <a:stretch/>
        </p:blipFill>
        <p:spPr>
          <a:xfrm>
            <a:off x="2195640" y="206280"/>
            <a:ext cx="4552920" cy="6175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3" descr="109455537_3109898_14__6_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84240" y="0"/>
            <a:ext cx="922824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фото Фатьянова 2.jpg"/>
          <p:cNvPicPr/>
          <p:nvPr/>
        </p:nvPicPr>
        <p:blipFill>
          <a:blip r:embed="rId2"/>
          <a:stretch/>
        </p:blipFill>
        <p:spPr>
          <a:xfrm>
            <a:off x="539640" y="765000"/>
            <a:ext cx="3238560" cy="4262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0" name="Рисунок 5" descr="фото Алексей Фатьянов.jpg"/>
          <p:cNvPicPr/>
          <p:nvPr/>
        </p:nvPicPr>
        <p:blipFill>
          <a:blip r:embed="rId3"/>
          <a:stretch/>
        </p:blipFill>
        <p:spPr>
          <a:xfrm>
            <a:off x="5867280" y="620640"/>
            <a:ext cx="2648160" cy="4334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1" name="Рисунок 6" descr="соловьёв-седой.jpg"/>
          <p:cNvPicPr/>
          <p:nvPr/>
        </p:nvPicPr>
        <p:blipFill>
          <a:blip r:embed="rId4"/>
          <a:stretch/>
        </p:blipFill>
        <p:spPr>
          <a:xfrm>
            <a:off x="3276720" y="2565360"/>
            <a:ext cx="2766960" cy="351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2" name="Прямоугольник 7" descr=""/>
          <p:cNvPicPr/>
          <p:nvPr/>
        </p:nvPicPr>
        <p:blipFill>
          <a:blip r:embed="rId5"/>
          <a:stretch/>
        </p:blipFill>
        <p:spPr>
          <a:xfrm>
            <a:off x="3486240" y="895320"/>
            <a:ext cx="2749320" cy="106668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8" descr=""/>
          <p:cNvPicPr/>
          <p:nvPr/>
        </p:nvPicPr>
        <p:blipFill>
          <a:blip r:embed="rId6"/>
          <a:stretch/>
        </p:blipFill>
        <p:spPr>
          <a:xfrm>
            <a:off x="2048040" y="5937120"/>
            <a:ext cx="5121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1T13:49:18Z</dcterms:created>
  <dc:creator>Натали</dc:creator>
  <dc:description/>
  <dc:language>en-US</dc:language>
  <cp:lastModifiedBy>Мирослав</cp:lastModifiedBy>
  <dcterms:modified xsi:type="dcterms:W3CDTF">2016-11-30T20:32:56Z</dcterms:modified>
  <cp:revision>281</cp:revision>
  <dc:subject/>
  <dc:title>Слайд 1</dc:title>
</cp:coreProperties>
</file>