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442B-ED03-4E60-B519-DABDCA9A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2D79-28F7-4AE6-94F2-0F9A2B03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83F8-B29B-45CF-A1D1-4E4FF4E6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8B1A-AB00-46F8-8115-3DD5AAF6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C321-47B6-4D9B-8AEB-86EFE057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6C0D-5A1E-4209-833E-A77835E6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B4A3-B3DA-433F-928A-ABFFAB08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1A9D-199B-43CF-88D7-9ACC2113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12F2-9E6A-4890-BDAB-0FCAEC33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9019-4BAB-4481-A774-752D10FB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37A8-4583-4608-B20C-B30C24E2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4AC1-B3B8-4188-AF72-82AA4176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73BC-26F9-46EA-98E7-13147BFB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1BDA-B6A2-42C7-A8A4-5D023BA8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5CA5-E6E3-4B59-B92C-9077195F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80D4-FB89-4885-BE79-4B2EF407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86C1-650B-49F3-B35B-1D4B10C1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5F5257-CAB9-4D70-8209-F7756A1F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C04E07-7ED7-4A53-87BC-85F9AE88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244320-901D-4933-B78F-980F596F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C0232-C841-4B75-9D62-860D656A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26572-330E-4FAC-B77D-041F0F3F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49B9-F3C0-4168-9187-749E9498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1FFD45-C6F8-4982-B4C5-77D88EE1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D8BD2-7071-45E5-AB9C-CD403A2F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67C64-4584-4487-A9A9-45398E2E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A329D2-E8F0-4642-8C5A-C2D8571F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53D6F5-A752-4C76-B753-912E76C6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D74DC0-7EA3-4C5F-8408-966F56C4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47A0AF-8A1C-49A3-B61D-A0D4CC38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1B915-0728-4213-BF0F-A738C039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33D17-7474-4DD9-B4F1-24E63646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65467-B519-4A66-9438-1D556B58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1E99-6FD4-484B-AE27-DB439732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17650-DAE4-4B9F-9ADA-6CB6050D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0BE31-981E-41FF-A653-F7A40B8A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25386-446C-4DC1-B019-414A2CB9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B0FD3-3813-422C-86A8-32C58F9D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F24F6-5F1E-48A2-B8E6-EA9213CD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90AF4-CAFA-46BA-8887-5F01B77D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036F9-B130-4BE7-A34D-AA92004B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CD2BC-EFF4-415A-8121-1C8653C8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AAB1B-3258-4013-878A-CB4C5E58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C1DE1D-75D1-453D-86F3-EB4B7E0C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A243-049C-4700-9263-E3CEBE4C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C7F0A3-E5FB-4344-A9DC-36F341A9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BF0E80-3B08-43DA-94AF-495DFC60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80633F-1E50-443E-984F-D86D618F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CFBF35-56F6-41E1-8C24-162D4EBD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965503-20FE-4753-935E-24EC3604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DAF4BA-729C-414D-A29D-E23D2156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B59E9C-32FE-4D3D-9C50-CB045017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650EFD-48B1-4E6F-88E2-C3DDF83D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A70880-0EA5-4CFA-9D81-3D6FDB20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9FAD07-561A-4F9C-9095-7E736E643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238F-48F1-4890-A461-9919D168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DDE120-7146-40C8-A0F0-3D84531C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04DFA4-FBB0-487C-AE3B-0EFACCA8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48DDF3-3787-4150-B86B-D0511D0E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97D877-8E75-40C7-AC61-1DEF45CF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5B208D-AA17-4373-841A-6A0F5DC2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EAF199-0DDC-48AD-98A6-20D222A4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087188-BBDC-4840-83CF-8B45829E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1B92C1-3D60-4334-A3D8-F216763A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BE5492-5B0B-44F5-8DEF-6C264BF5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C901DA-5123-4E49-94A6-FDBEB4E8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9A7E-8ED9-46F1-8BA5-C3DCF8EE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EE9204-CFC4-45F0-AE03-83889F51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69A1E8-C9E2-40B9-805D-361ADEB4C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E4FFF4-13EB-400A-A9CC-E0C30185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28C1F4-A10B-48C8-BE8A-8BEBE22BB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3D9AA2-B42B-495D-AC81-6B48DBEB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9B4DA2-3E57-4B39-850A-91828574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A30AB5-19A2-48FE-96BB-17BD3FF8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967966-104C-4BC4-8E48-7C7A9A12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BFDD05-0B8D-41CC-88C3-21E7293D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1A3EFB-C621-4B46-BCDF-3082BDAD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7509-F5D6-43D7-B8E2-ACC5DA12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5720B6-D681-4A10-B73C-34D1CBD9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128AC7-104D-4FB5-BA09-851B1F2A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628580-CBE8-4D55-BE00-38E5A030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2175FD-C9BE-410C-81E7-32F837A3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FBA78A-8BC0-455D-B9A9-190A2996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A5DB-46D3-4C6F-82A5-9507CB9B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472C-54F4-4949-9F87-259C1361005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2823-4E15-4C25-BCDB-1440696F480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A588-5151-4583-B945-9E46FDF5831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B1AF-BC54-4A9D-A271-18CE0C11E97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255C-61B5-407F-AF3C-8A7E020B0D7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DB5B-5B3A-4039-A944-8E144517DBA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5159-C83B-4E74-9785-D86B178EBA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Century Schoolbook"/>
              </a:rPr>
              <a:t>ОРГАНИЗАЦИЯ И ПРОВЕДЕНИЕ СПОРТИВНО-МАССОВЫХ СОРЕВНОВАНИЙ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5940360" y="5689440"/>
            <a:ext cx="2195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Подготовила  Паращевина Виктория</a:t>
            </a:r>
            <a:r>
              <a:rPr b="1" lang="ru-RU" sz="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(11 класс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Учитель: Полушки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Елена Анатольевн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9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504036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1"/>
          <p:cNvSpPr/>
          <p:nvPr/>
        </p:nvSpPr>
        <p:spPr>
          <a:xfrm>
            <a:off x="395280" y="18900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ртивно-массовые соревнования являются одной из самых интересных форм внеклассной работы по физическому воспитанию в школе. Они содействуют привлечению школьников к систематическим занятиям физическими упражнениями, повышают физическую подготовленность учащихся, сплачивают школьный коллект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3132000" y="2665440"/>
            <a:ext cx="562464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179280" y="115920"/>
            <a:ext cx="7129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начале учебного года определяются сроки проведения, положение и программы соревнований. Спортивно – массовые соревнования организуются и проводятся учителями под общим руководством директора школы. Лучшие учащиеся-спортсмены старших классов оказывают помощь в подготовке младших учащихся и средних классов к соревнованиям и в проведении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ждое соревнование производится в соответствии 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ожени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в котором указываются: цели и задачи соревнования, руководство, время и место проведения, участники, программа, условия проведения и зачет, порядок награждения лучших участников и команд, форма заявки и сроки её предст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https://i.mycdn.me/image?t=3&amp;bid=665813889173&amp;id=665813889173&amp;plc=WEB&amp;tkn=*_Zqd3eSpBJlkEvB8uKjK4D9MQIE"/>
          <p:cNvPicPr/>
          <p:nvPr/>
        </p:nvPicPr>
        <p:blipFill>
          <a:blip r:embed="rId1"/>
          <a:stretch/>
        </p:blipFill>
        <p:spPr>
          <a:xfrm>
            <a:off x="3851280" y="3500280"/>
            <a:ext cx="4344840" cy="32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1"/>
          <p:cNvSpPr/>
          <p:nvPr/>
        </p:nvSpPr>
        <p:spPr>
          <a:xfrm>
            <a:off x="2556000" y="189000"/>
            <a:ext cx="601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грамм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ревнова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ключаются игры и физические упражнения из школьной учебной программы, которые были хорошо разуч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подготовки и проведения общешкольных соревнований создается организационный комитет, возглавляемый обычно директором школы. В оргкомитет входят учителя, врач школы, представители от коллектива физкультуры и родителей. Оргкомитет решает вопросы о сроках и месте проведения соревнований, их материальном обеспечении, об условиях зачёта, утверждает распорядок проведения соревнов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" descr="https://i.mycdn.me/image?t=3&amp;bid=665813837461&amp;id=665813837461&amp;plc=WEB&amp;tkn=*jJ9IYg6igG4b2aZHqeMgFkURTk8"/>
          <p:cNvPicPr/>
          <p:nvPr/>
        </p:nvPicPr>
        <p:blipFill>
          <a:blip r:embed="rId1"/>
          <a:stretch/>
        </p:blipFill>
        <p:spPr>
          <a:xfrm>
            <a:off x="179280" y="3500280"/>
            <a:ext cx="43214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1"/>
          <p:cNvSpPr/>
          <p:nvPr/>
        </p:nvSpPr>
        <p:spPr>
          <a:xfrm>
            <a:off x="826920" y="692280"/>
            <a:ext cx="5743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дейску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ллеги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озглавляе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ав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дь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назначаемый директором школы. В обязанности которого входит: подбор судей, распределение между ними обязанностей, контроль за подготовкой мест соревнований, составление расписания проведения соревнований и обеспечение проведения соревнований в соответствии с положением и программой. Его решения обязательны для всех судей и участников соревнований, он разрешает все спорные вопросы. По окончании соревнований главный судья вместе с секретарем подводят итоги, оформляют документацию, сдают директору школы все  материалы соревно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кретар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оревнований принимает заявки, проверяет их, готовит протоколы, проводит жеребьевку, выдает участникам нагрудные номера, совместно с главным судьей подводит ит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Прямоугольник 1"/>
          <p:cNvSpPr/>
          <p:nvPr/>
        </p:nvSpPr>
        <p:spPr>
          <a:xfrm>
            <a:off x="189000" y="95400"/>
            <a:ext cx="8415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остав судейской коллегии (кроме главного судьи и секретаря) могут входить заместители главного судьи, стартеры, судьи – секундометристы, судьи по видам спорта, судьи на старте и финише, начальники дистанции, контролеры и др. Все они работают и выполняют свои обязанности под руководством главного суд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подготовки и проведения соревнований привлекается много учащихся. Они обычно готовят места для соревнований, инвентарь, оформляют спортивные площадки или залы, помогают вести судейские протоколы. Дети, не участвующие в соревнованиях, работают судь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https://i.mycdn.me/image?t=3&amp;bid=665813888917&amp;id=665813888917&amp;plc=WEB&amp;tkn=*aYS8Ytw1yuDZNGwZ8LTQ5UzM8Y4"/>
          <p:cNvPicPr/>
          <p:nvPr/>
        </p:nvPicPr>
        <p:blipFill>
          <a:blip r:embed="rId1"/>
          <a:stretch/>
        </p:blipFill>
        <p:spPr>
          <a:xfrm>
            <a:off x="1979640" y="2708280"/>
            <a:ext cx="52563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оугольник 1"/>
          <p:cNvSpPr/>
          <p:nvPr/>
        </p:nvSpPr>
        <p:spPr>
          <a:xfrm>
            <a:off x="108000" y="0"/>
            <a:ext cx="892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школе проводятся командные и лично-командные спортивные соревнования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анд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ревн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соревнования между командами классов без выявления личных результатов участников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-командные соревнования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то соревнования, в результате которых выявляются командные и личные результаты участ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ые результаты в таких соревнованиях определяются цифровыми показателями участников в зависимости от вида соревнов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андные результаты определяются различными способами. Наиболее простым способом является определение командных мест по сумме занятых личных мест. За первое место команде засчитывается 1 очко, за второе – 2 очка, за пятое – 5 и т.д. Сумма мест, занятых зачетными участниками, дает показатель команды. Чем меньше очков у команды, тем выше место коман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1547640" y="3357720"/>
            <a:ext cx="575316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1"/>
          <p:cNvSpPr/>
          <p:nvPr/>
        </p:nvSpPr>
        <p:spPr>
          <a:xfrm>
            <a:off x="1908000" y="333360"/>
            <a:ext cx="4950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ревнования проводятся одним из двух способов: «с выбыванием» или «по круговой системе». Способ «с выбыванием» заключается в том, что после проигрыша команда выбывает из дальнейших соревнований после одного или двух поражений. Круговой способ является противоположным указанному выше способу  « с выбыванием». Все команды встречаются друг с дру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жная роль в подготовке и проведении спортивно-массовых соревнований принадлежит школьному врачу. Он проводит медицинский осмотр всех учеников, допускает или не допускает их к соревнованиям, проверяет ход подготовки к соревнованиям и санитарную пригодность мест соревнований. Решения врача по всем вопросам обязательны, как для оргкомитета, так и для судейской коллегии. При отсутствии врача на соревнованиях должна дежурить медицинская сест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1"/>
          <p:cNvSpPr/>
          <p:nvPr/>
        </p:nvSpPr>
        <p:spPr>
          <a:xfrm>
            <a:off x="403200" y="19836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ждое соревнование, проводимое школой, начинается с торжественной части: построение и парад участников, приветствие директора школы, подъем флага. Заканчивается соревнование также организованно. И производится спуск флага. Итоги соревнований оформляются в бюллетенях и делаются достоянием всех учащихся школы. Торжественное подведение итогов и выдача призов и грамот проводятся сразу после соревнований или на торжественной линейк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https://i.mycdn.me/image?t=3&amp;bid=771373857173&amp;id=771373857173&amp;plc=WEB&amp;tkn=*D2avODEAeQg85wISicj_8-mFfVc"/>
          <p:cNvPicPr/>
          <p:nvPr/>
        </p:nvPicPr>
        <p:blipFill>
          <a:blip r:embed="rId1"/>
          <a:stretch/>
        </p:blipFill>
        <p:spPr>
          <a:xfrm>
            <a:off x="4140360" y="3284640"/>
            <a:ext cx="464004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08:57:26Z</dcterms:created>
  <dc:creator>UserXP</dc:creator>
  <dc:description/>
  <dc:language>en-US</dc:language>
  <cp:lastModifiedBy>Спорт зал</cp:lastModifiedBy>
  <dcterms:modified xsi:type="dcterms:W3CDTF">2016-12-05T10:14:04Z</dcterms:modified>
  <cp:revision>74</cp:revision>
  <dc:subject/>
  <dc:title>С восьмым марта</dc:title>
</cp:coreProperties>
</file>