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967-78F1-4A3C-8A18-FC94DB88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AF28-8EF0-4A1E-A114-BC27865D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9F26-418D-4B27-BB60-D2472425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930-2950-417B-80E7-6C052228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7A60-7CD0-4A5D-88E8-DED8BA92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3C1B-306F-49A2-816E-31CB6A89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D210-4A7D-4166-AE5D-5A4C6F0C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AE13-632D-4D2D-8742-56719766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B6B9-6EF3-4BCA-9006-B9BB35FB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7871-EE50-49C5-9E60-44D86164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6E21-4B71-49E1-8BAF-450E1777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DF76-80D9-4882-9A1B-0F4E609E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C9AA-0C69-4C2D-8253-285D5A40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B637-E58A-4F7C-9D5C-975D7833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B579-BDFF-46E8-82BF-1BBAAD18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FB22-F3B6-4CBB-8EE7-89FA6D98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B3D8-6FBE-4166-AAED-843B0C72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F3193-3211-4702-ACA5-36BB7E88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AA26C-D96B-481E-BA90-44C4C982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A6BE8-668A-43E3-B5B7-CCAF3711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AF698-411D-4822-8083-C46A762A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39FF2-02DA-438B-91C2-FCE65AC4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27FB-726C-48F1-AECA-39A19E1E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A4963-8AF9-4545-855A-1CF5FD6D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C3893-6D9D-459B-B45C-B225FBCF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E4889-FA9C-4B34-93EF-AA16CB0A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18F55-4A5A-4DAB-8F76-ADF85124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5DB06-A2E0-42C7-8758-811E2D6D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439A2-C861-4B06-975E-1ABD15FF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6A58D-E845-4CCB-807E-FEEA4C92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C066-EAFB-4C5C-8A81-293D55B7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434C-1D61-435D-9C69-579EE93E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EB7-B12A-4E29-9B6B-82F48565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AF3A-6E34-432A-B850-D70432C0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F92F-2CB7-44CC-BB70-2E95A521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E986-4CA9-4936-B71B-D0E387EF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97CD-37CD-43F6-8983-CF140E376EE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AE8D-EC7B-48C2-AED3-5C876FD24F1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0956-2198-41F3-AC2A-9F12B82073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зучение и развитие понятия «химический элемент» в школьном курсе хим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6840" y="3900240"/>
            <a:ext cx="825804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Интегрированн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чебное зан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о хим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для уча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8 – 11 клас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3851280" y="6093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и следующих определений найдите синонимическое понятию  «Изотоп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томы, имеющие разное количество протонов в ядр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томы одного химического элемента с разными значениями массового чис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томные частицы, в которых число протонов не равно числу электро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томы с разным числом нейтронов, но одинаковым числом протонов в ядр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томы с одинаковым массовым числом, но разными зарядами яде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томы с разными массовыми числ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остояние электронов в атом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он – это частица и вол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исло энергетических уровн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ы электрон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ксимальное число электронов в каждом уровне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, P ,d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ктронов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исло внешних электрон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вершенный и незавершенный энергетические уров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да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писать состояние электронов в атомах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, Cl, 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6"/>
          <p:cNvSpPr/>
          <p:nvPr/>
        </p:nvSpPr>
        <p:spPr>
          <a:xfrm>
            <a:off x="900000" y="98100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+11,   11 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Группа 13"/>
          <p:cNvGrpSpPr/>
          <p:nvPr/>
        </p:nvGrpSpPr>
        <p:grpSpPr>
          <a:xfrm>
            <a:off x="5965920" y="521280"/>
            <a:ext cx="1800000" cy="1833480"/>
            <a:chOff x="5965920" y="521280"/>
            <a:chExt cx="1800000" cy="1833480"/>
          </a:xfrm>
        </p:grpSpPr>
        <p:sp>
          <p:nvSpPr>
            <p:cNvPr id="149" name="Дуга 9"/>
            <p:cNvSpPr/>
            <p:nvPr/>
          </p:nvSpPr>
          <p:spPr>
            <a:xfrm rot="3409200">
              <a:off x="6028200" y="748440"/>
              <a:ext cx="881280" cy="625680"/>
            </a:xfrm>
            <a:custGeom>
              <a:avLst/>
              <a:gdLst>
                <a:gd name="textAreaLeft" fmla="*/ 440640 w 881280"/>
                <a:gd name="textAreaRight" fmla="*/ 881640 w 881280"/>
                <a:gd name="textAreaTop" fmla="*/ 0 h 625680"/>
                <a:gd name="textAreaBottom" fmla="*/ 312840 h 625680"/>
              </a:gdLst>
              <a:ahLst/>
              <a:rect l="textAreaLeft" t="textAreaTop" r="textAreaRight" b="textAreaBottom"/>
              <a:pathLst>
                <a:path stroke="0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  <a:lnTo>
                    <a:pt x="440650" y="312927"/>
                  </a:lnTo>
                  <a:close/>
                </a:path>
                <a:path fill="none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Дуга 10"/>
            <p:cNvSpPr/>
            <p:nvPr/>
          </p:nvSpPr>
          <p:spPr>
            <a:xfrm rot="3409200">
              <a:off x="6388200" y="748440"/>
              <a:ext cx="881280" cy="625680"/>
            </a:xfrm>
            <a:custGeom>
              <a:avLst/>
              <a:gdLst>
                <a:gd name="textAreaLeft" fmla="*/ 440640 w 881280"/>
                <a:gd name="textAreaRight" fmla="*/ 881640 w 881280"/>
                <a:gd name="textAreaTop" fmla="*/ 0 h 625680"/>
                <a:gd name="textAreaBottom" fmla="*/ 312840 h 625680"/>
              </a:gdLst>
              <a:ahLst/>
              <a:rect l="textAreaLeft" t="textAreaTop" r="textAreaRight" b="textAreaBottom"/>
              <a:pathLst>
                <a:path stroke="0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  <a:lnTo>
                    <a:pt x="440650" y="312927"/>
                  </a:lnTo>
                  <a:close/>
                </a:path>
                <a:path fill="none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Дуга 11"/>
            <p:cNvSpPr/>
            <p:nvPr/>
          </p:nvSpPr>
          <p:spPr>
            <a:xfrm rot="3409200">
              <a:off x="6748200" y="748440"/>
              <a:ext cx="881280" cy="625680"/>
            </a:xfrm>
            <a:custGeom>
              <a:avLst/>
              <a:gdLst>
                <a:gd name="textAreaLeft" fmla="*/ 440640 w 881280"/>
                <a:gd name="textAreaRight" fmla="*/ 881640 w 881280"/>
                <a:gd name="textAreaTop" fmla="*/ 0 h 625680"/>
                <a:gd name="textAreaBottom" fmla="*/ 312840 h 625680"/>
              </a:gdLst>
              <a:ahLst/>
              <a:rect l="textAreaLeft" t="textAreaTop" r="textAreaRight" b="textAreaBottom"/>
              <a:pathLst>
                <a:path stroke="0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  <a:lnTo>
                    <a:pt x="440650" y="312927"/>
                  </a:lnTo>
                  <a:close/>
                </a:path>
                <a:path fill="none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Box 12"/>
            <p:cNvSpPr/>
            <p:nvPr/>
          </p:nvSpPr>
          <p:spPr>
            <a:xfrm>
              <a:off x="6541920" y="1529280"/>
              <a:ext cx="122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    8  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Rectangle 1"/>
          <p:cNvSpPr/>
          <p:nvPr/>
        </p:nvSpPr>
        <p:spPr>
          <a:xfrm>
            <a:off x="3851280" y="1053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5"/>
          <p:cNvSpPr/>
          <p:nvPr/>
        </p:nvSpPr>
        <p:spPr>
          <a:xfrm>
            <a:off x="4222440" y="443700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4222080" y="3933720"/>
            <a:ext cx="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Группа 27"/>
          <p:cNvGrpSpPr/>
          <p:nvPr/>
        </p:nvGrpSpPr>
        <p:grpSpPr>
          <a:xfrm>
            <a:off x="2340000" y="4004640"/>
            <a:ext cx="360360" cy="361080"/>
            <a:chOff x="2340000" y="4004640"/>
            <a:chExt cx="360360" cy="361080"/>
          </a:xfrm>
        </p:grpSpPr>
        <p:sp>
          <p:nvSpPr>
            <p:cNvPr id="157" name="Прямая соединительная линия 28"/>
            <p:cNvSpPr/>
            <p:nvPr/>
          </p:nvSpPr>
          <p:spPr>
            <a:xfrm>
              <a:off x="2340000" y="4185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Прямая со стрелкой 29"/>
            <p:cNvCxnSpPr/>
            <p:nvPr/>
          </p:nvCxnSpPr>
          <p:spPr>
            <a:xfrm>
              <a:off x="2459520" y="400500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59" name="Прямая со стрелкой 30"/>
            <p:cNvCxnSpPr/>
            <p:nvPr/>
          </p:nvCxnSpPr>
          <p:spPr>
            <a:xfrm flipV="1">
              <a:off x="2579760" y="400464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60" name="Прямоугольник 31"/>
          <p:cNvSpPr/>
          <p:nvPr/>
        </p:nvSpPr>
        <p:spPr>
          <a:xfrm>
            <a:off x="4222080" y="357336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Группа 50"/>
          <p:cNvGrpSpPr/>
          <p:nvPr/>
        </p:nvGrpSpPr>
        <p:grpSpPr>
          <a:xfrm>
            <a:off x="2700360" y="3644280"/>
            <a:ext cx="1366920" cy="361080"/>
            <a:chOff x="2700360" y="3644280"/>
            <a:chExt cx="1366920" cy="361080"/>
          </a:xfrm>
        </p:grpSpPr>
        <p:grpSp>
          <p:nvGrpSpPr>
            <p:cNvPr id="162" name="Группа 32"/>
            <p:cNvGrpSpPr/>
            <p:nvPr/>
          </p:nvGrpSpPr>
          <p:grpSpPr>
            <a:xfrm>
              <a:off x="2700360" y="3644280"/>
              <a:ext cx="390600" cy="361080"/>
              <a:chOff x="2700360" y="3644280"/>
              <a:chExt cx="390600" cy="361080"/>
            </a:xfrm>
          </p:grpSpPr>
          <p:sp>
            <p:nvSpPr>
              <p:cNvPr id="163" name="Прямая соединительная линия 33"/>
              <p:cNvSpPr/>
              <p:nvPr/>
            </p:nvSpPr>
            <p:spPr>
              <a:xfrm>
                <a:off x="2700360" y="3825000"/>
                <a:ext cx="39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4" name="Прямая со стрелкой 34"/>
              <p:cNvCxnSpPr/>
              <p:nvPr/>
            </p:nvCxnSpPr>
            <p:spPr>
              <a:xfrm>
                <a:off x="2829960" y="3644640"/>
                <a:ext cx="1080" cy="36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65" name="Прямая со стрелкой 35"/>
              <p:cNvCxnSpPr/>
              <p:nvPr/>
            </p:nvCxnSpPr>
            <p:spPr>
              <a:xfrm flipV="1">
                <a:off x="2960280" y="3644280"/>
                <a:ext cx="1080" cy="36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166" name="Группа 36"/>
            <p:cNvGrpSpPr/>
            <p:nvPr/>
          </p:nvGrpSpPr>
          <p:grpSpPr>
            <a:xfrm>
              <a:off x="3188520" y="3644280"/>
              <a:ext cx="390600" cy="361080"/>
              <a:chOff x="3188520" y="3644280"/>
              <a:chExt cx="390600" cy="361080"/>
            </a:xfrm>
          </p:grpSpPr>
          <p:sp>
            <p:nvSpPr>
              <p:cNvPr id="167" name="Прямая соединительная линия 37"/>
              <p:cNvSpPr/>
              <p:nvPr/>
            </p:nvSpPr>
            <p:spPr>
              <a:xfrm>
                <a:off x="3188520" y="3825000"/>
                <a:ext cx="39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8" name="Прямая со стрелкой 38"/>
              <p:cNvCxnSpPr/>
              <p:nvPr/>
            </p:nvCxnSpPr>
            <p:spPr>
              <a:xfrm>
                <a:off x="3318120" y="3644640"/>
                <a:ext cx="1080" cy="36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69" name="Прямая со стрелкой 39"/>
              <p:cNvCxnSpPr/>
              <p:nvPr/>
            </p:nvCxnSpPr>
            <p:spPr>
              <a:xfrm flipV="1">
                <a:off x="3448440" y="3644280"/>
                <a:ext cx="1080" cy="36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170" name="Группа 40"/>
            <p:cNvGrpSpPr/>
            <p:nvPr/>
          </p:nvGrpSpPr>
          <p:grpSpPr>
            <a:xfrm>
              <a:off x="3676680" y="3644280"/>
              <a:ext cx="390600" cy="361080"/>
              <a:chOff x="3676680" y="3644280"/>
              <a:chExt cx="390600" cy="361080"/>
            </a:xfrm>
          </p:grpSpPr>
          <p:sp>
            <p:nvSpPr>
              <p:cNvPr id="171" name="Прямая соединительная линия 41"/>
              <p:cNvSpPr/>
              <p:nvPr/>
            </p:nvSpPr>
            <p:spPr>
              <a:xfrm>
                <a:off x="3676680" y="3825000"/>
                <a:ext cx="39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2" name="Прямая со стрелкой 42"/>
              <p:cNvCxnSpPr/>
              <p:nvPr/>
            </p:nvCxnSpPr>
            <p:spPr>
              <a:xfrm>
                <a:off x="3806280" y="3644640"/>
                <a:ext cx="1080" cy="36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73" name="Прямая со стрелкой 43"/>
              <p:cNvCxnSpPr/>
              <p:nvPr/>
            </p:nvCxnSpPr>
            <p:spPr>
              <a:xfrm flipV="1">
                <a:off x="3936600" y="3644280"/>
                <a:ext cx="1080" cy="36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</p:grpSp>
      <p:sp>
        <p:nvSpPr>
          <p:cNvPr id="174" name="Прямоугольник 44"/>
          <p:cNvSpPr/>
          <p:nvPr/>
        </p:nvSpPr>
        <p:spPr>
          <a:xfrm>
            <a:off x="4222080" y="3141720"/>
            <a:ext cx="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Группа 49"/>
          <p:cNvGrpSpPr/>
          <p:nvPr/>
        </p:nvGrpSpPr>
        <p:grpSpPr>
          <a:xfrm>
            <a:off x="2340000" y="3212640"/>
            <a:ext cx="360360" cy="360720"/>
            <a:chOff x="2340000" y="3212640"/>
            <a:chExt cx="360360" cy="360720"/>
          </a:xfrm>
        </p:grpSpPr>
        <p:sp>
          <p:nvSpPr>
            <p:cNvPr id="176" name="Прямая соединительная линия 46"/>
            <p:cNvSpPr/>
            <p:nvPr/>
          </p:nvSpPr>
          <p:spPr>
            <a:xfrm>
              <a:off x="2340000" y="3393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7" name="Прямая со стрелкой 47"/>
            <p:cNvCxnSpPr/>
            <p:nvPr/>
          </p:nvCxnSpPr>
          <p:spPr>
            <a:xfrm>
              <a:off x="2459880" y="321264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78" name="Группа 51"/>
          <p:cNvGrpSpPr/>
          <p:nvPr/>
        </p:nvGrpSpPr>
        <p:grpSpPr>
          <a:xfrm>
            <a:off x="2340000" y="4507920"/>
            <a:ext cx="360360" cy="361080"/>
            <a:chOff x="2340000" y="4507920"/>
            <a:chExt cx="360360" cy="361080"/>
          </a:xfrm>
        </p:grpSpPr>
        <p:sp>
          <p:nvSpPr>
            <p:cNvPr id="179" name="Прямая соединительная линия 52"/>
            <p:cNvSpPr/>
            <p:nvPr/>
          </p:nvSpPr>
          <p:spPr>
            <a:xfrm>
              <a:off x="2340000" y="468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Прямая со стрелкой 53"/>
            <p:cNvCxnSpPr/>
            <p:nvPr/>
          </p:nvCxnSpPr>
          <p:spPr>
            <a:xfrm>
              <a:off x="2459520" y="450828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81" name="Прямая со стрелкой 54"/>
            <p:cNvCxnSpPr/>
            <p:nvPr/>
          </p:nvCxnSpPr>
          <p:spPr>
            <a:xfrm flipV="1">
              <a:off x="2579760" y="450792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82" name="Группа 59"/>
          <p:cNvGrpSpPr/>
          <p:nvPr/>
        </p:nvGrpSpPr>
        <p:grpSpPr>
          <a:xfrm>
            <a:off x="1042920" y="3141720"/>
            <a:ext cx="936720" cy="1755360"/>
            <a:chOff x="1042920" y="3141720"/>
            <a:chExt cx="936720" cy="1755360"/>
          </a:xfrm>
        </p:grpSpPr>
        <p:sp>
          <p:nvSpPr>
            <p:cNvPr id="183" name="TextBox 60"/>
            <p:cNvSpPr/>
            <p:nvPr/>
          </p:nvSpPr>
          <p:spPr>
            <a:xfrm>
              <a:off x="1042920" y="4437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 =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Box 61"/>
            <p:cNvSpPr/>
            <p:nvPr/>
          </p:nvSpPr>
          <p:spPr>
            <a:xfrm>
              <a:off x="1042920" y="3141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Box 62"/>
            <p:cNvSpPr/>
            <p:nvPr/>
          </p:nvSpPr>
          <p:spPr>
            <a:xfrm>
              <a:off x="1042920" y="39769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6"/>
          <p:cNvSpPr/>
          <p:nvPr/>
        </p:nvSpPr>
        <p:spPr>
          <a:xfrm>
            <a:off x="900000" y="98100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+17,   17 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Группа 13"/>
          <p:cNvGrpSpPr/>
          <p:nvPr/>
        </p:nvGrpSpPr>
        <p:grpSpPr>
          <a:xfrm>
            <a:off x="5965920" y="521280"/>
            <a:ext cx="1800000" cy="1833480"/>
            <a:chOff x="5965920" y="521280"/>
            <a:chExt cx="1800000" cy="1833480"/>
          </a:xfrm>
        </p:grpSpPr>
        <p:sp>
          <p:nvSpPr>
            <p:cNvPr id="188" name="Дуга 9"/>
            <p:cNvSpPr/>
            <p:nvPr/>
          </p:nvSpPr>
          <p:spPr>
            <a:xfrm rot="3409200">
              <a:off x="6028200" y="748440"/>
              <a:ext cx="881280" cy="625680"/>
            </a:xfrm>
            <a:custGeom>
              <a:avLst/>
              <a:gdLst>
                <a:gd name="textAreaLeft" fmla="*/ 440640 w 881280"/>
                <a:gd name="textAreaRight" fmla="*/ 881640 w 881280"/>
                <a:gd name="textAreaTop" fmla="*/ 0 h 625680"/>
                <a:gd name="textAreaBottom" fmla="*/ 312840 h 625680"/>
              </a:gdLst>
              <a:ahLst/>
              <a:rect l="textAreaLeft" t="textAreaTop" r="textAreaRight" b="textAreaBottom"/>
              <a:pathLst>
                <a:path stroke="0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  <a:lnTo>
                    <a:pt x="440650" y="312927"/>
                  </a:lnTo>
                  <a:close/>
                </a:path>
                <a:path fill="none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Дуга 10"/>
            <p:cNvSpPr/>
            <p:nvPr/>
          </p:nvSpPr>
          <p:spPr>
            <a:xfrm rot="3409200">
              <a:off x="6388200" y="748440"/>
              <a:ext cx="881280" cy="625680"/>
            </a:xfrm>
            <a:custGeom>
              <a:avLst/>
              <a:gdLst>
                <a:gd name="textAreaLeft" fmla="*/ 440640 w 881280"/>
                <a:gd name="textAreaRight" fmla="*/ 881640 w 881280"/>
                <a:gd name="textAreaTop" fmla="*/ 0 h 625680"/>
                <a:gd name="textAreaBottom" fmla="*/ 312840 h 625680"/>
              </a:gdLst>
              <a:ahLst/>
              <a:rect l="textAreaLeft" t="textAreaTop" r="textAreaRight" b="textAreaBottom"/>
              <a:pathLst>
                <a:path stroke="0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  <a:lnTo>
                    <a:pt x="440650" y="312927"/>
                  </a:lnTo>
                  <a:close/>
                </a:path>
                <a:path fill="none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Дуга 11"/>
            <p:cNvSpPr/>
            <p:nvPr/>
          </p:nvSpPr>
          <p:spPr>
            <a:xfrm rot="3409200">
              <a:off x="6748200" y="748440"/>
              <a:ext cx="881280" cy="625680"/>
            </a:xfrm>
            <a:custGeom>
              <a:avLst/>
              <a:gdLst>
                <a:gd name="textAreaLeft" fmla="*/ 440640 w 881280"/>
                <a:gd name="textAreaRight" fmla="*/ 881640 w 881280"/>
                <a:gd name="textAreaTop" fmla="*/ 0 h 625680"/>
                <a:gd name="textAreaBottom" fmla="*/ 312840 h 625680"/>
              </a:gdLst>
              <a:ahLst/>
              <a:rect l="textAreaLeft" t="textAreaTop" r="textAreaRight" b="textAreaBottom"/>
              <a:pathLst>
                <a:path stroke="0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  <a:lnTo>
                    <a:pt x="440650" y="312927"/>
                  </a:lnTo>
                  <a:close/>
                </a:path>
                <a:path fill="none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Box 12"/>
            <p:cNvSpPr/>
            <p:nvPr/>
          </p:nvSpPr>
          <p:spPr>
            <a:xfrm>
              <a:off x="6541920" y="1529280"/>
              <a:ext cx="122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    8    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Rectangle 1"/>
          <p:cNvSpPr/>
          <p:nvPr/>
        </p:nvSpPr>
        <p:spPr>
          <a:xfrm>
            <a:off x="3492360" y="1051560"/>
            <a:ext cx="24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Группа 75"/>
          <p:cNvGrpSpPr/>
          <p:nvPr/>
        </p:nvGrpSpPr>
        <p:grpSpPr>
          <a:xfrm>
            <a:off x="2340000" y="2781360"/>
            <a:ext cx="2527920" cy="2115720"/>
            <a:chOff x="2340000" y="2781360"/>
            <a:chExt cx="2527920" cy="2115720"/>
          </a:xfrm>
        </p:grpSpPr>
        <p:sp>
          <p:nvSpPr>
            <p:cNvPr id="194" name="Прямоугольник 15"/>
            <p:cNvSpPr/>
            <p:nvPr/>
          </p:nvSpPr>
          <p:spPr>
            <a:xfrm>
              <a:off x="4294080" y="4437360"/>
              <a:ext cx="5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Прямоугольник 26"/>
            <p:cNvSpPr/>
            <p:nvPr/>
          </p:nvSpPr>
          <p:spPr>
            <a:xfrm>
              <a:off x="4293720" y="3933360"/>
              <a:ext cx="54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Группа 27"/>
            <p:cNvGrpSpPr/>
            <p:nvPr/>
          </p:nvGrpSpPr>
          <p:grpSpPr>
            <a:xfrm>
              <a:off x="2340000" y="4005000"/>
              <a:ext cx="359640" cy="360720"/>
              <a:chOff x="2340000" y="4005000"/>
              <a:chExt cx="359640" cy="360720"/>
            </a:xfrm>
          </p:grpSpPr>
          <p:sp>
            <p:nvSpPr>
              <p:cNvPr id="197" name="Прямая соединительная линия 28"/>
              <p:cNvSpPr/>
              <p:nvPr/>
            </p:nvSpPr>
            <p:spPr>
              <a:xfrm>
                <a:off x="2340000" y="4185360"/>
                <a:ext cx="35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8" name="Прямая со стрелкой 29"/>
              <p:cNvCxnSpPr/>
              <p:nvPr/>
            </p:nvCxnSpPr>
            <p:spPr>
              <a:xfrm>
                <a:off x="2459520" y="4005360"/>
                <a:ext cx="1080" cy="36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99" name="Прямая со стрелкой 30"/>
              <p:cNvCxnSpPr/>
              <p:nvPr/>
            </p:nvCxnSpPr>
            <p:spPr>
              <a:xfrm flipV="1">
                <a:off x="2579400" y="4005000"/>
                <a:ext cx="1080" cy="36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200" name="Прямоугольник 31"/>
            <p:cNvSpPr/>
            <p:nvPr/>
          </p:nvSpPr>
          <p:spPr>
            <a:xfrm>
              <a:off x="4293720" y="357336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Группа 50"/>
            <p:cNvGrpSpPr/>
            <p:nvPr/>
          </p:nvGrpSpPr>
          <p:grpSpPr>
            <a:xfrm>
              <a:off x="2699640" y="3645000"/>
              <a:ext cx="1367640" cy="360720"/>
              <a:chOff x="2699640" y="3645000"/>
              <a:chExt cx="1367640" cy="360720"/>
            </a:xfrm>
          </p:grpSpPr>
          <p:grpSp>
            <p:nvGrpSpPr>
              <p:cNvPr id="202" name="Группа 32"/>
              <p:cNvGrpSpPr/>
              <p:nvPr/>
            </p:nvGrpSpPr>
            <p:grpSpPr>
              <a:xfrm>
                <a:off x="2699640" y="3645000"/>
                <a:ext cx="390600" cy="360720"/>
                <a:chOff x="2699640" y="3645000"/>
                <a:chExt cx="390600" cy="360720"/>
              </a:xfrm>
            </p:grpSpPr>
            <p:sp>
              <p:nvSpPr>
                <p:cNvPr id="203" name="Прямая соединительная линия 33"/>
                <p:cNvSpPr/>
                <p:nvPr/>
              </p:nvSpPr>
              <p:spPr>
                <a:xfrm>
                  <a:off x="2699640" y="3825360"/>
                  <a:ext cx="390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04" name="Прямая со стрелкой 34"/>
                <p:cNvCxnSpPr/>
                <p:nvPr/>
              </p:nvCxnSpPr>
              <p:spPr>
                <a:xfrm>
                  <a:off x="2829240" y="3645360"/>
                  <a:ext cx="1080" cy="3607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205" name="Прямая со стрелкой 35"/>
                <p:cNvCxnSpPr/>
                <p:nvPr/>
              </p:nvCxnSpPr>
              <p:spPr>
                <a:xfrm flipV="1">
                  <a:off x="2959560" y="3645000"/>
                  <a:ext cx="1080" cy="3607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grpSp>
            <p:nvGrpSpPr>
              <p:cNvPr id="206" name="Группа 36"/>
              <p:cNvGrpSpPr/>
              <p:nvPr/>
            </p:nvGrpSpPr>
            <p:grpSpPr>
              <a:xfrm>
                <a:off x="3188160" y="3645000"/>
                <a:ext cx="390600" cy="360720"/>
                <a:chOff x="3188160" y="3645000"/>
                <a:chExt cx="390600" cy="360720"/>
              </a:xfrm>
            </p:grpSpPr>
            <p:sp>
              <p:nvSpPr>
                <p:cNvPr id="207" name="Прямая соединительная линия 37"/>
                <p:cNvSpPr/>
                <p:nvPr/>
              </p:nvSpPr>
              <p:spPr>
                <a:xfrm>
                  <a:off x="3188160" y="3825360"/>
                  <a:ext cx="390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08" name="Прямая со стрелкой 38"/>
                <p:cNvCxnSpPr/>
                <p:nvPr/>
              </p:nvCxnSpPr>
              <p:spPr>
                <a:xfrm>
                  <a:off x="3317760" y="3645360"/>
                  <a:ext cx="1080" cy="3607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209" name="Прямая со стрелкой 39"/>
                <p:cNvCxnSpPr/>
                <p:nvPr/>
              </p:nvCxnSpPr>
              <p:spPr>
                <a:xfrm flipV="1">
                  <a:off x="3448080" y="3645000"/>
                  <a:ext cx="1080" cy="3607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grpSp>
            <p:nvGrpSpPr>
              <p:cNvPr id="210" name="Группа 40"/>
              <p:cNvGrpSpPr/>
              <p:nvPr/>
            </p:nvGrpSpPr>
            <p:grpSpPr>
              <a:xfrm>
                <a:off x="3676680" y="3645000"/>
                <a:ext cx="390600" cy="360720"/>
                <a:chOff x="3676680" y="3645000"/>
                <a:chExt cx="390600" cy="360720"/>
              </a:xfrm>
            </p:grpSpPr>
            <p:sp>
              <p:nvSpPr>
                <p:cNvPr id="211" name="Прямая соединительная линия 41"/>
                <p:cNvSpPr/>
                <p:nvPr/>
              </p:nvSpPr>
              <p:spPr>
                <a:xfrm>
                  <a:off x="3676680" y="3825360"/>
                  <a:ext cx="390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12" name="Прямая со стрелкой 42"/>
                <p:cNvCxnSpPr/>
                <p:nvPr/>
              </p:nvCxnSpPr>
              <p:spPr>
                <a:xfrm>
                  <a:off x="3806280" y="3645360"/>
                  <a:ext cx="1080" cy="3607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213" name="Прямая со стрелкой 43"/>
                <p:cNvCxnSpPr/>
                <p:nvPr/>
              </p:nvCxnSpPr>
              <p:spPr>
                <a:xfrm flipV="1">
                  <a:off x="3936600" y="3645000"/>
                  <a:ext cx="1080" cy="3607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</p:grpSp>
        <p:sp>
          <p:nvSpPr>
            <p:cNvPr id="214" name="Прямоугольник 44"/>
            <p:cNvSpPr/>
            <p:nvPr/>
          </p:nvSpPr>
          <p:spPr>
            <a:xfrm>
              <a:off x="4293720" y="3141360"/>
              <a:ext cx="54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Группа 51"/>
            <p:cNvGrpSpPr/>
            <p:nvPr/>
          </p:nvGrpSpPr>
          <p:grpSpPr>
            <a:xfrm>
              <a:off x="2340000" y="4509000"/>
              <a:ext cx="359640" cy="360720"/>
              <a:chOff x="2340000" y="4509000"/>
              <a:chExt cx="359640" cy="360720"/>
            </a:xfrm>
          </p:grpSpPr>
          <p:sp>
            <p:nvSpPr>
              <p:cNvPr id="216" name="Прямая соединительная линия 52"/>
              <p:cNvSpPr/>
              <p:nvPr/>
            </p:nvSpPr>
            <p:spPr>
              <a:xfrm>
                <a:off x="2340000" y="4689360"/>
                <a:ext cx="35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7" name="Прямая со стрелкой 53"/>
              <p:cNvCxnSpPr/>
              <p:nvPr/>
            </p:nvCxnSpPr>
            <p:spPr>
              <a:xfrm>
                <a:off x="2459520" y="4509360"/>
                <a:ext cx="1080" cy="36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18" name="Прямая со стрелкой 54"/>
              <p:cNvCxnSpPr/>
              <p:nvPr/>
            </p:nvCxnSpPr>
            <p:spPr>
              <a:xfrm flipV="1">
                <a:off x="2579400" y="4509000"/>
                <a:ext cx="1080" cy="36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219" name="Группа 51"/>
            <p:cNvGrpSpPr/>
            <p:nvPr/>
          </p:nvGrpSpPr>
          <p:grpSpPr>
            <a:xfrm>
              <a:off x="2340000" y="3213000"/>
              <a:ext cx="359640" cy="360720"/>
              <a:chOff x="2340000" y="3213000"/>
              <a:chExt cx="359640" cy="360720"/>
            </a:xfrm>
          </p:grpSpPr>
          <p:sp>
            <p:nvSpPr>
              <p:cNvPr id="220" name="Прямая соединительная линия 55"/>
              <p:cNvSpPr/>
              <p:nvPr/>
            </p:nvSpPr>
            <p:spPr>
              <a:xfrm>
                <a:off x="2340000" y="3393360"/>
                <a:ext cx="35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1" name="Прямая со стрелкой 56"/>
              <p:cNvCxnSpPr/>
              <p:nvPr/>
            </p:nvCxnSpPr>
            <p:spPr>
              <a:xfrm>
                <a:off x="2459520" y="3213360"/>
                <a:ext cx="1080" cy="36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22" name="Прямая со стрелкой 57"/>
              <p:cNvCxnSpPr/>
              <p:nvPr/>
            </p:nvCxnSpPr>
            <p:spPr>
              <a:xfrm flipV="1">
                <a:off x="2579400" y="3213000"/>
                <a:ext cx="1080" cy="36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223" name="Прямоугольник 58"/>
            <p:cNvSpPr/>
            <p:nvPr/>
          </p:nvSpPr>
          <p:spPr>
            <a:xfrm>
              <a:off x="4293720" y="278136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Группа 32"/>
            <p:cNvGrpSpPr/>
            <p:nvPr/>
          </p:nvGrpSpPr>
          <p:grpSpPr>
            <a:xfrm>
              <a:off x="2699640" y="2853000"/>
              <a:ext cx="390600" cy="360720"/>
              <a:chOff x="2699640" y="2853000"/>
              <a:chExt cx="390600" cy="360720"/>
            </a:xfrm>
          </p:grpSpPr>
          <p:sp>
            <p:nvSpPr>
              <p:cNvPr id="225" name="Прямая соединительная линия 69"/>
              <p:cNvSpPr/>
              <p:nvPr/>
            </p:nvSpPr>
            <p:spPr>
              <a:xfrm>
                <a:off x="2699640" y="3033360"/>
                <a:ext cx="39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6" name="Прямая со стрелкой 70"/>
              <p:cNvCxnSpPr/>
              <p:nvPr/>
            </p:nvCxnSpPr>
            <p:spPr>
              <a:xfrm>
                <a:off x="2829240" y="2853360"/>
                <a:ext cx="1080" cy="36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27" name="Прямая со стрелкой 71"/>
              <p:cNvCxnSpPr/>
              <p:nvPr/>
            </p:nvCxnSpPr>
            <p:spPr>
              <a:xfrm flipV="1">
                <a:off x="2959560" y="2853000"/>
                <a:ext cx="1080" cy="36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228" name="Группа 36"/>
            <p:cNvGrpSpPr/>
            <p:nvPr/>
          </p:nvGrpSpPr>
          <p:grpSpPr>
            <a:xfrm>
              <a:off x="3188160" y="2853000"/>
              <a:ext cx="390600" cy="360720"/>
              <a:chOff x="3188160" y="2853000"/>
              <a:chExt cx="390600" cy="360720"/>
            </a:xfrm>
          </p:grpSpPr>
          <p:sp>
            <p:nvSpPr>
              <p:cNvPr id="229" name="Прямая соединительная линия 66"/>
              <p:cNvSpPr/>
              <p:nvPr/>
            </p:nvSpPr>
            <p:spPr>
              <a:xfrm>
                <a:off x="3188160" y="3033360"/>
                <a:ext cx="39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0" name="Прямая со стрелкой 67"/>
              <p:cNvCxnSpPr/>
              <p:nvPr/>
            </p:nvCxnSpPr>
            <p:spPr>
              <a:xfrm>
                <a:off x="3317760" y="2853360"/>
                <a:ext cx="1080" cy="36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31" name="Прямая со стрелкой 68"/>
              <p:cNvCxnSpPr/>
              <p:nvPr/>
            </p:nvCxnSpPr>
            <p:spPr>
              <a:xfrm flipV="1">
                <a:off x="3448080" y="2853000"/>
                <a:ext cx="1080" cy="36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232" name="Группа 72"/>
            <p:cNvGrpSpPr/>
            <p:nvPr/>
          </p:nvGrpSpPr>
          <p:grpSpPr>
            <a:xfrm>
              <a:off x="3707640" y="2853360"/>
              <a:ext cx="359640" cy="360360"/>
              <a:chOff x="3707640" y="2853360"/>
              <a:chExt cx="359640" cy="360360"/>
            </a:xfrm>
          </p:grpSpPr>
          <p:sp>
            <p:nvSpPr>
              <p:cNvPr id="233" name="Прямая соединительная линия 73"/>
              <p:cNvSpPr/>
              <p:nvPr/>
            </p:nvSpPr>
            <p:spPr>
              <a:xfrm>
                <a:off x="3707640" y="3033360"/>
                <a:ext cx="35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4" name="Прямая со стрелкой 74"/>
              <p:cNvCxnSpPr/>
              <p:nvPr/>
            </p:nvCxnSpPr>
            <p:spPr>
              <a:xfrm>
                <a:off x="3827160" y="2853360"/>
                <a:ext cx="1080" cy="36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235" name="Группа 76"/>
          <p:cNvGrpSpPr/>
          <p:nvPr/>
        </p:nvGrpSpPr>
        <p:grpSpPr>
          <a:xfrm>
            <a:off x="1042920" y="3141720"/>
            <a:ext cx="936720" cy="1755360"/>
            <a:chOff x="1042920" y="3141720"/>
            <a:chExt cx="936720" cy="1755360"/>
          </a:xfrm>
        </p:grpSpPr>
        <p:sp>
          <p:nvSpPr>
            <p:cNvPr id="236" name="TextBox 77"/>
            <p:cNvSpPr/>
            <p:nvPr/>
          </p:nvSpPr>
          <p:spPr>
            <a:xfrm>
              <a:off x="1042920" y="4437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 =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Box 78"/>
            <p:cNvSpPr/>
            <p:nvPr/>
          </p:nvSpPr>
          <p:spPr>
            <a:xfrm>
              <a:off x="1042920" y="3141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Box 79"/>
            <p:cNvSpPr/>
            <p:nvPr/>
          </p:nvSpPr>
          <p:spPr>
            <a:xfrm>
              <a:off x="1042920" y="39769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6"/>
          <p:cNvSpPr/>
          <p:nvPr/>
        </p:nvSpPr>
        <p:spPr>
          <a:xfrm>
            <a:off x="900000" y="98100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+18,   18 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Группа 13"/>
          <p:cNvGrpSpPr/>
          <p:nvPr/>
        </p:nvGrpSpPr>
        <p:grpSpPr>
          <a:xfrm>
            <a:off x="5965920" y="521280"/>
            <a:ext cx="1800000" cy="1833480"/>
            <a:chOff x="5965920" y="521280"/>
            <a:chExt cx="1800000" cy="1833480"/>
          </a:xfrm>
        </p:grpSpPr>
        <p:sp>
          <p:nvSpPr>
            <p:cNvPr id="241" name="Дуга 9"/>
            <p:cNvSpPr/>
            <p:nvPr/>
          </p:nvSpPr>
          <p:spPr>
            <a:xfrm rot="3409200">
              <a:off x="6028200" y="748440"/>
              <a:ext cx="881280" cy="625680"/>
            </a:xfrm>
            <a:custGeom>
              <a:avLst/>
              <a:gdLst>
                <a:gd name="textAreaLeft" fmla="*/ 440640 w 881280"/>
                <a:gd name="textAreaRight" fmla="*/ 881640 w 881280"/>
                <a:gd name="textAreaTop" fmla="*/ 0 h 625680"/>
                <a:gd name="textAreaBottom" fmla="*/ 312840 h 625680"/>
              </a:gdLst>
              <a:ahLst/>
              <a:rect l="textAreaLeft" t="textAreaTop" r="textAreaRight" b="textAreaBottom"/>
              <a:pathLst>
                <a:path stroke="0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  <a:lnTo>
                    <a:pt x="440650" y="312927"/>
                  </a:lnTo>
                  <a:close/>
                </a:path>
                <a:path fill="none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Дуга 10"/>
            <p:cNvSpPr/>
            <p:nvPr/>
          </p:nvSpPr>
          <p:spPr>
            <a:xfrm rot="3409200">
              <a:off x="6388200" y="748440"/>
              <a:ext cx="881280" cy="625680"/>
            </a:xfrm>
            <a:custGeom>
              <a:avLst/>
              <a:gdLst>
                <a:gd name="textAreaLeft" fmla="*/ 440640 w 881280"/>
                <a:gd name="textAreaRight" fmla="*/ 881640 w 881280"/>
                <a:gd name="textAreaTop" fmla="*/ 0 h 625680"/>
                <a:gd name="textAreaBottom" fmla="*/ 312840 h 625680"/>
              </a:gdLst>
              <a:ahLst/>
              <a:rect l="textAreaLeft" t="textAreaTop" r="textAreaRight" b="textAreaBottom"/>
              <a:pathLst>
                <a:path stroke="0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  <a:lnTo>
                    <a:pt x="440650" y="312927"/>
                  </a:lnTo>
                  <a:close/>
                </a:path>
                <a:path fill="none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Дуга 11"/>
            <p:cNvSpPr/>
            <p:nvPr/>
          </p:nvSpPr>
          <p:spPr>
            <a:xfrm rot="3409200">
              <a:off x="6748200" y="748440"/>
              <a:ext cx="881280" cy="625680"/>
            </a:xfrm>
            <a:custGeom>
              <a:avLst/>
              <a:gdLst>
                <a:gd name="textAreaLeft" fmla="*/ 440640 w 881280"/>
                <a:gd name="textAreaRight" fmla="*/ 881640 w 881280"/>
                <a:gd name="textAreaTop" fmla="*/ 0 h 625680"/>
                <a:gd name="textAreaBottom" fmla="*/ 312840 h 625680"/>
              </a:gdLst>
              <a:ahLst/>
              <a:rect l="textAreaLeft" t="textAreaTop" r="textAreaRight" b="textAreaBottom"/>
              <a:pathLst>
                <a:path stroke="0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  <a:lnTo>
                    <a:pt x="440650" y="312927"/>
                  </a:lnTo>
                  <a:close/>
                </a:path>
                <a:path fill="none" w="881300" h="625854">
                  <a:moveTo>
                    <a:pt x="440650" y="0"/>
                  </a:moveTo>
                  <a:lnTo>
                    <a:pt x="440650" y="0"/>
                  </a:lnTo>
                  <a:arcTo wR="440650" hR="312927" stAng="-5400000" swAng="5400008"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Box 12"/>
            <p:cNvSpPr/>
            <p:nvPr/>
          </p:nvSpPr>
          <p:spPr>
            <a:xfrm>
              <a:off x="6541920" y="1529280"/>
              <a:ext cx="122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    8    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Rectangle 1"/>
          <p:cNvSpPr/>
          <p:nvPr/>
        </p:nvSpPr>
        <p:spPr>
          <a:xfrm>
            <a:off x="3564000" y="1051560"/>
            <a:ext cx="24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entury Schoolbook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оугольник 45"/>
          <p:cNvSpPr/>
          <p:nvPr/>
        </p:nvSpPr>
        <p:spPr>
          <a:xfrm>
            <a:off x="4366800" y="443700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оугольник 48"/>
          <p:cNvSpPr/>
          <p:nvPr/>
        </p:nvSpPr>
        <p:spPr>
          <a:xfrm>
            <a:off x="4366440" y="4005360"/>
            <a:ext cx="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Группа 27"/>
          <p:cNvGrpSpPr/>
          <p:nvPr/>
        </p:nvGrpSpPr>
        <p:grpSpPr>
          <a:xfrm>
            <a:off x="2340000" y="4004640"/>
            <a:ext cx="360360" cy="361080"/>
            <a:chOff x="2340000" y="4004640"/>
            <a:chExt cx="360360" cy="361080"/>
          </a:xfrm>
        </p:grpSpPr>
        <p:sp>
          <p:nvSpPr>
            <p:cNvPr id="249" name="Прямая соединительная линия 28"/>
            <p:cNvSpPr/>
            <p:nvPr/>
          </p:nvSpPr>
          <p:spPr>
            <a:xfrm>
              <a:off x="2340000" y="4185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0" name="Прямая со стрелкой 29"/>
            <p:cNvCxnSpPr/>
            <p:nvPr/>
          </p:nvCxnSpPr>
          <p:spPr>
            <a:xfrm>
              <a:off x="2459520" y="400500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51" name="Прямая со стрелкой 30"/>
            <p:cNvCxnSpPr/>
            <p:nvPr/>
          </p:nvCxnSpPr>
          <p:spPr>
            <a:xfrm flipV="1">
              <a:off x="2579760" y="400464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252" name="Прямоугольник 50"/>
          <p:cNvSpPr/>
          <p:nvPr/>
        </p:nvSpPr>
        <p:spPr>
          <a:xfrm>
            <a:off x="4366440" y="357336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Группа 50"/>
          <p:cNvGrpSpPr/>
          <p:nvPr/>
        </p:nvGrpSpPr>
        <p:grpSpPr>
          <a:xfrm>
            <a:off x="2700360" y="3644280"/>
            <a:ext cx="1366920" cy="361080"/>
            <a:chOff x="2700360" y="3644280"/>
            <a:chExt cx="1366920" cy="361080"/>
          </a:xfrm>
        </p:grpSpPr>
        <p:grpSp>
          <p:nvGrpSpPr>
            <p:cNvPr id="254" name="Группа 32"/>
            <p:cNvGrpSpPr/>
            <p:nvPr/>
          </p:nvGrpSpPr>
          <p:grpSpPr>
            <a:xfrm>
              <a:off x="2700360" y="3644280"/>
              <a:ext cx="390600" cy="361080"/>
              <a:chOff x="2700360" y="3644280"/>
              <a:chExt cx="390600" cy="361080"/>
            </a:xfrm>
          </p:grpSpPr>
          <p:sp>
            <p:nvSpPr>
              <p:cNvPr id="255" name="Прямая соединительная линия 85"/>
              <p:cNvSpPr/>
              <p:nvPr/>
            </p:nvSpPr>
            <p:spPr>
              <a:xfrm>
                <a:off x="2700360" y="3825000"/>
                <a:ext cx="39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6" name="Прямая со стрелкой 86"/>
              <p:cNvCxnSpPr/>
              <p:nvPr/>
            </p:nvCxnSpPr>
            <p:spPr>
              <a:xfrm>
                <a:off x="2829960" y="3644640"/>
                <a:ext cx="1080" cy="36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57" name="Прямая со стрелкой 87"/>
              <p:cNvCxnSpPr/>
              <p:nvPr/>
            </p:nvCxnSpPr>
            <p:spPr>
              <a:xfrm flipV="1">
                <a:off x="2960280" y="3644280"/>
                <a:ext cx="1080" cy="36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258" name="Группа 36"/>
            <p:cNvGrpSpPr/>
            <p:nvPr/>
          </p:nvGrpSpPr>
          <p:grpSpPr>
            <a:xfrm>
              <a:off x="3188520" y="3644280"/>
              <a:ext cx="390600" cy="361080"/>
              <a:chOff x="3188520" y="3644280"/>
              <a:chExt cx="390600" cy="361080"/>
            </a:xfrm>
          </p:grpSpPr>
          <p:sp>
            <p:nvSpPr>
              <p:cNvPr id="259" name="Прямая соединительная линия 82"/>
              <p:cNvSpPr/>
              <p:nvPr/>
            </p:nvSpPr>
            <p:spPr>
              <a:xfrm>
                <a:off x="3188520" y="3825000"/>
                <a:ext cx="39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0" name="Прямая со стрелкой 83"/>
              <p:cNvCxnSpPr/>
              <p:nvPr/>
            </p:nvCxnSpPr>
            <p:spPr>
              <a:xfrm>
                <a:off x="3318120" y="3644640"/>
                <a:ext cx="1080" cy="36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61" name="Прямая со стрелкой 84"/>
              <p:cNvCxnSpPr/>
              <p:nvPr/>
            </p:nvCxnSpPr>
            <p:spPr>
              <a:xfrm flipV="1">
                <a:off x="3448440" y="3644280"/>
                <a:ext cx="1080" cy="36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262" name="Группа 40"/>
            <p:cNvGrpSpPr/>
            <p:nvPr/>
          </p:nvGrpSpPr>
          <p:grpSpPr>
            <a:xfrm>
              <a:off x="3676680" y="3644280"/>
              <a:ext cx="390600" cy="361080"/>
              <a:chOff x="3676680" y="3644280"/>
              <a:chExt cx="390600" cy="361080"/>
            </a:xfrm>
          </p:grpSpPr>
          <p:sp>
            <p:nvSpPr>
              <p:cNvPr id="263" name="Прямая соединительная линия 79"/>
              <p:cNvSpPr/>
              <p:nvPr/>
            </p:nvSpPr>
            <p:spPr>
              <a:xfrm>
                <a:off x="3676680" y="3825000"/>
                <a:ext cx="39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4" name="Прямая со стрелкой 80"/>
              <p:cNvCxnSpPr/>
              <p:nvPr/>
            </p:nvCxnSpPr>
            <p:spPr>
              <a:xfrm>
                <a:off x="3806280" y="3644640"/>
                <a:ext cx="1080" cy="36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65" name="Прямая со стрелкой 81"/>
              <p:cNvCxnSpPr/>
              <p:nvPr/>
            </p:nvCxnSpPr>
            <p:spPr>
              <a:xfrm flipV="1">
                <a:off x="3936600" y="3644280"/>
                <a:ext cx="1080" cy="36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</p:grpSp>
      <p:sp>
        <p:nvSpPr>
          <p:cNvPr id="266" name="Прямоугольник 55"/>
          <p:cNvSpPr/>
          <p:nvPr/>
        </p:nvSpPr>
        <p:spPr>
          <a:xfrm>
            <a:off x="4366440" y="3141720"/>
            <a:ext cx="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Группа 51"/>
          <p:cNvGrpSpPr/>
          <p:nvPr/>
        </p:nvGrpSpPr>
        <p:grpSpPr>
          <a:xfrm>
            <a:off x="2340000" y="4507920"/>
            <a:ext cx="360360" cy="361080"/>
            <a:chOff x="2340000" y="4507920"/>
            <a:chExt cx="360360" cy="361080"/>
          </a:xfrm>
        </p:grpSpPr>
        <p:sp>
          <p:nvSpPr>
            <p:cNvPr id="268" name="Прямая соединительная линия 73"/>
            <p:cNvSpPr/>
            <p:nvPr/>
          </p:nvSpPr>
          <p:spPr>
            <a:xfrm>
              <a:off x="2340000" y="468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Прямая со стрелкой 74"/>
            <p:cNvCxnSpPr/>
            <p:nvPr/>
          </p:nvCxnSpPr>
          <p:spPr>
            <a:xfrm>
              <a:off x="2459520" y="450828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0" name="Прямая со стрелкой 75"/>
            <p:cNvCxnSpPr/>
            <p:nvPr/>
          </p:nvCxnSpPr>
          <p:spPr>
            <a:xfrm flipV="1">
              <a:off x="2579760" y="450792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71" name="Группа 51"/>
          <p:cNvGrpSpPr/>
          <p:nvPr/>
        </p:nvGrpSpPr>
        <p:grpSpPr>
          <a:xfrm>
            <a:off x="2340000" y="3212280"/>
            <a:ext cx="360360" cy="361080"/>
            <a:chOff x="2340000" y="3212280"/>
            <a:chExt cx="360360" cy="361080"/>
          </a:xfrm>
        </p:grpSpPr>
        <p:sp>
          <p:nvSpPr>
            <p:cNvPr id="272" name="Прямая соединительная линия 70"/>
            <p:cNvSpPr/>
            <p:nvPr/>
          </p:nvSpPr>
          <p:spPr>
            <a:xfrm>
              <a:off x="2340000" y="3393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3" name="Прямая со стрелкой 71"/>
            <p:cNvCxnSpPr/>
            <p:nvPr/>
          </p:nvCxnSpPr>
          <p:spPr>
            <a:xfrm>
              <a:off x="2459520" y="321264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4" name="Прямая со стрелкой 72"/>
            <p:cNvCxnSpPr/>
            <p:nvPr/>
          </p:nvCxnSpPr>
          <p:spPr>
            <a:xfrm flipV="1">
              <a:off x="2579760" y="321228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275" name="Прямоугольник 58"/>
          <p:cNvSpPr/>
          <p:nvPr/>
        </p:nvSpPr>
        <p:spPr>
          <a:xfrm>
            <a:off x="4366440" y="278136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Группа 32"/>
          <p:cNvGrpSpPr/>
          <p:nvPr/>
        </p:nvGrpSpPr>
        <p:grpSpPr>
          <a:xfrm>
            <a:off x="2700360" y="2851920"/>
            <a:ext cx="390600" cy="361080"/>
            <a:chOff x="2700360" y="2851920"/>
            <a:chExt cx="390600" cy="361080"/>
          </a:xfrm>
        </p:grpSpPr>
        <p:sp>
          <p:nvSpPr>
            <p:cNvPr id="277" name="Прямая соединительная линия 67"/>
            <p:cNvSpPr/>
            <p:nvPr/>
          </p:nvSpPr>
          <p:spPr>
            <a:xfrm>
              <a:off x="2700360" y="303264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8" name="Прямая со стрелкой 68"/>
            <p:cNvCxnSpPr/>
            <p:nvPr/>
          </p:nvCxnSpPr>
          <p:spPr>
            <a:xfrm>
              <a:off x="2829960" y="285228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9" name="Прямая со стрелкой 69"/>
            <p:cNvCxnSpPr/>
            <p:nvPr/>
          </p:nvCxnSpPr>
          <p:spPr>
            <a:xfrm flipV="1">
              <a:off x="2960280" y="285192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80" name="Группа 36"/>
          <p:cNvGrpSpPr/>
          <p:nvPr/>
        </p:nvGrpSpPr>
        <p:grpSpPr>
          <a:xfrm>
            <a:off x="3187800" y="2851920"/>
            <a:ext cx="392040" cy="361080"/>
            <a:chOff x="3187800" y="2851920"/>
            <a:chExt cx="392040" cy="361080"/>
          </a:xfrm>
        </p:grpSpPr>
        <p:sp>
          <p:nvSpPr>
            <p:cNvPr id="281" name="Прямая соединительная линия 64"/>
            <p:cNvSpPr/>
            <p:nvPr/>
          </p:nvSpPr>
          <p:spPr>
            <a:xfrm>
              <a:off x="3187800" y="3032640"/>
              <a:ext cx="39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2" name="Прямая со стрелкой 65"/>
            <p:cNvCxnSpPr/>
            <p:nvPr/>
          </p:nvCxnSpPr>
          <p:spPr>
            <a:xfrm>
              <a:off x="3318120" y="285228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3" name="Прямая со стрелкой 66"/>
            <p:cNvCxnSpPr/>
            <p:nvPr/>
          </p:nvCxnSpPr>
          <p:spPr>
            <a:xfrm flipV="1">
              <a:off x="3448800" y="285192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84" name="Группа 27"/>
          <p:cNvGrpSpPr/>
          <p:nvPr/>
        </p:nvGrpSpPr>
        <p:grpSpPr>
          <a:xfrm>
            <a:off x="3708360" y="2851920"/>
            <a:ext cx="358920" cy="361080"/>
            <a:chOff x="3708360" y="2851920"/>
            <a:chExt cx="358920" cy="361080"/>
          </a:xfrm>
        </p:grpSpPr>
        <p:sp>
          <p:nvSpPr>
            <p:cNvPr id="285" name="Прямая соединительная линия 28"/>
            <p:cNvSpPr/>
            <p:nvPr/>
          </p:nvSpPr>
          <p:spPr>
            <a:xfrm>
              <a:off x="3708360" y="303264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Прямая со стрелкой 29"/>
            <p:cNvCxnSpPr/>
            <p:nvPr/>
          </p:nvCxnSpPr>
          <p:spPr>
            <a:xfrm>
              <a:off x="3827520" y="285228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7" name="Прямая со стрелкой 30"/>
            <p:cNvCxnSpPr/>
            <p:nvPr/>
          </p:nvCxnSpPr>
          <p:spPr>
            <a:xfrm flipV="1">
              <a:off x="3947400" y="285192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88" name="Группа 98"/>
          <p:cNvGrpSpPr/>
          <p:nvPr/>
        </p:nvGrpSpPr>
        <p:grpSpPr>
          <a:xfrm>
            <a:off x="1042920" y="3141720"/>
            <a:ext cx="936720" cy="1755360"/>
            <a:chOff x="1042920" y="3141720"/>
            <a:chExt cx="936720" cy="1755360"/>
          </a:xfrm>
        </p:grpSpPr>
        <p:sp>
          <p:nvSpPr>
            <p:cNvPr id="289" name="TextBox 95"/>
            <p:cNvSpPr/>
            <p:nvPr/>
          </p:nvSpPr>
          <p:spPr>
            <a:xfrm>
              <a:off x="1042920" y="4437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 =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Box 96"/>
            <p:cNvSpPr/>
            <p:nvPr/>
          </p:nvSpPr>
          <p:spPr>
            <a:xfrm>
              <a:off x="1042920" y="3141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TextBox 97"/>
            <p:cNvSpPr/>
            <p:nvPr/>
          </p:nvSpPr>
          <p:spPr>
            <a:xfrm>
              <a:off x="1042920" y="39769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2640" y="928800"/>
            <a:ext cx="7607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лектронное строение атома углерода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360" y="1916280"/>
            <a:ext cx="9144000" cy="29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   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2      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         Е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3471840" y="2674800"/>
            <a:ext cx="1430280" cy="1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403280" y="3573360"/>
          <a:ext cx="522360" cy="520920"/>
        </p:xfrm>
        <a:graphic>
          <a:graphicData uri="http://schemas.openxmlformats.org/drawingml/2006/table">
            <a:tbl>
              <a:tblPr/>
              <a:tblGrid>
                <a:gridCol w="52236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1947960" y="3132000"/>
          <a:ext cx="1654200" cy="522360"/>
        </p:xfrm>
        <a:graphic>
          <a:graphicData uri="http://schemas.openxmlformats.org/drawingml/2006/table">
            <a:tbl>
              <a:tblPr/>
              <a:tblGrid>
                <a:gridCol w="522360"/>
                <a:gridCol w="522000"/>
                <a:gridCol w="60984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Line 21"/>
          <p:cNvSpPr/>
          <p:nvPr/>
        </p:nvSpPr>
        <p:spPr>
          <a:xfrm>
            <a:off x="1547640" y="3716280"/>
            <a:ext cx="0" cy="3380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2"/>
          <p:cNvSpPr/>
          <p:nvPr/>
        </p:nvSpPr>
        <p:spPr>
          <a:xfrm flipV="1">
            <a:off x="2709720" y="3208320"/>
            <a:ext cx="1800" cy="3477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3"/>
          <p:cNvSpPr/>
          <p:nvPr/>
        </p:nvSpPr>
        <p:spPr>
          <a:xfrm>
            <a:off x="888480" y="366552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24"/>
          <p:cNvSpPr/>
          <p:nvPr/>
        </p:nvSpPr>
        <p:spPr>
          <a:xfrm>
            <a:off x="1422000" y="313200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580000" y="3645000"/>
          <a:ext cx="522360" cy="520560"/>
        </p:xfrm>
        <a:graphic>
          <a:graphicData uri="http://schemas.openxmlformats.org/drawingml/2006/table">
            <a:tbl>
              <a:tblPr/>
              <a:tblGrid>
                <a:gridCol w="52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6138720" y="3208320"/>
          <a:ext cx="1654200" cy="522360"/>
        </p:xfrm>
        <a:graphic>
          <a:graphicData uri="http://schemas.openxmlformats.org/drawingml/2006/table">
            <a:tbl>
              <a:tblPr/>
              <a:tblGrid>
                <a:gridCol w="522360"/>
                <a:gridCol w="522360"/>
                <a:gridCol w="6094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Line 41"/>
          <p:cNvSpPr/>
          <p:nvPr/>
        </p:nvSpPr>
        <p:spPr>
          <a:xfrm flipV="1">
            <a:off x="5861520" y="3773160"/>
            <a:ext cx="720" cy="260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42"/>
          <p:cNvSpPr/>
          <p:nvPr/>
        </p:nvSpPr>
        <p:spPr>
          <a:xfrm flipV="1">
            <a:off x="6367320" y="3284280"/>
            <a:ext cx="1800" cy="347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43"/>
          <p:cNvSpPr/>
          <p:nvPr/>
        </p:nvSpPr>
        <p:spPr>
          <a:xfrm flipV="1">
            <a:off x="6900840" y="3284280"/>
            <a:ext cx="1440" cy="347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4"/>
          <p:cNvSpPr/>
          <p:nvPr/>
        </p:nvSpPr>
        <p:spPr>
          <a:xfrm>
            <a:off x="5587560" y="321300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5"/>
          <p:cNvSpPr/>
          <p:nvPr/>
        </p:nvSpPr>
        <p:spPr>
          <a:xfrm>
            <a:off x="5084280" y="371628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46"/>
          <p:cNvSpPr/>
          <p:nvPr/>
        </p:nvSpPr>
        <p:spPr>
          <a:xfrm flipV="1">
            <a:off x="7488360" y="3263760"/>
            <a:ext cx="1440" cy="3477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47"/>
          <p:cNvSpPr/>
          <p:nvPr/>
        </p:nvSpPr>
        <p:spPr>
          <a:xfrm>
            <a:off x="3767040" y="3589200"/>
            <a:ext cx="1430280" cy="1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48"/>
          <p:cNvSpPr/>
          <p:nvPr/>
        </p:nvSpPr>
        <p:spPr>
          <a:xfrm flipV="1">
            <a:off x="2239920" y="3214440"/>
            <a:ext cx="1800" cy="347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49"/>
          <p:cNvSpPr/>
          <p:nvPr/>
        </p:nvSpPr>
        <p:spPr>
          <a:xfrm flipV="1">
            <a:off x="1762200" y="3693960"/>
            <a:ext cx="1440" cy="3477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1"/>
          <p:cNvSpPr/>
          <p:nvPr/>
        </p:nvSpPr>
        <p:spPr>
          <a:xfrm>
            <a:off x="4213440" y="314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52"/>
          <p:cNvSpPr/>
          <p:nvPr/>
        </p:nvSpPr>
        <p:spPr>
          <a:xfrm>
            <a:off x="837000" y="4508640"/>
            <a:ext cx="8046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обычном состоянии атом углерода имеет 2 валент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рбитали, а в возбужденном 4 валентные орбита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206028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Гибридизация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– смешение валентных орбиталей и выравнивание их по форм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и энерг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Л.Полинг     1931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0000" y="404640"/>
            <a:ext cx="878364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ое валентное состоя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а углерода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-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гибридиз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9" descr="s%20+%203p"/>
          <p:cNvPicPr/>
          <p:nvPr/>
        </p:nvPicPr>
        <p:blipFill>
          <a:blip r:embed="rId1"/>
          <a:stretch/>
        </p:blipFill>
        <p:spPr>
          <a:xfrm>
            <a:off x="2195640" y="2492280"/>
            <a:ext cx="54007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60000" y="404640"/>
            <a:ext cx="878364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ое валентное состоя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а углерода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-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гибридиз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4" descr="sp3"/>
          <p:cNvPicPr/>
          <p:nvPr/>
        </p:nvPicPr>
        <p:blipFill>
          <a:blip r:embed="rId1"/>
          <a:stretch/>
        </p:blipFill>
        <p:spPr>
          <a:xfrm>
            <a:off x="971640" y="2421000"/>
            <a:ext cx="3971880" cy="3938400"/>
          </a:xfrm>
          <a:prstGeom prst="rect">
            <a:avLst/>
          </a:prstGeom>
          <a:ln w="0">
            <a:noFill/>
          </a:ln>
        </p:spPr>
      </p:pic>
      <p:sp>
        <p:nvSpPr>
          <p:cNvPr id="320" name="Line 10"/>
          <p:cNvSpPr/>
          <p:nvPr/>
        </p:nvSpPr>
        <p:spPr>
          <a:xfrm>
            <a:off x="2987640" y="213372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2"/>
          <p:cNvSpPr/>
          <p:nvPr/>
        </p:nvSpPr>
        <p:spPr>
          <a:xfrm>
            <a:off x="2987640" y="2133720"/>
            <a:ext cx="0" cy="24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2987640" y="4581360"/>
            <a:ext cx="1871640" cy="158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4293000" y="2997360"/>
            <a:ext cx="35791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алентный уго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09</a:t>
            </a:r>
            <a:r>
              <a:rPr b="1" lang="ru-RU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ru-RU" sz="3600" spc="-1" strike="noStrike" baseline="30000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Ink 14"/>
          <p:cNvSpPr/>
          <p:nvPr/>
        </p:nvSpPr>
        <p:spPr>
          <a:xfrm>
            <a:off x="3000240" y="3800520"/>
            <a:ext cx="714600" cy="1271520"/>
          </a:xfrm>
          <a:custGeom>
            <a:avLst/>
            <a:gdLst/>
            <a:ahLst/>
            <a:rect l="l" t="t" r="r" b="b"/>
            <a:pathLst>
              <a:path w="1986" h="3533">
                <a:moveTo>
                  <a:pt x="8334" y="10597"/>
                </a:moveTo>
                <a:cubicBezTo>
                  <a:pt x="8425" y="10575"/>
                  <a:pt x="8376" y="10551"/>
                  <a:pt x="8493" y="10577"/>
                </a:cubicBezTo>
                <a:cubicBezTo>
                  <a:pt x="8549" y="10590"/>
                  <a:pt x="8597" y="10603"/>
                  <a:pt x="8652" y="10616"/>
                </a:cubicBezTo>
                <a:cubicBezTo>
                  <a:pt x="8696" y="10626"/>
                  <a:pt x="8747" y="10624"/>
                  <a:pt x="8791" y="10636"/>
                </a:cubicBezTo>
                <a:cubicBezTo>
                  <a:pt x="8855" y="10653"/>
                  <a:pt x="8924" y="10660"/>
                  <a:pt x="8989" y="10676"/>
                </a:cubicBezTo>
                <a:cubicBezTo>
                  <a:pt x="9044" y="10690"/>
                  <a:pt x="9120" y="10722"/>
                  <a:pt x="9168" y="10755"/>
                </a:cubicBezTo>
                <a:cubicBezTo>
                  <a:pt x="9215" y="10787"/>
                  <a:pt x="9291" y="10828"/>
                  <a:pt x="9327" y="10855"/>
                </a:cubicBezTo>
                <a:cubicBezTo>
                  <a:pt x="9361" y="10881"/>
                  <a:pt x="9395" y="10944"/>
                  <a:pt x="9426" y="10974"/>
                </a:cubicBezTo>
                <a:cubicBezTo>
                  <a:pt x="9467" y="11013"/>
                  <a:pt x="9505" y="11053"/>
                  <a:pt x="9545" y="11093"/>
                </a:cubicBezTo>
                <a:cubicBezTo>
                  <a:pt x="9584" y="11132"/>
                  <a:pt x="9624" y="11172"/>
                  <a:pt x="9664" y="11212"/>
                </a:cubicBezTo>
                <a:cubicBezTo>
                  <a:pt x="9697" y="11245"/>
                  <a:pt x="9718" y="11284"/>
                  <a:pt x="9743" y="11311"/>
                </a:cubicBezTo>
                <a:cubicBezTo>
                  <a:pt x="9791" y="11364"/>
                  <a:pt x="9822" y="11411"/>
                  <a:pt x="9862" y="11470"/>
                </a:cubicBezTo>
                <a:cubicBezTo>
                  <a:pt x="9886" y="11506"/>
                  <a:pt x="9938" y="11541"/>
                  <a:pt x="9962" y="11589"/>
                </a:cubicBezTo>
                <a:cubicBezTo>
                  <a:pt x="9990" y="11645"/>
                  <a:pt x="10000" y="11671"/>
                  <a:pt x="10041" y="11728"/>
                </a:cubicBezTo>
                <a:cubicBezTo>
                  <a:pt x="10072" y="11771"/>
                  <a:pt x="10078" y="11829"/>
                  <a:pt x="10100" y="11886"/>
                </a:cubicBezTo>
                <a:cubicBezTo>
                  <a:pt x="10120" y="11936"/>
                  <a:pt x="10184" y="11988"/>
                  <a:pt x="10200" y="12025"/>
                </a:cubicBezTo>
                <a:cubicBezTo>
                  <a:pt x="10209" y="12046"/>
                  <a:pt x="10217" y="12121"/>
                  <a:pt x="10220" y="12144"/>
                </a:cubicBezTo>
                <a:cubicBezTo>
                  <a:pt x="10227" y="12210"/>
                  <a:pt x="10247" y="12241"/>
                  <a:pt x="10259" y="12283"/>
                </a:cubicBezTo>
                <a:cubicBezTo>
                  <a:pt x="10268" y="12315"/>
                  <a:pt x="10275" y="12370"/>
                  <a:pt x="10279" y="12402"/>
                </a:cubicBezTo>
                <a:cubicBezTo>
                  <a:pt x="10286" y="12459"/>
                  <a:pt x="10312" y="12514"/>
                  <a:pt x="10319" y="12561"/>
                </a:cubicBezTo>
                <a:cubicBezTo>
                  <a:pt x="10352" y="12798"/>
                  <a:pt x="10314" y="13060"/>
                  <a:pt x="10299" y="13295"/>
                </a:cubicBezTo>
                <a:cubicBezTo>
                  <a:pt x="10294" y="13377"/>
                  <a:pt x="10282" y="13412"/>
                  <a:pt x="10259" y="13494"/>
                </a:cubicBezTo>
                <a:cubicBezTo>
                  <a:pt x="10247" y="13536"/>
                  <a:pt x="10249" y="13572"/>
                  <a:pt x="10239" y="13613"/>
                </a:cubicBezTo>
                <a:cubicBezTo>
                  <a:pt x="10234" y="13632"/>
                  <a:pt x="10230" y="13712"/>
                  <a:pt x="10220" y="13732"/>
                </a:cubicBezTo>
                <a:cubicBezTo>
                  <a:pt x="10203" y="13767"/>
                  <a:pt x="10138" y="13808"/>
                  <a:pt x="10120" y="13851"/>
                </a:cubicBezTo>
                <a:cubicBezTo>
                  <a:pt x="10099" y="13899"/>
                  <a:pt x="10095" y="13911"/>
                  <a:pt x="10061" y="13950"/>
                </a:cubicBezTo>
                <a:cubicBezTo>
                  <a:pt x="10016" y="14003"/>
                  <a:pt x="10020" y="14031"/>
                  <a:pt x="9981" y="140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60000" y="907920"/>
            <a:ext cx="878364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ое валентное состоя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а углерода.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алентные орбитали образуют в пространстве тетраэд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9" descr="tetraedr"/>
          <p:cNvPicPr/>
          <p:nvPr/>
        </p:nvPicPr>
        <p:blipFill>
          <a:blip r:embed="rId1"/>
          <a:stretch/>
        </p:blipFill>
        <p:spPr>
          <a:xfrm>
            <a:off x="611280" y="2781360"/>
            <a:ext cx="2927160" cy="36496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ch4+"/>
          <p:cNvPicPr/>
          <p:nvPr/>
        </p:nvPicPr>
        <p:blipFill>
          <a:blip r:embed="rId2"/>
          <a:stretch/>
        </p:blipFill>
        <p:spPr>
          <a:xfrm>
            <a:off x="5148360" y="2781360"/>
            <a:ext cx="34671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торить, закрепить и обобщить знания учащихся о строении и свойствах атомов химических элементов с использованием системно –деятельностного подх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зать возможность индивидуальной траектории развития в рамках изучения одного понят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0000" y="404640"/>
            <a:ext cx="878364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торое валентное состоя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а углерода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p</a:t>
            </a:r>
            <a:r>
              <a:rPr b="0" lang="ru-RU" sz="32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-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гибридиз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4" descr="s%20+%202p"/>
          <p:cNvPicPr/>
          <p:nvPr/>
        </p:nvPicPr>
        <p:blipFill>
          <a:blip r:embed="rId1"/>
          <a:stretch/>
        </p:blipFill>
        <p:spPr>
          <a:xfrm>
            <a:off x="1763640" y="2852640"/>
            <a:ext cx="568800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60000" y="404640"/>
            <a:ext cx="878364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торое валентное состоя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а углерода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p</a:t>
            </a:r>
            <a:r>
              <a:rPr b="0" lang="ru-RU" sz="32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-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гибридиз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4" descr="sp2"/>
          <p:cNvPicPr/>
          <p:nvPr/>
        </p:nvPicPr>
        <p:blipFill>
          <a:blip r:embed="rId1"/>
          <a:stretch/>
        </p:blipFill>
        <p:spPr>
          <a:xfrm>
            <a:off x="900000" y="2637000"/>
            <a:ext cx="4043520" cy="3646440"/>
          </a:xfrm>
          <a:prstGeom prst="rect">
            <a:avLst/>
          </a:prstGeom>
          <a:ln w="0">
            <a:noFill/>
          </a:ln>
        </p:spPr>
      </p:pic>
      <p:sp>
        <p:nvSpPr>
          <p:cNvPr id="332" name="Line 5"/>
          <p:cNvSpPr/>
          <p:nvPr/>
        </p:nvSpPr>
        <p:spPr>
          <a:xfrm>
            <a:off x="2987640" y="2276640"/>
            <a:ext cx="7164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6"/>
          <p:cNvSpPr/>
          <p:nvPr/>
        </p:nvSpPr>
        <p:spPr>
          <a:xfrm>
            <a:off x="3059280" y="4724280"/>
            <a:ext cx="187308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7" descr="sp2"/>
          <p:cNvPicPr/>
          <p:nvPr/>
        </p:nvPicPr>
        <p:blipFill>
          <a:blip r:embed="rId2"/>
          <a:stretch/>
        </p:blipFill>
        <p:spPr>
          <a:xfrm>
            <a:off x="900000" y="2637000"/>
            <a:ext cx="4043520" cy="3646440"/>
          </a:xfrm>
          <a:prstGeom prst="rect">
            <a:avLst/>
          </a:prstGeom>
          <a:ln w="0">
            <a:noFill/>
          </a:ln>
        </p:spPr>
      </p:pic>
      <p:sp>
        <p:nvSpPr>
          <p:cNvPr id="335" name="Line 8"/>
          <p:cNvSpPr/>
          <p:nvPr/>
        </p:nvSpPr>
        <p:spPr>
          <a:xfrm>
            <a:off x="3059280" y="4724280"/>
            <a:ext cx="187308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9"/>
          <p:cNvSpPr/>
          <p:nvPr/>
        </p:nvSpPr>
        <p:spPr>
          <a:xfrm>
            <a:off x="2987640" y="2276640"/>
            <a:ext cx="71640" cy="24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0"/>
          <p:cNvSpPr/>
          <p:nvPr/>
        </p:nvSpPr>
        <p:spPr>
          <a:xfrm>
            <a:off x="3059280" y="4724280"/>
            <a:ext cx="1873080" cy="129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4293000" y="2997360"/>
            <a:ext cx="35791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алентный уго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20</a:t>
            </a:r>
            <a:r>
              <a:rPr b="1" lang="ru-RU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Ink 11"/>
          <p:cNvSpPr/>
          <p:nvPr/>
        </p:nvSpPr>
        <p:spPr>
          <a:xfrm>
            <a:off x="3043080" y="3843360"/>
            <a:ext cx="893880" cy="1386000"/>
          </a:xfrm>
          <a:custGeom>
            <a:avLst/>
            <a:gdLst/>
            <a:ahLst/>
            <a:rect l="l" t="t" r="r" b="b"/>
            <a:pathLst>
              <a:path w="2482" h="3851">
                <a:moveTo>
                  <a:pt x="8453" y="10676"/>
                </a:moveTo>
                <a:cubicBezTo>
                  <a:pt x="8647" y="10676"/>
                  <a:pt x="8838" y="10679"/>
                  <a:pt x="9009" y="10716"/>
                </a:cubicBezTo>
                <a:cubicBezTo>
                  <a:pt x="9051" y="10725"/>
                  <a:pt x="9090" y="10719"/>
                  <a:pt x="9128" y="10735"/>
                </a:cubicBezTo>
                <a:cubicBezTo>
                  <a:pt x="9170" y="10752"/>
                  <a:pt x="9221" y="10776"/>
                  <a:pt x="9267" y="10795"/>
                </a:cubicBezTo>
                <a:cubicBezTo>
                  <a:pt x="9306" y="10811"/>
                  <a:pt x="9394" y="10835"/>
                  <a:pt x="9426" y="10855"/>
                </a:cubicBezTo>
                <a:cubicBezTo>
                  <a:pt x="9472" y="10884"/>
                  <a:pt x="9504" y="10932"/>
                  <a:pt x="9565" y="10954"/>
                </a:cubicBezTo>
                <a:cubicBezTo>
                  <a:pt x="9622" y="10975"/>
                  <a:pt x="9661" y="10985"/>
                  <a:pt x="9723" y="11013"/>
                </a:cubicBezTo>
                <a:cubicBezTo>
                  <a:pt x="9774" y="11036"/>
                  <a:pt x="9795" y="11043"/>
                  <a:pt x="9842" y="11073"/>
                </a:cubicBezTo>
                <a:cubicBezTo>
                  <a:pt x="9881" y="11097"/>
                  <a:pt x="9949" y="11127"/>
                  <a:pt x="9981" y="11152"/>
                </a:cubicBezTo>
                <a:cubicBezTo>
                  <a:pt x="10026" y="11187"/>
                  <a:pt x="10104" y="11237"/>
                  <a:pt x="10140" y="11271"/>
                </a:cubicBezTo>
                <a:cubicBezTo>
                  <a:pt x="10179" y="11308"/>
                  <a:pt x="10221" y="11351"/>
                  <a:pt x="10259" y="11390"/>
                </a:cubicBezTo>
                <a:cubicBezTo>
                  <a:pt x="10299" y="11431"/>
                  <a:pt x="10336" y="11469"/>
                  <a:pt x="10378" y="11509"/>
                </a:cubicBezTo>
                <a:cubicBezTo>
                  <a:pt x="10415" y="11544"/>
                  <a:pt x="10443" y="11587"/>
                  <a:pt x="10477" y="11628"/>
                </a:cubicBezTo>
                <a:cubicBezTo>
                  <a:pt x="10510" y="11668"/>
                  <a:pt x="10549" y="11698"/>
                  <a:pt x="10577" y="11747"/>
                </a:cubicBezTo>
                <a:cubicBezTo>
                  <a:pt x="10601" y="11789"/>
                  <a:pt x="10615" y="11842"/>
                  <a:pt x="10636" y="11886"/>
                </a:cubicBezTo>
                <a:cubicBezTo>
                  <a:pt x="10648" y="11911"/>
                  <a:pt x="10689" y="11984"/>
                  <a:pt x="10696" y="12005"/>
                </a:cubicBezTo>
                <a:cubicBezTo>
                  <a:pt x="10710" y="12048"/>
                  <a:pt x="10703" y="12103"/>
                  <a:pt x="10716" y="12144"/>
                </a:cubicBezTo>
                <a:cubicBezTo>
                  <a:pt x="10731" y="12192"/>
                  <a:pt x="10757" y="12254"/>
                  <a:pt x="10775" y="12303"/>
                </a:cubicBezTo>
                <a:cubicBezTo>
                  <a:pt x="10793" y="12351"/>
                  <a:pt x="10803" y="12370"/>
                  <a:pt x="10815" y="12422"/>
                </a:cubicBezTo>
                <a:cubicBezTo>
                  <a:pt x="10825" y="12464"/>
                  <a:pt x="10822" y="12522"/>
                  <a:pt x="10835" y="12561"/>
                </a:cubicBezTo>
                <a:cubicBezTo>
                  <a:pt x="10853" y="12614"/>
                  <a:pt x="10859" y="12622"/>
                  <a:pt x="10874" y="12680"/>
                </a:cubicBezTo>
                <a:cubicBezTo>
                  <a:pt x="10891" y="12745"/>
                  <a:pt x="10927" y="12865"/>
                  <a:pt x="10934" y="12918"/>
                </a:cubicBezTo>
                <a:cubicBezTo>
                  <a:pt x="10949" y="13031"/>
                  <a:pt x="10920" y="13156"/>
                  <a:pt x="10914" y="13256"/>
                </a:cubicBezTo>
                <a:cubicBezTo>
                  <a:pt x="10908" y="13350"/>
                  <a:pt x="10899" y="13442"/>
                  <a:pt x="10894" y="13533"/>
                </a:cubicBezTo>
                <a:cubicBezTo>
                  <a:pt x="10891" y="13589"/>
                  <a:pt x="10859" y="13646"/>
                  <a:pt x="10855" y="13672"/>
                </a:cubicBezTo>
                <a:cubicBezTo>
                  <a:pt x="10847" y="13731"/>
                  <a:pt x="10838" y="13821"/>
                  <a:pt x="10835" y="13871"/>
                </a:cubicBezTo>
                <a:cubicBezTo>
                  <a:pt x="10831" y="13934"/>
                  <a:pt x="10802" y="13976"/>
                  <a:pt x="10795" y="14030"/>
                </a:cubicBezTo>
                <a:cubicBezTo>
                  <a:pt x="10785" y="14101"/>
                  <a:pt x="10793" y="14166"/>
                  <a:pt x="10775" y="14228"/>
                </a:cubicBezTo>
                <a:cubicBezTo>
                  <a:pt x="10760" y="14279"/>
                  <a:pt x="10751" y="14291"/>
                  <a:pt x="10735" y="14347"/>
                </a:cubicBezTo>
                <a:cubicBezTo>
                  <a:pt x="10719" y="14403"/>
                  <a:pt x="10695" y="14423"/>
                  <a:pt x="10676" y="14466"/>
                </a:cubicBezTo>
                <a:cubicBezTo>
                  <a:pt x="10669" y="14486"/>
                  <a:pt x="10663" y="14506"/>
                  <a:pt x="10656" y="14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0000" y="404640"/>
            <a:ext cx="878364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тье валентное состоя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а углерода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p -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гибридиз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1" name="Picture 4" descr="s%20+%20p"/>
          <p:cNvPicPr/>
          <p:nvPr/>
        </p:nvPicPr>
        <p:blipFill>
          <a:blip r:embed="rId1"/>
          <a:stretch/>
        </p:blipFill>
        <p:spPr>
          <a:xfrm>
            <a:off x="1403280" y="2924280"/>
            <a:ext cx="656280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5" descr="sp%20-%20bond"/>
          <p:cNvPicPr/>
          <p:nvPr/>
        </p:nvPicPr>
        <p:blipFill>
          <a:blip r:embed="rId1"/>
          <a:stretch/>
        </p:blipFill>
        <p:spPr>
          <a:xfrm>
            <a:off x="395280" y="3068640"/>
            <a:ext cx="4968720" cy="34146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60000" y="404640"/>
            <a:ext cx="878364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тье валентное состоя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а углерода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p -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гибридиз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4579200" y="2565360"/>
            <a:ext cx="428940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разование связ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жду  атомами углер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молекуле ацетиле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467840" cy="14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алентные состояния атома серы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725560" y="2484360"/>
          <a:ext cx="3614760" cy="289080"/>
        </p:xfrm>
        <a:graphic>
          <a:graphicData uri="http://schemas.openxmlformats.org/drawingml/2006/table">
            <a:tbl>
              <a:tblPr/>
              <a:tblGrid>
                <a:gridCol w="463680"/>
                <a:gridCol w="389160"/>
                <a:gridCol w="417240"/>
                <a:gridCol w="387360"/>
                <a:gridCol w="417600"/>
                <a:gridCol w="385920"/>
                <a:gridCol w="382320"/>
                <a:gridCol w="385920"/>
                <a:gridCol w="38556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2725560" y="3956040"/>
          <a:ext cx="3632400" cy="433440"/>
        </p:xfrm>
        <a:graphic>
          <a:graphicData uri="http://schemas.openxmlformats.org/drawingml/2006/table">
            <a:tbl>
              <a:tblPr/>
              <a:tblGrid>
                <a:gridCol w="481320"/>
                <a:gridCol w="398160"/>
                <a:gridCol w="401760"/>
                <a:gridCol w="376200"/>
                <a:gridCol w="376200"/>
                <a:gridCol w="452520"/>
                <a:gridCol w="376200"/>
                <a:gridCol w="376200"/>
                <a:gridCol w="39384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2651040" y="5276880"/>
          <a:ext cx="3614760" cy="503280"/>
        </p:xfrm>
        <a:graphic>
          <a:graphicData uri="http://schemas.openxmlformats.org/drawingml/2006/table">
            <a:tbl>
              <a:tblPr/>
              <a:tblGrid>
                <a:gridCol w="461880"/>
                <a:gridCol w="382680"/>
                <a:gridCol w="434880"/>
                <a:gridCol w="378000"/>
                <a:gridCol w="374760"/>
                <a:gridCol w="453960"/>
                <a:gridCol w="374760"/>
                <a:gridCol w="377640"/>
                <a:gridCol w="3762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Text Box 69"/>
          <p:cNvSpPr/>
          <p:nvPr/>
        </p:nvSpPr>
        <p:spPr>
          <a:xfrm>
            <a:off x="2268360" y="6442200"/>
            <a:ext cx="28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70"/>
          <p:cNvSpPr/>
          <p:nvPr/>
        </p:nvSpPr>
        <p:spPr>
          <a:xfrm>
            <a:off x="108000" y="1844640"/>
            <a:ext cx="266364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Валентность </a:t>
            </a: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I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504d"/>
                </a:solidFill>
                <a:latin typeface="Arial"/>
              </a:rPr>
              <a:t>ст. окисления -</a:t>
            </a:r>
            <a:r>
              <a:rPr b="1" lang="en-US" sz="1900" spc="-1" strike="noStrike">
                <a:solidFill>
                  <a:srgbClr val="c0504d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71"/>
          <p:cNvSpPr/>
          <p:nvPr/>
        </p:nvSpPr>
        <p:spPr>
          <a:xfrm>
            <a:off x="2843280" y="1546200"/>
            <a:ext cx="34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72"/>
          <p:cNvSpPr/>
          <p:nvPr/>
        </p:nvSpPr>
        <p:spPr>
          <a:xfrm>
            <a:off x="2843280" y="1989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        3p                   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3"/>
          <p:cNvSpPr/>
          <p:nvPr/>
        </p:nvSpPr>
        <p:spPr>
          <a:xfrm>
            <a:off x="4427640" y="2060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74"/>
          <p:cNvSpPr/>
          <p:nvPr/>
        </p:nvSpPr>
        <p:spPr>
          <a:xfrm>
            <a:off x="3276720" y="2060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75"/>
          <p:cNvSpPr/>
          <p:nvPr/>
        </p:nvSpPr>
        <p:spPr>
          <a:xfrm flipV="1" rot="10800000">
            <a:off x="324000" y="3572280"/>
            <a:ext cx="223200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Валентность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IV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66ff"/>
                </a:solidFill>
                <a:latin typeface="Arial"/>
              </a:rPr>
              <a:t>Ст. окисления +</a:t>
            </a:r>
            <a:r>
              <a:rPr b="1" lang="en-US" sz="1900" spc="-1" strike="noStrike">
                <a:solidFill>
                  <a:srgbClr val="0066ff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76"/>
          <p:cNvSpPr/>
          <p:nvPr/>
        </p:nvSpPr>
        <p:spPr>
          <a:xfrm flipV="1" rot="10800000">
            <a:off x="323640" y="4975560"/>
            <a:ext cx="237636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алентность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I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Ст. окисления +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77"/>
          <p:cNvSpPr/>
          <p:nvPr/>
        </p:nvSpPr>
        <p:spPr>
          <a:xfrm>
            <a:off x="324000" y="5229360"/>
            <a:ext cx="2303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78"/>
          <p:cNvSpPr/>
          <p:nvPr/>
        </p:nvSpPr>
        <p:spPr>
          <a:xfrm>
            <a:off x="2916360" y="4365720"/>
            <a:ext cx="38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79"/>
          <p:cNvSpPr/>
          <p:nvPr/>
        </p:nvSpPr>
        <p:spPr>
          <a:xfrm>
            <a:off x="2771640" y="4365720"/>
            <a:ext cx="48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80"/>
          <p:cNvSpPr/>
          <p:nvPr/>
        </p:nvSpPr>
        <p:spPr>
          <a:xfrm>
            <a:off x="6732720" y="227664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f497d"/>
                </a:solidFill>
                <a:latin typeface="Arial"/>
              </a:rPr>
              <a:t>Н</a:t>
            </a: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1f497d"/>
                </a:solidFill>
                <a:latin typeface="Arial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81"/>
          <p:cNvSpPr/>
          <p:nvPr/>
        </p:nvSpPr>
        <p:spPr>
          <a:xfrm rot="16200000">
            <a:off x="7910640" y="3979800"/>
            <a:ext cx="4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85" descr="img004"/>
          <p:cNvPicPr/>
          <p:nvPr/>
        </p:nvPicPr>
        <p:blipFill>
          <a:blip r:embed="rId1"/>
          <a:stretch/>
        </p:blipFill>
        <p:spPr>
          <a:xfrm>
            <a:off x="2050920" y="476280"/>
            <a:ext cx="1800360" cy="86184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86"/>
          <p:cNvSpPr/>
          <p:nvPr/>
        </p:nvSpPr>
        <p:spPr>
          <a:xfrm>
            <a:off x="6804000" y="3716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Arial"/>
              </a:rPr>
              <a:t>S</a:t>
            </a:r>
            <a:r>
              <a:rPr b="0" lang="ru-RU" sz="5400" spc="-1" strike="noStrike">
                <a:solidFill>
                  <a:srgbClr val="1f497d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87"/>
          <p:cNvSpPr/>
          <p:nvPr/>
        </p:nvSpPr>
        <p:spPr>
          <a:xfrm>
            <a:off x="6659640" y="494172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f497d"/>
                </a:solidFill>
                <a:latin typeface="Arial"/>
              </a:rPr>
              <a:t>Н</a:t>
            </a: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1f497d"/>
                </a:solidFill>
                <a:latin typeface="Arial"/>
              </a:rPr>
              <a:t>S</a:t>
            </a:r>
            <a:r>
              <a:rPr b="0" lang="ru-RU" sz="5400" spc="-1" strike="noStrike">
                <a:solidFill>
                  <a:srgbClr val="1f497d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0" y="-71280"/>
          <a:ext cx="9144000" cy="6929280"/>
        </p:xfrm>
        <a:graphic>
          <a:graphicData uri="http://schemas.openxmlformats.org/drawingml/2006/table">
            <a:tbl>
              <a:tblPr/>
              <a:tblGrid>
                <a:gridCol w="1911240"/>
                <a:gridCol w="1911600"/>
                <a:gridCol w="2178000"/>
                <a:gridCol w="3143160"/>
              </a:tblGrid>
              <a:tr h="48564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ы существования химического               элемента и их сво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ения свой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главных подгрупп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ериод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о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ряд яд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заполняемых энергетических уров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электронов на внешнем уров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диус ато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становительные сво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ислительные свой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шая степень оки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шая степень оки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3822840" y="1071720"/>
          <a:ext cx="5321160" cy="5837040"/>
        </p:xfrm>
        <a:graphic>
          <a:graphicData uri="http://schemas.openxmlformats.org/drawingml/2006/table">
            <a:tbl>
              <a:tblPr/>
              <a:tblGrid>
                <a:gridCol w="2178000"/>
                <a:gridCol w="3143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Не изменяется и равно номеру 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Не изменяется и равно номеру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меньш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силив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Ослабеваю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Ослабеваю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силив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остоянная и равна номеру группы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величивается от  +1  до  +7 (+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Не изменяется и равна (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8 – 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величивается от -4  до 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ие элемен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2876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оложите химические элементы в порядке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озрас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металлических свойст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 Sb  N  P  B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неметаллических свойств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  Al  P  S  Cl  Mg  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9" name="Прямая со стрелкой 9"/>
          <p:cNvCxnSpPr>
            <a:stCxn id="368" idx="0"/>
          </p:cNvCxnSpPr>
          <p:nvPr/>
        </p:nvCxnSpPr>
        <p:spPr>
          <a:xfrm flipH="1">
            <a:off x="1685520" y="1643040"/>
            <a:ext cx="285840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0" name="Прямая со стрелкой 13"/>
          <p:cNvCxnSpPr>
            <a:stCxn id="368" idx="0"/>
          </p:cNvCxnSpPr>
          <p:nvPr/>
        </p:nvCxnSpPr>
        <p:spPr>
          <a:xfrm>
            <a:off x="4540680" y="1643040"/>
            <a:ext cx="2520" cy="1215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1" name="Прямая со стрелкой 15"/>
          <p:cNvCxnSpPr>
            <a:stCxn id="368" idx="0"/>
          </p:cNvCxnSpPr>
          <p:nvPr/>
        </p:nvCxnSpPr>
        <p:spPr>
          <a:xfrm>
            <a:off x="4542480" y="1642680"/>
            <a:ext cx="285804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2" name="TextBox 17"/>
          <p:cNvSpPr/>
          <p:nvPr/>
        </p:nvSpPr>
        <p:spPr>
          <a:xfrm>
            <a:off x="571680" y="307188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металлическиеэле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18"/>
          <p:cNvSpPr/>
          <p:nvPr/>
        </p:nvSpPr>
        <p:spPr>
          <a:xfrm>
            <a:off x="3214800" y="307188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алл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Box 19"/>
          <p:cNvSpPr/>
          <p:nvPr/>
        </p:nvSpPr>
        <p:spPr>
          <a:xfrm>
            <a:off x="5715000" y="31431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лагородные га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аллы – эт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мические элементы, атомы которых отдают электроны с внешнего ( а некоторые и предвнешнего электронного слоя), превращаясь в положительно заряженные ио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ожение металлических  элементов в Периодической системе Д.И. Менделе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уппа      1    2    3    4    5    6   7   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иод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F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9" name="Прямая со стрелкой 4"/>
          <p:cNvCxnSpPr/>
          <p:nvPr/>
        </p:nvCxnSpPr>
        <p:spPr>
          <a:xfrm flipH="1">
            <a:off x="855360" y="2500200"/>
            <a:ext cx="2160" cy="3145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80" name="Прямая со стрелкой 8"/>
          <p:cNvCxnSpPr/>
          <p:nvPr/>
        </p:nvCxnSpPr>
        <p:spPr>
          <a:xfrm>
            <a:off x="1571400" y="5571720"/>
            <a:ext cx="450072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81" name="Прямая со стрелкой 43"/>
          <p:cNvCxnSpPr>
            <a:endCxn id="382" idx="1"/>
          </p:cNvCxnSpPr>
          <p:nvPr/>
        </p:nvCxnSpPr>
        <p:spPr>
          <a:xfrm>
            <a:off x="3285000" y="3357720"/>
            <a:ext cx="1289880" cy="135108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382" name="Овал 49"/>
          <p:cNvSpPr/>
          <p:nvPr/>
        </p:nvSpPr>
        <p:spPr>
          <a:xfrm>
            <a:off x="4429080" y="4572000"/>
            <a:ext cx="1000080" cy="9288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8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Овал 50"/>
          <p:cNvSpPr/>
          <p:nvPr/>
        </p:nvSpPr>
        <p:spPr>
          <a:xfrm>
            <a:off x="2643120" y="2643120"/>
            <a:ext cx="92880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Прямая соединительная линия 52"/>
          <p:cNvSpPr/>
          <p:nvPr/>
        </p:nvSpPr>
        <p:spPr>
          <a:xfrm>
            <a:off x="2000160" y="3214800"/>
            <a:ext cx="6429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Прямая соединительная линия 54"/>
          <p:cNvSpPr/>
          <p:nvPr/>
        </p:nvSpPr>
        <p:spPr>
          <a:xfrm flipH="1">
            <a:off x="1855800" y="3286080"/>
            <a:ext cx="1440" cy="1859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Прямая соединительная линия 56"/>
          <p:cNvSpPr/>
          <p:nvPr/>
        </p:nvSpPr>
        <p:spPr>
          <a:xfrm>
            <a:off x="2071800" y="5357880"/>
            <a:ext cx="25002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Box 63"/>
          <p:cNvSpPr/>
          <p:nvPr/>
        </p:nvSpPr>
        <p:spPr>
          <a:xfrm>
            <a:off x="2000160" y="3857760"/>
            <a:ext cx="1785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лемен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вляют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таллам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, p, d,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Box 64"/>
          <p:cNvSpPr/>
          <p:nvPr/>
        </p:nvSpPr>
        <p:spPr>
          <a:xfrm>
            <a:off x="4429080" y="250020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менты побоч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рупп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ал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ереходные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лементы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зменение свойств металлических элемент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2876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 главной подгрупп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исло электронов на внешнем уров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диусы атомов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лектроотрицательность 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становительные свойства 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таллические свойства 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 период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ряды ядер атомов   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диусы атомов 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исло электронов на внешнем уров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лектроотрицательность 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становительные свойства 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таллические свойства 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занят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оение атомов. Изотоп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ояние электронов в атом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ификация химических элемен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ойства химических элемен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Особенности строения и свойств металлических и неметаллических элемент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ы существования химических элем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зменение свойств металлических элемент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2876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 главной подгрупп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исло электронов на внешнем уров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е изменяе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диусы атомов 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величиваю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лектроотрицательнос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меньшае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сстановительные свойства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силиваю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аллические свойст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силиваю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 период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ряды ядер атомов   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увеличиваю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диусы атомов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уменьшаю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исло электронов на внешнем уров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увеличивае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лектроотрицательность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увеличивае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становительные свойства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слабеваю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таллические свойства  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слабеваю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металлы – эт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мические элементы, имеющие небольшой радиус атома и  обладающие способностью принимать электроны, т.к. на внешнем слое у них находится от 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о 7 электрон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Конфигурация внешнего электронного сло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457200" y="1600200"/>
          <a:ext cx="8229600" cy="39416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     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S       2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      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     n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        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       n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         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       n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         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          n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     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99" name="Прямая со стрелкой 5"/>
          <p:cNvCxnSpPr/>
          <p:nvPr/>
        </p:nvCxnSpPr>
        <p:spPr>
          <a:xfrm>
            <a:off x="428400" y="2214720"/>
            <a:ext cx="83588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0" name="Прямая со стрелкой 11"/>
          <p:cNvCxnSpPr/>
          <p:nvPr/>
        </p:nvCxnSpPr>
        <p:spPr>
          <a:xfrm flipH="1">
            <a:off x="8714520" y="2428920"/>
            <a:ext cx="2520" cy="3215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металлические элементы и их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 период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ряд ядра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диус атома 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ло электронов на внешнем слое 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оотрицательность 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ислительные свойства 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металлические свойства 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 главной подгрупп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ряд ядра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диус атома 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ло электронов на внешнем слое 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оотрицательность 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ислительные свойства 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металлические свойства 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металлические элементы и их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28760" y="1643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 период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ряд ядра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величивае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диус атома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меньшае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исло электронов на внешнем слое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величивае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ктроотрицательность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величивае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ислительные свойства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силиваю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металлические свойства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силиваю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 главной подгрупп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ряд ядра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величивае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диус атома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величивае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исло электронов на внешнем слое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е изменяе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ктроотрицательность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меньшае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ислительные свойства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слабеваю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металлические свойства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слабеваю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 B  Te  H  As  I  Si  P Se  C  S  Br  Cl  N  O  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лектроотрицательность  увеличива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ислительные свойства усиливают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становительные свойства усиливаю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9" name="Прямая со стрелкой 7"/>
          <p:cNvCxnSpPr/>
          <p:nvPr/>
        </p:nvCxnSpPr>
        <p:spPr>
          <a:xfrm>
            <a:off x="785880" y="2356920"/>
            <a:ext cx="7215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10" name="Прямая со стрелкой 20"/>
          <p:cNvCxnSpPr/>
          <p:nvPr/>
        </p:nvCxnSpPr>
        <p:spPr>
          <a:xfrm flipH="1" flipV="1">
            <a:off x="999360" y="3857400"/>
            <a:ext cx="757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тоговое задание: заполнить таблицу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857160" y="1611360"/>
          <a:ext cx="8072640" cy="5000400"/>
        </p:xfrm>
        <a:graphic>
          <a:graphicData uri="http://schemas.openxmlformats.org/drawingml/2006/table">
            <a:tbl>
              <a:tblPr/>
              <a:tblGrid>
                <a:gridCol w="897120"/>
                <a:gridCol w="896760"/>
                <a:gridCol w="897120"/>
                <a:gridCol w="896760"/>
                <a:gridCol w="897120"/>
                <a:gridCol w="896760"/>
                <a:gridCol w="897120"/>
                <a:gridCol w="896760"/>
                <a:gridCol w="89712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рядковый ном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сительная атомная ма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ряд ядра ато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от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ней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элек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ктронная формула ато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ктронная формула и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тоговое задание: заполнить таблицу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857160" y="1611360"/>
          <a:ext cx="8072640" cy="5246640"/>
        </p:xfrm>
        <a:graphic>
          <a:graphicData uri="http://schemas.openxmlformats.org/drawingml/2006/table">
            <a:tbl>
              <a:tblPr/>
              <a:tblGrid>
                <a:gridCol w="897120"/>
                <a:gridCol w="896760"/>
                <a:gridCol w="897120"/>
                <a:gridCol w="896760"/>
                <a:gridCol w="897120"/>
                <a:gridCol w="896760"/>
                <a:gridCol w="897120"/>
                <a:gridCol w="896760"/>
                <a:gridCol w="89712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рядковый ном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сительная атомная ма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ряд ядра ато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от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ней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элек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ктронная формула ато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ктронная формула и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594da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14200" y="1356840"/>
            <a:ext cx="874728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.  8 и 9 класс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ить презентацию по  истории открытия химических элемен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10 и 11 класс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роль макроэлементов и микроэлементов  для организма челов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. Решить 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Природный 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остоит из 3- стабильных изотопов: 24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 25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26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Вычислите относительную атомную массу магния, если содержание нуклидов соответственно равно 78,6 %, 10,1%, 11,3%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Определите простейшую формулу соединения, если известно, что массовые доли кальция, фосфора и водорода равны соответственно 29, 4%, 22, 8%, 0, 735%. В состав соединения входит кислор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органическом соединении массой 6, 0 г. Содержится 3, 6 г. углерода, остальное – водород и кислород. Массовая доля водорода равна 13, 3%. Определить простейшую формулу этого соедин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4"/>
          <p:cNvSpPr/>
          <p:nvPr/>
        </p:nvSpPr>
        <p:spPr>
          <a:xfrm>
            <a:off x="2185560" y="1005480"/>
            <a:ext cx="477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 химии ты глух и н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шагу не шагнешь поро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вырастишь хороший хле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дом хороший не построиш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имию любить и не лениться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ит, понятно будет вс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ему коптит порою примус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морозе сушится бел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знь вокруг себя узнаеш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ешишь любой серьезный спор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 огня в дороге яйца свариш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без спичек разведешь кост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пиграф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Другого ничего в природе 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 здесь, ни там в космических глубин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от песчинок малых до пла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элементов состоит едины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. Щипач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ликое открытие Д.И. Менделее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24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му-то сон веселый снится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му-то страшный снится сон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 Менделееву – Таблица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снилась, он открыл Закон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 также правило простое: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Ученый должен отдыхать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о и во сне не знать покоя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огда открытие любое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овек не сможет он проспать».</a:t>
            </a: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24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ий элемент - э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2276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енный  вид атом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том – сложнейшая нейтральная частица, состоящая из протонов, электронов и нейтрон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2249640"/>
          <a:ext cx="8229600" cy="447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астица и её обо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имеч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отон, р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исло протонов равно порядковому номеру элемента в таблице Д.И. Менделе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йтрон,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исло нейтронов находят по форму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09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 =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 -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лектрон, 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/18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исло электронов равно порядковому номеру элемента в таблице Д.И. Менделе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зотопы –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новидности атомов одного и того же химического элемента, имеющие одинаковый заряд ядра, но разное массовое число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9           40               39               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 К   и  19К,           18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Химический элем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овокупность атомов с одинаковым зарядом яд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ждый изотоп характеризуется двумя величинам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ассовым числом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тавляет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верху слев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т химического знака:   37        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          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ссовое число А указывает суммарное число протоно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нейтроно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яд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А 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Z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рядковым номе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тавляет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низу слев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химического знака: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Cl          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           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ядковый номер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авен числу протоно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ядре, а значи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ряду яд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07:05:18Z</dcterms:created>
  <dc:creator>1</dc:creator>
  <dc:description/>
  <dc:language>en-US</dc:language>
  <cp:lastModifiedBy>310</cp:lastModifiedBy>
  <dcterms:modified xsi:type="dcterms:W3CDTF">2013-02-04T09:01:36Z</dcterms:modified>
  <cp:revision>107</cp:revision>
  <dc:subject/>
  <dc:title>Диеновые углеводороды</dc:title>
</cp:coreProperties>
</file>