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1A3A-BEBE-45C0-A460-D9012404E2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9A34-0D5F-4A5E-8FF0-1F8E8A588BDA}" type="slidenum">
              <a:rPr b="0" lang="ru-RU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1EB82-2E6E-4BD0-B9BA-508FFB90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9E2D7-2FDD-45C9-8A89-BC29E630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BE52-56E1-4F5F-A28C-0D3C23BE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8676-D81B-442A-B7B5-DDBC6DDD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0649-C63F-4B53-902C-CF0B1631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4194-D14D-457A-90E3-B62E06CB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3594-5277-4D00-871A-D06B3B63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1199-0A52-4AF9-B5C1-1604BC9B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1A15-58A9-42A9-93ED-D095A86D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FC9A-09C1-4BF2-A9D3-85219700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5F75-1865-4CED-9A82-6F1F2B20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9575-3244-4887-A0E7-AE95CA7C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E500-76A1-428E-A337-87CF0E55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F600-4E03-417B-B66F-B65AABC4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ED36-4C33-4F04-A2BD-7AF8F3CF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DD3D-3E4A-472C-9AF2-9669B553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A423-1E99-408F-86F3-73BDF8D8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A929-8B84-40F5-9FD3-21C755C7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B65A1-C7B2-4BD3-83DE-FE19C3C0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9EB0D-A872-4399-A6A9-F40252A0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9DF8F-EDA9-45B9-9DA3-70A86CFD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5BF51-B589-447E-826E-E7F1C368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E102-DD24-4F24-B077-84B391E5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F40A-E2DD-457C-B372-BB898A9C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57CE-167A-4442-9FE5-0270DE995D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2147-79FA-419D-851B-6B9FBFD77E27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5.xml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" Target="slide17.xml"/><Relationship Id="rId8" Type="http://schemas.openxmlformats.org/officeDocument/2006/relationships/slide" Target="slide23.xml"/><Relationship Id="rId9" Type="http://schemas.openxmlformats.org/officeDocument/2006/relationships/slide" Target="slide14.xml"/><Relationship Id="rId10" Type="http://schemas.openxmlformats.org/officeDocument/2006/relationships/slide" Target="slide7.xml"/><Relationship Id="rId11" Type="http://schemas.openxmlformats.org/officeDocument/2006/relationships/slide" Target="slide10.xml"/><Relationship Id="rId12" Type="http://schemas.openxmlformats.org/officeDocument/2006/relationships/slide" Target="slide19.xml"/><Relationship Id="rId13" Type="http://schemas.openxmlformats.org/officeDocument/2006/relationships/slide" Target="slide8.xml"/><Relationship Id="rId14" Type="http://schemas.openxmlformats.org/officeDocument/2006/relationships/slide" Target="slide22.xml"/><Relationship Id="rId15" Type="http://schemas.openxmlformats.org/officeDocument/2006/relationships/slide" Target="slide20.xml"/><Relationship Id="rId16" Type="http://schemas.openxmlformats.org/officeDocument/2006/relationships/slide" Target="slide18.xml"/><Relationship Id="rId17" Type="http://schemas.openxmlformats.org/officeDocument/2006/relationships/slide" Target="slide11.xml"/><Relationship Id="rId18" Type="http://schemas.openxmlformats.org/officeDocument/2006/relationships/slide" Target="slide3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25.xml"/><Relationship Id="rId24" Type="http://schemas.openxmlformats.org/officeDocument/2006/relationships/slide" Target="slide27.xml"/><Relationship Id="rId25" Type="http://schemas.openxmlformats.org/officeDocument/2006/relationships/slide" Target="slide26.xml"/><Relationship Id="rId26" Type="http://schemas.openxmlformats.org/officeDocument/2006/relationships/slide" Target="slide24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" Target="slide28.xml"/><Relationship Id="rId30" Type="http://schemas.openxmlformats.org/officeDocument/2006/relationships/slide" Target="slide28.xml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50004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Интерактивная таблица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214200" y="1857240"/>
            <a:ext cx="4762440" cy="538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иодическая система 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1857240" y="2708280"/>
            <a:ext cx="4505400" cy="320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ческих элементов 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2448000" y="3538440"/>
            <a:ext cx="6372000" cy="466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митрия Ивановича Менделеева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Ванадий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Стрелка вправо 3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91" name="Picture 1" descr=""/>
          <p:cNvPicPr/>
          <p:nvPr/>
        </p:nvPicPr>
        <p:blipFill>
          <a:blip r:embed="rId3"/>
          <a:stretch/>
        </p:blipFill>
        <p:spPr>
          <a:xfrm>
            <a:off x="214200" y="642960"/>
            <a:ext cx="790560" cy="66672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>
            <a:off x="357120" y="1357200"/>
            <a:ext cx="857268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держание в земной коре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 земной коре ванадия намного больше, чем хрома, никеля, свинца, цинка и даже меди. Однако минералы, богатые элементом №23, встречаются редко. Соединения ванадия рассеиваются в земной коре водой; они более растворимы, чем природные соединения других металлов, расположенных в правой половине менделеевской таблицы, и перемещаются в горных породах на значительные расстояния. Ванадий накапливается в некоторых рудах и других металлов – свинца, меди, цинка, урана, а также в угле, нефти, сланцах. Один из немецких заводов, например, получал от сжигания венесуэльской нефти золу, которая содержала до 10% ванадия. Некоторое время зола из топок, сжигавших эту нефть, была исходным сырьем для получения ванадия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анадий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долгое время не пользовался вниманием диетологов. Но недавние исследования доказали, что в сочетании с другими веществами он замедляет старение и стимулирует работу клеток, убивающих болезнетворные бактерии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анадий содержится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 неочищенном рисе, цельном овсе, редисе, ячмене, пшенице, ржи, гречневой крупе, салате, сыром картофеле, моркови, свекле, вишне, землянике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Йод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Стрелка вправо 3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3"/>
          <a:stretch/>
        </p:blipFill>
        <p:spPr>
          <a:xfrm>
            <a:off x="285840" y="571680"/>
            <a:ext cx="342720" cy="66672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5"/>
          <p:cNvSpPr/>
          <p:nvPr/>
        </p:nvSpPr>
        <p:spPr>
          <a:xfrm>
            <a:off x="285840" y="1357200"/>
            <a:ext cx="864396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держание в земной коре: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Иод – элемент достаточно редкий. Его кларк (содержание в земной коре в весовых процентах) – всего 4·10</a:t>
            </a:r>
            <a:r>
              <a:rPr b="0" lang="ru-RU" sz="1400" spc="-1" strike="noStrike" baseline="30000">
                <a:solidFill>
                  <a:srgbClr val="003300"/>
                </a:solidFill>
                <a:latin typeface="Arial"/>
              </a:rPr>
              <a:t>–5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%. Его меньше, чем самых труднодоступных элементов семейства лантаноидов – тулия и лютеция. Есть у иода одна особенность, роднящая его с «редкими землями», – крайняя рассеянность в природе. Будучи далеко не самым распространенным элементом, иод присутствует буквально везде. Даже в сверхчистых, казалось бы, кристаллах горного хрусталя находят микропримеси иода. В прозрачных кальцитах содержание элемента №53 достигает 5·10</a:t>
            </a:r>
            <a:r>
              <a:rPr b="0" lang="ru-RU" sz="1400" spc="-1" strike="noStrike" baseline="30000">
                <a:solidFill>
                  <a:srgbClr val="003300"/>
                </a:solidFill>
                <a:latin typeface="Arial"/>
              </a:rPr>
              <a:t>–6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%. Иод есть в почве, в морской и речной воде, в растительных клетках и организмах животных. А вот минералов, богатых иодом, очень мало. Наиболее известный из них – лаутарит . Но промышленных месторождений лаутарита на Земле нет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Йод необходим для полноценной деятельности щитовидной железы, стимулирует работу клеток-фагоцитов, усиливает окислительные процессы, используется для профилактики атеросклероза. При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избыточном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потреблении йода и его солей может развиться повышенная чувствительность к нему, аллергическая реакция в виде насморка, высыпаний на коже, слезотечения, отечности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Йод содержится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 морепродуктах, а также растениях, выращенных на почвах, богатых йодом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Железо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Стрелка вправо 3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Прямоугольник 4"/>
          <p:cNvSpPr/>
          <p:nvPr/>
        </p:nvSpPr>
        <p:spPr>
          <a:xfrm>
            <a:off x="142920" y="1500120"/>
            <a:ext cx="8715240" cy="43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держание в земной коре: 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 чистом виде встречается довольно редко, Крупное скопление самородного железа было найдено на южном берегу острова Диско у берегов Гренландии. Оно залегало здесь в извергнутом через пласты каменного угля базальте в виде блесток, зерен и иногда мощных глыб. Так же чистого железа много в метеоритах. В отличие от метеоритного железа, всегда содержащего сравнительно много никеля, самородное железо содержит не более 2% никеля, иногда до 0,3% кобальта, около 0,4% меди и до 0,1% платины. Обычно оно исключительно бедно углеродом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ействие на организм: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Железо входит в состав гемоглобина и красных кровяных телец, а также различных ферментов печени и селезенки. Стимулирует функцию кроветворения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Недостаток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железа проявляется в виде слабости, утомляемости, «мушек» передглазами, сердцебиения и одышки, ломкости ногтей, бледности кожи, снижения иммунитета.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Избыточное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поступление железа с пищей грозит выведением из организма фосфора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сточниками железа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 пищевом рационе являются печень, язык, мясо кролика, индейки, крупы, черника, персики, икра осетровых. Много железа в говядине, баранине, айве, хурме, грушах, яблоках, оливах, абрикосах, шпинате, икре лососевых, помидорах, свекле, капусте, редисе, моркови, арбузах, крыжовнике, вишне, черной смородине, клубнике, черешне, малине, землянике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Кобальт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Стрелка вправо 3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3"/>
          <a:stretch/>
        </p:blipFill>
        <p:spPr>
          <a:xfrm>
            <a:off x="214200" y="642960"/>
            <a:ext cx="111456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357120" y="2000160"/>
            <a:ext cx="86439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держание в земной коре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Кобальт элемент достаточно редкий, 1,8∙10</a:t>
            </a:r>
            <a:r>
              <a:rPr b="0" lang="ru-RU" sz="1400" spc="-1" strike="noStrike" baseline="30000">
                <a:solidFill>
                  <a:srgbClr val="003300"/>
                </a:solidFill>
                <a:latin typeface="Arial"/>
              </a:rPr>
              <a:t>-30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% от массы земной коры. В природе чаще всего он встречается в соединениях серы и  мышьяком. Важнейшие минералы – кобальтовый колчедан, кобальтовый блеск, скуттерудит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ействие на организм:</a:t>
            </a:r>
            <a:r>
              <a:rPr b="1" lang="ru-RU" sz="11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Кобальт входит в состав витаминов В12, В4, В8, ПАБК, помогает железу всасываться и участвовать в образовании гемоглобина, стимулирует кроветворные процессы, способствует накоплению про запас в тканях организма витаминов Вз, А, С, К. Кобальт влияет на синтез мышечных белков, регулирует активность различных ферментов, содержание в крови адреналина. Известно, что кобальт с другими микроэлементами предупреждает раннюю седину, улучшает состояние волос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Кобальт содержится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в печени, почках, рыбе, молоке, бобовых, крупах, крыжовнике, черной смородине, малине, петрушке, свекле, грушах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Кремний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Стрелка вправо 3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10" name="Picture 1" descr=""/>
          <p:cNvPicPr/>
          <p:nvPr/>
        </p:nvPicPr>
        <p:blipFill>
          <a:blip r:embed="rId3"/>
          <a:stretch/>
        </p:blipFill>
        <p:spPr>
          <a:xfrm>
            <a:off x="285840" y="642960"/>
            <a:ext cx="78084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5"/>
          <p:cNvSpPr/>
          <p:nvPr/>
        </p:nvSpPr>
        <p:spPr>
          <a:xfrm>
            <a:off x="214200" y="1500120"/>
            <a:ext cx="871560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Содержание в земной коре: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Во всех природных соединениях кремний связан с кислородом. На долю кремнезема (во всех его разновидностях) приходится около 12% массы земной коры. Намного больше доля силикатов и алюмосиликатов: 75% массы земной коры составлено из этих соединений кремния, кислорода и других элементов, в первую очередь алюминия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Кремний независимо от витамина О способствует росту молодого организма, оказывает положительное воздействие на работу сердца, костей, зубов, ногтей, волос, является важной составляющей соединительной ткани, укрепляет мелкие сосуды, препятствует преждевременному старению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Источниками кремния являются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овсяные хлопья, черный хлеб, отруби, сельдерей, пук-порей, кислое молоко, редис, семена подсолнуха, помидоры, репа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Литий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Стрелка вправо 3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15" name="Picture 1" descr=""/>
          <p:cNvPicPr/>
          <p:nvPr/>
        </p:nvPicPr>
        <p:blipFill>
          <a:blip r:embed="rId3"/>
          <a:stretch/>
        </p:blipFill>
        <p:spPr>
          <a:xfrm>
            <a:off x="285840" y="642960"/>
            <a:ext cx="780840" cy="66672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5"/>
          <p:cNvSpPr/>
          <p:nvPr/>
        </p:nvSpPr>
        <p:spPr>
          <a:xfrm>
            <a:off x="142920" y="1571760"/>
            <a:ext cx="871524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держание в земной коре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Когда-то давным-давно, в доисторические времена, происходил синтез элементов Вселенной. Несколько позже, но тоже в неопределенно далеком прошлом шли процессы формирования нашей планеты. На этой стадии литий проник более чем в 150 минералов, из них около 30 стали собственными минералами лития. Промышленное значение приобрели только пять: сподумен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лепидолит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петалит – минерал, в котором литий обнаружен впервые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амблигонит  и циннвальдит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Географически промышленные запасы элемента №3 распределились довольно равномерно: промышленные месторождения минералов лития есть на всех континентах. Важнейшие из них находятся в Канаде, США, России, Испании, Швеции, Бразилии, Австралии, а также в странах Южной Африки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Литий оказывает успокаивающее действие на нервную систему, выводит соли из суставов, участвует в обмене веществ.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Избыток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лития в организме может вызвать нарушения в обмене веществ и повреждения в суставах в связи с избыточным выведением из них солей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Литий содержится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в морской и каменной соли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Марганец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Стрелка вправо 3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20" name="Picture 1" descr=""/>
          <p:cNvPicPr/>
          <p:nvPr/>
        </p:nvPicPr>
        <p:blipFill>
          <a:blip r:embed="rId3"/>
          <a:stretch/>
        </p:blipFill>
        <p:spPr>
          <a:xfrm>
            <a:off x="285840" y="642960"/>
            <a:ext cx="1371600" cy="6667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5"/>
          <p:cNvSpPr/>
          <p:nvPr/>
        </p:nvSpPr>
        <p:spPr>
          <a:xfrm>
            <a:off x="142920" y="1428840"/>
            <a:ext cx="8786880" cy="43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держание в земной коре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 чистом виде марганец в природе не встречается. В рудах он присутствует в виде окислов, гидроокисей и карбонатов. Основной минерал, содержащий марганец, – это вес тот же пиролюзит, относительно мягкий темно-серый камень. В нем 63,2% марганца. Есть и другие марганцевые руды: псиломелан, браунит, гаусманит, манганит. Все это окислы и силикаты элемента №25. Валентность марганца в них равна 2, 3 и 4. Есть еще один потенциальный источник элемента №25 – конкреции, залегающие на дне океанов  аккумулирующие марганец и другие металлы. Но о них разговор особый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Марганец входит в состав ряда ферментов, повышает усвояемость витаминов В1, В4, Е, железа и меди, стимулирует окислительно-восстановительные процессы, снижает уровень холестерина, препятствует атеросклерозу и ожирению, благотворно влияет на процессы роста и кроветворения, повышает защитные свойства организма, помогает справиться с токсинами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сточниками марганца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являются пшеница, рожь, овес, ячмень, рис, пшено, бобовые, петрушка, укроп, свекла, тыква, шпинат, клюква, малина, черная смородина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Медь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Стрелка вправо 3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25" name="Picture 1" descr=""/>
          <p:cNvPicPr/>
          <p:nvPr/>
        </p:nvPicPr>
        <p:blipFill>
          <a:blip r:embed="rId3"/>
          <a:stretch/>
        </p:blipFill>
        <p:spPr>
          <a:xfrm>
            <a:off x="223920" y="582480"/>
            <a:ext cx="116208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5"/>
          <p:cNvSpPr/>
          <p:nvPr/>
        </p:nvSpPr>
        <p:spPr>
          <a:xfrm>
            <a:off x="142920" y="1357200"/>
            <a:ext cx="88581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Содержание в земной коре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Содержание меди в земной коре сравнительно невелико – 0,007%. Это в 1000 раз меньше, чем алюминия, в 600 раз меньше, чем железа. Однако медь входит в состав 200 минералов. Многие из них отличаются яркой и красивой окраской. Борнит Cu</a:t>
            </a:r>
            <a:r>
              <a:rPr b="0" lang="en-US" sz="1400" spc="-1" strike="noStrike" baseline="-25000">
                <a:solidFill>
                  <a:srgbClr val="0033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FeS</a:t>
            </a:r>
            <a:r>
              <a:rPr b="0" lang="en-US" sz="14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и лазурит Сu</a:t>
            </a:r>
            <a:r>
              <a:rPr b="0" lang="en-US" sz="14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(OH)</a:t>
            </a:r>
            <a:r>
              <a:rPr b="0" lang="en-US" sz="14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r>
              <a:rPr b="0" lang="en-US" sz="14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синего цвета, халькопирит CuFeS</a:t>
            </a:r>
            <a:r>
              <a:rPr b="0" lang="en-US" sz="14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золотистого, а темно-зеленые громадные вазы из малахита Сu</a:t>
            </a:r>
            <a:r>
              <a:rPr b="0" lang="en-US" sz="14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(OH)</a:t>
            </a:r>
            <a:r>
              <a:rPr b="0" lang="en-US" sz="14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r>
              <a:rPr b="0" lang="en-US" sz="14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и убранство знаменитого «малахитового зала» помнит каждый, кто хоть раз побывал в ленинградском Эрмитаже. Главные источники меди – сульфидные руды и медистые песчаники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Медь стимулирует кроветворение, способствует росту организма, принимает участие в построении и восстановлении костей, способствует повышению активности некоторых гормонов, увеличивает защитные силы организма, препятствует воспалительным процессам, способствует быстрому заживлению тканей. 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Богаты медью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шоколад, фундук, овсяная У гречневая крупа, горох» фасоль, печень, кальмары, твердые сыры,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Молибден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Стрелка вправо 3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30" name="Picture 1" descr=""/>
          <p:cNvPicPr/>
          <p:nvPr/>
        </p:nvPicPr>
        <p:blipFill>
          <a:blip r:embed="rId3"/>
          <a:stretch/>
        </p:blipFill>
        <p:spPr>
          <a:xfrm>
            <a:off x="214200" y="571680"/>
            <a:ext cx="1343160" cy="6760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5"/>
          <p:cNvSpPr/>
          <p:nvPr/>
        </p:nvSpPr>
        <p:spPr>
          <a:xfrm>
            <a:off x="285840" y="1428840"/>
            <a:ext cx="86439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держание в земной коре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По классификации советского геохимика В.В. Щербины, редкими считаются элементы, которых в земной коре меньше 0,001%. Следовательно, молибден, доля которого как раз 0,001% (по Ферсману), – элемент не редкий. Есть у него и собственные минералы, имеющие промышленное значение (молибденит MoS</a:t>
            </a:r>
            <a:r>
              <a:rPr b="0" lang="ru-RU" sz="14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– важнейший из всех, повеллит СаМоС</a:t>
            </a:r>
            <a:r>
              <a:rPr b="0" lang="ru-RU" sz="14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, молибдит Fе</a:t>
            </a:r>
            <a:r>
              <a:rPr b="0" lang="ru-RU" sz="14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(МoO</a:t>
            </a:r>
            <a:r>
              <a:rPr b="0" lang="ru-RU" sz="14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0" lang="ru-RU" sz="14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· nН</a:t>
            </a:r>
            <a:r>
              <a:rPr b="0" lang="ru-RU" sz="14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О и вульфенит РbМоO</a:t>
            </a:r>
            <a:r>
              <a:rPr b="0" lang="ru-RU" sz="14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). Следовательно, не относится он и к числу рассеянных элементов. Всего известно около 20 минералов молибдена. 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ействие на организм: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Молибден (Мо) входит в состав некоторых очень важных для организма ферментов.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Избыток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молибдена приводит к увеличению мочевой кислоты и подагре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Молибден содержится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 бобовых, печени, салате, зерновых культурах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Мышьяк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Стрелка вправо 3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3"/>
          <a:stretch/>
        </p:blipFill>
        <p:spPr>
          <a:xfrm>
            <a:off x="214200" y="571680"/>
            <a:ext cx="1086120" cy="67608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5"/>
          <p:cNvSpPr/>
          <p:nvPr/>
        </p:nvSpPr>
        <p:spPr>
          <a:xfrm>
            <a:off x="357120" y="1857240"/>
            <a:ext cx="82868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Содержание в земной коре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Содержание мышьяка в земной коре всего 0,0005%, но этот элемент достаточно активен, и потому минералов, в состав которых входит мышьяк, свыше 120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мышьяк препятствует потере фосфора, является противоядием при отравлении организма селеном, помогает при некоторых формах аллергии.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ри превышении нормы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- сильнейший токсин, в больших дозах - смертельный яд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Мышьяк встречается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во всех продуктах, кроме сахара-рафинада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489" r="0" b="1779"/>
          <a:stretch/>
        </p:blipFill>
        <p:spPr>
          <a:xfrm>
            <a:off x="0" y="692280"/>
            <a:ext cx="9144000" cy="54007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>
            <a:hlinkClick r:id="rId2" action="ppaction://hlinksldjump"/>
          </p:cNvPr>
          <p:cNvSpPr/>
          <p:nvPr/>
        </p:nvSpPr>
        <p:spPr>
          <a:xfrm>
            <a:off x="1440000" y="1998720"/>
            <a:ext cx="601560" cy="2966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Прямоугольник 15"/>
          <p:cNvSpPr/>
          <p:nvPr/>
        </p:nvSpPr>
        <p:spPr>
          <a:xfrm>
            <a:off x="214200" y="179280"/>
            <a:ext cx="633600" cy="3333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928800" y="2142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Макроэлементы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Прямоугольник 23">
            <a:hlinkClick r:id="rId3" action="ppaction://hlinksldjump"/>
          </p:cNvPr>
          <p:cNvSpPr/>
          <p:nvPr/>
        </p:nvSpPr>
        <p:spPr>
          <a:xfrm>
            <a:off x="803160" y="1677960"/>
            <a:ext cx="601920" cy="28404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Прямоугольник 33"/>
          <p:cNvSpPr/>
          <p:nvPr/>
        </p:nvSpPr>
        <p:spPr>
          <a:xfrm>
            <a:off x="3214800" y="179280"/>
            <a:ext cx="633240" cy="33336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TextBox 34"/>
          <p:cNvSpPr/>
          <p:nvPr/>
        </p:nvSpPr>
        <p:spPr>
          <a:xfrm>
            <a:off x="4000680" y="20160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Микроэлементы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Прямоугольник 36">
            <a:hlinkClick r:id="rId4" action="ppaction://hlinksldjump"/>
          </p:cNvPr>
          <p:cNvSpPr/>
          <p:nvPr/>
        </p:nvSpPr>
        <p:spPr>
          <a:xfrm>
            <a:off x="803160" y="1998720"/>
            <a:ext cx="600120" cy="2966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Прямоугольник 40">
            <a:hlinkClick r:id="rId5" action="ppaction://hlinksldjump"/>
          </p:cNvPr>
          <p:cNvSpPr/>
          <p:nvPr/>
        </p:nvSpPr>
        <p:spPr>
          <a:xfrm>
            <a:off x="1440000" y="2322360"/>
            <a:ext cx="601560" cy="293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Прямоугольник 42">
            <a:hlinkClick r:id="rId6" action="ppaction://hlinksldjump"/>
          </p:cNvPr>
          <p:cNvSpPr/>
          <p:nvPr/>
        </p:nvSpPr>
        <p:spPr>
          <a:xfrm>
            <a:off x="803160" y="2322360"/>
            <a:ext cx="600120" cy="293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Прямоугольник 43">
            <a:hlinkClick r:id="rId7" action="ppaction://hlinksldjump"/>
          </p:cNvPr>
          <p:cNvSpPr/>
          <p:nvPr/>
        </p:nvSpPr>
        <p:spPr>
          <a:xfrm>
            <a:off x="803160" y="2646360"/>
            <a:ext cx="606600" cy="29988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Прямоугольник 44">
            <a:hlinkClick r:id="rId8" action="ppaction://hlinksldjump"/>
          </p:cNvPr>
          <p:cNvSpPr/>
          <p:nvPr/>
        </p:nvSpPr>
        <p:spPr>
          <a:xfrm>
            <a:off x="1440000" y="2646360"/>
            <a:ext cx="608040" cy="29988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Прямоугольник 45">
            <a:hlinkClick r:id="rId9" action="ppaction://hlinksldjump"/>
          </p:cNvPr>
          <p:cNvSpPr/>
          <p:nvPr/>
        </p:nvSpPr>
        <p:spPr>
          <a:xfrm>
            <a:off x="2706840" y="1998720"/>
            <a:ext cx="601560" cy="29196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Прямоугольник 47">
            <a:hlinkClick r:id="rId10" action="ppaction://hlinksldjump"/>
          </p:cNvPr>
          <p:cNvSpPr/>
          <p:nvPr/>
        </p:nvSpPr>
        <p:spPr>
          <a:xfrm>
            <a:off x="3348000" y="1998720"/>
            <a:ext cx="600120" cy="2966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Прямоугольник 48">
            <a:hlinkClick r:id="rId11" action="ppaction://hlinksldjump"/>
          </p:cNvPr>
          <p:cNvSpPr/>
          <p:nvPr/>
        </p:nvSpPr>
        <p:spPr>
          <a:xfrm>
            <a:off x="3348000" y="2322360"/>
            <a:ext cx="601560" cy="28908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Прямоугольник 49">
            <a:hlinkClick r:id="rId12" action="ppaction://hlinksldjump"/>
          </p:cNvPr>
          <p:cNvSpPr/>
          <p:nvPr/>
        </p:nvSpPr>
        <p:spPr>
          <a:xfrm>
            <a:off x="3348000" y="2646360"/>
            <a:ext cx="608040" cy="29988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Прямоугольник 51">
            <a:hlinkClick r:id="rId13" action="ppaction://hlinksldjump"/>
          </p:cNvPr>
          <p:cNvSpPr/>
          <p:nvPr/>
        </p:nvSpPr>
        <p:spPr>
          <a:xfrm>
            <a:off x="3978360" y="1998720"/>
            <a:ext cx="600120" cy="2966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Прямоугольник 52">
            <a:hlinkClick r:id="rId14" action="ppaction://hlinksldjump"/>
          </p:cNvPr>
          <p:cNvSpPr/>
          <p:nvPr/>
        </p:nvSpPr>
        <p:spPr>
          <a:xfrm>
            <a:off x="3978360" y="2322360"/>
            <a:ext cx="601560" cy="28908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Прямоугольник 53">
            <a:hlinkClick r:id="rId15" action="ppaction://hlinksldjump"/>
          </p:cNvPr>
          <p:cNvSpPr/>
          <p:nvPr/>
        </p:nvSpPr>
        <p:spPr>
          <a:xfrm>
            <a:off x="3978360" y="2646360"/>
            <a:ext cx="608040" cy="29196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Прямоугольник 54">
            <a:hlinkClick r:id="rId16" action="ppaction://hlinksldjump"/>
          </p:cNvPr>
          <p:cNvSpPr/>
          <p:nvPr/>
        </p:nvSpPr>
        <p:spPr>
          <a:xfrm>
            <a:off x="3959280" y="2970360"/>
            <a:ext cx="627120" cy="30636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Прямоугольник 55">
            <a:hlinkClick r:id="rId17" action="ppaction://hlinksldjump"/>
          </p:cNvPr>
          <p:cNvSpPr/>
          <p:nvPr/>
        </p:nvSpPr>
        <p:spPr>
          <a:xfrm>
            <a:off x="4589640" y="3294000"/>
            <a:ext cx="620640" cy="32220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Прямоугольник 57">
            <a:hlinkClick r:id="rId18" action="ppaction://hlinksldjump"/>
          </p:cNvPr>
          <p:cNvSpPr/>
          <p:nvPr/>
        </p:nvSpPr>
        <p:spPr>
          <a:xfrm>
            <a:off x="4608360" y="1998720"/>
            <a:ext cx="613080" cy="2966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Прямоугольник 56">
            <a:hlinkClick r:id="rId19" action="ppaction://hlinksldjump"/>
          </p:cNvPr>
          <p:cNvSpPr/>
          <p:nvPr/>
        </p:nvSpPr>
        <p:spPr>
          <a:xfrm>
            <a:off x="4608360" y="2322360"/>
            <a:ext cx="613080" cy="29556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Прямоугольник 58">
            <a:hlinkClick r:id="rId20" action="ppaction://hlinksldjump"/>
          </p:cNvPr>
          <p:cNvSpPr/>
          <p:nvPr/>
        </p:nvSpPr>
        <p:spPr>
          <a:xfrm>
            <a:off x="4608360" y="1677960"/>
            <a:ext cx="601920" cy="28404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Прямоугольник 60">
            <a:hlinkClick r:id="rId21" action="ppaction://hlinksldjump"/>
          </p:cNvPr>
          <p:cNvSpPr/>
          <p:nvPr/>
        </p:nvSpPr>
        <p:spPr>
          <a:xfrm>
            <a:off x="5256360" y="2322360"/>
            <a:ext cx="650880" cy="29556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Прямоугольник 61">
            <a:hlinkClick r:id="rId22" action="ppaction://hlinksldjump"/>
          </p:cNvPr>
          <p:cNvSpPr/>
          <p:nvPr/>
        </p:nvSpPr>
        <p:spPr>
          <a:xfrm>
            <a:off x="5929200" y="2322360"/>
            <a:ext cx="619200" cy="29556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Прямоугольник 38">
            <a:hlinkClick r:id="rId23" action="ppaction://hlinksldjump"/>
          </p:cNvPr>
          <p:cNvSpPr/>
          <p:nvPr/>
        </p:nvSpPr>
        <p:spPr>
          <a:xfrm>
            <a:off x="2706840" y="1677960"/>
            <a:ext cx="599760" cy="297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Прямоугольник 39">
            <a:hlinkClick r:id="rId24" action="ppaction://hlinksldjump"/>
          </p:cNvPr>
          <p:cNvSpPr/>
          <p:nvPr/>
        </p:nvSpPr>
        <p:spPr>
          <a:xfrm>
            <a:off x="3348000" y="1677960"/>
            <a:ext cx="600120" cy="297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Прямоугольник 41">
            <a:hlinkClick r:id="rId25" action="ppaction://hlinksldjump"/>
          </p:cNvPr>
          <p:cNvSpPr/>
          <p:nvPr/>
        </p:nvSpPr>
        <p:spPr>
          <a:xfrm>
            <a:off x="3978360" y="1677960"/>
            <a:ext cx="600120" cy="3049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Прямоугольник 62">
            <a:hlinkClick r:id="rId26" action="ppaction://hlinksldjump"/>
          </p:cNvPr>
          <p:cNvSpPr/>
          <p:nvPr/>
        </p:nvSpPr>
        <p:spPr>
          <a:xfrm>
            <a:off x="4608360" y="1332000"/>
            <a:ext cx="600120" cy="3063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Прямоугольник 33"/>
          <p:cNvSpPr/>
          <p:nvPr/>
        </p:nvSpPr>
        <p:spPr>
          <a:xfrm>
            <a:off x="6072120" y="179280"/>
            <a:ext cx="633600" cy="333360"/>
          </a:xfrm>
          <a:prstGeom prst="rect">
            <a:avLst/>
          </a:prstGeom>
          <a:noFill/>
          <a:ln w="38160">
            <a:solidFill>
              <a:srgbClr val="85f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TextBox 34"/>
          <p:cNvSpPr/>
          <p:nvPr/>
        </p:nvSpPr>
        <p:spPr>
          <a:xfrm>
            <a:off x="6715080" y="14292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Радиоактивные элементы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Прямоугольник 46">
            <a:hlinkClick r:id="rId27" action="ppaction://hlinksldjump"/>
          </p:cNvPr>
          <p:cNvSpPr/>
          <p:nvPr/>
        </p:nvSpPr>
        <p:spPr>
          <a:xfrm>
            <a:off x="1440000" y="4286160"/>
            <a:ext cx="608040" cy="300240"/>
          </a:xfrm>
          <a:prstGeom prst="rect">
            <a:avLst/>
          </a:prstGeom>
          <a:noFill/>
          <a:ln w="38160">
            <a:solidFill>
              <a:srgbClr val="85f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Прямоугольник 67">
            <a:hlinkClick r:id="rId28" action="ppaction://hlinksldjump"/>
          </p:cNvPr>
          <p:cNvSpPr/>
          <p:nvPr/>
        </p:nvSpPr>
        <p:spPr>
          <a:xfrm>
            <a:off x="1440000" y="5715000"/>
            <a:ext cx="608040" cy="299880"/>
          </a:xfrm>
          <a:prstGeom prst="rect">
            <a:avLst/>
          </a:prstGeom>
          <a:noFill/>
          <a:ln w="38160">
            <a:solidFill>
              <a:srgbClr val="85f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Прямоугольник 68">
            <a:hlinkClick r:id="rId29" action="ppaction://hlinksldjump"/>
          </p:cNvPr>
          <p:cNvSpPr/>
          <p:nvPr/>
        </p:nvSpPr>
        <p:spPr>
          <a:xfrm>
            <a:off x="3959280" y="3959280"/>
            <a:ext cx="627120" cy="299880"/>
          </a:xfrm>
          <a:prstGeom prst="rect">
            <a:avLst/>
          </a:prstGeom>
          <a:noFill/>
          <a:ln w="38160">
            <a:solidFill>
              <a:srgbClr val="85f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Прямоугольник 69">
            <a:hlinkClick r:id="rId30" action="ppaction://hlinksldjump"/>
          </p:cNvPr>
          <p:cNvSpPr/>
          <p:nvPr/>
        </p:nvSpPr>
        <p:spPr>
          <a:xfrm>
            <a:off x="2706840" y="5715000"/>
            <a:ext cx="608040" cy="299880"/>
          </a:xfrm>
          <a:prstGeom prst="rect">
            <a:avLst/>
          </a:prstGeom>
          <a:noFill/>
          <a:ln w="38160">
            <a:solidFill>
              <a:srgbClr val="85f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Селен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Стрелка вправо 3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40" name="Picture 1" descr=""/>
          <p:cNvPicPr/>
          <p:nvPr/>
        </p:nvPicPr>
        <p:blipFill>
          <a:blip r:embed="rId3"/>
          <a:stretch/>
        </p:blipFill>
        <p:spPr>
          <a:xfrm>
            <a:off x="285840" y="571680"/>
            <a:ext cx="95256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5"/>
          <p:cNvSpPr/>
          <p:nvPr/>
        </p:nvSpPr>
        <p:spPr>
          <a:xfrm>
            <a:off x="285840" y="1582560"/>
            <a:ext cx="857232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держание в земной коре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Селен принадлежит к числу довольно редких элементов. Распространенность его в земной коре – 5·10</a:t>
            </a:r>
            <a:r>
              <a:rPr b="0" lang="ru-RU" sz="1400" spc="-1" strike="noStrike" baseline="30000">
                <a:solidFill>
                  <a:srgbClr val="003300"/>
                </a:solidFill>
                <a:latin typeface="Arial"/>
              </a:rPr>
              <a:t>–6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%. Иногда, крайне редко, он встречается в виде самородков. Редки и его собственные минералы: науманнит  Ag</a:t>
            </a:r>
            <a:r>
              <a:rPr b="0" lang="ru-RU" sz="14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Se, клаусталит  PbSe, берцелианит Cu</a:t>
            </a:r>
            <a:r>
              <a:rPr b="0" lang="ru-RU" sz="14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Se (названный так в честь первооткрывателя селена). А известный минерал селенит, название которого, казалось бы, явно указывает на то, что этот минерал селенсодержащий, вообще лишен селена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Селен необходим для работы сердца и кровеносных сосудов, повышает сопротивляемость вирусам, активизирует витамины Е и С.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При превышении нормы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начинается выпадение волос и зубов повреждение ногтей, воспаление желудочно-кишечного тракта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 больших  дозах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ызывает отравление.  Селен встречается в растительной пище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Фтор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Стрелка вправо 3"/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45" name="Picture 1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542880" cy="66672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5"/>
          <p:cNvSpPr/>
          <p:nvPr/>
        </p:nvSpPr>
        <p:spPr>
          <a:xfrm>
            <a:off x="214200" y="1500120"/>
            <a:ext cx="871560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Содержание в земной коре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Среднее содержание фтора в почвах равнин 0,02%. В каждом литре морской воды 0,3 мг фтора. В раковинах устриц его в 20 раз больше. В коралловых рифах заключены миллионы тонн фторидов. Среднее содержание фтора в живых организмах в 200 раз меньше, чем в земной коре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Фтор очень важен для построения костной ткани, формирования зубной эмали и дентина.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Избыток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фтора приводит к заболеванию зубов, нарушению процессов образования костей,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в больших количествах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фтор смертельно опасен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Источниками фтора являются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морепродукты (рыба, креветки, кальмары, мидии), чай, хлеб из муки грубого помола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Хром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Стрелка вправо 3"/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50" name="Picture 1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100944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5"/>
          <p:cNvSpPr/>
          <p:nvPr/>
        </p:nvSpPr>
        <p:spPr>
          <a:xfrm>
            <a:off x="142920" y="1428840"/>
            <a:ext cx="871524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держание в земной коре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 земной коре хрома довольно много – 0,02%. Основной минерал, из которого промышленность получает хром, – это хромовая шпинель переменного состава с общей формулой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(Mg, Fe)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О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· (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r, Al, F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е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0" lang="en-US" sz="14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O</a:t>
            </a:r>
            <a:r>
              <a:rPr b="0" lang="en-US" sz="14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. Хромовая руда носит название хромитов или хромистого железняка (потому, что почти всегда содержит и железо). Залежи хромовых руд есть во многих местах. Наша страна обладает огромными запасами хромитов. Одно из самых больших месторождений находится в Казахстане, в районе Актюбинска; оно открыто в 1936 г. Значительные запасы хромовых руд есть и на Урале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ействие на организм: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Хром участвует в белковом и углеводном обмене, регулирует уровень холестерина и сахара в крови.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Избыток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хрома в питании и окружающей среде может привести к раковым заболеваниям, астме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Хром содержится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 овощах, бобовых, крупах, хлебе из муки грубого помола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Цинк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Стрелка вправо 3"/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55" name="Picture 1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1076400" cy="6667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5"/>
          <p:cNvSpPr/>
          <p:nvPr/>
        </p:nvSpPr>
        <p:spPr>
          <a:xfrm>
            <a:off x="142920" y="1571760"/>
            <a:ext cx="87868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держание в земной коре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чисто цинковые руды в природе почти, но встречаются. Соединения цинка (обычно 1...5% в пересчете на металл) входят в состав полиметаллических руд. Полученные при обогащении руды цинковые концентраты содержат 48...65% Zn, до 2% меди, до 2% свинца, до 12% железа. И плюс доли процента рассеянных и редких металлов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Цинк входит в состав многих ферментов, участвует в синтезе белков, в построении костной ткани, является составной частью инсулина, стимулирует образование гемоглобина и эритроцитов, способствует усвоению ретинола (витамина А) и заживлению ран, а также нормальному половому развитию, препятствует ожирению, огрублению кожи, возникновению угревой сыпи, проявляет антивирусное и антитоксичное действие на клетки, повышает иммунитет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Богаты цинком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дрожжи, печень, почки, легкие, говядина, рыба, грибы, яйца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Водород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Стрелка вправо 3"/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60" name="Picture 1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733320" cy="6667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5"/>
          <p:cNvSpPr/>
          <p:nvPr/>
        </p:nvSpPr>
        <p:spPr>
          <a:xfrm>
            <a:off x="71280" y="1357200"/>
            <a:ext cx="892980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держание в природе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На долю водорода на Земле, включая воду и воздух, приходится около 1% по массе. Сейчас в земной коре из каждых 100 атомов 17 – это атомы водорода. Но свободного водорода на Земле практически не существует: он входит в состав воды, минералов, угля, нефти, живых существ... Только вулканические газы иногда содержат немного водорода, который в результате диффузии рассеивается в атмосфере. А так как средняя скорость теплового движения молекул водорода из-за их малой массы очень велика – она близка ко второй космической скорости, – то из слоев атмосферы эти молекулы улетают в космическое пространство. Известны изотопы водорода, имеющие более тяжёлое ядро: дейтерий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, у которого ядро имеет массу 2, тритий Т с массой ядра 3. Природный водород содержит всего 0,0156% дейтерия, содержание трития значительно меньше – на 10</a:t>
            </a:r>
            <a:r>
              <a:rPr b="0" lang="ru-RU" sz="1400" spc="-1" strike="noStrike" baseline="30000">
                <a:solidFill>
                  <a:srgbClr val="003300"/>
                </a:solidFill>
                <a:latin typeface="Arial"/>
              </a:rPr>
              <a:t>-17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атомов водорода приходится только один атом трития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н входит в состав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всех растений и животных, а так же самого распространенного на Земле вещества – воды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Углерод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Стрелка вправо 3"/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65" name="Picture 1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63792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5"/>
          <p:cNvSpPr/>
          <p:nvPr/>
        </p:nvSpPr>
        <p:spPr>
          <a:xfrm>
            <a:off x="142920" y="1285920"/>
            <a:ext cx="885816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Содержание в земной коре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По распространенности в земной коре – твердой оболочке на глубине до 16 км и в атмосфере на высоте до 15 км углерод занимает одиннадцатое место. Одиннадцатый он и по распространенности в атмосфере Солнца. А вообще в космосе углерода довольно много. Советские космические станции «Венера-4», «Венера-5» и «Венера-6» установили, что атмосфера утренней звезды состоит преимущественно из углекислого газа. Этот газ преобладает и в атмосфере Марса. А вот в атмосферах Сатурна, Юпитера, Урана и Нептуна наряду с аммиаком доминирует иное соединение углерода – метан. Углерод обнаружен в составе метеоритов и комет. С помощью спектроскопических наблюдений углерод найден и на далеких звездах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Жизнь на нашей планете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построена на углеродной основе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Кислород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Стрелка вправо 3"/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73332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5"/>
          <p:cNvSpPr/>
          <p:nvPr/>
        </p:nvSpPr>
        <p:spPr>
          <a:xfrm>
            <a:off x="214200" y="1428840"/>
            <a:ext cx="864396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Содержание в земной коре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Кислород – вездесущ: из него в значительной степени состоят не только воздух, вода и земля, но и мы с вами, наши еда, питье, одежда; в подавляющем большинстве окружающих нас веществ есть кислород. Природный кислород состоит из трех изотопов с. массовыми числами 16, 17 и 18. Преобладает самый легкий изотоп 16О: на каждые 3150 атомов этого изотопа приходится лишь пять атомов 18О и один атом 17О. Это не значит, конечно, что тяжелые изотопы кислорода бесполезны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Кислород необходим для дыхания, он участвует во всех окислительно-восстановительных процессах организма, он входит в состав подавляющего большинства жизненно важных органических и неорганических соединений (вода, белки, жиры, углеводы и т. д.)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Основная доля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кислорода поступает в организм в результате дыхания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Азот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Стрелка вправо 3"/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214200" y="642960"/>
            <a:ext cx="752760" cy="66672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5"/>
          <p:cNvSpPr/>
          <p:nvPr/>
        </p:nvSpPr>
        <p:spPr>
          <a:xfrm>
            <a:off x="214200" y="1411200"/>
            <a:ext cx="885852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Содержание в земной коре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Жизнь многим обязана азоту, но и азот, по крайней мере атмосферный, своим происхождением обязан не столько Солнцу, сколько жизненным процессам. Поразительно несоответствие между содержанием элемента №7 в литосфере (0,01%) и в атмосфере (75,6% по массе или 78,09% по объему). В общем-то, мы обитаем в азотной атмосфере, умеренно обогащенной кислородом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Азот входит в состав бесчисленного множества органических соединений, в том числе таких жизненно важных, как белки и аминокислоты. На долю азота приходится около 3% от массы человеческого организма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Азот содержится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в растительных и животных белках (мясо, творог, сыр, бобовые и т. д)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Радиоактивными элементами в строгом смысле являются все элементы, идущие в таблице Менделеева после свинца (включая висмут), а также элементы технеций и прометий. Следующие элементы содержат в природных смесях хотя бы один радиоактивный изотоп: калий, кальций, ванадий, германий, селен, рубидий, цирконий, молибден, кадмий, индий, теллур, лантан, неодим, самарий, гадолиний, лютеций, гафний, вольфрам, рений, осмий, платина, висмут, торий, уран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Прямоугольник 3"/>
          <p:cNvSpPr/>
          <p:nvPr/>
        </p:nvSpPr>
        <p:spPr>
          <a:xfrm>
            <a:off x="381240" y="21420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Calibri"/>
              </a:rPr>
              <a:t>Радиоактивные элементы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Стрелка вправо 4"/>
          <p:cNvSpPr/>
          <p:nvPr/>
        </p:nvSpPr>
        <p:spPr>
          <a:xfrm>
            <a:off x="7777080" y="260280"/>
            <a:ext cx="1366920" cy="720720"/>
          </a:xfrm>
          <a:prstGeom prst="rightArrow">
            <a:avLst>
              <a:gd name="adj1" fmla="val 50000"/>
              <a:gd name="adj2" fmla="val 54712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7740720" y="41112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alibri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Прямоугольник 6"/>
          <p:cNvSpPr/>
          <p:nvPr/>
        </p:nvSpPr>
        <p:spPr>
          <a:xfrm>
            <a:off x="500040" y="2214720"/>
            <a:ext cx="83581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Содержание в земной коре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Равновесное содержание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лония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в земной коре 2·10</a:t>
            </a:r>
            <a:r>
              <a:rPr b="0" lang="en-US" sz="1400" spc="-1" strike="noStrike" baseline="30000">
                <a:solidFill>
                  <a:srgbClr val="003300"/>
                </a:solidFill>
                <a:latin typeface="Arial"/>
              </a:rPr>
              <a:t>−14%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по массе. Радий довольно редок. За прошедшее с момента его открытия время — более столетия — во всём мире удалось добыть всего только 1,5 кг чистого радия. Таким образом, на каждые три миллиона атомов урана в природе приходится лишь один атом радия. В урановых рудах в результате захвата нейтронов (например, нейтронов из космического излучения) ядрами урана образуется нептуний, продуктом β-распада которого и является природный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лутоний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2" name="Прямоугольник 7"/>
          <p:cNvSpPr/>
          <p:nvPr/>
        </p:nvSpPr>
        <p:spPr>
          <a:xfrm>
            <a:off x="500040" y="3841920"/>
            <a:ext cx="792972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Радий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чрезвычайно токсичен. Большие концентрации радия вызывают остеопороз, самопроизвольные переломы костей и злокачественные опухоли.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Плутоний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ысокотоксичен.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Уран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и его соединения токсичны. Соединения урана всасываются в желудочно-кишечном тракте (около 1 %), в легких — 50 %.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Полоний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ысокотоксичен, брать его руками нельзя, результатом будет лучевое поражение кожи и, возможно, всего организма: полоний довольно легко проникает внутрь сквозь кожные покровы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При недостатке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какого-то жизненно важного элемента радиоактивные элементы и радиоактивные изотопы некоторых элементов могут замещать их в органах и тканях, что приводит к неправильному развитию и вырождению тканей и органов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Натрий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Стрелка вправо 7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3"/>
          <a:stretch/>
        </p:blipFill>
        <p:spPr>
          <a:xfrm>
            <a:off x="357120" y="714240"/>
            <a:ext cx="1219320" cy="67644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6"/>
          <p:cNvSpPr/>
          <p:nvPr/>
        </p:nvSpPr>
        <p:spPr>
          <a:xfrm>
            <a:off x="285840" y="1428840"/>
            <a:ext cx="8286840" cy="45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Содержание в земной коре: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На Земле натрий никогда не встречается в свободном состоянии – слишком активен этот металл. Но в верхних слоях атмосферы – на высоте около 80 км – обнаружен слой атомарного натрия. На такой высоте практически нет кислорода, паров воды и вообще ничего, с чем натрий мог бы вступить в реакцию. Природный натрий состоит только из одного изотопа с массовым числом 23. Известны шесть радиоактивных изотопов этого элемента, причем два из них представляют значительный интерес для науки.  Изотоп натрий-24 (его период полураспада около 15 часов) применяют в медицине для диагностики и для лечения некоторых форм лейкемии – тяжелого заболевания крови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удерживает воду и рас­пределяет ее в организме, поддерживает оптимальную возбудимость нервной и мышечной ткани. Потребность в натрии увеличивается при активной мышечной работе, особенно при высокой температуре окружающей среды, при ожогах, рвоте, поносах, длительном применении мочегонных средств.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Дефицит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натрия в организме сопровождается обезвоживанием организма, понижением давления, нарушениями деятельности центральной нервной системы.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Избыток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натрия (что бывает гораздо чаще) влечет за собой задержку жидкости в организме, повышенную возбудимость центральной нервной системы, гипертонию, нарушения в работе почек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Хлорид натрия (соль) содержится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в рыбе (особенно морской), сыре, хлебе, брынзе, практически во всех продуктах животного происхождения и во многих овощах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Магний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Стрелка вправо 3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285840" y="642960"/>
            <a:ext cx="1380960" cy="85716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7"/>
          <p:cNvSpPr/>
          <p:nvPr/>
        </p:nvSpPr>
        <p:spPr>
          <a:xfrm>
            <a:off x="0" y="1428840"/>
            <a:ext cx="9144000" cy="49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держание в земной коре: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 Земная кора богата магнием – в ней содержится более 2,1% этого элемента. Лишь шесть элементов периодической системы встречаются на Земле чаще магния. Он входит в состав почти двухсот минералов. Но получают его в основном из трех – магнезита, доломита и карналлита. При желании магний можно добывать даже из простого булыжника: ведь в каждом килограмме камня, используемого для мощения дорог, содержится примерно 20 г магния. В таком процессе, правда, пока нет необходимости – магний из дорожного камня был бы слишком дорогим удовольствием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ействие на организм: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 Понижает нервномышечную возбудимость, контролирует обмен веществ, синтез белка, стимулирует перистальтику кишок и желчеотделение, способствует выведению холестерина из организма, оказывает щелочное действие на организм, является антагонистом кальция, так как избыток кальция и жиров тормозит всасывание магния. Магний защищает нас от возможности развития злокачественных опухолей, при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недостатке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магния повышается нервно мышечная возбудимость, возможны подергивания век, судорожные явления в конечностях, онемения и покалывания в ногах, головокружения, потеря равновесия; «мушки» перед глазами, быстрая утомляемость, невнимательность, головные боли, повышенное реагирование на изменения погоды, тревога, слуховые галлюцинации, бессонница, кошмары, приступы тоски и слезливости, тахикардия, беспричинные боли и спазмы желуд­ка, ощущения тяжести всего тела.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Избыток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магния в организме грозит заторможенностью и сонливостью, понижением артериального давления, ухудшением усваиваемости кальция и, как следствие, остеопорозом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Магний встречается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в большинстве пищевых продуктов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Калий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Стрелка вправо 3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3"/>
          <a:stretch/>
        </p:blipFill>
        <p:spPr>
          <a:xfrm>
            <a:off x="357120" y="714240"/>
            <a:ext cx="676440" cy="66672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7"/>
          <p:cNvSpPr/>
          <p:nvPr/>
        </p:nvSpPr>
        <p:spPr>
          <a:xfrm>
            <a:off x="357120" y="1500120"/>
            <a:ext cx="8572680" cy="45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держание в земной коре: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Почти 18% веса земной коры приходится на долю калийсодержащего минерала – ортоклаза. Из-за того, что комочки почвы «запирают» большую часть калия, содержание этого элемента в морской воде почти в 50 раз меньше, чем натрия. Подсчитано, что из тысячи атомов калия, освобождающихся при химическом выветривании, только два достигают морских бассейнов, а 998 остаются в почве.  Калий содержится во всех растениях. Отсутствие калия приводит растение к гибели. Почти весь калий находится в растениях в ионной форме – К+. Часть ионов находится в клеточном соке, другая часть поглощена структурными элементами клетки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ействие на организм: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способствует выделению жидкости из организма. Является антагонистом натрия и противосклеротическим средством, так как при его помощи натрий выводится вместе с мочой. Также калий участвует в обмене углеводов, синтезе некоторых белков, влияет на активность ряда ферментов, оказывает щелочное действие на организм, повышает тонус мускулатуры, влияет на передачу нервных импульсов.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Недостаток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калия ведет к избытку натрия в организме, отекам, сердечнососудистым заболеваниям.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Избыток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калия влечет за собой усиленное выведения натрия с мочой, физическое и умственное перевозбуждение, отрицательно сказывается на работе сердца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Много калия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в овощах, фруктах, ягодах, крупах, шоколаде, а также в рыбе, говядине и телятине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Кальций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9" name="Стрелка вправо 3">
            <a:hlinkClick r:id="rId1" action="ppaction://hlinksldjump"/>
          </p:cNvPr>
          <p:cNvSpPr/>
          <p:nvPr/>
        </p:nvSpPr>
        <p:spPr>
          <a:xfrm>
            <a:off x="8001000" y="0"/>
            <a:ext cx="1143000" cy="7142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8001000" y="142920"/>
            <a:ext cx="128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3"/>
          <a:stretch/>
        </p:blipFill>
        <p:spPr>
          <a:xfrm>
            <a:off x="142920" y="0"/>
            <a:ext cx="110484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7"/>
          <p:cNvSpPr/>
          <p:nvPr/>
        </p:nvSpPr>
        <p:spPr>
          <a:xfrm>
            <a:off x="0" y="549360"/>
            <a:ext cx="9144000" cy="63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держание в земной коре: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Несмотря на повсеместную распространенность элемента №20, даже химики и то не все видели элементарный кальций. Его можно спокойно хранить на воздухе, он не воспламеняется от воды. Кальций не может находиться в природе в свободном состоянии. Зато соединения кальция – и природные и искусственные – приобрели первостепенное значение.  Карбонат кальция СаCO</a:t>
            </a:r>
            <a:r>
              <a:rPr b="0" lang="ru-RU" sz="1400" spc="-1" strike="noStrike" baseline="-25000">
                <a:solidFill>
                  <a:srgbClr val="00330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– одно из самых распространенных на Земле соединений. Минералы на основе СаCO</a:t>
            </a:r>
            <a:r>
              <a:rPr b="0" lang="ru-RU" sz="14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покрывают около 40 млн. км</a:t>
            </a:r>
            <a:r>
              <a:rPr b="0" lang="ru-RU" sz="1400" spc="-1" strike="noStrike" baseline="30000">
                <a:solidFill>
                  <a:srgbClr val="0033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земной поверхности. Мел, мрамор, известняки, ракушечники – все это СаCO</a:t>
            </a:r>
            <a:r>
              <a:rPr b="0" lang="ru-RU" sz="14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с незначительными примесями, а кальцит – чистый СаCO</a:t>
            </a:r>
            <a:r>
              <a:rPr b="0" lang="ru-RU" sz="14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. Сульфат кальция СаSO</a:t>
            </a:r>
            <a:r>
              <a:rPr b="0" lang="ru-RU" sz="14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тоже широко распространен в природе. Известный минерал гипс – это кристаллогидрат СаSO</a:t>
            </a:r>
            <a:r>
              <a:rPr b="0" lang="ru-RU" sz="1400" spc="-1" strike="noStrike" baseline="-25000">
                <a:solidFill>
                  <a:srgbClr val="003300"/>
                </a:solidFill>
                <a:latin typeface="Arial"/>
              </a:rPr>
              <a:t>4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· 2Н2О. Как вяжущее гипс используют уже много веков, чуть ли не со времен египетских пирамид. Но природному гипсу (гипсовому камню) несвойственна способность твердеть на воздухе и при этом скреплять камни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ходит в состав костей, ногтей и зубов, уплотняет стенки сосудов, участвует в процессах свертывания крови, нервно-мышечных сокращениях, активизирует работу различных ферментов регулирует функцию эндокринных желез, оказывает противовоспалительное воздействие. Кальций</a:t>
            </a:r>
            <a:r>
              <a:rPr b="0" i="1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усваивается только при достаточном количестве ненасыщенных жирных кислот. Если в рационе мало белка, кальций усваивается плохо, а если нет кальциферолов (витамина В), не усваивается почти совсем. Усвоение этого элемента зависит также от его соотношения с магнием</a:t>
            </a:r>
            <a:r>
              <a:rPr b="0" i="1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и фосфором.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Недостаток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кальция ведет к замещению его стронцием, молекулярные структуры которого очень похожи на кальциевые, и к возникновению изменений в костях - «шишек» и «наростов», а также ко многим другим нарушениям в организме, и прежде всего - к остеопорозу. При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избытке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кальция, не усвоившегося в организме, наблюдаются жажда, тошнота, иногда судороги, возможно отложение во внутренних органах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Кальций содержится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 хорошей для организма пропорции с магнием в сар­динах, селедке, баклажанах, огурцах, салате, чесноке, фасоли, грушах, яблоках, винограде, малине, белых грибах. В твороге, молоке, мясе, хлебе, крупах со­отношение кальция и магния менее бла­гоприятное для усваивания. Зато в твороге почти идеальное соотношение кальция и фосфора. Также в очень хорошей пропорции эти элементы содержатся в огурцах, чесноке, винограде. Менее благоприятен союз кальция с фосфором в сыре, молоке, карпе, судаке, говядине, свиной печени, моркови, салате, тыкве, гречневой, овсяной, манной, перловой крупах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Фосфор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4" name="Стрелка вправо 3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3"/>
          <a:stretch/>
        </p:blipFill>
        <p:spPr>
          <a:xfrm>
            <a:off x="428760" y="571680"/>
            <a:ext cx="561960" cy="6667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7"/>
          <p:cNvSpPr/>
          <p:nvPr/>
        </p:nvSpPr>
        <p:spPr>
          <a:xfrm>
            <a:off x="0" y="1571760"/>
            <a:ext cx="9144000" cy="45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Содержание в земной коре: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Природный фосфор в отличие от подавляющего большинства элементов состоит только из одного изотопа 31Р. В ядерных реакциях синтезировано несколько короткоживущих радиоактивных изотопов элемента №15. Один из них – фосфор-30 оказался вообще первым изотопом, полученным искусственным путем. «Апатит – это фосфорнокислый кальций, но внешний вид его такой разнообразный и странный, что недаром старые минералоги назвали его апатитом, что значит по-гречески «обманщик»: то это прозрачные кристаллики, до мелочей напоминающие берилл или даже кварц, то это плотные массы, неотличимые от простого известняка, то это радиально-лучистые шары, то порода зернистая и блестящая, как крупнозернистый мрамор». Самые известные модификации фосфора – белая и красная, обе они используются в промышленности. Прочие разновидности элемента №15 – фиолетовый, коричневый, черный фосфор – можно встретить только в лабораториях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принимает участие в обмене белков, жиров и углеводов, важен для процесса передачи энергии, построения клеток, ферментов, гормонов и многих других соединений. Действие фосфора в организме связано с кальцием, он лучше усваивается в присутствии кальциферолов (витамина D)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Фосфором богаты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творог, сыр, мясо, мозги, говяжья печень, рыба, яйца, бобовые, различные крупы, орехи. Лучше усваивается из продуктов животного происхождения. В соединении с кальцием происходит более полное и быстрое усвоение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Сера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Стрелка вправо 3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1" name="Picture 1" descr=""/>
          <p:cNvPicPr/>
          <p:nvPr/>
        </p:nvPicPr>
        <p:blipFill>
          <a:blip r:embed="rId3"/>
          <a:stretch/>
        </p:blipFill>
        <p:spPr>
          <a:xfrm>
            <a:off x="357120" y="571680"/>
            <a:ext cx="51444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7"/>
          <p:cNvSpPr/>
          <p:nvPr/>
        </p:nvSpPr>
        <p:spPr>
          <a:xfrm>
            <a:off x="0" y="142884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Содержание в земной коре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Большие скопления самородной серы встречаются не так уж часто. Чаще она присутствует в некоторых рудах. Руда самородной серы – это порода с вкраплениями серы. Сера – самостоятельный химический элемент, а не соединение. По распространенности элемент №16 занимает 15-е место. Содержание серы в земной коре составляет 0,05% по весу. Это немало. В природе сера встречается не только в свободном состоянии, но и в виде разнообразных неорганических соединений. Особенно распространены сульфаты (главным образом щелочных и щелочноземельных металлов) и сульфиды (железа, меди, цинка, свинца). Сера есть и в углях, сланцах, нефти, природных газах, в организмах животных и растений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входит в состав некоторых аминокислот, инсулина, помогает регулировать уровень глюкозы в крови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Сера содержится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в мясе, яйцах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Хлор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Стрелка вправо 3">
            <a:hlinkClick r:id="rId1" action="ppaction://hlinksldjump"/>
          </p:cNvPr>
          <p:cNvSpPr/>
          <p:nvPr/>
        </p:nvSpPr>
        <p:spPr>
          <a:xfrm>
            <a:off x="6929280" y="285840"/>
            <a:ext cx="1857600" cy="10713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143840" y="64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Calibri"/>
                <a:hlinkClick r:id="rId2" action="ppaction://hlinksldjump"/>
              </a:rPr>
              <a:t>К таблице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3"/>
          <a:stretch/>
        </p:blipFill>
        <p:spPr>
          <a:xfrm>
            <a:off x="285840" y="64296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7"/>
          <p:cNvSpPr/>
          <p:nvPr/>
        </p:nvSpPr>
        <p:spPr>
          <a:xfrm>
            <a:off x="357120" y="1428840"/>
            <a:ext cx="857268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держание в земной коре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При обычных условиях элементарный хлор – довольно тяжелый желто-зеленый газ с резким характерным запахом. Сейчас известны девять изотопов этого элемента, но в природе встречаются только два – хлор-35 и хлор-37. Первого примерно в три раза больше, чем второго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ействие на организм: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необходим для образования соляной кислоты - основы желудочных соков. Способствует отложению глигокена в печени, принимает участие в процессах кроветворения и регуляции водного обмена, оказывает кислотное действие на организм. При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недостатке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хлора (что в совре­менных условиях практически невозмож­но) наблюдается снижение артериального давления, вялость, сонливость, повышение уровня азота в крови. При 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избытке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хлора (очень частое яв­ление из-за хлорирования водопровод­ной воды) жидкость задерживается в организме, соли откладываются в различных тканях. 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Хлор поступает в организм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 виде хлорида натрия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4:34:32Z</dcterms:created>
  <dc:creator>Atom</dc:creator>
  <dc:description/>
  <dc:language>en-US</dc:language>
  <cp:lastModifiedBy>учитель</cp:lastModifiedBy>
  <dcterms:modified xsi:type="dcterms:W3CDTF">2008-04-03T02:03:54Z</dcterms:modified>
  <cp:revision>65</cp:revision>
  <dc:subject/>
  <dc:title>Слайд 1</dc:title>
</cp:coreProperties>
</file>