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7.png" ContentType="image/png"/>
  <Override PartName="/ppt/media/image22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2.jpeg" ContentType="image/jpeg"/>
  <Override PartName="/ppt/media/image23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C8521-8BBD-41F6-B933-737B003D38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F20D2-3F61-4298-A803-EE566C765F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4972A-AA58-43DA-B4AD-57B6732C17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BE79D-BC46-4C0E-97BD-5BF4C8876E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A8706-C330-4D71-91CD-CCBFD6A9AB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D08B-9CCE-4E77-8C04-7380CE931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C3A9-F852-48E7-BABD-BE5219830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BC6C-4982-4D0E-885F-586764AAD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6F2C-BDC8-4684-9AB6-3E265DD99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68E0-1955-4969-9C28-7AF55A417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DBA5-8D4F-4F13-B6A5-A8FAC0011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1292-2FA2-4B7C-B9C4-9406A8BF3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C8E5-FAA4-4439-8155-15CFA2B74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75C4-891C-401E-8938-538F11E96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3784-0798-4C04-B6FD-7C6A7EF8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FA80-1875-4E4A-92C4-AC96D94B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1A8B-5312-4FCA-A7B0-288D970E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764C7-564F-47F0-A7DC-D17D638E91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86280" y="1000080"/>
            <a:ext cx="2857680" cy="514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рогу осилит идущий. Viam supervadet vad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4680000" y="5300640"/>
            <a:ext cx="44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1" descr="Дорогу осилит идущий"/>
          <p:cNvPicPr/>
          <p:nvPr/>
        </p:nvPicPr>
        <p:blipFill>
          <a:blip r:embed="rId1"/>
          <a:stretch/>
        </p:blipFill>
        <p:spPr>
          <a:xfrm>
            <a:off x="428760" y="214200"/>
            <a:ext cx="4502160" cy="1571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&amp;kcy;&amp;tcy;&amp;ocy; &amp;scy;&amp;kcy;&amp;acy;&amp;zcy;&amp;acy;&amp;lcy; &amp;quot;&amp;Dcy;&amp;ocy;&amp;rcy;&amp;ocy;&amp;gcy;&amp;ucy; &amp;ocy;&amp;scy;&amp;icy;&amp;lcy;&amp;icy;&amp;tcy; &amp;icy;&amp;dcy;&amp;ucy;&amp;shchcy;&amp;icy;&amp;jcy;&amp;quot;"/>
          <p:cNvPicPr/>
          <p:nvPr/>
        </p:nvPicPr>
        <p:blipFill>
          <a:blip r:embed="rId2"/>
          <a:stretch/>
        </p:blipFill>
        <p:spPr>
          <a:xfrm>
            <a:off x="571680" y="3714840"/>
            <a:ext cx="5167080" cy="235728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6"/>
          <p:cNvSpPr/>
          <p:nvPr/>
        </p:nvSpPr>
        <p:spPr>
          <a:xfrm>
            <a:off x="785880" y="2000160"/>
            <a:ext cx="457200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заданий ЕГЭ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ы не индуктивных умозаключен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ве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1280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0,1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TSitata1"/>
          <p:cNvPicPr/>
          <p:nvPr/>
        </p:nvPicPr>
        <p:blipFill>
          <a:blip r:embed="rId1"/>
          <a:stretch/>
        </p:blipFill>
        <p:spPr>
          <a:xfrm>
            <a:off x="3714840" y="1922400"/>
            <a:ext cx="4324320" cy="397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мен вопрос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 </a:t>
            </a: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тебе ,а ты мн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130303214_99876472_A9DGZaLSywE"/>
          <p:cNvPicPr/>
          <p:nvPr/>
        </p:nvPicPr>
        <p:blipFill>
          <a:blip r:embed="rId1"/>
          <a:stretch/>
        </p:blipFill>
        <p:spPr>
          <a:xfrm>
            <a:off x="428760" y="2643120"/>
            <a:ext cx="8429400" cy="376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измину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28400" y="1571760"/>
            <a:ext cx="790092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marL="191880" indent="-191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гласен с утверждением- сиди ,                                        а не согласен -встав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dorogu-osilit-idushiy7"/>
          <p:cNvPicPr/>
          <p:nvPr/>
        </p:nvPicPr>
        <p:blipFill>
          <a:blip r:embed="rId1"/>
          <a:stretch/>
        </p:blipFill>
        <p:spPr>
          <a:xfrm>
            <a:off x="2071800" y="3143160"/>
            <a:ext cx="5091120" cy="31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дин за всех и все за одног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аем зад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Э (№13, №1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упп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ем  представите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группы  показыва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на доске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ad37f5d8ce64093f3a6f285889ccafe3dd96_o"/>
          <p:cNvPicPr/>
          <p:nvPr/>
        </p:nvPicPr>
        <p:blipFill>
          <a:blip r:embed="rId1"/>
          <a:stretch/>
        </p:blipFill>
        <p:spPr>
          <a:xfrm>
            <a:off x="5000760" y="1643040"/>
            <a:ext cx="3703680" cy="441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ЕГЭ (№13, №15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7168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шите уравнение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шите неравенство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3" descr=""/>
          <p:cNvPicPr/>
          <p:nvPr/>
        </p:nvPicPr>
        <p:blipFill>
          <a:blip r:embed="rId1"/>
          <a:stretch/>
        </p:blipFill>
        <p:spPr>
          <a:xfrm>
            <a:off x="4714920" y="2143080"/>
            <a:ext cx="3857760" cy="78588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4" descr=""/>
          <p:cNvPicPr/>
          <p:nvPr/>
        </p:nvPicPr>
        <p:blipFill>
          <a:blip r:embed="rId2"/>
          <a:stretch/>
        </p:blipFill>
        <p:spPr>
          <a:xfrm>
            <a:off x="3643200" y="4500720"/>
            <a:ext cx="5143680" cy="85716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5" descr=""/>
          <p:cNvPicPr/>
          <p:nvPr/>
        </p:nvPicPr>
        <p:blipFill>
          <a:blip r:embed="rId3"/>
          <a:stretch/>
        </p:blipFill>
        <p:spPr>
          <a:xfrm>
            <a:off x="4714920" y="3000240"/>
            <a:ext cx="3857760" cy="78588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6" descr=""/>
          <p:cNvPicPr/>
          <p:nvPr/>
        </p:nvPicPr>
        <p:blipFill>
          <a:blip r:embed="rId4"/>
          <a:stretch/>
        </p:blipFill>
        <p:spPr>
          <a:xfrm>
            <a:off x="3643200" y="5500800"/>
            <a:ext cx="5286600" cy="71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ледуйте данному совет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pic-3"/>
          <p:cNvPicPr/>
          <p:nvPr/>
        </p:nvPicPr>
        <p:blipFill>
          <a:blip r:embed="rId2"/>
          <a:stretch/>
        </p:blipFill>
        <p:spPr>
          <a:xfrm>
            <a:off x="3286080" y="2428920"/>
            <a:ext cx="5572080" cy="3790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image70-e1426733884328"/>
          <p:cNvPicPr/>
          <p:nvPr/>
        </p:nvPicPr>
        <p:blipFill>
          <a:blip r:embed="rId3"/>
          <a:stretch/>
        </p:blipFill>
        <p:spPr>
          <a:xfrm>
            <a:off x="285840" y="833400"/>
            <a:ext cx="5286240" cy="38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Побеждает не тот, кто сильнее, а тот , кто идет до кон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урок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img20"/>
          <p:cNvPicPr/>
          <p:nvPr/>
        </p:nvPicPr>
        <p:blipFill>
          <a:blip r:embed="rId1"/>
          <a:stretch/>
        </p:blipFill>
        <p:spPr>
          <a:xfrm>
            <a:off x="357120" y="3143160"/>
            <a:ext cx="8001000" cy="303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785520" y="765000"/>
            <a:ext cx="8178840" cy="56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003300"/>
                </a:solidFill>
                <a:latin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а саморазвития (или модный аналог, пришедший с английского языка – self-made) стала довольно актуальной в последнее время. И это закономерно, поскольку сегодняшний мир очень динамичен, а бурное развитие технологий требует постоянного усвоения новых знаний. Однако процесс обучения и усвоения информации не так прост. Чтобы добиться результата, необходимо большое желание, достаточное количество времени, усидчивость, умение довести начатое до конца и преодолеть все трудности обучения. Человеку непросто самому справиться с этой задачей, поэтому ему требуется поддержка.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ная наша задача– мотивировать, вдохновлять обучающихся, давать духовную пищу и силу для свершений     в области саморазвит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      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Times New Roman"/>
              </a:rPr>
              <a:t>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258560" y="1773360"/>
            <a:ext cx="676908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860640" y="-193680"/>
          <a:ext cx="487440" cy="7245360"/>
        </p:xfrm>
        <a:graphic>
          <a:graphicData uri="http://schemas.openxmlformats.org/drawingml/2006/table">
            <a:tbl>
              <a:tblPr/>
              <a:tblGrid>
                <a:gridCol w="243000"/>
                <a:gridCol w="244440"/>
              </a:tblGrid>
              <a:tr h="7245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7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6" name="Picture 4" descr="&amp;Fcy;&amp;ocy;&amp;tcy;&amp;ocy; &amp;tcy;&amp;acy;&amp;tcy;&amp;ucy; &amp;Pcy;&amp;lcy;&amp;yucy;&amp;shchcy;&amp;iecy;&amp;ncy;&amp;kcy;&amp;ocy; - &amp;Dcy;&amp;ocy;&amp;rcy;&amp;ocy;&amp;gcy;&amp;ucy; &amp;ocy;&amp;scy;&amp;icy;&amp;lcy;&amp;icy;&amp;tcy; &amp;icy;&amp;dcy;&amp;ucy;&amp;shchcy;&amp;icy;&amp;jcy;"/>
          <p:cNvPicPr/>
          <p:nvPr/>
        </p:nvPicPr>
        <p:blipFill>
          <a:blip r:embed="rId1"/>
          <a:stretch/>
        </p:blipFill>
        <p:spPr>
          <a:xfrm>
            <a:off x="357120" y="1214280"/>
            <a:ext cx="8402760" cy="35006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571320" y="5072040"/>
            <a:ext cx="807228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ту на руке у Евгения Плющенко на латыни: «Viam supervadet vadens» («Дорогу осилит идущий»)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0"/>
          <p:cNvSpPr/>
          <p:nvPr/>
        </p:nvSpPr>
        <p:spPr>
          <a:xfrm>
            <a:off x="1214280" y="1643040"/>
            <a:ext cx="71042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 просто: хочешь перемен, действуй. Как во время преодоления дороги меняются пейзажи, вид, так и в жизни изменения – это действие, движение. Главное – не стоять на месте, подтолкнуть себя сделать тот первый шаг</a:t>
            </a:r>
            <a:r>
              <a:rPr b="0" i="1" lang="ru-RU" sz="28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1214280" y="340200"/>
            <a:ext cx="6286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уть в тысячу ли начинается с одного шага».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уция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53964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вивайтесь, читая  книги и статьи, а проходя упражнения, игры и тес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img1"/>
          <p:cNvPicPr/>
          <p:nvPr/>
        </p:nvPicPr>
        <p:blipFill>
          <a:blip r:embed="rId1"/>
          <a:stretch/>
        </p:blipFill>
        <p:spPr>
          <a:xfrm>
            <a:off x="428760" y="1643040"/>
            <a:ext cx="4717800" cy="328608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C:\Users\Ученик\Desktop\27.jpg"/>
          <p:cNvPicPr/>
          <p:nvPr/>
        </p:nvPicPr>
        <p:blipFill>
          <a:blip r:embed="rId2"/>
          <a:stretch/>
        </p:blipFill>
        <p:spPr>
          <a:xfrm>
            <a:off x="4214880" y="3071880"/>
            <a:ext cx="4714920" cy="358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14240" y="3071880"/>
            <a:ext cx="817416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йдите значение выра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0"/>
          <p:cNvSpPr/>
          <p:nvPr/>
        </p:nvSpPr>
        <p:spPr>
          <a:xfrm>
            <a:off x="1042920" y="1413000"/>
            <a:ext cx="6840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0" descr="i?id=366f74c16db525a1c93cc25cb86cb06a&amp;n=33&amp;h=225&amp;w=301"/>
          <p:cNvPicPr/>
          <p:nvPr/>
        </p:nvPicPr>
        <p:blipFill>
          <a:blip r:embed="rId1"/>
          <a:stretch/>
        </p:blipFill>
        <p:spPr>
          <a:xfrm>
            <a:off x="500040" y="142920"/>
            <a:ext cx="8318520" cy="285732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5" descr=""/>
          <p:cNvPicPr/>
          <p:nvPr/>
        </p:nvPicPr>
        <p:blipFill>
          <a:blip r:embed="rId2"/>
          <a:stretch/>
        </p:blipFill>
        <p:spPr>
          <a:xfrm>
            <a:off x="857160" y="3643200"/>
            <a:ext cx="2928960" cy="107172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6" descr=""/>
          <p:cNvPicPr/>
          <p:nvPr/>
        </p:nvPicPr>
        <p:blipFill>
          <a:blip r:embed="rId3"/>
          <a:stretch/>
        </p:blipFill>
        <p:spPr>
          <a:xfrm>
            <a:off x="4429080" y="3714840"/>
            <a:ext cx="2357640" cy="100008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7" descr=""/>
          <p:cNvPicPr/>
          <p:nvPr/>
        </p:nvPicPr>
        <p:blipFill>
          <a:blip r:embed="rId4"/>
          <a:stretch/>
        </p:blipFill>
        <p:spPr>
          <a:xfrm>
            <a:off x="857160" y="4929120"/>
            <a:ext cx="3071880" cy="100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4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214880" y="1499760"/>
            <a:ext cx="4682880" cy="561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1520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3.     В начале учебного года в школе было 400 учащихся,  а к концу года их стало 500. На сколько процентов увеличилось за учебный год число учащихся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9"/>
          <p:cNvSpPr/>
          <p:nvPr/>
        </p:nvSpPr>
        <p:spPr>
          <a:xfrm>
            <a:off x="500040" y="3286080"/>
            <a:ext cx="757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Решите уравнени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10" descr=""/>
          <p:cNvPicPr/>
          <p:nvPr/>
        </p:nvPicPr>
        <p:blipFill>
          <a:blip r:embed="rId1"/>
          <a:stretch/>
        </p:blipFill>
        <p:spPr>
          <a:xfrm>
            <a:off x="3500280" y="3357720"/>
            <a:ext cx="4643640" cy="157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3708360" y="1341360"/>
            <a:ext cx="525636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00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http://slidepedia.net/u/storage/ppt_4111/146dc-1390370702-33.jpg"/>
          <p:cNvPicPr/>
          <p:nvPr/>
        </p:nvPicPr>
        <p:blipFill>
          <a:blip r:embed="rId1"/>
          <a:stretch/>
        </p:blipFill>
        <p:spPr>
          <a:xfrm>
            <a:off x="428760" y="214200"/>
            <a:ext cx="7968960" cy="59770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 rot="10800000">
            <a:off x="2286000" y="6097680"/>
            <a:ext cx="492912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13880" y="357120"/>
            <a:ext cx="818676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бота в групп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00040" y="857160"/>
            <a:ext cx="82152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и 40000 жителей города 60% не интересуются футболом. Среди жителей, интересующихся футболом, 80% смотрели по телевизору финал Лиги чемпионов. Сколько жителей города смотрело этот матч по телевизору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круглый стол на 17 стульев в случайном порядке рассаживаются 15 мальчиков и 2 девочки. Найдите вероятность того, что девочки будут сидеть рядо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ржа в 10:00 вышла из пункта А в пункт В, расположенный в 30 км от А. Пробыв в пункте В 1 час 40 минут, баржа отправилась назад и вернулась в пункт А в 21:00 того же дня. Определите (в км/час) скорость течения реки, если известно, что собственная скорость баржи равна 7 км/ч. 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периметр прямоугольника, если его площадь равна 176, а отношение соседних сторон равно 4 : 1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2T14:14:28Z</dcterms:created>
  <dc:creator>Люсик</dc:creator>
  <dc:description/>
  <dc:language>en-US</dc:language>
  <cp:lastModifiedBy>Ученик</cp:lastModifiedBy>
  <dcterms:modified xsi:type="dcterms:W3CDTF">2016-11-21T15:52:33Z</dcterms:modified>
  <cp:revision>46</cp:revision>
  <dc:subject/>
  <dc:title>Слайд 1</dc:title>
</cp:coreProperties>
</file>