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DE4-3073-41E6-8D24-CF0BEB1F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CE38-9E3A-4F73-9060-5921495B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B086-1FE4-40B3-A0F4-295117A5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4BBA-A945-405A-98F1-E143342A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38D5-0B35-44E3-BDE4-FA03E0FA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7F0-8875-4917-B1C4-BA6324F5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47FA-F50B-461E-A73E-8FDD3444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B5BE-C1F9-48F7-A734-E1737903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8B2F-58A9-4F1E-B796-C2701948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ACA8-7CEA-425A-8E22-F7F2AED0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6EBA-A9CF-456F-9048-315E6A49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3304-C098-430C-96C1-1477D66A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F584-5C39-44C3-9F9C-87A5468A32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ave you ever had (fed)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307_1"/>
          <p:cNvPicPr/>
          <p:nvPr/>
        </p:nvPicPr>
        <p:blipFill>
          <a:blip r:embed="rId1"/>
          <a:stretch/>
        </p:blipFill>
        <p:spPr>
          <a:xfrm rot="20714400">
            <a:off x="547200" y="1453680"/>
            <a:ext cx="3095640" cy="226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Picture 8" descr="13283_Sheep_Standing_A_resized_0_248__90_0_"/>
          <p:cNvPicPr/>
          <p:nvPr/>
        </p:nvPicPr>
        <p:blipFill>
          <a:blip r:embed="rId2"/>
          <a:srcRect l="0" t="7315" r="0" b="10363"/>
          <a:stretch/>
        </p:blipFill>
        <p:spPr>
          <a:xfrm>
            <a:off x="3780000" y="1484280"/>
            <a:ext cx="194436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Picture 8" descr="249_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9360" y="4489560"/>
            <a:ext cx="2585880" cy="206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Picture 6" descr="293_1"/>
          <p:cNvPicPr/>
          <p:nvPr/>
        </p:nvPicPr>
        <p:blipFill>
          <a:blip r:embed="rId5"/>
          <a:stretch/>
        </p:blipFill>
        <p:spPr>
          <a:xfrm rot="1211400">
            <a:off x="6030720" y="1469880"/>
            <a:ext cx="2815920" cy="22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Содержимое 3" descr=""/>
          <p:cNvPicPr/>
          <p:nvPr/>
        </p:nvPicPr>
        <p:blipFill>
          <a:blip r:embed="rId6"/>
          <a:stretch/>
        </p:blipFill>
        <p:spPr>
          <a:xfrm>
            <a:off x="6294600" y="4438800"/>
            <a:ext cx="2671560" cy="20412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3" descr=""/>
          <p:cNvPicPr/>
          <p:nvPr/>
        </p:nvPicPr>
        <p:blipFill>
          <a:blip r:embed="rId7"/>
          <a:stretch/>
        </p:blipFill>
        <p:spPr>
          <a:xfrm>
            <a:off x="3564000" y="4508640"/>
            <a:ext cx="242244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ave you ever had (fed)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Home\Music\Desktop\7.jpg"/>
          <p:cNvPicPr/>
          <p:nvPr/>
        </p:nvPicPr>
        <p:blipFill>
          <a:blip r:embed="rId1"/>
          <a:stretch/>
        </p:blipFill>
        <p:spPr>
          <a:xfrm>
            <a:off x="1339920" y="1600200"/>
            <a:ext cx="6464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ome animals –our pets Present Per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Home\Music\Desktop\184f9968.jpg"/>
          <p:cNvPicPr/>
          <p:nvPr/>
        </p:nvPicPr>
        <p:blipFill>
          <a:blip r:embed="rId1"/>
          <a:stretch/>
        </p:blipFill>
        <p:spPr>
          <a:xfrm>
            <a:off x="6340320" y="4581360"/>
            <a:ext cx="2497320" cy="1890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39640" y="1684080"/>
            <a:ext cx="7648560" cy="25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sent…                                 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W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s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Yo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sent                                 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Yo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He/ she/ 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sent                          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The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ve/ has + Verb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6bcf"/>
                </a:solidFill>
                <a:latin typeface="Arial"/>
              </a:rPr>
              <a:t>Основной глагол бери, в третью форму возводи. Если правильный глагол - окончание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d</a:t>
            </a:r>
            <a:r>
              <a:rPr b="1" lang="en-US" sz="2400" spc="-1" strike="noStrike">
                <a:solidFill>
                  <a:srgbClr val="6b6bc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6b6bcf"/>
                </a:solidFill>
                <a:latin typeface="Arial"/>
              </a:rPr>
              <a:t> а неправильный глагол – ты в таблицу посмотри и, конечно, зау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[t]                                      [d]                                         [i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finish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saved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                            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watch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joined                           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coo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played                          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енгурёнку кенгуру говорила поутру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«Надо быстренько вставать  и глаголы повторя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Feed- fed- fed                 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read- read-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Spend-spent- spent       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hurt-hurt-h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Buy-bought-bought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       take- took-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Sleep-slept-slept             </a:t>
            </a: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eat-ate-e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Drink-drank-drunk          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o-did-done</a:t>
            </a: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4b50"/>
                </a:solidFill>
                <a:latin typeface="Arial"/>
              </a:rPr>
              <a:t>Give-gave-given                  have- had-h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4b5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24b50"/>
                </a:solidFill>
                <a:latin typeface="Arial"/>
              </a:rPr>
              <a:t>Swim-swam-swum             fly-flew- fl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4b5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24b50"/>
                </a:solidFill>
                <a:latin typeface="Arial"/>
              </a:rPr>
              <a:t>teach-taught- taught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viewer?url=http%3A%2F%2Fnsportal"/>
          <p:cNvPicPr/>
          <p:nvPr/>
        </p:nvPicPr>
        <p:blipFill>
          <a:blip r:embed="rId1"/>
          <a:stretch/>
        </p:blipFill>
        <p:spPr>
          <a:xfrm>
            <a:off x="468360" y="351000"/>
            <a:ext cx="820728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 wa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4130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As busy as a b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As  talkative as a parr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As calm as a sn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As fast as a wo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As slow as a tort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As silent as a 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"/>
              </a:rPr>
              <a:t>Thank you for your good wor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http://stat8.blog.ru/lr/0a278f4f01c3ce52c4ee53e874a7e8b4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4T02:23:33Z</dcterms:created>
  <dc:creator>дом</dc:creator>
  <dc:description/>
  <dc:language>en-US</dc:language>
  <cp:lastModifiedBy>Home</cp:lastModifiedBy>
  <dcterms:modified xsi:type="dcterms:W3CDTF">2016-07-18T16:30:11Z</dcterms:modified>
  <cp:revision>48</cp:revision>
  <dc:subject/>
  <dc:title>Слайд 1</dc:title>
</cp:coreProperties>
</file>