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6B88-BF1D-4FAF-8E83-233F12485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92CF-D910-4EDC-A78B-909C04E9D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B8B5-4A85-4FC4-8FC3-9D81CE44A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70ED-F7FF-4916-99AA-0FD472BCD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5152-1AF5-419D-A911-BFFA5137E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BBC2-D6D3-413D-AF40-790F6994E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723E-EB94-4801-9B86-0133AA65E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6268-B42E-40F5-A6E3-BEC52FCB6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BF17-C1F3-42C3-9D56-8178ED40C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E41E-4080-42F5-9AD3-A9E3310B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BBA7-4F55-42F1-92F1-9A156C4D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93C0-C486-4B14-B4D5-0DDB9484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5AFE28-D7F2-4558-A85D-47B98B7E002E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0448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31640" y="2554200"/>
            <a:ext cx="90712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«Мир сказок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144360" y="0"/>
            <a:ext cx="10248840" cy="7559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формирование нравственной и духовной культуры, эстетическое развитие личности ребенк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смысление учащимися традиционных и  духовно-нравственных ценностей нар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-360"/>
            <a:ext cx="10080720" cy="75596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03280" y="1503360"/>
            <a:ext cx="9070920" cy="51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020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овательная: приобщить детей к истокам родной культуры посредством введения их в духовный мир народной и авторской сказ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итательная: воспитывать у детей любовь к культурному наследию своего народа, трудолюбие, послушание и уважение к родителям и близким людям, терпение, милосердие, умение уступать, помогать друг другу и с благодарностью принимать помощ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144360" y="0"/>
            <a:ext cx="10248840" cy="7559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8720" y="647280"/>
            <a:ext cx="9070920" cy="62643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marL="214200" indent="-2142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вающая: развивать у детей социальные навыки: общительность, дружелюбие, потребность радовать близких результатами своего труда, способность отличать хорошее от плохого в сказке и в жизни,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мение делать нравственный выбор, подражать положительным героям сказок, видеть, ценить и беречь красоту родного края, умение рассуждать, вести диалог, беседу, обобщать, содействовать развитию речи детей, дать им навыки кукловождения, сценического мастерства, участия в организации выставок и спектак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560" y="46080"/>
            <a:ext cx="10078920" cy="74660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ланируемые    результаты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795240" y="1419120"/>
          <a:ext cx="8638920" cy="5690880"/>
        </p:xfrm>
        <a:graphic>
          <a:graphicData uri="http://schemas.openxmlformats.org/drawingml/2006/table">
            <a:tbl>
              <a:tblPr/>
              <a:tblGrid>
                <a:gridCol w="4110480"/>
                <a:gridCol w="4528440"/>
              </a:tblGrid>
              <a:tr h="440640">
                <a:tc>
                  <a:txBody>
                    <a:bodyPr lIns="90000" rIns="90000" tIns="1022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1022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УД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806840"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Преодоление барьера боязни проведения самостоятельных  работ (коллективных и индивидуальных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Коммуникатив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итие учебного сотрудничества с учителем и сверстником. Условие   осознания содержания своих действий и усвоения учебного содержан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59760">
                <a:tc>
                  <a:txBody>
                    <a:bodyPr lIns="90000" rIns="90000" tIns="97200" bIns="46800" anchor="t">
                      <a:noAutofit/>
                    </a:bodyPr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Получение специальных знаний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ознаватель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посылка и условие успешности обучен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524600">
                <a:tc>
                  <a:txBody>
                    <a:bodyPr lIns="90000" rIns="90000" tIns="97200" bIns="46800" anchor="t">
                      <a:noAutofit/>
                    </a:bodyPr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Сформированность специальных умений и навыко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Регулятив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нирование совместной деятельности, ориентация на образец и правило выполнения действ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59040">
                <a:tc>
                  <a:txBody>
                    <a:bodyPr lIns="90000" rIns="90000" tIns="9720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Возросшие познавательные потребности и развивающиеся способност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Личност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ожительная динамика детского отношения к процессу познан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ор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4600" y="1655640"/>
            <a:ext cx="9474120" cy="53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marL="214200" indent="-214200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еседа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гра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атрализованное представление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актическая работа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ллективные, индивидуальные и самостоятельные работы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щита творческих работ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нсультац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503280" y="792000"/>
          <a:ext cx="9216720" cy="5846400"/>
        </p:xfrm>
        <a:graphic>
          <a:graphicData uri="http://schemas.openxmlformats.org/drawingml/2006/table">
            <a:tbl>
              <a:tblPr/>
              <a:tblGrid>
                <a:gridCol w="4802760"/>
                <a:gridCol w="4413960"/>
              </a:tblGrid>
              <a:tr h="1085760">
                <a:tc>
                  <a:txBody>
                    <a:bodyPr lIns="90000" rIns="90000" tIns="1274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ля учител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127440" bIns="46800" anchor="t">
                      <a:noAutofit/>
                    </a:bodyPr>
                    <a:p>
                      <a:pPr marL="92160" algn="ctr">
                        <a:lnSpc>
                          <a:spcPct val="87000"/>
                        </a:lnSpc>
                        <a:tabLst>
                          <a:tab algn="l" pos="0"/>
                          <a:tab algn="l" pos="92160"/>
                          <a:tab algn="l" pos="539640"/>
                          <a:tab algn="l" pos="988920"/>
                          <a:tab algn="l" pos="1438200"/>
                          <a:tab algn="l" pos="1887480"/>
                          <a:tab algn="l" pos="2336760"/>
                          <a:tab algn="l" pos="2786040"/>
                          <a:tab algn="l" pos="3235320"/>
                          <a:tab algn="l" pos="3684600"/>
                          <a:tab algn="l" pos="4133880"/>
                          <a:tab algn="l" pos="4583160"/>
                          <a:tab algn="l" pos="5032440"/>
                          <a:tab algn="l" pos="5481720"/>
                          <a:tab algn="l" pos="5931000"/>
                          <a:tab algn="l" pos="6380280"/>
                          <a:tab algn="l" pos="6829560"/>
                          <a:tab algn="l" pos="7278840"/>
                          <a:tab algn="l" pos="7728120"/>
                          <a:tab algn="l" pos="8177040"/>
                          <a:tab algn="l" pos="8626320"/>
                          <a:tab algn="l" pos="907560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2160" algn="ctr">
                        <a:lnSpc>
                          <a:spcPct val="87000"/>
                        </a:lnSpc>
                        <a:tabLst>
                          <a:tab algn="l" pos="0"/>
                          <a:tab algn="l" pos="92160"/>
                          <a:tab algn="l" pos="539640"/>
                          <a:tab algn="l" pos="988920"/>
                          <a:tab algn="l" pos="1438200"/>
                          <a:tab algn="l" pos="1887480"/>
                          <a:tab algn="l" pos="2336760"/>
                          <a:tab algn="l" pos="2786040"/>
                          <a:tab algn="l" pos="3235320"/>
                          <a:tab algn="l" pos="3684600"/>
                          <a:tab algn="l" pos="4133880"/>
                          <a:tab algn="l" pos="4583160"/>
                          <a:tab algn="l" pos="5032440"/>
                          <a:tab algn="l" pos="5481720"/>
                          <a:tab algn="l" pos="5931000"/>
                          <a:tab algn="l" pos="6380280"/>
                          <a:tab algn="l" pos="6829560"/>
                          <a:tab algn="l" pos="7278840"/>
                          <a:tab algn="l" pos="7728120"/>
                          <a:tab algn="l" pos="8177040"/>
                          <a:tab algn="l" pos="8626320"/>
                          <a:tab algn="l" pos="907560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ля учащихс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cc"/>
                    </a:solidFill>
                  </a:tcPr>
                </a:tc>
              </a:tr>
              <a:tr h="3933360">
                <a:tc>
                  <a:txBody>
                    <a:bodyPr lIns="90000" rIns="90000" tIns="117360" bIns="46800" anchor="t">
                      <a:noAutofit/>
                    </a:bodyPr>
                    <a:p>
                      <a:pPr marL="214200" indent="-214200">
                        <a:lnSpc>
                          <a:spcPct val="87000"/>
                        </a:lnSpc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214200"/>
                          <a:tab algn="l" pos="662040"/>
                          <a:tab algn="l" pos="1111320"/>
                          <a:tab algn="l" pos="1560600"/>
                          <a:tab algn="l" pos="2009880"/>
                          <a:tab algn="l" pos="2459160"/>
                          <a:tab algn="l" pos="2908440"/>
                          <a:tab algn="l" pos="3357720"/>
                          <a:tab algn="l" pos="3807000"/>
                          <a:tab algn="l" pos="4255920"/>
                          <a:tab algn="l" pos="4705200"/>
                          <a:tab algn="l" pos="5154480"/>
                          <a:tab algn="l" pos="5603760"/>
                          <a:tab algn="l" pos="6053040"/>
                          <a:tab algn="l" pos="6502320"/>
                          <a:tab algn="l" pos="6951600"/>
                          <a:tab algn="l" pos="7400880"/>
                          <a:tab algn="l" pos="7850160"/>
                          <a:tab algn="l" pos="8299440"/>
                          <a:tab algn="l" pos="8748720"/>
                          <a:tab algn="l" pos="919800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мпьютер , мультимедиа, проектор, книги со сказками, камера, раздаточный материал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4200" indent="-214200">
                        <a:lnSpc>
                          <a:spcPct val="87000"/>
                        </a:lnSpc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214200"/>
                          <a:tab algn="l" pos="662040"/>
                          <a:tab algn="l" pos="1111320"/>
                          <a:tab algn="l" pos="1560600"/>
                          <a:tab algn="l" pos="2009880"/>
                          <a:tab algn="l" pos="2459160"/>
                          <a:tab algn="l" pos="2908440"/>
                          <a:tab algn="l" pos="3357720"/>
                          <a:tab algn="l" pos="3807000"/>
                          <a:tab algn="l" pos="4255920"/>
                          <a:tab algn="l" pos="4705200"/>
                          <a:tab algn="l" pos="5154480"/>
                          <a:tab algn="l" pos="5603760"/>
                          <a:tab algn="l" pos="6053040"/>
                          <a:tab algn="l" pos="6502320"/>
                          <a:tab algn="l" pos="6951600"/>
                          <a:tab algn="l" pos="7400880"/>
                          <a:tab algn="l" pos="7850160"/>
                          <a:tab algn="l" pos="8299440"/>
                          <a:tab algn="l" pos="8748720"/>
                          <a:tab algn="l" pos="919800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етодические рекомендации для учителя. 4 класс. Т.Н.Проснякова, Е.А. Мухин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90000" rIns="90000" tIns="127440" bIns="46800" anchor="t">
                      <a:noAutofit/>
                    </a:bodyPr>
                    <a:p>
                      <a:pPr marL="6480">
                        <a:lnSpc>
                          <a:spcPct val="87000"/>
                        </a:lnSpc>
                        <a:tabLst>
                          <a:tab algn="l" pos="0"/>
                          <a:tab algn="l" pos="6480"/>
                          <a:tab algn="l" pos="453960"/>
                          <a:tab algn="l" pos="903240"/>
                          <a:tab algn="l" pos="1352520"/>
                          <a:tab algn="l" pos="1801800"/>
                          <a:tab algn="l" pos="2251080"/>
                          <a:tab algn="l" pos="2700360"/>
                          <a:tab algn="l" pos="3149640"/>
                          <a:tab algn="l" pos="3598920"/>
                          <a:tab algn="l" pos="4048200"/>
                          <a:tab algn="l" pos="4497480"/>
                          <a:tab algn="l" pos="4946760"/>
                          <a:tab algn="l" pos="5396040"/>
                          <a:tab algn="l" pos="5845320"/>
                          <a:tab algn="l" pos="6294600"/>
                          <a:tab algn="l" pos="6743880"/>
                          <a:tab algn="l" pos="7192800"/>
                          <a:tab algn="l" pos="7642080"/>
                          <a:tab algn="l" pos="8091360"/>
                          <a:tab algn="l" pos="8540640"/>
                          <a:tab algn="l" pos="89899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ластилин, доска,  книги со сказками , краски, листы для рисования, ткань, нитки, иголка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</a:tr>
              <a:tr h="41364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364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>
            <a:off x="2376360" y="216000"/>
            <a:ext cx="57358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атериально-техническая ба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152360" y="503280"/>
            <a:ext cx="8280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http://veriochen.livejournal.com/121698.htm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47680" y="1808280"/>
            <a:ext cx="8356680" cy="23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http://garnett.ru/10-klass/teatralizovannoe-predstavlenie-skazki-sharlia-perrozolushka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89080" y="4471920"/>
            <a:ext cx="4643280" cy="17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http://veriochen.livejournal.com/121698.htm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56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6000" y="20494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583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26T17:50:16Z</dcterms:created>
  <dc:creator>Ирина Гулакова</dc:creator>
  <dc:description/>
  <dc:language>en-US</dc:language>
  <cp:lastModifiedBy>Ирина Гулакова</cp:lastModifiedBy>
  <dcterms:modified xsi:type="dcterms:W3CDTF">2016-05-26T21:16:51Z</dcterms:modified>
  <cp:revision>8</cp:revision>
  <dc:subject/>
  <dc:title/>
</cp:coreProperties>
</file>