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E1F-A70B-4D0A-91C4-2D465944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B30-A1F0-49FA-9436-22BF50BC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DC7-AC86-40DA-9A73-C4BD70EE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A3C-5DB6-4B27-9AC1-9D8C4439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7827-62B0-4C69-A4C4-6DEF6846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7206-2580-484E-9146-076CBA87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DDA3-DEDB-4BED-A0AC-81DEAC7E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5308-C2A6-48CE-8169-58A7323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26E8-D74C-4A43-88A1-DCE59565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E1B9-C7D2-4578-B66A-879CF4B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CB19-097D-4E27-9B6C-6A20CCF0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A7F-C9F6-42F7-9DE1-BC2AFDAC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4897-4C8D-4105-94E9-C1CE53D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240D-537C-4A8A-AD84-DFEFEB05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CFEF-EB79-4811-8418-0E61B298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A044-BEC5-4730-9926-BB1B4EEC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CCFD-B0E1-4909-A169-F72569DF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F22-825C-412E-BCF3-D9E9E064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FE0-AF71-44EA-8E25-548633B7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1A8-1B63-4073-A311-75004AD9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D72-5DCB-469B-97A4-8C03DF4E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EB0-DAF7-4275-A375-4E9A127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F9F-84E8-4657-852B-3064240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BB9-A911-439E-B725-21A9C123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1A53-4E17-4106-9E59-D93803C34C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819C-BEDB-44ED-8079-125D06313A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ударственное бюджетное образовательное учреждение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кола № 281 Дошкольное отделение №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692360" y="477720"/>
            <a:ext cx="64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льтфильм своими рук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56000" y="2276640"/>
            <a:ext cx="43923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и проекта: дети старш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ого возраста, роди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оки: краткосроч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д проекта: творче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ьякова Марина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епашкина Наталия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ванова Л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427640" y="3070080"/>
            <a:ext cx="3840120" cy="2880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4643280" y="549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ановка декорац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20151217_152723"/>
          <p:cNvPicPr/>
          <p:nvPr/>
        </p:nvPicPr>
        <p:blipFill>
          <a:blip r:embed="rId1"/>
          <a:stretch/>
        </p:blipFill>
        <p:spPr>
          <a:xfrm>
            <a:off x="279360" y="404640"/>
            <a:ext cx="4148280" cy="311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0151217_152607"/>
          <p:cNvPicPr/>
          <p:nvPr/>
        </p:nvPicPr>
        <p:blipFill>
          <a:blip r:embed="rId2"/>
          <a:stretch/>
        </p:blipFill>
        <p:spPr>
          <a:xfrm>
            <a:off x="4427640" y="27795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551480" y="647640"/>
            <a:ext cx="40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ъемка мультфильм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684360" y="49536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3840120" cy="2880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4716360" y="836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ложение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поставленные задачи выполнены. Ожидаемый результат достиг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684360" y="836640"/>
            <a:ext cx="7632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ЦЕ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у дошкольников взгляда на анимацию с позиции творческого человека, имеющегося коллективный  опыт создания мультфильмов в контексте образовательной области «Художественно-эстетическое развитие» по ФГ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АКТУАЛЬНОСТЬ ДАННОГО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илу высокой восприимчивости к зрительным образам, вследствие отсутствия жизненного опыта, благодаря целенаправленному воздействию создателей мультфильмов дети легко и прочно усваивают предлагаемую с экрана модель поведения.  С сожалением приходится признать тот факт, что эти модели нередко оказывают разрушительное действие на ребенка. Несомненно, существует ответственность взрослых, от которых зависит «мультрацион» детей. Но если в  раннем детстве можно контролировать качество фильмов, которые смотрит ребенок, то в дальнейшем нам не удастся полностью оградить ребенка от воздействия СМИ. Поэтому возникает необходимость противопоставить обрушившемуся на детей потоку информации, сформировать у них «внутренний фильтр»: эстетический вкус, зрительную культуру, чувство прекрасного.  Прежде чем требовать от ребенка сделать осознанный выбор в пользу настоящих произведений искусства, необходимо научить его понимать сюжет мультфильма, различать изобразительные средства, которыми он передается, воспринимать юмор и красоту созданных образ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403200"/>
            <a:ext cx="8137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Calibri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ЗАДАЧИ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Образовательн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формировать у детей элементарное представление о тайнах мультипликации. Обогатить словарный запас детей. Способствовать становлению у ребенка осознанного отношения к выбору и оценке качества потребляемой им мультипродукции.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Развивающ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познавательную активность детей при реализации данного проекта. Развивать связанную речь, мышление, общую и мелкую моторику.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Воспитательны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ывать интерес, внимание и последовательность в процессе создания мультфильм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ние общей культуры, умение договариваться, распределяя роли в совместной игре, воспитание коллективизма и гуманизм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ЭТАПЫ РАБОТЫ НАД ПРОЕКТ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ительный этап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 Беседа с детьми «Тайны мультиплик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росмотр фильма «История возникновения мультфильма», «Первые мультфильмы»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Знакомство детей с профессиями в данной области: продюсер, сценарист, режиссер-мультипликатор (аниматор), художник, оператор, актер, композит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Подготовка материала к дальнейшей рабо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о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Погружение в сказочную исто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зработка и создание персонажей и декораций с  помощью родите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Знакомство с технологией компьютерной анимации, создание видеоряда фильма и наложение музы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лючительный эта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ъемка мультфильма осуществляется на планшет . Для этого нужным образом выставляются декорации и персонаж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мотр фильма «История возникновения мультфильма», «Первые мультфильм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763640" y="2060640"/>
            <a:ext cx="54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 детей с професс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603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E:\фотографии\3 группа\пдд 3 группа\IMG_1621.JPG"/>
          <p:cNvPicPr/>
          <p:nvPr/>
        </p:nvPicPr>
        <p:blipFill>
          <a:blip r:embed="rId1"/>
          <a:stretch/>
        </p:blipFill>
        <p:spPr>
          <a:xfrm>
            <a:off x="395280" y="112536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:\фотографии\3 группа\пдд 3 группа\IMG_6076 (1).JPG"/>
          <p:cNvPicPr/>
          <p:nvPr/>
        </p:nvPicPr>
        <p:blipFill>
          <a:blip r:embed="rId2"/>
          <a:stretch/>
        </p:blipFill>
        <p:spPr>
          <a:xfrm>
            <a:off x="4716360" y="2781360"/>
            <a:ext cx="3888000" cy="291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5"/>
          <p:cNvSpPr/>
          <p:nvPr/>
        </p:nvSpPr>
        <p:spPr>
          <a:xfrm>
            <a:off x="5148360" y="119700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и вместе с родителями изготавливают декорации для будущего мультфиль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E:\фотографии\3 группа\пдд 3 группа\сканирование.jpg"/>
          <p:cNvPicPr/>
          <p:nvPr/>
        </p:nvPicPr>
        <p:blipFill>
          <a:blip r:embed="rId1"/>
          <a:stretch/>
        </p:blipFill>
        <p:spPr>
          <a:xfrm>
            <a:off x="1258920" y="907920"/>
            <a:ext cx="640080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5T05:18:32Z</dcterms:created>
  <dc:creator>WORK</dc:creator>
  <dc:description/>
  <dc:language>en-US</dc:language>
  <cp:lastModifiedBy>домашний</cp:lastModifiedBy>
  <dcterms:modified xsi:type="dcterms:W3CDTF">2016-12-05T15:00:08Z</dcterms:modified>
  <cp:revision>17</cp:revision>
  <dc:subject/>
  <dc:title>Презентация PowerPoint</dc:title>
</cp:coreProperties>
</file>