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EE0-106B-49D7-8B8C-DB6F4AE2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1C5-C94E-4B1A-A5E7-32A8A7DA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152-1D46-436E-96E6-9C8E3A0C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59F-77DD-4BB4-9BA2-3E8C44E1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5EE-F487-457E-90F4-E486F611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29A-7D30-4E07-A37F-FFB16CCE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F59-4F19-4771-AD16-A1CC86E1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7C3-E47D-4E47-950F-B49BA928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A92-036A-4A2B-AA18-39362A3B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344-4BAD-4EFF-AA53-16A09314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8E4-A265-45BC-B0F5-8718950D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3D8-3D7D-4F13-AEED-307B5E18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8EFD-CB6C-4980-A13C-0C55AC677E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990720" y="-143280"/>
            <a:ext cx="7632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WordArt 18"/>
          <p:cNvSpPr txBox="1"/>
          <p:nvPr/>
        </p:nvSpPr>
        <p:spPr>
          <a:xfrm>
            <a:off x="990720" y="1828800"/>
            <a:ext cx="879156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узей Кремния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WordArt 19"/>
          <p:cNvSpPr txBox="1"/>
          <p:nvPr/>
        </p:nvSpPr>
        <p:spPr>
          <a:xfrm>
            <a:off x="609480" y="4419720"/>
            <a:ext cx="807732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Приглашаем посетить наш музей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3"/>
          <p:cNvSpPr/>
          <p:nvPr/>
        </p:nvSpPr>
        <p:spPr>
          <a:xfrm>
            <a:off x="304920" y="4191120"/>
            <a:ext cx="1981080" cy="190476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149688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Oval 5"/>
          <p:cNvSpPr/>
          <p:nvPr/>
        </p:nvSpPr>
        <p:spPr>
          <a:xfrm>
            <a:off x="304920" y="1295280"/>
            <a:ext cx="761760" cy="76212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Oval 6"/>
          <p:cNvSpPr/>
          <p:nvPr/>
        </p:nvSpPr>
        <p:spPr>
          <a:xfrm>
            <a:off x="1600200" y="3200400"/>
            <a:ext cx="762120" cy="76212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Oval 7"/>
          <p:cNvSpPr/>
          <p:nvPr/>
        </p:nvSpPr>
        <p:spPr>
          <a:xfrm>
            <a:off x="3048120" y="4724280"/>
            <a:ext cx="761760" cy="76212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Oval 8"/>
          <p:cNvSpPr/>
          <p:nvPr/>
        </p:nvSpPr>
        <p:spPr>
          <a:xfrm>
            <a:off x="5181480" y="5943600"/>
            <a:ext cx="762120" cy="76212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019920" y="5257800"/>
            <a:ext cx="3124080" cy="160020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4e4e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кскурс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зав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кристалличе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ем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066680" y="152280"/>
            <a:ext cx="3124440" cy="160020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4e4e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емний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ое веществ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зические свой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4e4e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емний в природ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чение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вых организм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4495680" y="3581280"/>
            <a:ext cx="3124440" cy="160020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4e4e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единения кремни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х примен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990720" y="2133720"/>
            <a:ext cx="68580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2209680" y="3886200"/>
            <a:ext cx="83844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3657600" y="5410080"/>
            <a:ext cx="1600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19"/>
          <p:cNvSpPr/>
          <p:nvPr/>
        </p:nvSpPr>
        <p:spPr>
          <a:xfrm>
            <a:off x="5486400" y="228600"/>
            <a:ext cx="3505320" cy="160020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WordArt 20"/>
          <p:cNvSpPr txBox="1"/>
          <p:nvPr/>
        </p:nvSpPr>
        <p:spPr>
          <a:xfrm>
            <a:off x="1600200" y="6172200"/>
            <a:ext cx="23526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наш экскурсово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9" name="WordArt 21"/>
          <p:cNvSpPr txBox="1"/>
          <p:nvPr/>
        </p:nvSpPr>
        <p:spPr>
          <a:xfrm>
            <a:off x="152280" y="3657600"/>
            <a:ext cx="14004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Бурундучок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0" name="WordArt 24"/>
          <p:cNvSpPr txBox="1"/>
          <p:nvPr/>
        </p:nvSpPr>
        <p:spPr>
          <a:xfrm>
            <a:off x="5715000" y="685800"/>
            <a:ext cx="3124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спозиции нашего музея</a:t>
            </a:r>
            <a:endParaRPr b="0" lang="en-US" sz="2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25"/>
          <p:cNvSpPr txBox="1"/>
          <p:nvPr/>
        </p:nvSpPr>
        <p:spPr>
          <a:xfrm>
            <a:off x="533520" y="1523880"/>
            <a:ext cx="2286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26"/>
          <p:cNvSpPr txBox="1"/>
          <p:nvPr/>
        </p:nvSpPr>
        <p:spPr>
          <a:xfrm>
            <a:off x="1905120" y="33526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27"/>
          <p:cNvSpPr txBox="1"/>
          <p:nvPr/>
        </p:nvSpPr>
        <p:spPr>
          <a:xfrm>
            <a:off x="3276720" y="48769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20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28"/>
          <p:cNvSpPr txBox="1"/>
          <p:nvPr/>
        </p:nvSpPr>
        <p:spPr>
          <a:xfrm>
            <a:off x="5410080" y="6095880"/>
            <a:ext cx="3049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20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1"/>
          <p:cNvSpPr/>
          <p:nvPr/>
        </p:nvSpPr>
        <p:spPr>
          <a:xfrm>
            <a:off x="1295280" y="152280"/>
            <a:ext cx="1981440" cy="190512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3733560" cy="2532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533520" y="2362320"/>
            <a:ext cx="3124080" cy="121896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ще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ребристо-серого цвет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металлическим блеск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0880" y="4343400"/>
            <a:ext cx="8382240" cy="220968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исталлическая решётка  кубическая гранецентрирова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лавления 1415 °С (плавится с уменьшением объема на 9%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. Кипения 3249 °С,  плотность 2,33 г/см3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плопроводность 95,5 Вт/(м.К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амагнетик, магнитная восприимчивость — 3,9.10-6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обычных условиях кремний хрупок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ше 800 °С становится пластич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1497240" cy="1600200"/>
          </a:xfrm>
          <a:prstGeom prst="rect">
            <a:avLst/>
          </a:prstGeom>
          <a:ln w="0">
            <a:noFill/>
          </a:ln>
        </p:spPr>
      </p:pic>
      <p:sp>
        <p:nvSpPr>
          <p:cNvPr id="71" name="Oval 9"/>
          <p:cNvSpPr/>
          <p:nvPr/>
        </p:nvSpPr>
        <p:spPr>
          <a:xfrm>
            <a:off x="380880" y="685800"/>
            <a:ext cx="762120" cy="76212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3352680" y="380880"/>
            <a:ext cx="5486400" cy="99072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накомьтесь: это кремний кристалл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WordArt 12"/>
          <p:cNvSpPr txBox="1"/>
          <p:nvPr/>
        </p:nvSpPr>
        <p:spPr>
          <a:xfrm>
            <a:off x="609480" y="838080"/>
            <a:ext cx="2286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1219320" y="152280"/>
            <a:ext cx="1981080" cy="190512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1496880" cy="1600200"/>
          </a:xfrm>
          <a:prstGeom prst="rect">
            <a:avLst/>
          </a:prstGeom>
          <a:ln w="0">
            <a:noFill/>
          </a:ln>
        </p:spPr>
      </p:pic>
      <p:sp>
        <p:nvSpPr>
          <p:cNvPr id="76" name="Oval 6"/>
          <p:cNvSpPr/>
          <p:nvPr/>
        </p:nvSpPr>
        <p:spPr>
          <a:xfrm>
            <a:off x="228600" y="685800"/>
            <a:ext cx="762120" cy="76212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7"/>
          <p:cNvSpPr/>
          <p:nvPr/>
        </p:nvSpPr>
        <p:spPr>
          <a:xfrm>
            <a:off x="3352680" y="152280"/>
            <a:ext cx="5562720" cy="205740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ли из вас сразу смогут ответить на вопро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А каково значение крем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живых существ? Используют ли они его?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3886200" y="2666880"/>
            <a:ext cx="2438280" cy="144792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ш ответ «ДА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33520" y="4724280"/>
            <a:ext cx="3429000" cy="129564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 осн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елетов морских радиоляри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ногих губо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рских звёз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105520" y="4724280"/>
            <a:ext cx="3429000" cy="129564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ного в клетках растен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енно в осоках, пальм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мбуке, хвощ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2"/>
          <a:stretch/>
        </p:blipFill>
        <p:spPr>
          <a:xfrm>
            <a:off x="7238880" y="2362320"/>
            <a:ext cx="1447920" cy="2171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895480" cy="1687680"/>
          </a:xfrm>
          <a:prstGeom prst="rect">
            <a:avLst/>
          </a:prstGeom>
          <a:ln w="0">
            <a:noFill/>
          </a:ln>
        </p:spPr>
      </p:pic>
      <p:sp>
        <p:nvSpPr>
          <p:cNvPr id="83" name="WordArt 17"/>
          <p:cNvSpPr txBox="1"/>
          <p:nvPr/>
        </p:nvSpPr>
        <p:spPr>
          <a:xfrm>
            <a:off x="533520" y="8380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152280" y="152280"/>
            <a:ext cx="1981440" cy="190512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572000" y="228600"/>
            <a:ext cx="4343400" cy="541008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 данным спектрального анализ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ежедневных продуктах, выделен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доров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ганизмом челове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держание кремния 4,7 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рганизме человека крем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ьмикратно участвует в процесса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знеобеспеч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едовательно, скрытый проце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астия кремния в процесс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знеобеспечения 4,7x8=38 %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. е. около 38 % наше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доровья зиждется на кремн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о данным М. Г. Воронкова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недостатке кремния 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ганизме человека нарушает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ланс обмена веществ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. к. более 70 друг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ментов просто не усваиваю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838080" y="5943600"/>
            <a:ext cx="7543800" cy="68580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"Никакой организм не может существовать без кремния..."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. И. Вернад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497240" cy="1600200"/>
          </a:xfrm>
          <a:prstGeom prst="rect">
            <a:avLst/>
          </a:prstGeom>
          <a:ln w="0">
            <a:noFill/>
          </a:ln>
        </p:spPr>
      </p:pic>
      <p:sp>
        <p:nvSpPr>
          <p:cNvPr id="88" name="Oval 9"/>
          <p:cNvSpPr/>
          <p:nvPr/>
        </p:nvSpPr>
        <p:spPr>
          <a:xfrm>
            <a:off x="2438280" y="152280"/>
            <a:ext cx="1828800" cy="205740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ть 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емн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рганизм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ловек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304920" y="2666880"/>
            <a:ext cx="3352680" cy="243864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рганизме челове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одержится 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стях, клетка кож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единительных ткан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1"/>
          <p:cNvSpPr/>
          <p:nvPr/>
        </p:nvSpPr>
        <p:spPr>
          <a:xfrm>
            <a:off x="1295280" y="152280"/>
            <a:ext cx="1981440" cy="190512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Oval 4"/>
          <p:cNvSpPr/>
          <p:nvPr/>
        </p:nvSpPr>
        <p:spPr>
          <a:xfrm>
            <a:off x="228600" y="609480"/>
            <a:ext cx="762120" cy="76212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149724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Oval 6"/>
          <p:cNvSpPr/>
          <p:nvPr/>
        </p:nvSpPr>
        <p:spPr>
          <a:xfrm>
            <a:off x="3505320" y="304920"/>
            <a:ext cx="5029200" cy="160020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тепер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накомьтесь с многочисленны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единениями кремни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ые он образует в природе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2133720"/>
          <a:ext cx="7924680" cy="406404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емний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торой после кислорода п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пространенности в земной коре элемент (27,6% по массе)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28" descr="Раухтопаз"/>
          <p:cNvPicPr/>
          <p:nvPr/>
        </p:nvPicPr>
        <p:blipFill>
          <a:blip r:embed="rId2"/>
          <a:stretch/>
        </p:blipFill>
        <p:spPr>
          <a:xfrm>
            <a:off x="838080" y="42670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9" descr="Аметист (2)"/>
          <p:cNvPicPr/>
          <p:nvPr/>
        </p:nvPicPr>
        <p:blipFill>
          <a:blip r:embed="rId3"/>
          <a:stretch/>
        </p:blipFill>
        <p:spPr>
          <a:xfrm>
            <a:off x="2971800" y="2286000"/>
            <a:ext cx="971640" cy="1295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Яшма (3)"/>
          <p:cNvPicPr/>
          <p:nvPr/>
        </p:nvPicPr>
        <p:blipFill>
          <a:blip r:embed="rId4"/>
          <a:stretch/>
        </p:blipFill>
        <p:spPr>
          <a:xfrm>
            <a:off x="2743200" y="4267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2" descr="Горный Хрусталь (2)"/>
          <p:cNvPicPr/>
          <p:nvPr/>
        </p:nvPicPr>
        <p:blipFill>
          <a:blip r:embed="rId5"/>
          <a:stretch/>
        </p:blipFill>
        <p:spPr>
          <a:xfrm>
            <a:off x="48769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5" descr="Кремень (3)"/>
          <p:cNvPicPr/>
          <p:nvPr/>
        </p:nvPicPr>
        <p:blipFill>
          <a:blip r:embed="rId6"/>
          <a:stretch/>
        </p:blipFill>
        <p:spPr>
          <a:xfrm>
            <a:off x="4876920" y="4267080"/>
            <a:ext cx="1371600" cy="1122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6" descr=""/>
          <p:cNvPicPr/>
          <p:nvPr/>
        </p:nvPicPr>
        <p:blipFill>
          <a:blip r:embed="rId7"/>
          <a:stretch/>
        </p:blipFill>
        <p:spPr>
          <a:xfrm>
            <a:off x="6858000" y="2286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7"/>
          <p:cNvSpPr/>
          <p:nvPr/>
        </p:nvSpPr>
        <p:spPr>
          <a:xfrm>
            <a:off x="6705720" y="5715000"/>
            <a:ext cx="1523880" cy="38088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га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2743200" y="3733920"/>
            <a:ext cx="1523880" cy="38088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метис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4572000" y="3733920"/>
            <a:ext cx="1828800" cy="38088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рный хруста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6705720" y="3733920"/>
            <a:ext cx="1523880" cy="38088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итри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685800" y="5715000"/>
            <a:ext cx="1523880" cy="38088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ухтопа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42"/>
          <p:cNvSpPr/>
          <p:nvPr/>
        </p:nvSpPr>
        <p:spPr>
          <a:xfrm>
            <a:off x="2743200" y="5715000"/>
            <a:ext cx="1523880" cy="38088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шм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3"/>
          <p:cNvSpPr/>
          <p:nvPr/>
        </p:nvSpPr>
        <p:spPr>
          <a:xfrm>
            <a:off x="4724280" y="5715000"/>
            <a:ext cx="1524240" cy="38088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емен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8" descr="Агат (2)"/>
          <p:cNvPicPr/>
          <p:nvPr/>
        </p:nvPicPr>
        <p:blipFill>
          <a:blip r:embed="rId8"/>
          <a:stretch/>
        </p:blipFill>
        <p:spPr>
          <a:xfrm>
            <a:off x="6705720" y="4267080"/>
            <a:ext cx="1523880" cy="124308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8"/>
          <p:cNvSpPr txBox="1"/>
          <p:nvPr/>
        </p:nvSpPr>
        <p:spPr>
          <a:xfrm>
            <a:off x="457200" y="7621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20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Rectangle 59"/>
          <p:cNvSpPr/>
          <p:nvPr/>
        </p:nvSpPr>
        <p:spPr>
          <a:xfrm>
            <a:off x="2971800" y="6324480"/>
            <a:ext cx="3200400" cy="38124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М ПОНРАВИЛОСЬ ?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1295280" y="152280"/>
            <a:ext cx="1981440" cy="190512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228600" y="609480"/>
            <a:ext cx="762120" cy="76212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1497240" cy="1600200"/>
          </a:xfrm>
          <a:prstGeom prst="rect">
            <a:avLst/>
          </a:prstGeom>
          <a:ln w="0">
            <a:noFill/>
          </a:ln>
        </p:spPr>
      </p:pic>
      <p:sp>
        <p:nvSpPr>
          <p:cNvPr id="114" name="Oval 7"/>
          <p:cNvSpPr/>
          <p:nvPr/>
        </p:nvSpPr>
        <p:spPr>
          <a:xfrm>
            <a:off x="3733920" y="304920"/>
            <a:ext cx="4572000" cy="160020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эти экспонаты – творение ру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ого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укция силикат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мышленност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WordArt 8"/>
          <p:cNvSpPr txBox="1"/>
          <p:nvPr/>
        </p:nvSpPr>
        <p:spPr>
          <a:xfrm>
            <a:off x="457200" y="7621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2286000"/>
          <a:ext cx="8077320" cy="2260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600"/>
                <a:gridCol w="2019240"/>
              </a:tblGrid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Picture 23" descr="Черепица (1)"/>
          <p:cNvPicPr/>
          <p:nvPr/>
        </p:nvPicPr>
        <p:blipFill>
          <a:blip r:embed="rId4"/>
          <a:stretch/>
        </p:blipFill>
        <p:spPr>
          <a:xfrm>
            <a:off x="609480" y="2362320"/>
            <a:ext cx="1752840" cy="1415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4" descr="Трубы бетонные (1)"/>
          <p:cNvPicPr/>
          <p:nvPr/>
        </p:nvPicPr>
        <p:blipFill>
          <a:blip r:embed="rId5"/>
          <a:stretch/>
        </p:blipFill>
        <p:spPr>
          <a:xfrm>
            <a:off x="2590920" y="2362320"/>
            <a:ext cx="1778040" cy="1333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Фарфор"/>
          <p:cNvPicPr/>
          <p:nvPr/>
        </p:nvPicPr>
        <p:blipFill>
          <a:blip r:embed="rId6"/>
          <a:stretch/>
        </p:blipFill>
        <p:spPr>
          <a:xfrm>
            <a:off x="6553080" y="23623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Стекло цветное (2)"/>
          <p:cNvPicPr/>
          <p:nvPr/>
        </p:nvPicPr>
        <p:blipFill>
          <a:blip r:embed="rId7"/>
          <a:stretch/>
        </p:blipFill>
        <p:spPr>
          <a:xfrm>
            <a:off x="4876920" y="2362320"/>
            <a:ext cx="1317600" cy="1371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7"/>
          <p:cNvSpPr/>
          <p:nvPr/>
        </p:nvSpPr>
        <p:spPr>
          <a:xfrm>
            <a:off x="685800" y="3962520"/>
            <a:ext cx="1676520" cy="53316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пи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2666880" y="3962520"/>
            <a:ext cx="1676520" cy="53316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у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4648320" y="3962520"/>
            <a:ext cx="1676160" cy="53316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траж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ек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30"/>
          <p:cNvSpPr/>
          <p:nvPr/>
        </p:nvSpPr>
        <p:spPr>
          <a:xfrm>
            <a:off x="6629400" y="3962520"/>
            <a:ext cx="1676520" cy="53316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арф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1"/>
          <p:cNvSpPr/>
          <p:nvPr/>
        </p:nvSpPr>
        <p:spPr>
          <a:xfrm>
            <a:off x="2133720" y="5105520"/>
            <a:ext cx="4952880" cy="137160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 этих изделиях и ещё о множеств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их мы узнаем на урок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мии в следующем г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5"/>
          <p:cNvSpPr/>
          <p:nvPr/>
        </p:nvSpPr>
        <p:spPr>
          <a:xfrm>
            <a:off x="1143000" y="152280"/>
            <a:ext cx="1981080" cy="190512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343400" y="3552840"/>
            <a:ext cx="433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304920" y="609480"/>
            <a:ext cx="761760" cy="76212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149688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380880" y="2362320"/>
          <a:ext cx="8458200" cy="4479840"/>
        </p:xfrm>
        <a:graphic>
          <a:graphicData uri="http://schemas.openxmlformats.org/drawingml/2006/table">
            <a:tbl>
              <a:tblPr/>
              <a:tblGrid>
                <a:gridCol w="5106960"/>
                <a:gridCol w="957240"/>
                <a:gridCol w="2394000"/>
              </a:tblGrid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первые в России в рамках одного завода  собраны все технологические переделы: от первичной переработки сырья до производства кремниевых пластин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конце 1998 г. на комбинате был создан цех по производству монокристаллического кремния, параллельно велось строительство Завода по производству поликристаллического кремния (ЗПК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2006 году была получена первая опытная партия поликристаллического крем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шение о создании на ГХК комплексного кремниевого производства в рамках конверсии было принято еще в конце 1980-х г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нокристалли 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ский кремний является базовым материалом микроэлектроники, силовой электротехники, фотоэлектрических преобразовател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Oval 64"/>
          <p:cNvSpPr/>
          <p:nvPr/>
        </p:nvSpPr>
        <p:spPr>
          <a:xfrm>
            <a:off x="3352680" y="152280"/>
            <a:ext cx="5105520" cy="198144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теперь познакомьтесь, наш зав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 производству крем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рия возникнов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ук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асти исполь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67"/>
          <p:cNvSpPr txBox="1"/>
          <p:nvPr/>
        </p:nvSpPr>
        <p:spPr>
          <a:xfrm>
            <a:off x="533520" y="762120"/>
            <a:ext cx="3045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15"/>
          <p:cNvSpPr/>
          <p:nvPr/>
        </p:nvSpPr>
        <p:spPr>
          <a:xfrm>
            <a:off x="152280" y="152280"/>
            <a:ext cx="762120" cy="762120"/>
          </a:xfrm>
          <a:prstGeom prst="ellipse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380880" y="380880"/>
            <a:ext cx="3049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228600" y="990720"/>
            <a:ext cx="4038480" cy="335268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Кремний электронного кач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т. н. «электронный кремний»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иболее качественный крем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содержанием крем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ыше 99,999 % по вес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ее высокими показател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 времени жизни (свыше 25 мкс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ользуемый для производст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вердотельных электро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боров, микросхем и т. п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4495680" y="228600"/>
            <a:ext cx="4114800" cy="320040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2. Кремний солнечного кач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т. н. «солнечный кремний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емний с содержанием крем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ыше 99,99 % по вес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 средними значениями време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зни неравновесных носителе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удельного электросопроти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до 25мкс и до 10 Ом.см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ользуемый для произво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тоэлектрических преобразова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лнечных батарей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25"/>
          <p:cNvSpPr/>
          <p:nvPr/>
        </p:nvSpPr>
        <p:spPr>
          <a:xfrm>
            <a:off x="2362320" y="4419720"/>
            <a:ext cx="6400800" cy="167616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3. Технический крем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содержит 98 % крем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ая примесь — углерод, отличается высок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держанием легирующих элементов —бора, фосфор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юминия; в основном используется для получ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икристаллического кремния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2362320" y="6324480"/>
            <a:ext cx="3809880" cy="381240"/>
          </a:xfrm>
          <a:prstGeom prst="rect">
            <a:avLst/>
          </a:prstGeom>
          <a:solidFill>
            <a:srgbClr val="5e58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 новых встреч в нашем музе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ушак Ольга</cp:lastModifiedBy>
  <dcterms:modified xsi:type="dcterms:W3CDTF">2015-02-02T04:56:0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