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091-BC2E-4B58-AE17-E5CBA36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CD6-0F76-438D-8A96-5F278C06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C29-EAA4-4C46-BE1E-20E5993C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8CF-B754-42C2-9B8F-206A5269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CD6E-7946-4F31-9636-E6B68CC9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C05-5C3E-43EC-9F69-A87635A4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6B49-D14E-48E7-BE10-669BBAE9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F1B-D0C4-46C9-933A-FD54A97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4F1F-2B8E-4413-98CD-A41DB897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8B4-B7FC-472F-A49F-A5E831AB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6A6D-C6D5-40CF-9267-115FF94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BEC-3741-455A-98C1-11E26F1A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2E1-DC74-402F-AA0F-3BCED24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2F6D-EE47-444C-832B-6175298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C29-466E-47DD-9895-E88634FC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EE7-E14E-45F8-BAF4-E2320504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CBF-4FFE-4125-BDB7-479DD551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BB43-C847-4D83-A9E2-D7356618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7598-D923-48BC-9D1B-AF6123E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E765-647A-4426-B363-E48B54C1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A57A-5091-4529-A4AF-6783E99D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ED05-B826-4EA8-9A2A-78E25A50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6F5-59B5-48B3-961D-656F3BA3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45A3-13E7-4DD7-AD8E-C011AB0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5193-993A-447A-B686-56876E90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8626-C30B-401D-AD69-5D6D5073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C89A-17FB-47F7-A555-92ABF14F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F84E-7276-4555-9204-695A06FF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2882-EF90-4BEA-98A3-7010759F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5F55-83DF-4860-947C-D963F7C0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9921-848E-4CCE-808B-26E0F217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B50F-A6AA-425D-BE41-EB4AC1E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D97E-4D32-4707-9C82-CF56190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653-30D5-4498-AD0C-7E252BEA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569C-8DBA-45FF-BA2E-A8F5C910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C751-DBC7-4384-B97D-65D78E2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9AD4-BF1D-4638-871D-CE32FA7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3C7F-1198-41D1-BFA2-D17DA6A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DB78-3CFF-4407-A7FC-2425EDB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6540-BD47-4FC1-98F7-CE4B3C5D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A87E-0C5C-4E92-94E2-75131C26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37AB-F021-4B6C-A588-F612077C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7AE8-A0C7-4BC6-9CF5-CF0EA45F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3315-722A-4EEB-A5D2-B8557972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DC5-1090-4300-A355-B0D148DD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1D89-6790-4652-923C-8213AC96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E64B-9862-430D-AD6B-11824411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4DC9-CF66-4ACC-A571-2AA3EBF0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79EA-F1EC-42E7-AF86-BD8B4D31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B404-AD5C-45B3-9B92-3B4DDCC3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908FE-DB35-426A-8DDD-5E8BBA2F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F398F-E958-4059-944B-BA499C4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1E7F-FE76-436B-BBC1-C73AF30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A785-A816-438C-8BAE-3A42CA67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0474-5B72-43E1-94F5-05BFF1F8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1F3-5B94-4024-B1EA-26833928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ED7AA-C9BF-4C50-974B-3E489962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BC2-86A8-4C1D-96ED-052F42F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D4E-078C-4275-8BA3-C42A6779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558-1BE2-427C-B71B-2EDD626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22D-CA44-4815-BE16-6CABF6A79E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60CB-3AFF-4941-8EC3-D72BB6554B0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369-DFE5-47A1-BE0A-9A093847F7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3B5-2EEB-4E70-845C-2A1EB0FD4C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638D-324B-4B4F-ACFA-6148ABB70C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одзаголовок 2"/>
          <p:cNvSpPr/>
          <p:nvPr/>
        </p:nvSpPr>
        <p:spPr>
          <a:xfrm>
            <a:off x="3780000" y="3573360"/>
            <a:ext cx="500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гимназии №2 «Квантор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цык Регина Алексе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20364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 Коломна, 20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84360" y="620640"/>
            <a:ext cx="78325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468360" y="907920"/>
            <a:ext cx="8207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ТЕМА: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Правовая ответственность проявления детской агресс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2" descr="http://www.char.ru/books/p988930.jpg"/>
          <p:cNvPicPr/>
          <p:nvPr/>
        </p:nvPicPr>
        <p:blipFill>
          <a:blip r:embed="rId1"/>
          <a:stretch/>
        </p:blipFill>
        <p:spPr>
          <a:xfrm rot="21265200">
            <a:off x="971640" y="3789360"/>
            <a:ext cx="1573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468360" y="98100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упрежд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just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дминистративный шт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just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нфискация орудия совершения или предмета административного правонаруш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just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дминистративное выдворение з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делы Российской Федерации иностранного гражданина или лица без граждан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468360" y="3333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 Black"/>
              </a:rPr>
              <a:t>Виды наказ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24000" y="33336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Гражданская ответственнос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324000" y="1052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ред, причиненный личности или имуществу гражданина, а также вред, причиненный имуществу юридического лица, подлежит возмещению в полном объеме лицом, причинившим вре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Рисунок 3" descr="25253.jpg"/>
          <p:cNvPicPr/>
          <p:nvPr/>
        </p:nvPicPr>
        <p:blipFill>
          <a:blip r:embed="rId1"/>
          <a:srcRect l="2439" t="0" r="2350" b="5487"/>
          <a:stretch/>
        </p:blipFill>
        <p:spPr>
          <a:xfrm rot="199200">
            <a:off x="5784840" y="4231800"/>
            <a:ext cx="2906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395280" y="40464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подросток совершил уголовно наказуемое деяние или административный проступок до достижения возраста, с которого наступает ответственность он может быть помещен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крытую спецшколу на срок до трех лет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ставлен на учет в поли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Рисунок 3" descr="37299.jpg"/>
          <p:cNvPicPr/>
          <p:nvPr/>
        </p:nvPicPr>
        <p:blipFill>
          <a:blip r:embed="rId1"/>
          <a:stretch/>
        </p:blipFill>
        <p:spPr>
          <a:xfrm>
            <a:off x="179280" y="3573360"/>
            <a:ext cx="373248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http://rrnews.ru/sites/default/files/styles/body_main_img_720/public/news/09-2014/specshkola.jpg?itok=z2BFCZ0h"/>
          <p:cNvPicPr/>
          <p:nvPr/>
        </p:nvPicPr>
        <p:blipFill>
          <a:blip r:embed="rId2"/>
          <a:stretch/>
        </p:blipFill>
        <p:spPr>
          <a:xfrm>
            <a:off x="4067280" y="3645000"/>
            <a:ext cx="48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468360" y="47628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 противоправные действия, совершенные несовершеннолетними, не достигшими уголовной или административной ответственности,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авовая ответственность возлагается на родителей или иных законных представителей несовершеннолетн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4" descr="http://ou83.omsk.obr55.ru/files/2014/10/RRNP.jpg"/>
          <p:cNvPicPr/>
          <p:nvPr/>
        </p:nvPicPr>
        <p:blipFill>
          <a:blip r:embed="rId1"/>
          <a:stretch/>
        </p:blipFill>
        <p:spPr>
          <a:xfrm>
            <a:off x="2124000" y="3624120"/>
            <a:ext cx="50752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Заголовок 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Arial Black"/>
              </a:rPr>
              <a:t>Уголовно-правовая ответственность родителей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68360" y="1844640"/>
            <a:ext cx="82296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Ст.156 УК Р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неисполнение обязанностей по воспитанию несовершеннолетнего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324000" y="2414520"/>
            <a:ext cx="835164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ahoma"/>
              </a:rPr>
              <a:t>Статья 156. Неисполнение обязанностей по воспитанию несовершеннолетнег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исполнение или ненадлежащее исполнение обязанностей по воспитанию несовершеннолетнего родителем или иным лицом, на которое возложены эти обязанности, а равно педагогом или другим работником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инимальное наказани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– штраф в размере 100 000 рублей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аксимальное наказание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- лишение свободы сроком до 5 ле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8" descr="iCAXIF9SR"/>
          <p:cNvPicPr/>
          <p:nvPr/>
        </p:nvPicPr>
        <p:blipFill>
          <a:blip r:embed="rId1"/>
          <a:stretch/>
        </p:blipFill>
        <p:spPr>
          <a:xfrm>
            <a:off x="324000" y="260280"/>
            <a:ext cx="2735280" cy="20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1" name="Picture 9" descr="iCA41SYQM"/>
          <p:cNvPicPr/>
          <p:nvPr/>
        </p:nvPicPr>
        <p:blipFill>
          <a:blip r:embed="rId2"/>
          <a:stretch/>
        </p:blipFill>
        <p:spPr>
          <a:xfrm>
            <a:off x="3203640" y="333360"/>
            <a:ext cx="2808360" cy="184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72" name="Picture 11" descr="iCAR9S9GD"/>
          <p:cNvPicPr/>
          <p:nvPr/>
        </p:nvPicPr>
        <p:blipFill>
          <a:blip r:embed="rId3"/>
          <a:stretch/>
        </p:blipFill>
        <p:spPr>
          <a:xfrm>
            <a:off x="6372360" y="333360"/>
            <a:ext cx="2376360" cy="2060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826920" y="333360"/>
            <a:ext cx="7848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Arial Black"/>
              </a:rPr>
              <a:t>Административная ответственность родителей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395280" y="5084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лечет предупреждение или наложение административного штрафа в размере от ста до пятисот руб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395280" y="1484280"/>
            <a:ext cx="84978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.5.35 КоАП РФ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ahoma"/>
              </a:rPr>
              <a:t>(неисполнение или ненадлежащее исполнение родителями или иными законными представителями несовершеннолетних обязанностей по содержанию, воспитанию, обучению, защите прав и интересов несовершеннолетних</a:t>
            </a:r>
            <a:r>
              <a:rPr b="1" i="1" lang="ru-RU" sz="2800" spc="-1" strike="noStrike">
                <a:solidFill>
                  <a:srgbClr val="0d0d0d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Заголовок 1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 Black"/>
              </a:rPr>
              <a:t>Гражданско-правовая ответственность родител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Скругленный прямоугольник 2"/>
          <p:cNvSpPr/>
          <p:nvPr/>
        </p:nvSpPr>
        <p:spPr>
          <a:xfrm>
            <a:off x="428760" y="1857240"/>
            <a:ext cx="8286480" cy="3803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За вред, причиненный несовершеннолетним, не достигшим четырнадцати лет (малолетним), отвечают его родители (усыновители) или опекуны, если не докажут, что вред возник не по их вине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(ст.1073 ГК РФ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7" descr="http://im0-tub-ru.yandex.net/i?id=92689925-65-73&amp;n=21"/>
          <p:cNvPicPr/>
          <p:nvPr/>
        </p:nvPicPr>
        <p:blipFill>
          <a:blip r:embed="rId1"/>
          <a:stretch/>
        </p:blipFill>
        <p:spPr>
          <a:xfrm>
            <a:off x="208080" y="208080"/>
            <a:ext cx="2011320" cy="1644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900000" y="1700280"/>
            <a:ext cx="7629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иабезопасность школьнико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Рисунок 25" descr="http://im7-tub-ru.yandex.net/i?id=209571516-24-73&amp;n=21"/>
          <p:cNvPicPr/>
          <p:nvPr/>
        </p:nvPicPr>
        <p:blipFill>
          <a:blip r:embed="rId2"/>
          <a:stretch/>
        </p:blipFill>
        <p:spPr>
          <a:xfrm>
            <a:off x="5735520" y="4780080"/>
            <a:ext cx="3054600" cy="181584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4"/>
          <p:cNvSpPr/>
          <p:nvPr/>
        </p:nvSpPr>
        <p:spPr>
          <a:xfrm>
            <a:off x="611280" y="314172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ФЗ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от 29.12.2010 № 436-ФЗ 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«О защите детей от информации, причиняющей вред их здоровью и развитию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0" descr="http://im5-tub-ru.yandex.net/i?id=246341032-42-73&amp;n=21"/>
          <p:cNvPicPr/>
          <p:nvPr/>
        </p:nvPicPr>
        <p:blipFill>
          <a:blip r:embed="rId1"/>
          <a:stretch/>
        </p:blipFill>
        <p:spPr>
          <a:xfrm>
            <a:off x="250920" y="260280"/>
            <a:ext cx="1743120" cy="26100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2124000" y="333360"/>
            <a:ext cx="669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едеральный закон № 436-ФЗ «О защите детей от информации, причиняющей вред их здоровью и развитию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устанавливает правила медиабезопасности детей при обороте на территории России продукции средств массовой информации, печатной, аудиовизуальной продукции на любых видах носителей, программ для ЭВМ и баз данных, а также информации, размещаемой в информационно-телекоммуникационных сетях и сетях подвижной радиотелефонной связи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8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8071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468360" y="134136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БД– это состояние защищенности детей, при котором отсутствует риск, связанный с причинением информацией, в том числе распространяемой в сети Интернет, вреда их здоровью, физическому, психическому, духовному и нравственному развитию (Федеральный закон от 29.12.2010 № 436-ФЗ "О защите детей от информации, причиняющей вред их здоровью и развитию")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Заголовок 4"/>
          <p:cNvSpPr/>
          <p:nvPr/>
        </p:nvSpPr>
        <p:spPr>
          <a:xfrm>
            <a:off x="395280" y="333360"/>
            <a:ext cx="83534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Verdana"/>
              </a:rPr>
              <a:t>Информационная безопасность детей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250920" y="333360"/>
            <a:ext cx="57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Федеральный законо от 24 июня 1999 г. №120-ФЗ «Об основах системы профилактики безнадзорности и правонарушений несовершеннолетних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4" descr="http://prokuror.kaluga.ru/files/uploads/images/%D1%84%D0%B7.jpg"/>
          <p:cNvPicPr/>
          <p:nvPr/>
        </p:nvPicPr>
        <p:blipFill>
          <a:blip r:embed="rId1"/>
          <a:stretch/>
        </p:blipFill>
        <p:spPr>
          <a:xfrm>
            <a:off x="5940360" y="2205000"/>
            <a:ext cx="30369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054520" y="333360"/>
            <a:ext cx="538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сновные поняти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95280" y="1125360"/>
            <a:ext cx="835344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совершеннолет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лицо, не достигшее 18 лет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езнадзор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несовершеннолетний, контроль за поведением которого отсутствует вследствие неисполнения или ненадлежащего исполнения обязанностей по его воспитанию, обучению и (или) содержанию со стороны родителей или законных представителей, либо должностных ли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5" descr="gerb"/>
          <p:cNvPicPr/>
          <p:nvPr/>
        </p:nvPicPr>
        <p:blipFill>
          <a:blip r:embed="rId1"/>
          <a:stretch/>
        </p:blipFill>
        <p:spPr>
          <a:xfrm>
            <a:off x="7451640" y="5084640"/>
            <a:ext cx="13064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95280" y="476280"/>
            <a:ext cx="8424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just">
              <a:lnSpc>
                <a:spcPct val="11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спризорны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безнадзорный, не имеющий места жительства и (или) места пребы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11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совершеннолет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ходящихся в социально опасном положен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лицо, которое в следствие безнадзорности или беспризорности, находится в обстановке, представляющей опасность для его жизни и здоровья, либо не отвечающей требованиям к его воспитанию или содержанию, либо совершает правонарушение или антиобщественные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4" descr="gerb"/>
          <p:cNvPicPr/>
          <p:nvPr/>
        </p:nvPicPr>
        <p:blipFill>
          <a:blip r:embed="rId1"/>
          <a:stretch/>
        </p:blipFill>
        <p:spPr>
          <a:xfrm>
            <a:off x="7236000" y="4869000"/>
            <a:ext cx="15840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280" y="404640"/>
            <a:ext cx="8424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, находящаяся в социально опасном полож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емья, имеющая детей, находящихся в социально опасном положении, а также семья, где родители или иные законные представители несовершеннолетних не исполняют своих обязанностей по их воспитанию, обучению и (или) содержанию и (или) отрицательно влияют на их поведение, либо жестоко обращаются с ни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4" descr="gerb"/>
          <p:cNvPicPr/>
          <p:nvPr/>
        </p:nvPicPr>
        <p:blipFill>
          <a:blip r:embed="rId1"/>
          <a:stretch/>
        </p:blipFill>
        <p:spPr>
          <a:xfrm>
            <a:off x="7308720" y="4797360"/>
            <a:ext cx="1584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395280" y="476280"/>
            <a:ext cx="81374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1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емья, находящаяся в трудной жизненной ситуации –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о семья, которая не в состоянии выполнять свои функции, особенно в отношении детей, в силу объективных социально-экономических условий, вести нормальную жизнедеятельность (болезнь или инвалидность членов семьи, малообеспеченность, безработица, конфликты, изоляция)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4" descr="gerb"/>
          <p:cNvPicPr/>
          <p:nvPr/>
        </p:nvPicPr>
        <p:blipFill>
          <a:blip r:embed="rId1"/>
          <a:stretch/>
        </p:blipFill>
        <p:spPr>
          <a:xfrm>
            <a:off x="7308720" y="4797360"/>
            <a:ext cx="1584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Verdana"/>
              </a:rPr>
              <a:t>Индивидуально-профилактическая работа: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324000" y="1268280"/>
            <a:ext cx="8496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ыявление детей и подростков, находящихся в социально опасном положении и формирование банка данны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иагностика проблем личностного и социального развития детей и подростков, включённых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 банк данных и попадающих в сферу деятельности системы профилактики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работка индивидуальной программы улучшения жизненной ситуации ребёнка.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ализация индивидуальных программ по улучшению жизненных ситуаций несовершеннолетних. 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Система профилакти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250920" y="1052640"/>
            <a:ext cx="3456000" cy="100800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ДНиЗ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250920" y="2421000"/>
            <a:ext cx="3529080" cy="100800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и управл-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ц.защи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50920" y="3789360"/>
            <a:ext cx="3527280" cy="1008000"/>
          </a:xfrm>
          <a:prstGeom prst="rect">
            <a:avLst/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опе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попечитель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5"/>
          <p:cNvSpPr/>
          <p:nvPr/>
        </p:nvSpPr>
        <p:spPr>
          <a:xfrm rot="8306400">
            <a:off x="3312720" y="781200"/>
            <a:ext cx="719280" cy="287280"/>
          </a:xfrm>
          <a:custGeom>
            <a:avLst/>
            <a:gdLst>
              <a:gd name="textAreaLeft" fmla="*/ 11232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250920" y="5229360"/>
            <a:ext cx="3529080" cy="100800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и управл-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932360" y="1052640"/>
            <a:ext cx="3456000" cy="1008000"/>
          </a:xfrm>
          <a:prstGeom prst="rect">
            <a:avLst/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х де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932360" y="2421000"/>
            <a:ext cx="3529080" cy="100800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ужб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нят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932360" y="3789360"/>
            <a:ext cx="3527280" cy="1008000"/>
          </a:xfrm>
          <a:prstGeom prst="rect">
            <a:avLst/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и управл-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4932360" y="5229360"/>
            <a:ext cx="3672000" cy="1008000"/>
          </a:xfrm>
          <a:prstGeom prst="rect">
            <a:avLst/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ы и управл-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делам молоде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11"/>
          <p:cNvSpPr/>
          <p:nvPr/>
        </p:nvSpPr>
        <p:spPr>
          <a:xfrm rot="7087800">
            <a:off x="3428640" y="2085840"/>
            <a:ext cx="718920" cy="287280"/>
          </a:xfrm>
          <a:custGeom>
            <a:avLst/>
            <a:gdLst>
              <a:gd name="textAreaLeft" fmla="*/ 112320 w 718920"/>
              <a:gd name="textAreaRight" fmla="*/ 629280 w 718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12"/>
          <p:cNvSpPr/>
          <p:nvPr/>
        </p:nvSpPr>
        <p:spPr>
          <a:xfrm rot="7087800">
            <a:off x="3429000" y="3598560"/>
            <a:ext cx="719280" cy="287280"/>
          </a:xfrm>
          <a:custGeom>
            <a:avLst/>
            <a:gdLst>
              <a:gd name="textAreaLeft" fmla="*/ 11232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13"/>
          <p:cNvSpPr/>
          <p:nvPr/>
        </p:nvSpPr>
        <p:spPr>
          <a:xfrm rot="7087800">
            <a:off x="3429000" y="4893840"/>
            <a:ext cx="719280" cy="287280"/>
          </a:xfrm>
          <a:custGeom>
            <a:avLst/>
            <a:gdLst>
              <a:gd name="textAreaLeft" fmla="*/ 11232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14"/>
          <p:cNvSpPr/>
          <p:nvPr/>
        </p:nvSpPr>
        <p:spPr>
          <a:xfrm rot="2388000">
            <a:off x="4516200" y="789120"/>
            <a:ext cx="718920" cy="287280"/>
          </a:xfrm>
          <a:custGeom>
            <a:avLst/>
            <a:gdLst>
              <a:gd name="textAreaLeft" fmla="*/ 112320 w 718920"/>
              <a:gd name="textAreaRight" fmla="*/ 629280 w 718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f29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15"/>
          <p:cNvSpPr/>
          <p:nvPr/>
        </p:nvSpPr>
        <p:spPr>
          <a:xfrm rot="3610200">
            <a:off x="4515840" y="2084040"/>
            <a:ext cx="719280" cy="28764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16"/>
          <p:cNvSpPr/>
          <p:nvPr/>
        </p:nvSpPr>
        <p:spPr>
          <a:xfrm rot="3610200">
            <a:off x="4443120" y="4892760"/>
            <a:ext cx="719280" cy="287280"/>
          </a:xfrm>
          <a:custGeom>
            <a:avLst/>
            <a:gdLst>
              <a:gd name="textAreaLeft" fmla="*/ 11232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17"/>
          <p:cNvSpPr/>
          <p:nvPr/>
        </p:nvSpPr>
        <p:spPr>
          <a:xfrm rot="3610200">
            <a:off x="4515840" y="3452400"/>
            <a:ext cx="719280" cy="28764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468360" y="40464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Verdana"/>
              </a:rPr>
              <a:t>Основные направления деятельности</a:t>
            </a: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cc"/>
                </a:solidFill>
                <a:latin typeface="Verdana"/>
              </a:rPr>
              <a:t>образовательных учреждений</a:t>
            </a: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95280" y="1341360"/>
            <a:ext cx="8353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just">
              <a:lnSpc>
                <a:spcPct val="8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азывают социально – психологическую и педагогическую помощь несовершеннолетним с ограниченными возможностями здоровья и (или) отклонениями в поведении, либо имеющими проблемы в обучении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8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являют несовершеннолетних, находящихся в социально опасном положении, а также не посещающих или систематически пропускающих по неуважительным причинам занятия в образовательном учреждении, принимают меры по их воспитанию и получению ими общего образова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just">
              <a:lnSpc>
                <a:spcPct val="85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являют семьи, находящиеся в социально опасном положении, и оказывают им помощь в обучении и воспитании дет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5" descr="gerb"/>
          <p:cNvPicPr/>
          <p:nvPr/>
        </p:nvPicPr>
        <p:blipFill>
          <a:blip r:embed="rId1"/>
          <a:stretch/>
        </p:blipFill>
        <p:spPr>
          <a:xfrm>
            <a:off x="7667640" y="5445000"/>
            <a:ext cx="1090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684360" y="40464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сновные направления деятельности образовательных учреждений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395280" y="1989000"/>
            <a:ext cx="8353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еспечивают организацию в образовательном учреждении спортивных секций, технических и иных кружков, клубов и привлечение к участию их несовершеннолетни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уществляют меры по реализации программ и методик, направленных на формирование законопослушного поведения несовершеннолетни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684360" y="404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ahoma"/>
              </a:rPr>
              <a:t>Виды ответственности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68360" y="1484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правов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Рисунок 5" descr="150941118.jpg"/>
          <p:cNvPicPr/>
          <p:nvPr/>
        </p:nvPicPr>
        <p:blipFill>
          <a:blip r:embed="rId1"/>
          <a:stretch/>
        </p:blipFill>
        <p:spPr>
          <a:xfrm>
            <a:off x="611280" y="3789360"/>
            <a:ext cx="4392360" cy="2476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glrp.5nx.ru/images/ranks/glrp_5nx_ru/aRibOjGBsIw.jpg"/>
          <p:cNvPicPr/>
          <p:nvPr/>
        </p:nvPicPr>
        <p:blipFill>
          <a:blip r:embed="rId2"/>
          <a:stretch/>
        </p:blipFill>
        <p:spPr>
          <a:xfrm rot="21252000">
            <a:off x="6084360" y="1341000"/>
            <a:ext cx="2878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755640" y="404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лгоритм работы с 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неблагополучными семьями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2"/>
          <p:cNvSpPr/>
          <p:nvPr/>
        </p:nvSpPr>
        <p:spPr>
          <a:xfrm>
            <a:off x="324000" y="148428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ступлении сигна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 фактах неблагополучия в семь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бор информации о сем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седа с ребен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реча с семь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ановка семьи на внутришкольный уч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авление собранной информации о семье в органы и службы системы профилакт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demotivators.to/media/posters/1831/543831_myi-navsegda-v-otvete-za-tehkogo-priruchili.jpg"/>
          <p:cNvPicPr/>
          <p:nvPr/>
        </p:nvPicPr>
        <p:blipFill>
          <a:blip r:embed="rId1"/>
          <a:srcRect l="8863" t="4865" r="10130" b="4569"/>
          <a:stretch/>
        </p:blipFill>
        <p:spPr>
          <a:xfrm>
            <a:off x="2124000" y="0"/>
            <a:ext cx="5112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712800" y="260280"/>
            <a:ext cx="77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Уголовная ответственност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324000" y="765000"/>
            <a:ext cx="864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Наступает с </a:t>
            </a:r>
            <a:r>
              <a:rPr b="1" lang="ru-RU" sz="25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лет (за все преступления)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1" lang="ru-RU" sz="25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 лет наступает уголовная ответственность за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395280" y="155736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бий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ышленное причинение тяжкого и средней тяжести вреда здоров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силование, насильственные действия сексуального характе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хищени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ж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абе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могатель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6" descr="http://bratsk.org/uploads/news/e6eb0336fb7918f4eadd9a9bd1e09f23edce7bd2_big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15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395280" y="404640"/>
            <a:ext cx="835344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еправомерное завладение автомобилем или иным транспортным средством без цели хищени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мышленное уничтожение или повреждение имущества при отягчающих обстоятельства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ведомо ложное сообщение о террористическом акт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террористический ак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ахват заложника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ttp://img3.vashgorod.ru/uploads/images/news/t5/f17098.jpg"/>
          <p:cNvPicPr/>
          <p:nvPr/>
        </p:nvPicPr>
        <p:blipFill>
          <a:blip r:embed="rId1"/>
          <a:srcRect l="6803" t="0" r="7397" b="0"/>
          <a:stretch/>
        </p:blipFill>
        <p:spPr>
          <a:xfrm>
            <a:off x="5187960" y="3860640"/>
            <a:ext cx="3956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324000" y="40464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щение либо вымогательство наркотических средств или психотропных веществ, приведение в негодность транспортных средств или путей сооб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щение либо вымогательство оружия, боеприпасов, взрывчатых веществ и взрывных устрой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улиганство при отягчающих обстоятельств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андализ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Рисунок 5" descr="скачанные файлы.jpg"/>
          <p:cNvPicPr/>
          <p:nvPr/>
        </p:nvPicPr>
        <p:blipFill>
          <a:blip r:embed="rId1"/>
          <a:stretch/>
        </p:blipFill>
        <p:spPr>
          <a:xfrm>
            <a:off x="4932360" y="3951360"/>
            <a:ext cx="3816360" cy="2859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6"/>
          <p:cNvSpPr/>
          <p:nvPr/>
        </p:nvSpPr>
        <p:spPr>
          <a:xfrm>
            <a:off x="395280" y="4797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  <a:ea typeface="Arial"/>
              </a:rPr>
              <a:t>(ч. 2. ст. 20 УК Р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1"/>
          <p:cNvSpPr/>
          <p:nvPr/>
        </p:nvSpPr>
        <p:spPr>
          <a:xfrm>
            <a:off x="468360" y="33336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Виды наказани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Скругленный прямоугольник 2"/>
          <p:cNvSpPr/>
          <p:nvPr/>
        </p:nvSpPr>
        <p:spPr>
          <a:xfrm>
            <a:off x="179280" y="836640"/>
            <a:ext cx="3168720" cy="8636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  <a:ea typeface="Arial"/>
              </a:rPr>
              <a:t>в размер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  <a:ea typeface="Arial"/>
              </a:rPr>
              <a:t>от </a:t>
            </a:r>
            <a:r>
              <a:rPr b="1" lang="ru-RU" sz="2000" spc="-1" strike="noStrike">
                <a:solidFill>
                  <a:srgbClr val="0d0d0d"/>
                </a:solidFill>
                <a:latin typeface="Verdana"/>
                <a:ea typeface="Arial"/>
              </a:rPr>
              <a:t>1000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  <a:ea typeface="Arial"/>
              </a:rPr>
              <a:t> до </a:t>
            </a:r>
            <a:r>
              <a:rPr b="1" lang="ru-RU" sz="2000" spc="-1" strike="noStrike">
                <a:solidFill>
                  <a:srgbClr val="0d0d0d"/>
                </a:solidFill>
                <a:latin typeface="Verdana"/>
                <a:ea typeface="Arial"/>
              </a:rPr>
              <a:t>50 000</a:t>
            </a:r>
            <a:r>
              <a:rPr b="1" lang="ru-RU" sz="1600" spc="-1" strike="noStrike">
                <a:solidFill>
                  <a:srgbClr val="0d0d0d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  <a:ea typeface="Arial"/>
              </a:rPr>
              <a:t>руб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179280" y="1773360"/>
            <a:ext cx="3168720" cy="10080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до 5 лет основного и до 3 лет дополнительно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Скругленный прямоугольник 11"/>
          <p:cNvSpPr/>
          <p:nvPr/>
        </p:nvSpPr>
        <p:spPr>
          <a:xfrm>
            <a:off x="179280" y="2852640"/>
            <a:ext cx="3168720" cy="72072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на срок от 4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до 160 ча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Скругленный прямоугольник 12"/>
          <p:cNvSpPr/>
          <p:nvPr/>
        </p:nvSpPr>
        <p:spPr>
          <a:xfrm>
            <a:off x="179280" y="3716280"/>
            <a:ext cx="3168720" cy="6494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Verdana"/>
              </a:rPr>
              <a:t>на срок  до 1 год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Скругленный прямоугольник 13"/>
          <p:cNvSpPr/>
          <p:nvPr/>
        </p:nvSpPr>
        <p:spPr>
          <a:xfrm>
            <a:off x="179280" y="4437000"/>
            <a:ext cx="3168720" cy="73044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на срок от 2 месяцев до 2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Скругленный прямоугольник 14"/>
          <p:cNvSpPr/>
          <p:nvPr/>
        </p:nvSpPr>
        <p:spPr>
          <a:xfrm>
            <a:off x="179280" y="5300640"/>
            <a:ext cx="3168720" cy="1224000"/>
          </a:xfrm>
          <a:prstGeom prst="roundRect">
            <a:avLst>
              <a:gd name="adj" fmla="val 10000"/>
            </a:avLst>
          </a:prstGeom>
          <a:gradFill rotWithShape="0">
            <a:gsLst>
              <a:gs pos="0">
                <a:srgbClr val="ffc786"/>
              </a:gs>
              <a:gs pos="100000">
                <a:srgbClr val="ffe8c7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не превышает 10 лет (до 16 лет – не более 6 лет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Verdana"/>
              </a:rPr>
              <a:t>min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– 2 меся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Скругленный прямоугольник 4"/>
          <p:cNvSpPr/>
          <p:nvPr/>
        </p:nvSpPr>
        <p:spPr>
          <a:xfrm>
            <a:off x="3348000" y="836640"/>
            <a:ext cx="5454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штр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4480" indent="-114480">
              <a:lnSpc>
                <a:spcPct val="90000"/>
              </a:lnSpc>
              <a:spcAft>
                <a:spcPts val="224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114480" indent="-11448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3348000" y="1773360"/>
            <a:ext cx="5454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Скругленный прямоугольник 4"/>
          <p:cNvSpPr/>
          <p:nvPr/>
        </p:nvSpPr>
        <p:spPr>
          <a:xfrm>
            <a:off x="3348000" y="2852640"/>
            <a:ext cx="5454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бязательные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Скругленный прямоугольник 4"/>
          <p:cNvSpPr/>
          <p:nvPr/>
        </p:nvSpPr>
        <p:spPr>
          <a:xfrm>
            <a:off x="3348000" y="3716280"/>
            <a:ext cx="545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справительные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Скругленный прямоугольник 4"/>
          <p:cNvSpPr/>
          <p:nvPr/>
        </p:nvSpPr>
        <p:spPr>
          <a:xfrm>
            <a:off x="3348000" y="4437000"/>
            <a:ext cx="5454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граничение своб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4"/>
          <p:cNvSpPr/>
          <p:nvPr/>
        </p:nvSpPr>
        <p:spPr>
          <a:xfrm>
            <a:off x="3348000" y="5300640"/>
            <a:ext cx="545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Лишение свободы на определенный ср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468360" y="40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Административная ответственнос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Содержимое 2"/>
          <p:cNvSpPr/>
          <p:nvPr/>
        </p:nvSpPr>
        <p:spPr>
          <a:xfrm>
            <a:off x="395280" y="1700280"/>
            <a:ext cx="6048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ступает с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л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ространяется на несовершеннолетних и  их родителей, законных представ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5" descr="http://www.molgvardia.ru/files/u3/200903110400005_10.jpg"/>
          <p:cNvPicPr/>
          <p:nvPr/>
        </p:nvPicPr>
        <p:blipFill>
          <a:blip r:embed="rId1"/>
          <a:stretch/>
        </p:blipFill>
        <p:spPr>
          <a:xfrm>
            <a:off x="6084720" y="2100240"/>
            <a:ext cx="27352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324000" y="333360"/>
            <a:ext cx="856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Примерами административных правонарушений являютс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паганда наркотических сред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нятие проституц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лкое хулига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рушение правил дорожного движения (в том числе, безбилетный проез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исполнение требований сотрудников правоохранительных орга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явление в состоянии опьянения в общественных местах и т. 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37:01Z</dcterms:created>
  <dc:creator>Анатолий</dc:creator>
  <dc:description/>
  <dc:language>en-US</dc:language>
  <cp:lastModifiedBy>1</cp:lastModifiedBy>
  <dcterms:modified xsi:type="dcterms:W3CDTF">2015-01-08T13:48:01Z</dcterms:modified>
  <cp:revision>276</cp:revision>
  <dc:subject/>
  <dc:title>Слайд 1</dc:title>
</cp:coreProperties>
</file>