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3DD-7FBB-47B3-8AF2-BC262AEE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D56-98A7-4BD8-856B-2DED74BB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2C3-AC07-49D4-B700-3C140EBE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63A-7670-4D40-B166-92462D8E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3BB6-B7F3-47AD-906D-7AAF9AF6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45FC-E6BD-4409-93CB-D16D6972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838E-3728-497B-9380-72621B64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9CFE-265D-4FE1-A144-38E93708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0A0A-2915-4031-B999-3CD25E2C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C9D3-35C2-4191-AB43-D89E6651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C3F1-47CA-4A33-8984-A2383BE7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1E2-323C-4423-9DA3-45375D3B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B644-F9A6-43FB-A10E-DD5C1BB3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863A-D0DC-4BB3-9E8B-6306E6E7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9787-C0D2-4D00-8EB8-D7D2E7B2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1757-0729-4F30-AE13-7CA38766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E769-DE19-4796-8DB8-D6D494EE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74A5-D037-480F-B167-9CFF51C8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D1B30-6109-44F6-B53C-05A667AB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0A88-A074-4148-80AF-B4EA37DC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B5A4C-8553-4E0E-9B72-B2502450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55F8-D1FF-4B4F-BE99-1A56727E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9D7-FD77-4416-9A3B-7B9F66ED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441D-8B77-47A5-87C5-036FBFD5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38E9C-D9D8-4065-908F-FAB833DE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80DD7-B0C9-40E1-80D0-CA8611C4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5E88-AE52-4DAB-ADA4-3285E1A9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FA91-9408-4B06-B3EC-254B2EEF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03DB-E52B-4762-A232-A4FE031F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5BE7-C166-4BD4-94C6-93DFC56D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9DB1-4D52-4EF5-812F-B2A0AD63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1136-73D4-4D92-BA25-C06DB014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C5B3-0C9D-4C3C-9F9D-6946948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171-00CE-4C1C-918B-A0E78142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FA1D-B788-485B-A262-320900E9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1756-BA0A-4087-902E-8F4E5C35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71E3B-E234-43D4-BE5C-8B58532D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0A3D-E1C9-4648-978E-3CD594C6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AFB9-7B47-450B-989F-FD2B4135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5479F-2B3A-426A-BDDD-E9A2DB27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8DE75-1F94-4958-9A0D-F6C243CE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C51C8-F6E7-4DC8-84AF-D8984101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AB30-6306-4A55-BB29-4C398DCC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74FC2-F25B-4324-8686-5CF88BC8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13E-8991-454A-A83F-AE534284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FA41F-99BB-4D56-92C7-0D2070C7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B75A8-39C6-481B-B292-412E8BF1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7AC8E-5D68-44E9-B557-2C9CF895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0D7C1-5038-40DD-955C-23DF36C8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82197-FADF-4F9D-9666-5A7BB5B8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F1D3F-7C2A-4CAA-83A4-BB83C891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1B433-49EA-4040-9E6D-5F887BB3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5251-74FC-4485-961F-033F8D17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22F68-0B79-4F1F-B3FB-71B2DB1A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EF6A5-1991-417F-9BB2-FDD7B104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473-731E-4C45-AE9C-26EAF79A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7C6C0-1136-4DF4-AB0C-7C1D1ABF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0FE8A-22A0-48BF-9F2B-5031759E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B011D-BB2F-4612-A737-BE42A257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1955B-2275-4598-AF02-6D294DF0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E294A-A0C6-4203-919C-F3F8ECF8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11DEB-C6E4-44FC-A694-617EDE61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0120C-3360-4777-9C55-EAAA4446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94183-5D2D-4028-BC96-D303217A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01F1-8D88-4635-80FC-FDAAF412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E1637-95F4-4DDF-94C6-5402F54B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19C-4990-4AE8-8519-7758FFBC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B7BEF-8DD0-4D59-9E1C-FB6648AA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48429-40E8-4E24-9951-342AB11F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1E444-97FD-48BD-8814-227F7C1E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3DCAB-902A-4918-A734-AEAD5C2E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6C89C-DC55-4EC8-8335-5B41BC03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6B4EB-45BE-43BE-8F8F-A83761A4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402A4-22C1-47B6-A75A-97A648BF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F1B5F-B6F2-47D8-91C5-F6412E65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E2F5A-1B63-48A1-B3FF-6964A678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4775E-257B-4D91-9F60-8F1F9064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984-5ECE-4858-8F01-BA2ABDBB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D569C-51CB-4D01-8791-5CAB7068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AFA8A-7480-4754-8DFB-2F29ADD7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56498-74BB-4EFD-9657-19F4C8E8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62B21-50E1-4639-87FF-0090F39C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73A93-59BF-4B72-A75F-AF0710E7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F6B-2C02-4CA5-9D53-B7E261F8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6647-5418-4233-8229-10844259432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3E19-C5B2-4939-8096-0EDA4379DDF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F1F1-24C2-4010-A7F4-3066A3E2D5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3F9C-F041-4A96-A4B2-8357FF0CB4D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677E-EF66-47AE-8DCC-5994467DC8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D58D-F1D4-4840-AB11-4B75CDA0733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3C36-E067-4CD8-B49C-D488EBC435A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rbel"/>
              </a:rPr>
              <a:t>Наша Родина - Росс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3" descr="programma-meropriyatij-posvyashhennyx-dnyu-rossijskogo-flaga.jpg"/>
          <p:cNvPicPr/>
          <p:nvPr/>
        </p:nvPicPr>
        <p:blipFill>
          <a:blip r:embed="rId1"/>
          <a:stretch/>
        </p:blipFill>
        <p:spPr>
          <a:xfrm>
            <a:off x="2357280" y="200016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Россия – многонациональное государство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Содержимое 3" descr="c225ae4f1a02.jpg"/>
          <p:cNvPicPr/>
          <p:nvPr/>
        </p:nvPicPr>
        <p:blipFill>
          <a:blip r:embed="rId1"/>
          <a:stretch/>
        </p:blipFill>
        <p:spPr>
          <a:xfrm>
            <a:off x="1714680" y="1785960"/>
            <a:ext cx="67658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Национальности в РФ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5" descr="38568_640.gif"/>
          <p:cNvPicPr/>
          <p:nvPr/>
        </p:nvPicPr>
        <p:blipFill>
          <a:blip r:embed="rId1"/>
          <a:stretch/>
        </p:blipFill>
        <p:spPr>
          <a:xfrm>
            <a:off x="571680" y="178596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В каждом субъекте РФ проживают люди разных национальностей. </a:t>
            </a:r>
            <a:br>
              <a:rPr sz="4800"/>
            </a:br>
            <a:br>
              <a:rPr sz="48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се они – </a:t>
            </a:r>
            <a:r>
              <a:rPr b="1" lang="ru-RU" sz="8800" spc="-1" strike="noStrike">
                <a:solidFill>
                  <a:srgbClr val="572314"/>
                </a:solidFill>
                <a:latin typeface="Corbel"/>
              </a:rPr>
              <a:t>россияне.</a:t>
            </a:r>
            <a:endParaRPr b="0" lang="en-US" sz="8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385776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Люди разных националь-ностей имеют равные права.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Эти права гарантируются законом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8" descr="0a15ecec1ba54fbd3085014b3c3e2da0.jpeg"/>
          <p:cNvPicPr/>
          <p:nvPr/>
        </p:nvPicPr>
        <p:blipFill>
          <a:blip r:embed="rId1"/>
          <a:stretch/>
        </p:blipFill>
        <p:spPr>
          <a:xfrm>
            <a:off x="5357880" y="1571760"/>
            <a:ext cx="350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Основной закон РФ – Конституция РФ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Содержимое 5" descr="dlyakota.ru_fotopodborki_13269777545416.jpeg"/>
          <p:cNvPicPr/>
          <p:nvPr/>
        </p:nvPicPr>
        <p:blipFill>
          <a:blip r:embed="rId1"/>
          <a:stretch/>
        </p:blipFill>
        <p:spPr>
          <a:xfrm>
            <a:off x="2143080" y="1857240"/>
            <a:ext cx="5964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Субъекты РФ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могут иметь свой высший закон – Конституцию или Устав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Законы, принимаемые в субъектах РФ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 должны противоречить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сновному закону государства – </a:t>
            </a: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Конституции </a:t>
            </a: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РФ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Новгородская область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Содержимое 3" descr="post-20-1345231403.jpg"/>
          <p:cNvPicPr/>
          <p:nvPr/>
        </p:nvPicPr>
        <p:blipFill>
          <a:blip r:embed="rId1"/>
          <a:stretch/>
        </p:blipFill>
        <p:spPr>
          <a:xfrm>
            <a:off x="3154320" y="1447920"/>
            <a:ext cx="406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Русский язык – государственный язык РФ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3" descr="1337051237_34719043_1.jpg"/>
          <p:cNvPicPr/>
          <p:nvPr/>
        </p:nvPicPr>
        <p:blipFill>
          <a:blip r:embed="rId1"/>
          <a:stretch/>
        </p:blipFill>
        <p:spPr>
          <a:xfrm>
            <a:off x="2714760" y="185724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Русский язык – государственный язык РФ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значит, что на русском языке пишутся официальные государственные документы, на нем Россия ведет переговоры с представителями других стран, русский язык изучают во всех школах стран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 «</a:t>
            </a: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патриот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» -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заимствовано из греческого языка. Так древние греки называли людей, которые родились в одном городе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 древности слово «патриот» отражало связь между человеком и местом его рожден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. Что значит федерация?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. Государственный язык.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. Патриот. Патриотизм.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Что значит быть </a:t>
            </a:r>
            <a:r>
              <a:rPr b="1" lang="ru-RU" sz="8800" spc="-1" strike="noStrike">
                <a:solidFill>
                  <a:srgbClr val="572314"/>
                </a:solidFill>
                <a:latin typeface="Corbel"/>
              </a:rPr>
              <a:t>патриотом</a:t>
            </a: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?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Патриот –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это человек, любящий свое Отечество, преданный своему народу, готовый на жертвы и совершающий подвиги во имя интересов своей Родины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385776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В самые трудные времена, когда смертельная опасность грозила Отечеству, люди вставали на его защиту. Такой опасностью была Великая Отечественная война 1941-1945 гг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Содержимое 3" descr="40.jpg"/>
          <p:cNvPicPr/>
          <p:nvPr/>
        </p:nvPicPr>
        <p:blipFill>
          <a:blip r:embed="rId1"/>
          <a:stretch/>
        </p:blipFill>
        <p:spPr>
          <a:xfrm>
            <a:off x="5000760" y="500040"/>
            <a:ext cx="400032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9720" y="274680"/>
            <a:ext cx="378612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rbel"/>
              </a:rPr>
              <a:t>Даль В.И.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Главным делом его жизни стало создание «Толкового словаря живого великорусского языка»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Содержимое 3" descr="0_47562_c3316da1_L.jpeg"/>
          <p:cNvPicPr/>
          <p:nvPr/>
        </p:nvPicPr>
        <p:blipFill>
          <a:blip r:embed="rId1"/>
          <a:stretch/>
        </p:blipFill>
        <p:spPr>
          <a:xfrm>
            <a:off x="4905360" y="785880"/>
            <a:ext cx="42386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392904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Общая история, общий государствен-ный язык, общая Родина – всё это сближает народы РФ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8" name="Содержимое 3" descr="b1135157.jpg"/>
          <p:cNvPicPr/>
          <p:nvPr/>
        </p:nvPicPr>
        <p:blipFill>
          <a:blip r:embed="rId1"/>
          <a:stretch/>
        </p:blipFill>
        <p:spPr>
          <a:xfrm>
            <a:off x="4929120" y="500040"/>
            <a:ext cx="40086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Содержимое 3" descr=".jpg"/>
          <p:cNvPicPr/>
          <p:nvPr/>
        </p:nvPicPr>
        <p:blipFill>
          <a:blip r:embed="rId1"/>
          <a:stretch/>
        </p:blipFill>
        <p:spPr>
          <a:xfrm>
            <a:off x="214200" y="285840"/>
            <a:ext cx="875052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Россия, Российская Федерация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Содержимое 3" descr="karta_russia__3wh3ten.jpg"/>
          <p:cNvPicPr/>
          <p:nvPr/>
        </p:nvPicPr>
        <p:blipFill>
          <a:blip r:embed="rId1"/>
          <a:stretch/>
        </p:blipFill>
        <p:spPr>
          <a:xfrm>
            <a:off x="2286000" y="2071800"/>
            <a:ext cx="5808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713880"/>
            <a:ext cx="7499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572314"/>
                </a:solidFill>
                <a:latin typeface="Corbel"/>
              </a:rPr>
              <a:t>Федерация</a:t>
            </a: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 – </a:t>
            </a:r>
            <a:br>
              <a:rPr sz="4800"/>
            </a:b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это  слово латинского происхождения и означает «</a:t>
            </a:r>
            <a:r>
              <a:rPr b="1" lang="ru-RU" sz="8000" spc="-1" strike="noStrike">
                <a:solidFill>
                  <a:srgbClr val="572314"/>
                </a:solidFill>
                <a:latin typeface="Corbel"/>
              </a:rPr>
              <a:t>союз, объединение</a:t>
            </a: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».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572314"/>
                </a:solidFill>
                <a:latin typeface="Corbel"/>
              </a:rPr>
              <a:t>Субъекты РФ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44a570f3946a06c8319c206d900275c0_original.jpg"/>
          <p:cNvPicPr/>
          <p:nvPr/>
        </p:nvPicPr>
        <p:blipFill>
          <a:blip r:embed="rId1"/>
          <a:stretch/>
        </p:blipFill>
        <p:spPr>
          <a:xfrm>
            <a:off x="1434960" y="2006640"/>
            <a:ext cx="7499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«</a:t>
            </a: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Субъект Российской федераци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» означает «</a:t>
            </a: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равноправный член, полноправный участник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»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Виды субъектов РФ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республики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2. кра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3. автономные округа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4. автономная область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5. области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6. города федерального значения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убъекты РФ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4" descr="main.jpg"/>
          <p:cNvPicPr/>
          <p:nvPr/>
        </p:nvPicPr>
        <p:blipFill>
          <a:blip r:embed="rId1"/>
          <a:stretch/>
        </p:blipFill>
        <p:spPr>
          <a:xfrm>
            <a:off x="490680" y="1071720"/>
            <a:ext cx="865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Равные права субъектов</a:t>
            </a:r>
            <a:br>
              <a:rPr sz="4800"/>
            </a:br>
            <a:br>
              <a:rPr sz="48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. иметь свою территорию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. свои органы власти и управления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. свой герб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. обучение на родном язык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0:14:13Z</dcterms:created>
  <dc:creator>Дом</dc:creator>
  <dc:description/>
  <dc:language>en-US</dc:language>
  <cp:lastModifiedBy>Дом</cp:lastModifiedBy>
  <dcterms:modified xsi:type="dcterms:W3CDTF">2013-03-13T12:14:58Z</dcterms:modified>
  <cp:revision>12</cp:revision>
  <dc:subject/>
  <dc:title>Наша Родина - Россия</dc:title>
</cp:coreProperties>
</file>