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D3A-592D-4068-8FAF-23EBA2C9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261-FC5E-4337-960C-BFCFAE27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AB6-0A08-4E1A-803A-E8ED545F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CA7-E30C-4323-A10E-1D7E3C2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E0E-68BF-4626-A2E7-EC2D47F5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EE53-C5B4-4F08-A92F-73FD2F4E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872A-24B4-4D33-ADA6-31A8864C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BE4C-093D-41AE-9C8E-3941DD5F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3DB3-CC7B-42FE-89C8-71B51F1F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208-1D75-4DCB-9296-A9CD4AAC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271-3C5D-4DED-B415-BECD37C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BE0-0736-491C-AEC1-28ACBD7A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6A78-673B-41F4-9C21-F396D718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52D5-5738-452E-BF50-2FEC2A2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DD4F-F3BA-4C58-8B61-3089AE49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8CC3-613E-41E4-B330-01A559EE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D70-F04C-4FB1-ABE0-58CBB671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6A09-0AEF-4F0C-8260-8041F0C8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6625-356D-4278-B6DC-CBD7676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4A09-38C5-4BC9-9277-7A738B2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E564-8215-4C5F-8263-4B71899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D77F-2B3F-444C-9A39-EB80FED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897-FC5F-4347-997A-674AEEBE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4349-DA60-4C82-B338-1277DE5B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2F50-2B66-442A-A859-4AB39A1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C29B-A447-4062-9B22-0C4BEFD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3FF6-3D7E-49E1-8DA8-7340B0F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8DA4-C154-4449-8455-4F90E5F0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4C58-1E1F-4CD3-863C-38328E4A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C735-4A22-4740-862C-C343F83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26AB-BDB9-498A-A595-BB9A3993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16C9-6315-4A3E-99D2-AAB29AA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67C4-4772-4256-A578-E5ABBF6E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155-A9B6-48D9-B5D1-F55F49CB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2F4F-24CD-45FF-9405-37C88E9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70FA-7F07-47D7-A37B-A3F221BA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B06B-66AC-4742-9BEC-92911E8B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D2233-F077-46A6-9717-64D05DFB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C1C7-225A-42CB-B747-78A4811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CBE4-0D30-4695-9538-3BD75AF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18E5-98EE-4977-A577-C815B5D9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29D3-07F5-4FFD-85D8-DCA873B6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193E-155E-4B2C-ABFD-5236DCFF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0FE1-AA6E-4AED-A491-0452BAC7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2D4-3775-4B2F-B6CD-19B1EDA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50FE-67E7-4B78-8BC0-F1353EA0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AD2FA-AE9C-40CA-8D9F-4A2E1AD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8B4C1-F3B8-4598-BAB3-373214B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6E03-CCF5-4E4C-A235-CB7F7C94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5C2E-EE15-423A-8907-F101D16C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D91D-9258-4F2F-A3CF-F97ADD1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F30F6-A7E0-40E0-A63A-8D54FF5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2ADCD-0962-487E-976D-7359590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2F58B-9846-47AE-A32C-879EA06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B8435-DD9A-4B5F-A65A-065B301B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250-5704-4917-8030-13AC9932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10E4-1413-409C-9A76-C773F3C3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392E-46DE-401D-A8A0-8C1DD043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E146-8169-40B0-B2D9-A410EDE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CA26-F3C5-4CA0-9B70-7F352044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39538-6B74-499B-92D5-C20B0B36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95C8-845F-42ED-AD2F-B6406F4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BD52-8DD8-46AB-8E09-4F6A31A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FF91-FD7B-4F36-937C-98797583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35B6F-F235-42BF-B35F-B24280C9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3618-5BD7-4BAE-A80B-E83FF23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623-D6B1-418C-91FB-74B9DA1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FB18-B382-4C14-8CBE-1F1FC603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C54D-F084-4421-A92F-DA497969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5FE1-F464-4A42-91F3-2B3948C6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CA5B-5C3F-4CF8-9D30-21E1E6E2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D872-4A8C-4467-8609-50FDE41E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DF1CD-7C2D-494B-8AB3-68A5E3D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1426-BBFE-4320-AE84-7AF4A4E3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3A17-8263-453F-93F4-EE18469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BC8C3-3F0D-469E-90AC-116EA196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442C-A694-4FCC-802F-DE861773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135-D3BE-49D7-9CD1-FBADAE1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58A7-E979-4387-9382-2304CC1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BBF4-EC8A-4FB2-99C3-A05DE96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D9CA-D68A-45C1-92F2-2988B6ED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2976-BB89-4DF5-9F14-FC942289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2609C-6E3A-4E53-988D-279DCB96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922-A308-42C1-854D-16F8B586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F1A9-14D1-4376-BF1B-764358CD67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444F-BA6D-4C6B-8D6C-02F3A1858A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D69-1D6A-4ABB-851C-AA4E39533F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1E7-29E9-4700-913D-45FD856DBA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F84-2708-493E-90EA-5EC8E1AF3E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77C6-904F-4CBC-B014-D778D3F721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DF5-D21C-41C9-891A-11F51FBCEF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rbel"/>
              </a:rPr>
              <a:t>Наша Родина - Росс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programma-meropriyatij-posvyashhennyx-dnyu-rossijskogo-flaga.jpg"/>
          <p:cNvPicPr/>
          <p:nvPr/>
        </p:nvPicPr>
        <p:blipFill>
          <a:blip r:embed="rId1"/>
          <a:stretch/>
        </p:blipFill>
        <p:spPr>
          <a:xfrm>
            <a:off x="2357280" y="200016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оссия – многонациональное государство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c225ae4f1a02.jpg"/>
          <p:cNvPicPr/>
          <p:nvPr/>
        </p:nvPicPr>
        <p:blipFill>
          <a:blip r:embed="rId1"/>
          <a:stretch/>
        </p:blipFill>
        <p:spPr>
          <a:xfrm>
            <a:off x="1714680" y="1785960"/>
            <a:ext cx="67658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Национальности в РФ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5" descr="38568_640.gif"/>
          <p:cNvPicPr/>
          <p:nvPr/>
        </p:nvPicPr>
        <p:blipFill>
          <a:blip r:embed="rId1"/>
          <a:stretch/>
        </p:blipFill>
        <p:spPr>
          <a:xfrm>
            <a:off x="571680" y="178596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В каждом субъекте РФ проживают люди разных национальностей. 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се они – </a:t>
            </a: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россияне.</a:t>
            </a:r>
            <a:endParaRPr b="0" lang="en-US" sz="8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38577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Люди разных националь-ностей имеют равные права.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Эти права гарантируются законом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8" descr="0a15ecec1ba54fbd3085014b3c3e2da0.jpeg"/>
          <p:cNvPicPr/>
          <p:nvPr/>
        </p:nvPicPr>
        <p:blipFill>
          <a:blip r:embed="rId1"/>
          <a:stretch/>
        </p:blipFill>
        <p:spPr>
          <a:xfrm>
            <a:off x="5357880" y="1571760"/>
            <a:ext cx="3504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Основной закон РФ – Конституция РФ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5" descr="dlyakota.ru_fotopodborki_13269777545416.jpeg"/>
          <p:cNvPicPr/>
          <p:nvPr/>
        </p:nvPicPr>
        <p:blipFill>
          <a:blip r:embed="rId1"/>
          <a:stretch/>
        </p:blipFill>
        <p:spPr>
          <a:xfrm>
            <a:off x="2143080" y="1857240"/>
            <a:ext cx="5964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Субъекты РФ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могут иметь свой высший закон – Конституцию или Уста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коны, принимаемые в субъектах РФ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 должны противоречить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сновному закону государства –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Конституции 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РФ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Новгородская область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post-20-1345231403.jpg"/>
          <p:cNvPicPr/>
          <p:nvPr/>
        </p:nvPicPr>
        <p:blipFill>
          <a:blip r:embed="rId1"/>
          <a:stretch/>
        </p:blipFill>
        <p:spPr>
          <a:xfrm>
            <a:off x="3154320" y="1447920"/>
            <a:ext cx="406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Русский язык – государственный язык РФ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1337051237_34719043_1.jpg"/>
          <p:cNvPicPr/>
          <p:nvPr/>
        </p:nvPicPr>
        <p:blipFill>
          <a:blip r:embed="rId1"/>
          <a:stretch/>
        </p:blipFill>
        <p:spPr>
          <a:xfrm>
            <a:off x="2714760" y="185724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усский язык – государственный язык РФ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значит, что на русском языке пишутся официальные государственные документы, на нем Россия ведет переговоры с представителями других стран, русский язык изучают во всех школах стран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о «</a:t>
            </a: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патриот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» 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имствовано из греческого языка. Так древние греки называли людей, которые родились в одном городе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 древности слово «патриот» отражало связь между человеком и местом его рожден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Что значит федерация?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Государственный язык.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Патриот. Патриотизм.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Что значит быть </a:t>
            </a: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патриотом</a:t>
            </a: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?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Патриот –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то человек, любящий свое Отечество, преданный своему народу, готовый на жертвы и совершающий подвиги во имя интересов своей Родин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38577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 самые трудные времена, когда смертельная опасность грозила Отечеству, люди вставали на его защиту. Такой опасностью была Великая Отечественная война 1941-1945 гг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Содержимое 3" descr="40.jpg"/>
          <p:cNvPicPr/>
          <p:nvPr/>
        </p:nvPicPr>
        <p:blipFill>
          <a:blip r:embed="rId1"/>
          <a:stretch/>
        </p:blipFill>
        <p:spPr>
          <a:xfrm>
            <a:off x="5000760" y="500040"/>
            <a:ext cx="400032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378612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rbel"/>
              </a:rPr>
              <a:t>Даль В.И.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Главным делом его жизни стало создание «Толкового словаря живого великорусского языка»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3" descr="0_47562_c3316da1_L.jpeg"/>
          <p:cNvPicPr/>
          <p:nvPr/>
        </p:nvPicPr>
        <p:blipFill>
          <a:blip r:embed="rId1"/>
          <a:stretch/>
        </p:blipFill>
        <p:spPr>
          <a:xfrm>
            <a:off x="4905360" y="785880"/>
            <a:ext cx="42386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39290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бщая история, общий государствен-ный язык, общая Родина – всё это сближает народы РФ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Содержимое 3" descr="b1135157.jpg"/>
          <p:cNvPicPr/>
          <p:nvPr/>
        </p:nvPicPr>
        <p:blipFill>
          <a:blip r:embed="rId1"/>
          <a:stretch/>
        </p:blipFill>
        <p:spPr>
          <a:xfrm>
            <a:off x="4929120" y="500040"/>
            <a:ext cx="40086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Содержимое 3" descr=".jpg"/>
          <p:cNvPicPr/>
          <p:nvPr/>
        </p:nvPicPr>
        <p:blipFill>
          <a:blip r:embed="rId1"/>
          <a:stretch/>
        </p:blipFill>
        <p:spPr>
          <a:xfrm>
            <a:off x="214200" y="285840"/>
            <a:ext cx="875052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Россия, Российская Федерац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karta_russia__3wh3ten.jpg"/>
          <p:cNvPicPr/>
          <p:nvPr/>
        </p:nvPicPr>
        <p:blipFill>
          <a:blip r:embed="rId1"/>
          <a:stretch/>
        </p:blipFill>
        <p:spPr>
          <a:xfrm>
            <a:off x="2286000" y="2071800"/>
            <a:ext cx="5808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713880"/>
            <a:ext cx="7499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572314"/>
                </a:solidFill>
                <a:latin typeface="Corbel"/>
              </a:rPr>
              <a:t>Федерация</a:t>
            </a: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 – </a:t>
            </a:r>
            <a:br>
              <a:rPr sz="4800"/>
            </a:b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это  слово латинского происхождения и означает «</a:t>
            </a:r>
            <a:r>
              <a:rPr b="1" lang="ru-RU" sz="8000" spc="-1" strike="noStrike">
                <a:solidFill>
                  <a:srgbClr val="572314"/>
                </a:solidFill>
                <a:latin typeface="Corbel"/>
              </a:rPr>
              <a:t>союз, объединение</a:t>
            </a: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»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572314"/>
                </a:solidFill>
                <a:latin typeface="Corbel"/>
              </a:rPr>
              <a:t>Субъекты РФ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44a570f3946a06c8319c206d900275c0_original.jpg"/>
          <p:cNvPicPr/>
          <p:nvPr/>
        </p:nvPicPr>
        <p:blipFill>
          <a:blip r:embed="rId1"/>
          <a:stretch/>
        </p:blipFill>
        <p:spPr>
          <a:xfrm>
            <a:off x="1434960" y="2006640"/>
            <a:ext cx="7499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«</a:t>
            </a: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Субъект Российской федераци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» означает «</a:t>
            </a: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равноправный член, полноправный участник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»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Виды субъектов РФ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. республик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. кра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3. автономные округ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4. автономная область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5. област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6. города федерального знач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убъекты РФ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4" descr="main.jpg"/>
          <p:cNvPicPr/>
          <p:nvPr/>
        </p:nvPicPr>
        <p:blipFill>
          <a:blip r:embed="rId1"/>
          <a:stretch/>
        </p:blipFill>
        <p:spPr>
          <a:xfrm>
            <a:off x="490680" y="1071720"/>
            <a:ext cx="865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Равные права субъектов</a:t>
            </a:r>
            <a:br>
              <a:rPr sz="4800"/>
            </a:br>
            <a:br>
              <a:rPr sz="48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. иметь свою территорию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. свои органы власти и управления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. свой герб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. обучение на родном язы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0:14:13Z</dcterms:created>
  <dc:creator>Дом</dc:creator>
  <dc:description/>
  <dc:language>en-US</dc:language>
  <cp:lastModifiedBy>Дом</cp:lastModifiedBy>
  <dcterms:modified xsi:type="dcterms:W3CDTF">2013-03-13T12:14:58Z</dcterms:modified>
  <cp:revision>12</cp:revision>
  <dc:subject/>
  <dc:title>Наша Родина - Россия</dc:title>
</cp:coreProperties>
</file>