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65F94-E3DC-4B21-87FC-CD7758618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9325A-D1F6-4D73-AB06-B03C09AAE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2C22B-5236-4DFF-873E-7F5BD5C24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DB369-1093-436D-A2F7-9235CC951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362F5-A645-4A12-8967-99D04596C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33BB2-0C3D-4CAF-BB07-FE3C9FEBD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0742F-DD03-4981-A016-AC6DED3F6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B77F1-41CC-4B74-8CB7-E0B19F74F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E2E21-54EB-4AC3-B78F-FFF33C5BD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9537F-2A28-4231-8292-D6830E37D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1FAE1-6B11-465D-9E5C-DCEDE3E09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EE610-83A0-4A30-AC34-6C0B129336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4A0E2-EADE-4373-8A3B-E07F31EBEC9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43" name="Picture 4" descr="0_682b5_92944669_XL"/>
          <p:cNvPicPr/>
          <p:nvPr/>
        </p:nvPicPr>
        <p:blipFill>
          <a:blip r:embed="rId1"/>
          <a:stretch/>
        </p:blipFill>
        <p:spPr>
          <a:xfrm>
            <a:off x="0" y="0"/>
            <a:ext cx="9144000" cy="6858000"/>
          </a:xfrm>
          <a:prstGeom prst="rect">
            <a:avLst/>
          </a:prstGeom>
          <a:ln w="0">
            <a:noFill/>
          </a:ln>
        </p:spPr>
      </p:pic>
      <p:sp>
        <p:nvSpPr>
          <p:cNvPr id="44" name="Text Box 6"/>
          <p:cNvSpPr/>
          <p:nvPr/>
        </p:nvSpPr>
        <p:spPr>
          <a:xfrm>
            <a:off x="5292720" y="404640"/>
            <a:ext cx="367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7"/>
          <p:cNvSpPr/>
          <p:nvPr/>
        </p:nvSpPr>
        <p:spPr>
          <a:xfrm>
            <a:off x="5508720" y="260280"/>
            <a:ext cx="3201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полнила: педагог-психолог МБОУ СОШ № 6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зунина Д.С.</a:t>
            </a:r>
            <a:endParaRPr b="0" lang="en-US" sz="1800" spc="-1" strike="noStrike">
              <a:solidFill>
                <a:srgbClr val="000000"/>
              </a:solidFill>
              <a:latin typeface="Arial"/>
            </a:endParaRPr>
          </a:p>
        </p:txBody>
      </p:sp>
      <p:sp>
        <p:nvSpPr>
          <p:cNvPr id="46" name="Text Box 8"/>
          <p:cNvSpPr/>
          <p:nvPr/>
        </p:nvSpPr>
        <p:spPr>
          <a:xfrm>
            <a:off x="1332000" y="3645000"/>
            <a:ext cx="72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БЩАЯ ХАРАКТЕРИСТИКА МЛАДШЕГО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ШКОЛЬНОГО      ВОЗРАСТА</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90" name="Picture 4" descr="fon1"/>
          <p:cNvPicPr/>
          <p:nvPr/>
        </p:nvPicPr>
        <p:blipFill>
          <a:blip r:embed="rId1"/>
          <a:stretch/>
        </p:blipFill>
        <p:spPr>
          <a:xfrm>
            <a:off x="0" y="0"/>
            <a:ext cx="9144000" cy="6858000"/>
          </a:xfrm>
          <a:prstGeom prst="rect">
            <a:avLst/>
          </a:prstGeom>
          <a:ln w="0">
            <a:noFill/>
          </a:ln>
        </p:spPr>
      </p:pic>
      <p:sp>
        <p:nvSpPr>
          <p:cNvPr id="91" name="Text Box 6"/>
          <p:cNvSpPr/>
          <p:nvPr/>
        </p:nvSpPr>
        <p:spPr>
          <a:xfrm>
            <a:off x="179280" y="260280"/>
            <a:ext cx="87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7"/>
          <p:cNvSpPr/>
          <p:nvPr/>
        </p:nvSpPr>
        <p:spPr>
          <a:xfrm>
            <a:off x="179280" y="404640"/>
            <a:ext cx="8785440" cy="1059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моционально-волевая сфера личности младшего школьника.</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Чувства в учебной деятельности младшего школьника</a:t>
            </a:r>
            <a:br>
              <a:rPr sz="1800"/>
            </a:br>
            <a:r>
              <a:rPr b="0" lang="ru-RU" sz="1800" spc="-1" strike="noStrike" u="sng">
                <a:solidFill>
                  <a:srgbClr val="000000"/>
                </a:solidFill>
                <a:uFillTx/>
                <a:latin typeface="Arial"/>
              </a:rPr>
              <a:t> </a:t>
            </a:r>
            <a:endParaRPr b="0" lang="en-US" sz="1800" spc="-1" strike="noStrike">
              <a:solidFill>
                <a:srgbClr val="000000"/>
              </a:solidFill>
              <a:latin typeface="Arial"/>
            </a:endParaRPr>
          </a:p>
        </p:txBody>
      </p:sp>
      <p:sp>
        <p:nvSpPr>
          <p:cNvPr id="93" name="Text Box 10"/>
          <p:cNvSpPr/>
          <p:nvPr/>
        </p:nvSpPr>
        <p:spPr>
          <a:xfrm>
            <a:off x="482760" y="2409840"/>
            <a:ext cx="372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1"/>
          <p:cNvSpPr/>
          <p:nvPr/>
        </p:nvSpPr>
        <p:spPr>
          <a:xfrm>
            <a:off x="500040" y="2205000"/>
            <a:ext cx="7715160" cy="25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ую очередь - оценка учителем успехов и неудач, выставленная им отметка и связанное с ней отношение окружающих.</a:t>
            </a:r>
            <a:br>
              <a:rPr sz="1800"/>
            </a:br>
            <a:r>
              <a:rPr b="0" lang="ru-RU" sz="1800" spc="-1" strike="noStrike">
                <a:solidFill>
                  <a:srgbClr val="000000"/>
                </a:solidFill>
                <a:latin typeface="Arial"/>
              </a:rPr>
              <a:t>Осознание своих чувств и соответственно понимание чувств других детей у них еще далеко не совершенн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астие в учебной деятельности на уроках и общение с учителем и коллективом класса в процессе обучения требуют большой сдержанности в чувствах, что первое время дается ребенку с трудом.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13"/>
          <p:cNvSpPr/>
          <p:nvPr/>
        </p:nvSpPr>
        <p:spPr>
          <a:xfrm>
            <a:off x="0" y="1268280"/>
            <a:ext cx="8964720" cy="133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Изменение эмоциональной сферы вызвано тем, что с приходом в школу горести и радости ребенка определяет не игра, а процесс и результат его учебной деятельности, та потребность которую он в ней удовлетворяет, и в</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98" name="Picture 4" descr="82554604_0_aed58_d578d221_XXXL"/>
          <p:cNvPicPr/>
          <p:nvPr/>
        </p:nvPicPr>
        <p:blipFill>
          <a:blip r:embed="rId1"/>
          <a:stretch/>
        </p:blipFill>
        <p:spPr>
          <a:xfrm>
            <a:off x="0" y="0"/>
            <a:ext cx="9144000" cy="6858000"/>
          </a:xfrm>
          <a:prstGeom prst="rect">
            <a:avLst/>
          </a:prstGeom>
          <a:ln w="0">
            <a:noFill/>
          </a:ln>
        </p:spPr>
      </p:pic>
      <p:sp>
        <p:nvSpPr>
          <p:cNvPr id="99" name="Text Box 5"/>
          <p:cNvSpPr/>
          <p:nvPr/>
        </p:nvSpPr>
        <p:spPr>
          <a:xfrm>
            <a:off x="179280" y="476280"/>
            <a:ext cx="87138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орные реакции, выражающие чувства, характерные для дошкольника и для первоклассника, начинают заменятся речевыми. К 3-му классу заметно развивается речевая выразительность, обогащается интонация. Младший школьник, начиная с 1-го класса, старается справится с сильным волнением, например сдерживать слезы, уже может сдерживать свои желания, подчиняется требованиям учителя.</a:t>
            </a:r>
            <a:endParaRPr b="0" lang="en-US" sz="1800" spc="-1" strike="noStrike">
              <a:solidFill>
                <a:srgbClr val="000000"/>
              </a:solidFill>
              <a:latin typeface="Arial"/>
            </a:endParaRPr>
          </a:p>
        </p:txBody>
      </p:sp>
      <p:sp>
        <p:nvSpPr>
          <p:cNvPr id="100" name="Text Box 8"/>
          <p:cNvSpPr/>
          <p:nvPr/>
        </p:nvSpPr>
        <p:spPr>
          <a:xfrm>
            <a:off x="500040" y="2637000"/>
            <a:ext cx="8215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целом общий эмоциональный тонус, настроение младшего школьника характеризует жизнерадостность, бодрость, веселое оживление. Тем не менее не подтверждение уровня притязаний в учебной деятельности могут привести к аффектам в поведении и при отсутствии внимания учителя закрепляется как отрицательные черты характер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02" name="Picture 4" descr="65653470_1287792110_0c988404d3b3t"/>
          <p:cNvPicPr/>
          <p:nvPr/>
        </p:nvPicPr>
        <p:blipFill>
          <a:blip r:embed="rId1"/>
          <a:stretch/>
        </p:blipFill>
        <p:spPr>
          <a:xfrm>
            <a:off x="0" y="0"/>
            <a:ext cx="9144000" cy="6858000"/>
          </a:xfrm>
          <a:prstGeom prst="rect">
            <a:avLst/>
          </a:prstGeom>
          <a:ln w="0">
            <a:noFill/>
          </a:ln>
        </p:spPr>
      </p:pic>
      <p:sp>
        <p:nvSpPr>
          <p:cNvPr id="103" name="Text Box 5"/>
          <p:cNvSpPr/>
          <p:nvPr/>
        </p:nvSpPr>
        <p:spPr>
          <a:xfrm>
            <a:off x="500040" y="428760"/>
            <a:ext cx="8140680" cy="4768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2. Общая характеристика воли младшего школьника.</a:t>
            </a:r>
            <a:br>
              <a:rPr sz="1800"/>
            </a:b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ым моментом формирования младшего школьника как личности является сознательная постановка многими детьми цели достижения успехов и волевая регуляция поведения, позволяющая ребёнку добиваться е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знательный контроль ребёнком собственных действий в младшем школьном возрасте достигает такого уровня, когда дети уже могут управлять поведением на основе принятого решения, намерения, долгосрочной поставленной цели. Особенно отчётливо это выступает в тех случаях, когда дети играют или делают что-либо своими рукам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процессе обучения ребенку необходимо постоянно действовать в соответствии с требованиями учителя или по образцу. Часто учебные действия, совершаемые ребенком, непосредственно его потребностям не удовлетворяют и требуют применения волевых усилий.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06" name="Picture 5" descr="4c1c2930bd7d97b3982dd6fd06be35c7"/>
          <p:cNvPicPr/>
          <p:nvPr/>
        </p:nvPicPr>
        <p:blipFill>
          <a:blip r:embed="rId1"/>
          <a:stretch/>
        </p:blipFill>
        <p:spPr>
          <a:xfrm>
            <a:off x="0" y="0"/>
            <a:ext cx="9144000" cy="6858000"/>
          </a:xfrm>
          <a:prstGeom prst="rect">
            <a:avLst/>
          </a:prstGeom>
          <a:ln w="0">
            <a:noFill/>
          </a:ln>
        </p:spPr>
      </p:pic>
      <p:sp>
        <p:nvSpPr>
          <p:cNvPr id="107" name="Text Box 6"/>
          <p:cNvSpPr/>
          <p:nvPr/>
        </p:nvSpPr>
        <p:spPr>
          <a:xfrm>
            <a:off x="179280" y="260280"/>
            <a:ext cx="8785440" cy="6403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льность действий, формируясь в процессе обучения, становится новообразованием младшего школьного возраста. Но формирование произвольности, и особенно волевых действий, требующих преодоления внешних или внутренних препятствий - процесс длительный и сложный. Совершенствование волевого акта в учебной деятельности происходит постоянно потому, что перед учащимися возникают все новые и более сложные задачи, к достижению которых он стремится.</a:t>
            </a:r>
            <a:br>
              <a:rPr sz="1800"/>
            </a:br>
            <a:br>
              <a:rPr sz="1800"/>
            </a:br>
            <a:r>
              <a:rPr b="0" lang="ru-RU" sz="1800" spc="-1" strike="noStrike">
                <a:solidFill>
                  <a:srgbClr val="000000"/>
                </a:solidFill>
                <a:latin typeface="Arial"/>
              </a:rPr>
              <a:t>В начале обучения цель, как первый этап волевого акта, возникает в соответствии со словесными указаниями, которые идут от учителя, учебника, литературы. В ходе психического развития с появлением определенных отношений ученика к себе и к другим и взаимоотношений его с коллективом класса младший школьник совершает тот или иной волевой акт уже в соответствии с собственными потребностями, интересами, мотивами.</a:t>
            </a:r>
            <a:br>
              <a:rPr sz="1800"/>
            </a:br>
            <a:br>
              <a:rPr sz="1800"/>
            </a:br>
            <a:r>
              <a:rPr b="0" lang="ru-RU" sz="1800" spc="-1" strike="noStrike">
                <a:solidFill>
                  <a:srgbClr val="000000"/>
                </a:solidFill>
                <a:latin typeface="Arial"/>
              </a:rPr>
              <a:t>С точки зрения волевой регуляции поведения и деятельности младшего школьника важно, чтобы задания, которые ставятся перед ним взрослыми (родителями, учителем), были оптимальной сложности. Это обеспечивает переживание успеха вначале и тем самым делает более доступной цель, что в свою очередь активизирует усилия по её достижению. Слишком трудные задания могут вызвать отрицательные переживания школьника, отказ от усилий. Слишком лёгкие задания также не способствуют развитию воли, так как учащийся привыкает работать без особых усил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10" name="Picture 4" descr="69665-8"/>
          <p:cNvPicPr/>
          <p:nvPr/>
        </p:nvPicPr>
        <p:blipFill>
          <a:blip r:embed="rId1"/>
          <a:stretch/>
        </p:blipFill>
        <p:spPr>
          <a:xfrm>
            <a:off x="0" y="0"/>
            <a:ext cx="9144000" cy="6858000"/>
          </a:xfrm>
          <a:prstGeom prst="rect">
            <a:avLst/>
          </a:prstGeom>
          <a:ln w="0">
            <a:noFill/>
          </a:ln>
        </p:spPr>
      </p:pic>
      <p:sp>
        <p:nvSpPr>
          <p:cNvPr id="111" name="Text Box 6"/>
          <p:cNvSpPr/>
          <p:nvPr/>
        </p:nvSpPr>
        <p:spPr>
          <a:xfrm>
            <a:off x="1692360" y="189000"/>
            <a:ext cx="7127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звитие  сенсорно - перцептивной сферы младшего школьника.</a:t>
            </a:r>
            <a:br>
              <a:rPr sz="1800"/>
            </a:br>
            <a:r>
              <a:rPr b="0" lang="ru-RU" sz="1800" spc="-1" strike="noStrike" u="sng">
                <a:solidFill>
                  <a:srgbClr val="000000"/>
                </a:solidFill>
                <a:uFillTx/>
                <a:latin typeface="Arial"/>
              </a:rPr>
              <a:t>1. Особенности развития внимания у младшего школьника.</a:t>
            </a:r>
            <a:endParaRPr b="0" lang="en-US" sz="1800" spc="-1" strike="noStrike">
              <a:solidFill>
                <a:srgbClr val="000000"/>
              </a:solidFill>
              <a:latin typeface="Arial"/>
            </a:endParaRPr>
          </a:p>
        </p:txBody>
      </p:sp>
      <p:sp>
        <p:nvSpPr>
          <p:cNvPr id="112" name="Text Box 7"/>
          <p:cNvSpPr/>
          <p:nvPr/>
        </p:nvSpPr>
        <p:spPr>
          <a:xfrm>
            <a:off x="179280" y="1052640"/>
            <a:ext cx="8569440" cy="559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ебная деятельность требует постоянного и эффективного самоконтроля учащихся, что возможно только при наличии достаточно высокого уровня произвольного внимания. Если учитель постоянно заботится о руководстве развитием произвольного внимания младших школьников, то в течении их обучения в начальных классах оно формируется очень интенсивно. Постепенно младший школьник учится руководствоваться самостоятельно поставленной целью, т.е. произвольное внимание становится у него ведущим. Развивающаяся произвольность внимания влияет и на развитие других свойств внимания, которые также несовершенны на первом году обучения.</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умение распределять внимание проявляется во время написания диктантов, когда нужно слушать, одновременно припоминать правило, применять их и писать. Но уже ко 2-му классу у детей наблюдаются заметные сдвиги в совершенствовании этого свойства.</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вая устойчивость внимания у школьников, следует помнить что у учеников в 1-2-х классах устойчивость внимания выше чем при выполнении ими внешних действий и ниже при выполнении умственных. Методисты рекомендуют чередовать умственные занятия и занятия по составлению схем, рисунков, чертежей.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15" name="Picture 4" descr="0001-001-Rol-muzyki-v-pesakh-A"/>
          <p:cNvPicPr/>
          <p:nvPr/>
        </p:nvPicPr>
        <p:blipFill>
          <a:blip r:embed="rId1"/>
          <a:stretch/>
        </p:blipFill>
        <p:spPr>
          <a:xfrm>
            <a:off x="0" y="0"/>
            <a:ext cx="9144000" cy="6858000"/>
          </a:xfrm>
          <a:prstGeom prst="rect">
            <a:avLst/>
          </a:prstGeom>
          <a:ln w="0">
            <a:noFill/>
          </a:ln>
        </p:spPr>
      </p:pic>
      <p:sp>
        <p:nvSpPr>
          <p:cNvPr id="116" name="Text Box 5"/>
          <p:cNvSpPr/>
          <p:nvPr/>
        </p:nvSpPr>
        <p:spPr>
          <a:xfrm>
            <a:off x="214200" y="500040"/>
            <a:ext cx="8640720" cy="4351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совершенно у младших школьников и такое важное свойство внимания, как переключение. В начале обучения у них еще не сформированы учебные умения и навыки, что и мешает быстро перейти от одного вида учебных занятий к другому, Однако совершенствование деятельности учения уже ко 2 классу приводит к формированию у учащихся умения переключаться от одного этапа урока к другому, от одной учебной работы к другой.</a:t>
            </a:r>
            <a:br>
              <a:rPr sz="1800"/>
            </a:br>
            <a:br>
              <a:rPr sz="1800"/>
            </a:br>
            <a:r>
              <a:rPr b="0" lang="ru-RU" sz="1800" spc="-1" strike="noStrike">
                <a:solidFill>
                  <a:srgbClr val="000000"/>
                </a:solidFill>
                <a:latin typeface="Arial"/>
              </a:rPr>
              <a:t>Вместе с развитием произвольного внимания развивается непроизвольное, которое связано теперь не с яркостью и внешней привлекательностью предмета, а с потребностями и интересами ребенка, возникающими в ходе учебной деятельности, т.е. с развитием их личности, когда чувства, интересы, мотивы и потребности постоянно определяют направленность его внимания. Развитие внимания учащихся связано с овладением ими учебной деятельностью и развитием их личности.</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19" name="Picture 5" descr="0_702d9_3e2c5af0_XL"/>
          <p:cNvPicPr/>
          <p:nvPr/>
        </p:nvPicPr>
        <p:blipFill>
          <a:blip r:embed="rId1"/>
          <a:stretch/>
        </p:blipFill>
        <p:spPr>
          <a:xfrm>
            <a:off x="0" y="0"/>
            <a:ext cx="9144000" cy="6858000"/>
          </a:xfrm>
          <a:prstGeom prst="rect">
            <a:avLst/>
          </a:prstGeom>
          <a:ln w="0">
            <a:noFill/>
          </a:ln>
        </p:spPr>
      </p:pic>
      <p:sp>
        <p:nvSpPr>
          <p:cNvPr id="120" name="Text Box 6"/>
          <p:cNvSpPr/>
          <p:nvPr/>
        </p:nvSpPr>
        <p:spPr>
          <a:xfrm>
            <a:off x="250920" y="260280"/>
            <a:ext cx="87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7"/>
          <p:cNvSpPr/>
          <p:nvPr/>
        </p:nvSpPr>
        <p:spPr>
          <a:xfrm>
            <a:off x="180720" y="123120"/>
            <a:ext cx="67993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2. Восприятие и его развитие в младшем школьном возраст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8"/>
          <p:cNvSpPr/>
          <p:nvPr/>
        </p:nvSpPr>
        <p:spPr>
          <a:xfrm>
            <a:off x="250920" y="620640"/>
            <a:ext cx="8569080" cy="5877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ыстрое сенсорное развитие ребенка в дошкольном возрасте приводит к тому, что младший школьник обладает достаточным уровнем развития восприятия: у него высокий уровень остроты зрения, слуха, ориентировки на форму и цвет предмета.</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процессе восприятия учебной информации необходима произвольность и осмысленность деятельности учащегося, они воспринимают различные образцы (эталоны), в соответствии с которыми должны действовать. Произвольность и осмысленность действий тесно взаимосвязаны и развиваются одновременно.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начала ребенка привлекает сам предмет и в первую очередь его внешние яркие признаки. Сосредоточится же и тщательно рассмотреть все особенности предмета и выделить в нем главное, существенное дети не могут.</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а особенность проявляется и в процессе учебной деятельности. Обучаясь мате­матике, ученики не могут проанализировать и правильно воспринять цифры 6 и 9, в русском алфавите - буквы Э и З и пр.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бота учителя должна быть направлена на обучение ученика анализу, сравнению свойств предметов, выделению существенного и выражению его в слов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25" name="Picture 4" descr="1264326734_1256762036_autumn-3"/>
          <p:cNvPicPr/>
          <p:nvPr/>
        </p:nvPicPr>
        <p:blipFill>
          <a:blip r:embed="rId1"/>
          <a:stretch/>
        </p:blipFill>
        <p:spPr>
          <a:xfrm>
            <a:off x="0" y="0"/>
            <a:ext cx="9144000" cy="6858000"/>
          </a:xfrm>
          <a:prstGeom prst="rect">
            <a:avLst/>
          </a:prstGeom>
          <a:ln w="0">
            <a:noFill/>
          </a:ln>
        </p:spPr>
      </p:pic>
      <p:sp>
        <p:nvSpPr>
          <p:cNvPr id="126" name="Text Box 5"/>
          <p:cNvSpPr/>
          <p:nvPr/>
        </p:nvSpPr>
        <p:spPr>
          <a:xfrm>
            <a:off x="285840" y="571680"/>
            <a:ext cx="849924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обходимо учить сосредотачивать свое внимание на предметах учебной деятельности независимо от их внешней привлекательности. Все это и ведет к развитию произвольности, осмысленности, а вместе с этим и и к иной избирательности восприятия - избирательности по содержанию, а не по внешней привлекательности. Уже к концу 1-го класса ученик умеет воспринимать предметы в соответствии с потребностями и интересами, возникающими в процессе обучения, и со своим прошлым опытом. Учитель продолжает учить школьника технике восприятия, показывает приемы осмотра и прослушивания, порядок выявления свойств.</a:t>
            </a:r>
            <a:br>
              <a:rPr sz="1800"/>
            </a:br>
            <a:r>
              <a:rPr b="0" lang="ru-RU" sz="1800" spc="-1" strike="noStrike">
                <a:solidFill>
                  <a:srgbClr val="000000"/>
                </a:solidFill>
                <a:latin typeface="Arial"/>
              </a:rPr>
              <a:t>Все это стимулирует дальнейшее развитие восприяти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29" name="Picture 5" descr="5de5b4b153a4"/>
          <p:cNvPicPr/>
          <p:nvPr/>
        </p:nvPicPr>
        <p:blipFill>
          <a:blip r:embed="rId1"/>
          <a:stretch/>
        </p:blipFill>
        <p:spPr>
          <a:xfrm>
            <a:off x="0" y="0"/>
            <a:ext cx="9144000" cy="6858000"/>
          </a:xfrm>
          <a:prstGeom prst="rect">
            <a:avLst/>
          </a:prstGeom>
          <a:ln w="0">
            <a:noFill/>
          </a:ln>
        </p:spPr>
      </p:pic>
      <p:sp>
        <p:nvSpPr>
          <p:cNvPr id="130" name="Text Box 7"/>
          <p:cNvSpPr/>
          <p:nvPr/>
        </p:nvSpPr>
        <p:spPr>
          <a:xfrm>
            <a:off x="358920" y="714240"/>
            <a:ext cx="8356320" cy="5174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звитие высших интеллектуальных функций младшего школьника</a:t>
            </a: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1. Память и её формирование в младшем школьном возрасте. </a:t>
            </a:r>
            <a:br>
              <a:rPr sz="1800"/>
            </a:br>
            <a:r>
              <a:rPr b="0" lang="ru-RU" sz="1800" spc="-1" strike="noStrike">
                <a:solidFill>
                  <a:srgbClr val="000000"/>
                </a:solidFill>
                <a:latin typeface="Arial"/>
              </a:rPr>
              <a:t>Память младшего школьника - важнейший психологический компонент учебной познавательной деятельности. Кроме того, память может рассматриваться как самостоятельная мнемическая деятельность, направленная специально на запоминани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емическая деятельность младшего школьника, как и его учение в целом, становится все более произвольной и осмысленной. Показателем осмысленности запомина­ния и является овладение учеником приёмами, способами запоминан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й прием запоминания – деление текста на смысловые части, составление плана. При запоминании ученики 1 и 2 классов затрудняются разбивать текст на смысловые части, они не могут вычленить существенное, главное в каждом отрывке, а если и прибегают к делению, то только механически расчленяют запоминаемый материал с целью более легкого заучивания меньших по величине кусков текст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32" name="Picture 4" descr="1261926625_1233178469_shutterstock_3595076"/>
          <p:cNvPicPr/>
          <p:nvPr/>
        </p:nvPicPr>
        <p:blipFill>
          <a:blip r:embed="rId1"/>
          <a:stretch/>
        </p:blipFill>
        <p:spPr>
          <a:xfrm>
            <a:off x="0" y="0"/>
            <a:ext cx="9144000" cy="6858000"/>
          </a:xfrm>
          <a:prstGeom prst="rect">
            <a:avLst/>
          </a:prstGeom>
          <a:ln w="0">
            <a:noFill/>
          </a:ln>
        </p:spPr>
      </p:pic>
      <p:sp>
        <p:nvSpPr>
          <p:cNvPr id="133" name="Text Box 6"/>
          <p:cNvSpPr/>
          <p:nvPr/>
        </p:nvSpPr>
        <p:spPr>
          <a:xfrm>
            <a:off x="428760" y="714240"/>
            <a:ext cx="8215200" cy="4768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обенно затрудняются дети делить текст на смысловые части по памяти и делают это лучше, лишь когда непосредственно воспринимают текст.</a:t>
            </a:r>
            <a:br>
              <a:rPr sz="1800"/>
            </a:br>
            <a:r>
              <a:rPr b="0" lang="ru-RU" sz="1800" spc="-1" strike="noStrike">
                <a:solidFill>
                  <a:srgbClr val="000000"/>
                </a:solidFill>
                <a:latin typeface="Arial"/>
              </a:rPr>
              <a:t>В начальных классах применяются и другие способы, облегчающие запоминание: сопоставление и соотнесение. Соотносится обычно то, что запоминается, с чем-либо уже хорошо известным, а сопоставляются отдельные части, вопросы внутри запоминаемого. Сначала эти способы используются учащимися в процессе непосредственного запоминания с опорой на внешние вспомогательные средства (предметы, картины), а затем на внутренние (нахождение сходства между новым и старым материалом, сос­тавление плана и т.д.). Без специального обучения младший школьник не может использовать рациональные приемы заучивания, так как все они требуют применения сложных мыслительных операций (анализа, синтеза, сравнения), которыми ребёнок овладевает постепенно в процессе обучения.</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10"/>
          <p:cNvSpPr/>
          <p:nvPr/>
        </p:nvSpPr>
        <p:spPr>
          <a:xfrm>
            <a:off x="179280" y="4581360"/>
            <a:ext cx="878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49" name="Picture 4" descr="reWalls"/>
          <p:cNvPicPr/>
          <p:nvPr/>
        </p:nvPicPr>
        <p:blipFill>
          <a:blip r:embed="rId1"/>
          <a:stretch/>
        </p:blipFill>
        <p:spPr>
          <a:xfrm>
            <a:off x="0" y="0"/>
            <a:ext cx="9144000" cy="6858000"/>
          </a:xfrm>
          <a:prstGeom prst="rect">
            <a:avLst/>
          </a:prstGeom>
          <a:ln w="0">
            <a:noFill/>
          </a:ln>
        </p:spPr>
      </p:pic>
      <p:sp>
        <p:nvSpPr>
          <p:cNvPr id="50" name="Text Box 5"/>
          <p:cNvSpPr/>
          <p:nvPr/>
        </p:nvSpPr>
        <p:spPr>
          <a:xfrm>
            <a:off x="179280" y="260280"/>
            <a:ext cx="87138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Младший школьный возраст</a:t>
            </a:r>
            <a:r>
              <a:rPr b="0" lang="ru-RU" sz="1800" spc="-1" strike="noStrike">
                <a:solidFill>
                  <a:srgbClr val="000000"/>
                </a:solidFill>
                <a:latin typeface="Arial"/>
              </a:rPr>
              <a:t> -период впитывания, накопления знаний, период усвоения социального опыта. Успешному выполнению этой важной функции благоприятствуют характерные особенности детей этого возраста: доверчивое подчинение авторитету, повышенная восприимчивость, внимательность, наивно игровое отношение ко многому из того, с чем они сталкиваются. Сильна направленность младшего школьника на внешний мир. Факты, события, детали оставляют у него сильное впечатление. </a:t>
            </a:r>
            <a:endParaRPr b="0" lang="en-US" sz="1800" spc="-1" strike="noStrike">
              <a:solidFill>
                <a:srgbClr val="000000"/>
              </a:solidFill>
              <a:latin typeface="Arial"/>
            </a:endParaRPr>
          </a:p>
        </p:txBody>
      </p:sp>
      <p:pic>
        <p:nvPicPr>
          <p:cNvPr id="51" name="Picture 8" descr="1352607696_bezimeni-2"/>
          <p:cNvPicPr/>
          <p:nvPr/>
        </p:nvPicPr>
        <p:blipFill>
          <a:blip r:embed="rId2"/>
          <a:stretch/>
        </p:blipFill>
        <p:spPr>
          <a:xfrm>
            <a:off x="4500720" y="2276640"/>
            <a:ext cx="4241520" cy="3181320"/>
          </a:xfrm>
          <a:prstGeom prst="rect">
            <a:avLst/>
          </a:prstGeom>
          <a:ln w="0">
            <a:noFill/>
          </a:ln>
        </p:spPr>
      </p:pic>
      <p:sp>
        <p:nvSpPr>
          <p:cNvPr id="52" name="Text Box 9"/>
          <p:cNvSpPr/>
          <p:nvPr/>
        </p:nvSpPr>
        <p:spPr>
          <a:xfrm>
            <a:off x="250920" y="2421000"/>
            <a:ext cx="417672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ожность учебной деятельности и необычность переживаний вызывают часто тормозную реакцию у подвижных и возбудимых детей и, наоборот, делают возбудимыми спокойных и уравновешенных. Дети бывают неловкими, их двига­тельные навыки на время ухудшаются, они роняют вещи, задевают предметы и т.п.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37" name="Picture 4" descr="0_6507f_2d964e85_XL"/>
          <p:cNvPicPr/>
          <p:nvPr/>
        </p:nvPicPr>
        <p:blipFill>
          <a:blip r:embed="rId1"/>
          <a:stretch/>
        </p:blipFill>
        <p:spPr>
          <a:xfrm>
            <a:off x="0" y="0"/>
            <a:ext cx="9144000" cy="6858000"/>
          </a:xfrm>
          <a:prstGeom prst="rect">
            <a:avLst/>
          </a:prstGeom>
          <a:ln w="0">
            <a:noFill/>
          </a:ln>
        </p:spPr>
      </p:pic>
      <p:sp>
        <p:nvSpPr>
          <p:cNvPr id="138" name="Text Box 5"/>
          <p:cNvSpPr/>
          <p:nvPr/>
        </p:nvSpPr>
        <p:spPr>
          <a:xfrm>
            <a:off x="0" y="260280"/>
            <a:ext cx="8964720" cy="6546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2. Формирование мышления в младшем школьном возрасте.</a:t>
            </a:r>
            <a:br>
              <a:rPr sz="1800"/>
            </a:b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обучения стимулирует быстрое развитие абстрактного мышления. В процессе овладения понятиями развиваются все мыслительные операции: анализ - от практически действенного, чувственного к умственному, от элементарного к углубленному; синтез - от практически-действенного к чувственному, от элемен­тарного к широкому и сложному.</a:t>
            </a:r>
            <a:br>
              <a:rPr sz="1800"/>
            </a:br>
            <a:r>
              <a:rPr b="0" lang="ru-RU" sz="1800" spc="-1" strike="noStrike">
                <a:solidFill>
                  <a:srgbClr val="000000"/>
                </a:solidFill>
                <a:latin typeface="Arial"/>
              </a:rPr>
              <a:t>Сравнение имеет также свои особенности. Вначале в сравнении учащиеся легко выделяют различия и труднее сходства. Далее постепенно выделяется и сравнивается сходство, причем вначале яркие, броские признаки, в том числе и существенные.</a:t>
            </a:r>
            <a:br>
              <a:rPr sz="1800"/>
            </a:br>
            <a:r>
              <a:rPr b="0" lang="ru-RU" sz="1800" spc="-1" strike="noStrike">
                <a:solidFill>
                  <a:srgbClr val="000000"/>
                </a:solidFill>
                <a:latin typeface="Arial"/>
              </a:rPr>
              <a:t>В 1 классе у учащихся сравнение иногда подменяется рядоположением. Сначала ученики перечисляют все особенности одного предмета, потом другого, план для последовательного сравнения общих и различных свойств им составлять еще трудно. Процесс сравнения требует систематического и длительного обучения учащихся.</a:t>
            </a:r>
            <a:br>
              <a:rPr sz="1800"/>
            </a:br>
            <a:r>
              <a:rPr b="0" lang="ru-RU" sz="1800" spc="-1" strike="noStrike">
                <a:solidFill>
                  <a:srgbClr val="000000"/>
                </a:solidFill>
                <a:latin typeface="Arial"/>
              </a:rPr>
              <a:t>Абстракция младшего школьника отличается тем, что за существенные признаки принимаются внешние, яркие. Дети легко абстрагируют свойства предметов, чем связи и отношения. Обобщение в начальных классах характеризуется осознанием только некоторых признаков, так как учащийся еще не может проникнуть в сущность предмета. На основе развития мыслительных операций развиваются и формы мышления, а также качества ума: самостоятельность, гибкость, критичност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41" name="Picture 4" descr="90278134_sweets_040"/>
          <p:cNvPicPr/>
          <p:nvPr/>
        </p:nvPicPr>
        <p:blipFill>
          <a:blip r:embed="rId1"/>
          <a:stretch/>
        </p:blipFill>
        <p:spPr>
          <a:xfrm>
            <a:off x="0" y="0"/>
            <a:ext cx="9144000" cy="6858000"/>
          </a:xfrm>
          <a:prstGeom prst="rect">
            <a:avLst/>
          </a:prstGeom>
          <a:ln w="0">
            <a:noFill/>
          </a:ln>
        </p:spPr>
      </p:pic>
      <p:sp>
        <p:nvSpPr>
          <p:cNvPr id="142" name="Text Box 5"/>
          <p:cNvSpPr/>
          <p:nvPr/>
        </p:nvSpPr>
        <p:spPr>
          <a:xfrm>
            <a:off x="179280" y="260280"/>
            <a:ext cx="87138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процессе учебной деятельности учащийся получает много описательных сведений, и это требует от него постоянного воссоздания образов, без которых невозможно понять учебный материал и усвоить его, т.е. воссоздающее воображение младшего школьника с самого начала обучения включено в целенаправленную деятельность, способствующую его психическому развитию.</a:t>
            </a:r>
            <a:endParaRPr b="0" lang="en-US" sz="1800" spc="-1" strike="noStrike">
              <a:solidFill>
                <a:srgbClr val="000000"/>
              </a:solidFill>
              <a:latin typeface="Arial"/>
            </a:endParaRPr>
          </a:p>
        </p:txBody>
      </p:sp>
      <p:pic>
        <p:nvPicPr>
          <p:cNvPr id="143" name="Picture 6" descr="091f65e886d497f48f85b7f452dc472c"/>
          <p:cNvPicPr/>
          <p:nvPr/>
        </p:nvPicPr>
        <p:blipFill>
          <a:blip r:embed="rId2"/>
          <a:stretch/>
        </p:blipFill>
        <p:spPr>
          <a:xfrm>
            <a:off x="179280" y="2349360"/>
            <a:ext cx="3778200" cy="3889440"/>
          </a:xfrm>
          <a:prstGeom prst="rect">
            <a:avLst/>
          </a:prstGeom>
          <a:ln w="0">
            <a:noFill/>
          </a:ln>
        </p:spPr>
      </p:pic>
      <p:sp>
        <p:nvSpPr>
          <p:cNvPr id="144" name="Text Box 7"/>
          <p:cNvSpPr/>
          <p:nvPr/>
        </p:nvSpPr>
        <p:spPr>
          <a:xfrm>
            <a:off x="4067280" y="2421000"/>
            <a:ext cx="482436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ища" для воображения школьника - его представления. Поэтому развитие воображения зависит от работы учителя на уроках по накапливанию системы тематических представлений. В результате постоянных усилий педагога в этом направлении в развитии воображения младшего школьника происходят изменения: сначала образы воображения у учеников расплывчаты, неясны, но затем они становятся более точными и определенным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47" name="Picture 6" descr="43936ab7e6a1t"/>
          <p:cNvPicPr/>
          <p:nvPr/>
        </p:nvPicPr>
        <p:blipFill>
          <a:blip r:embed="rId1"/>
          <a:stretch/>
        </p:blipFill>
        <p:spPr>
          <a:xfrm>
            <a:off x="0" y="0"/>
            <a:ext cx="9144000" cy="6858000"/>
          </a:xfrm>
          <a:prstGeom prst="rect">
            <a:avLst/>
          </a:prstGeom>
          <a:ln w="0">
            <a:noFill/>
          </a:ln>
        </p:spPr>
      </p:pic>
      <p:sp>
        <p:nvSpPr>
          <p:cNvPr id="148" name="Text Box 8"/>
          <p:cNvSpPr/>
          <p:nvPr/>
        </p:nvSpPr>
        <p:spPr>
          <a:xfrm>
            <a:off x="179280" y="333360"/>
            <a:ext cx="849636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начале в образе отображаются только несколько признаков, причем среди них преобладают несущественные, а ко 2-3-му классу число отображаемых признаков значительно возрастает. Причем среди них преобладают существенные: переработка образов накопленных представлений вначале незначительна, а к 3-му классу, когда учащийся приобретает гораздо больше знаний, образы становятся обобщеннее и ярче, дети уже могут изменить сюжетную линию рассказа, вполне осмысленно вводят условность; в начале обучения для возникновения образа требуется опора на конкретный предмет (при чтении и рассказе, например - опора на картинку), а далее развивается опора на слово, ибо именно оно позволяет школьнику создать мысленно новый образ (написание сочинения по рассказу и т.п.).</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51" name="Picture 4" descr="post-269026-1290453029_thumb"/>
          <p:cNvPicPr/>
          <p:nvPr/>
        </p:nvPicPr>
        <p:blipFill>
          <a:blip r:embed="rId1"/>
          <a:stretch/>
        </p:blipFill>
        <p:spPr>
          <a:xfrm>
            <a:off x="0" y="0"/>
            <a:ext cx="9144000" cy="6858000"/>
          </a:xfrm>
          <a:prstGeom prst="rect">
            <a:avLst/>
          </a:prstGeom>
          <a:ln w="0">
            <a:noFill/>
          </a:ln>
        </p:spPr>
      </p:pic>
      <p:sp>
        <p:nvSpPr>
          <p:cNvPr id="152" name="Text Box 5"/>
          <p:cNvSpPr/>
          <p:nvPr/>
        </p:nvSpPr>
        <p:spPr>
          <a:xfrm>
            <a:off x="1258920" y="2637000"/>
            <a:ext cx="6121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пасибо за вниман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55" name="Picture 4" descr="shiny44"/>
          <p:cNvPicPr/>
          <p:nvPr/>
        </p:nvPicPr>
        <p:blipFill>
          <a:blip r:embed="rId1"/>
          <a:stretch/>
        </p:blipFill>
        <p:spPr>
          <a:xfrm>
            <a:off x="0" y="0"/>
            <a:ext cx="9144000" cy="6858000"/>
          </a:xfrm>
          <a:prstGeom prst="rect">
            <a:avLst/>
          </a:prstGeom>
          <a:ln w="0">
            <a:noFill/>
          </a:ln>
        </p:spPr>
      </p:pic>
      <p:sp>
        <p:nvSpPr>
          <p:cNvPr id="56" name="Text Box 5"/>
          <p:cNvSpPr/>
          <p:nvPr/>
        </p:nvSpPr>
        <p:spPr>
          <a:xfrm>
            <a:off x="179280" y="333360"/>
            <a:ext cx="8640720" cy="3397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акторы, влияющие на поведение ученика-первоклассника</a:t>
            </a:r>
            <a:r>
              <a:rPr b="0" lang="ru-RU"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яется ряд факторов, влияющих на поведение учащихся в начале обучения: резкое изменение режима всего дня; новые взаимоотношения; вся жизнь в школе связана с личностью учителя, а позиция педагога школы по отношению к ребенку отличается от позиции воспитателя детского сада; часто далек бывает для первоклассников и общешкольный коллектив.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обенности развития личности ученика младших классов</a:t>
            </a: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основе развивающихся потребностей лежат те, которы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6" descr="beaf45787dac"/>
          <p:cNvPicPr/>
          <p:nvPr/>
        </p:nvPicPr>
        <p:blipFill>
          <a:blip r:embed="rId2"/>
          <a:stretch/>
        </p:blipFill>
        <p:spPr>
          <a:xfrm>
            <a:off x="179280" y="3213000"/>
            <a:ext cx="4248360" cy="3502080"/>
          </a:xfrm>
          <a:prstGeom prst="rect">
            <a:avLst/>
          </a:prstGeom>
          <a:ln w="0">
            <a:noFill/>
          </a:ln>
        </p:spPr>
      </p:pic>
      <p:sp>
        <p:nvSpPr>
          <p:cNvPr id="58" name="Text Box 9"/>
          <p:cNvSpPr/>
          <p:nvPr/>
        </p:nvSpPr>
        <p:spPr>
          <a:xfrm>
            <a:off x="4716360" y="3141720"/>
            <a:ext cx="41036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ес ребенок из дошкольного детства. Сохраняется потребность в игре. Остается такой же сильной, как у дошкольника, потребность в движени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обо значима для дальнейшего развития личности младшего школьника, как и дошкольника, потребность во внешних впечатления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61" name="Picture 7" descr="0_c6_21695995_XL"/>
          <p:cNvPicPr/>
          <p:nvPr/>
        </p:nvPicPr>
        <p:blipFill>
          <a:blip r:embed="rId1"/>
          <a:stretch/>
        </p:blipFill>
        <p:spPr>
          <a:xfrm>
            <a:off x="0" y="0"/>
            <a:ext cx="9144000" cy="6858000"/>
          </a:xfrm>
          <a:prstGeom prst="rect">
            <a:avLst/>
          </a:prstGeom>
          <a:ln w="0">
            <a:noFill/>
          </a:ln>
        </p:spPr>
      </p:pic>
      <p:sp>
        <p:nvSpPr>
          <p:cNvPr id="62" name="Text Box 8"/>
          <p:cNvSpPr/>
          <p:nvPr/>
        </p:nvSpPr>
        <p:spPr>
          <a:xfrm>
            <a:off x="179280" y="333360"/>
            <a:ext cx="87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9"/>
          <p:cNvSpPr/>
          <p:nvPr/>
        </p:nvSpPr>
        <p:spPr>
          <a:xfrm>
            <a:off x="0" y="189000"/>
            <a:ext cx="9144000" cy="4900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связи с развитием познавательной потребности возникают разнообразные мотивы учения. Под влиянием новой ведущей деятельности у младших школьников формируется более устойчивая структура мотивов, в которой мотивы учебной деятельности становятся ведущими. Одни мотивы возникают в самом процессе обучения и связаны с содержанием и формами учебной деятельности. Другие лежат за пределами учебного процесса. Они, в свою очередь делятся на широкие социальные мотивы и узколичные. В них отражается стремление к собствен­ному благополучию.</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ичность младшего школьника проявляется и формируется в общении. Потребность в общении удовлетворяется главным образом в ведущей учебной деятельности, что и определяет взаимоотношения младших школьников. Учебная деятельность, будучи ин­дивидуальной по своему существу, на первом этапе обучения затрудняет образование коллективных связей и взаимоотношений.</a:t>
            </a:r>
            <a:br>
              <a:rPr sz="1800"/>
            </a:br>
            <a:r>
              <a:rPr b="0" lang="ru-RU" sz="1800" spc="-1" strike="noStrike">
                <a:solidFill>
                  <a:srgbClr val="000000"/>
                </a:solidFill>
                <a:latin typeface="Arial"/>
              </a:rPr>
              <a:t>На 2-3 году обучения отношение школьника к коллективу класса меняется. Личность учителя становится менее значимой, но зато устанавливаются более тесные контакты с товарищами, одноклассниками, с которыми вместе усваивают знания, вместе участвуют в общественной жизни.</a:t>
            </a:r>
            <a:endParaRPr b="0" lang="en-US" sz="1800" spc="-1" strike="noStrike">
              <a:solidFill>
                <a:srgbClr val="000000"/>
              </a:solidFill>
              <a:latin typeface="Arial"/>
            </a:endParaRPr>
          </a:p>
        </p:txBody>
      </p:sp>
      <p:sp>
        <p:nvSpPr>
          <p:cNvPr id="64" name="Text Box 11"/>
          <p:cNvSpPr/>
          <p:nvPr/>
        </p:nvSpPr>
        <p:spPr>
          <a:xfrm>
            <a:off x="0" y="5157720"/>
            <a:ext cx="87868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ичные взаимоотношения уже в младшем школьном возрасте лежат в основе контактных дружеских группировок, так называемых "малых групп". В малых группах, как правило, есть свои лидеры. У них складываются свои нормы поведения, свои интерес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67" name="Picture 4" descr="3474_full"/>
          <p:cNvPicPr/>
          <p:nvPr/>
        </p:nvPicPr>
        <p:blipFill>
          <a:blip r:embed="rId1"/>
          <a:stretch/>
        </p:blipFill>
        <p:spPr>
          <a:xfrm>
            <a:off x="0" y="0"/>
            <a:ext cx="9144000" cy="6858000"/>
          </a:xfrm>
          <a:prstGeom prst="rect">
            <a:avLst/>
          </a:prstGeom>
          <a:ln w="0">
            <a:noFill/>
          </a:ln>
        </p:spPr>
      </p:pic>
      <p:sp>
        <p:nvSpPr>
          <p:cNvPr id="68" name="Text Box 5"/>
          <p:cNvSpPr/>
          <p:nvPr/>
        </p:nvSpPr>
        <p:spPr>
          <a:xfrm>
            <a:off x="179280" y="404640"/>
            <a:ext cx="896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1. Учение в структуре основных видов деятельности младшего школьника.</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поступлением ребёнка в школу в число ведущих, наряду с общением и игрой, выдвигается учебная деятельность. В развитии детей младшего школьного</a:t>
            </a:r>
            <a:endParaRPr b="0" lang="en-US" sz="1800" spc="-1" strike="noStrike">
              <a:solidFill>
                <a:srgbClr val="000000"/>
              </a:solidFill>
              <a:latin typeface="Arial"/>
            </a:endParaRPr>
          </a:p>
        </p:txBody>
      </p:sp>
      <p:sp>
        <p:nvSpPr>
          <p:cNvPr id="69" name="Text Box 7"/>
          <p:cNvSpPr/>
          <p:nvPr/>
        </p:nvSpPr>
        <p:spPr>
          <a:xfrm>
            <a:off x="250920" y="1484280"/>
            <a:ext cx="81072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зраста этой деятельности принадлежит особая роль. Учебная деятельность как самостоя­тельная складывается именно в это время и определяет во многом интеллектуальное развитие детей от 6-7 до 10-11 лет. В целом же с поступлением ребёнка в школу его развитие начинает определяться уже не тремя, как было в дошкольном детстве, а четырьмя различными видами деятельности. Именно внутри учебной деятельности ребёнка младшего возраста возникают свойственные</a:t>
            </a:r>
            <a:endParaRPr b="0" lang="en-US" sz="1800" spc="-1" strike="noStrike">
              <a:solidFill>
                <a:srgbClr val="000000"/>
              </a:solidFill>
              <a:latin typeface="Arial"/>
            </a:endParaRPr>
          </a:p>
        </p:txBody>
      </p:sp>
      <p:sp>
        <p:nvSpPr>
          <p:cNvPr id="70" name="Text Box 8"/>
          <p:cNvSpPr/>
          <p:nvPr/>
        </p:nvSpPr>
        <p:spPr>
          <a:xfrm>
            <a:off x="285840" y="3571920"/>
            <a:ext cx="82836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му основные психологические новообразования. Эта деятельность определяет характер других видов деятельности: игровой, трудовой и общения.</a:t>
            </a:r>
            <a:br>
              <a:rPr sz="1800"/>
            </a:br>
            <a:r>
              <a:rPr b="0" lang="ru-RU" sz="1800" spc="-1" strike="noStrike">
                <a:solidFill>
                  <a:srgbClr val="000000"/>
                </a:solidFill>
                <a:latin typeface="Arial"/>
              </a:rPr>
              <a:t>Учение здесь только начинается, и поэтому о нём нужно говорить как о раз­вивающемся виде деятельнос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73" name="Picture 8" descr="fon3"/>
          <p:cNvPicPr/>
          <p:nvPr/>
        </p:nvPicPr>
        <p:blipFill>
          <a:blip r:embed="rId1"/>
          <a:stretch/>
        </p:blipFill>
        <p:spPr>
          <a:xfrm>
            <a:off x="0" y="0"/>
            <a:ext cx="9144000" cy="6858000"/>
          </a:xfrm>
          <a:prstGeom prst="rect">
            <a:avLst/>
          </a:prstGeom>
          <a:ln w="0">
            <a:noFill/>
          </a:ln>
        </p:spPr>
      </p:pic>
      <p:sp>
        <p:nvSpPr>
          <p:cNvPr id="74" name="Text Box 9"/>
          <p:cNvSpPr/>
          <p:nvPr/>
        </p:nvSpPr>
        <p:spPr>
          <a:xfrm>
            <a:off x="250920" y="333360"/>
            <a:ext cx="8893080" cy="6414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2. Особенности учебной деятельности младшего школьника.</a:t>
            </a:r>
            <a:br>
              <a:rPr sz="1800"/>
            </a:b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кие психические особенности, как доверчивость, исполнительность, являются предпосылкой для успешного обучения и воспитания. Вместе с тем безраздельное подчинение авторитету учителя, бездумное выполнение его указаний могут в даль­нейшем отрицательно сказаться на процессе обучения.</a:t>
            </a:r>
            <a:br>
              <a:rPr sz="1800"/>
            </a:br>
            <a:br>
              <a:rPr sz="1800"/>
            </a:br>
            <a:r>
              <a:rPr b="0" lang="ru-RU" sz="1800" spc="-1" strike="noStrike">
                <a:solidFill>
                  <a:srgbClr val="000000"/>
                </a:solidFill>
                <a:latin typeface="Arial"/>
              </a:rPr>
              <a:t>В этом возрасте дети с готовностью и интересом овладевают новыми знаниями, умениями и навыками. Им хочется научиться правильно и красиво писать, читать, считать. Пока они только вбирают, впитывают знания. И этому очень способствует повышенная восприимчивость и впечатлительность младшего школьника. Повышенная реактивность, готовность к действию проявляется на уроках и в том, как ребята быстро поднимают руку, нетерпеливо выслушивают ответ товарища, стремятся сами отвечать.</a:t>
            </a:r>
            <a:br>
              <a:rPr sz="1800"/>
            </a:br>
            <a:br>
              <a:rPr sz="1800"/>
            </a:br>
            <a:r>
              <a:rPr b="0" lang="ru-RU" sz="1800" spc="-1" strike="noStrike">
                <a:solidFill>
                  <a:srgbClr val="000000"/>
                </a:solidFill>
                <a:latin typeface="Arial"/>
              </a:rPr>
              <a:t>Важным источником успехов младших школьников в учении является их подража­тельность. Учащиеся повторяют рассуждения учителя, приводят примеры, аналогичные примерам товарищей и т.п. Подобное, порой только внешнее, копирования помогает ребёнку в усвоении материала. Но в то же время может привести к поверхностному восприятию некоторых явлений, событий.</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77" name="Picture 4" descr="330026694634_820eb573269e"/>
          <p:cNvPicPr/>
          <p:nvPr/>
        </p:nvPicPr>
        <p:blipFill>
          <a:blip r:embed="rId1"/>
          <a:stretch/>
        </p:blipFill>
        <p:spPr>
          <a:xfrm>
            <a:off x="0" y="0"/>
            <a:ext cx="9144000" cy="6858000"/>
          </a:xfrm>
          <a:prstGeom prst="rect">
            <a:avLst/>
          </a:prstGeom>
          <a:ln w="0">
            <a:noFill/>
          </a:ln>
        </p:spPr>
      </p:pic>
      <p:sp>
        <p:nvSpPr>
          <p:cNvPr id="78" name="Text Box 5"/>
          <p:cNvSpPr/>
          <p:nvPr/>
        </p:nvSpPr>
        <p:spPr>
          <a:xfrm>
            <a:off x="179280" y="260280"/>
            <a:ext cx="864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6"/>
          <p:cNvSpPr/>
          <p:nvPr/>
        </p:nvSpPr>
        <p:spPr>
          <a:xfrm>
            <a:off x="324000" y="333360"/>
            <a:ext cx="84960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3. Основные компоненты учебной деятельности.</a:t>
            </a:r>
            <a:br>
              <a:rPr sz="1800"/>
            </a:br>
            <a:br>
              <a:rPr sz="1800"/>
            </a:br>
            <a:r>
              <a:rPr b="0" lang="ru-RU" sz="1800" spc="-1" strike="noStrike">
                <a:solidFill>
                  <a:srgbClr val="000000"/>
                </a:solidFill>
                <a:latin typeface="Arial"/>
              </a:rPr>
              <a:t>Первоначально учебный процесс в младших классах строится на основе знакомства детей с главными компонентами учебной деятельности. Эти компоненты, по В.В.Давыдову, следующие: учебные ситуации, учебные действия, контроль и оценка. Если при выполнении заданий школьники допускают ошибки, то это свидетельствует либо о неполноте освоенных ими учебных действий, а также действий, связанных с контролем и оценкой, либо о слабой отработке этих действий.</a:t>
            </a:r>
            <a:endParaRPr b="0" lang="en-US" sz="1800" spc="-1" strike="noStrike">
              <a:solidFill>
                <a:srgbClr val="000000"/>
              </a:solidFill>
              <a:latin typeface="Arial"/>
            </a:endParaRPr>
          </a:p>
        </p:txBody>
      </p:sp>
      <p:pic>
        <p:nvPicPr>
          <p:cNvPr id="80" name="Picture 7" descr="2f9fe63a46fa9a1aa9ec05f0f9f_prev"/>
          <p:cNvPicPr/>
          <p:nvPr/>
        </p:nvPicPr>
        <p:blipFill>
          <a:blip r:embed="rId2"/>
          <a:stretch/>
        </p:blipFill>
        <p:spPr>
          <a:xfrm>
            <a:off x="1619280" y="3213000"/>
            <a:ext cx="5619600" cy="3505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83" name="Picture 4" descr="fon4"/>
          <p:cNvPicPr/>
          <p:nvPr/>
        </p:nvPicPr>
        <p:blipFill>
          <a:blip r:embed="rId1"/>
          <a:stretch/>
        </p:blipFill>
        <p:spPr>
          <a:xfrm>
            <a:off x="0" y="0"/>
            <a:ext cx="9144000" cy="6858000"/>
          </a:xfrm>
          <a:prstGeom prst="rect">
            <a:avLst/>
          </a:prstGeom>
          <a:ln w="0">
            <a:noFill/>
          </a:ln>
        </p:spPr>
      </p:pic>
      <p:sp>
        <p:nvSpPr>
          <p:cNvPr id="84" name="Text Box 6"/>
          <p:cNvSpPr/>
          <p:nvPr/>
        </p:nvSpPr>
        <p:spPr>
          <a:xfrm>
            <a:off x="179280" y="260280"/>
            <a:ext cx="8785440" cy="670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4. Основные условия эффективности учебной деятельности младшего школьника.</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 наиболее эффективным для умственного развития учащихся действиям с учебным материалом в процессе учения относятся следующие:</a:t>
            </a:r>
            <a:br>
              <a:rPr sz="1800"/>
            </a:br>
            <a:br>
              <a:rPr sz="1800"/>
            </a:br>
            <a:r>
              <a:rPr b="0" lang="ru-RU" sz="1800" spc="-1" strike="noStrike">
                <a:solidFill>
                  <a:srgbClr val="000000"/>
                </a:solidFill>
                <a:latin typeface="Arial"/>
              </a:rPr>
              <a:t>1. Разнообразные формы и виды сравнения сначала конкретных предметов, данных наглядно, а затем сопоставление образов предметов, знаков, слов с одинаковым корнем, с разными приставками, окончаниями, суффиксами, разных математических выражений, литературных произведений , однородных по тематике картин.</a:t>
            </a:r>
            <a:br>
              <a:rPr sz="1800"/>
            </a:b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Разнообразные формы анализа одного учебного содержания, т.е. членение его с разных точек зрения.</a:t>
            </a:r>
            <a:br>
              <a:rPr sz="1800"/>
            </a:b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Разнообразные формы обобщений: группировка (однородных явлений), классификация по категориям, выводы, выражения в краткой форме основного содержания, установление разнообразных связей и зависимостей как внутрипредметных, так и межпредметных.</a:t>
            </a:r>
            <a:br>
              <a:rPr sz="1800"/>
            </a:b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Различные формы конструирования и переконструирования детьми данного им учебного материала.</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86" name="Picture 4" descr="74544351_e86ccb9fa2c5"/>
          <p:cNvPicPr/>
          <p:nvPr/>
        </p:nvPicPr>
        <p:blipFill>
          <a:blip r:embed="rId1"/>
          <a:stretch/>
        </p:blipFill>
        <p:spPr>
          <a:xfrm>
            <a:off x="0" y="0"/>
            <a:ext cx="9144000" cy="6858000"/>
          </a:xfrm>
          <a:prstGeom prst="rect">
            <a:avLst/>
          </a:prstGeom>
          <a:ln w="0">
            <a:noFill/>
          </a:ln>
        </p:spPr>
      </p:pic>
      <p:sp>
        <p:nvSpPr>
          <p:cNvPr id="87" name="Text Box 5"/>
          <p:cNvSpPr/>
          <p:nvPr/>
        </p:nvSpPr>
        <p:spPr>
          <a:xfrm>
            <a:off x="179280" y="260280"/>
            <a:ext cx="8496360" cy="655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Постоянные переходы от оперирования теоретическими положениями (правилами, законами, понятиями) к их практическому использованию, конкретизации и об­ратные действия: определение по фактическому материалу известных ученикам теоретических положений, правил, зависимостей.</a:t>
            </a:r>
            <a:br>
              <a:rPr sz="1800"/>
            </a:b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Обоснование учеником выполняемых действий (их отражение в речи), обеспечивающее осознанность их использования, доказательность принятых решений, критическую проверку путей, способов и полученных результатов выполненного действия.</a:t>
            </a:r>
            <a:br>
              <a:rPr sz="1800"/>
            </a:b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 Систематическое усложнение заданий, повышение требований в отношении самостоятельности, вариативности и оригинальности, быстроты решений, использования знаний по другим учебным предметам или жизненных наблюдений, содержания прочитанных книг.</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основу развивающего обучения младших школьников положена система регулярно усложняющихся проблемных умственных действий учащихся, направленных на раскрытие существенных признаков усваиваемых понятий и установлении детьми осмысленных разнообразных связей и зависимостей, существующих между ними.</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3T05:54:20Z</dcterms:created>
  <dc:creator>User</dc:creator>
  <dc:description/>
  <dc:language>en-US</dc:language>
  <cp:lastModifiedBy>Ирина</cp:lastModifiedBy>
  <dcterms:modified xsi:type="dcterms:W3CDTF">2016-12-05T08:30:54Z</dcterms:modified>
  <cp:revision>11</cp:revision>
  <dc:subject/>
  <dc:title>Слайд 1</dc:title>
</cp:coreProperties>
</file>