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A4802A-30A7-4F47-BA27-D251AA012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51CB7F-F001-4D05-A26A-2DB2DF7309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E32-FE32-4EDF-8D05-AB4BD1A0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E45-03AD-45E3-9451-D2A39120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ADC-CC4F-473F-9931-AA6D3984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674-31F3-44B7-86CF-DDA67EA8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3B01-4E24-4532-8126-305A7F8C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0E9A-1F22-4F87-81AA-4721B174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AFEE-E4B6-4779-BFB7-F49CF87C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260E-CEF0-47B3-B79E-EE362231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9E96-EF19-4FBC-8ABD-C08C5342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DD93-0978-4B06-BEE3-3B32A372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D315-FFE3-4228-A654-911BC122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31D-2317-4210-A41D-358B0573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FB26-9A7C-4B5F-BF3F-7DA7EEA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3479-B2F2-47AB-B955-840E9507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0DCA-0804-4B03-B6AA-BB212B16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1AB8-C4EC-476C-935D-30CB799F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B82A-D97F-4B9E-AC85-B6A7A220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1D67-2CF8-436A-AB8C-F8D6E60B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2D0C-B3F2-4530-B2EF-FDF88001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1647-D55A-4DBC-B243-35E7FC0A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92A9-247C-48B8-BB95-FE2AEC06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115E-BE2E-4E2A-A91D-9D057F57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85D-C71A-4B4F-96E4-781E7E84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793B-18D3-4E01-AC2C-65A0EEBE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3D60-EFF4-40EF-B801-18E9B81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637B-3479-4CA8-96F2-4E6D7244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D8BC-BF49-498F-A5C1-9AD78D91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6E83-8258-4157-87B0-E3B00EED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9551-6B07-401B-AB97-829B45E0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B32A-3500-4224-B30E-56C7C984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7A9-FB1B-4995-8359-EB124A76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4B4-49BD-45B4-9D39-9B268D8C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BA9-F168-4088-A2C4-B7B5F656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0D8-16BA-409E-A0AF-17727BF7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CB8-B616-4F8D-9B8B-12745D53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054-7A17-465D-9DA7-99A74676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13948B-F8BE-4B23-A225-1028CCCF59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A8301A-0C62-4ABE-A642-561114A823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48130E-8C6C-4666-A35E-6FC2C37063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9"/>
          <p:cNvSpPr/>
          <p:nvPr/>
        </p:nvSpPr>
        <p:spPr>
          <a:xfrm>
            <a:off x="755640" y="404640"/>
            <a:ext cx="7772040" cy="146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4200" y="571680"/>
            <a:ext cx="2928600" cy="528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Баба Яга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caricatura.ru/parad/McOff/pic/12941.jpg"/>
          <p:cNvPicPr/>
          <p:nvPr/>
        </p:nvPicPr>
        <p:blipFill>
          <a:blip r:embed="rId1"/>
          <a:stretch/>
        </p:blipFill>
        <p:spPr>
          <a:xfrm>
            <a:off x="4714920" y="500040"/>
            <a:ext cx="4142880" cy="614340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работы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Что такое сказк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Где можно встретить сказку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Чему учат сказк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Какие знания мы можем извлечь из сказок.</a:t>
            </a:r>
            <a:br>
              <a:rPr sz="4400"/>
            </a:b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040" cy="1209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бщее понятие сказки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488000" cy="374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КАЗКА</a:t>
            </a:r>
            <a:r>
              <a:rPr b="0" i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 – это сказывать,рассказывать т.е. устный рассказ о чем-либо интересном как для исполнителя, так и для слуш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015.radikal.ru/0710/7a/e0af32b0e982.jpg"/>
          <p:cNvPicPr/>
          <p:nvPr/>
        </p:nvPicPr>
        <p:blipFill>
          <a:blip r:embed="rId1"/>
          <a:stretch/>
        </p:blipFill>
        <p:spPr>
          <a:xfrm>
            <a:off x="5286240" y="4143240"/>
            <a:ext cx="3055680" cy="228564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85840"/>
            <a:ext cx="77720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993300"/>
                </a:solidFill>
                <a:latin typeface="Arial"/>
              </a:rPr>
              <a:t>Классификация сказок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10800000">
            <a:off x="1428840" y="4407480"/>
            <a:ext cx="571320" cy="73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9"/>
          <p:cNvSpPr/>
          <p:nvPr/>
        </p:nvSpPr>
        <p:spPr>
          <a:xfrm>
            <a:off x="4000680" y="1143000"/>
            <a:ext cx="1714320" cy="499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 flipV="1">
            <a:off x="4429080" y="2073240"/>
            <a:ext cx="4500360" cy="27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 u="sng">
                <a:solidFill>
                  <a:srgbClr val="008080"/>
                </a:solidFill>
                <a:uFillTx/>
                <a:latin typeface="Arial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22"/>
          <p:cNvSpPr/>
          <p:nvPr/>
        </p:nvSpPr>
        <p:spPr>
          <a:xfrm>
            <a:off x="5786280" y="1785960"/>
            <a:ext cx="2857320" cy="157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казки о животных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–»Коза-дереза»; «Кот и лиса»; «Зимовье зверей»; «Колобок»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29"/>
          <p:cNvSpPr/>
          <p:nvPr/>
        </p:nvSpPr>
        <p:spPr>
          <a:xfrm>
            <a:off x="357120" y="1714680"/>
            <a:ext cx="3499920" cy="1699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ытовые сказки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– «Каша из топора»; «Чудесные лапоточки»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30"/>
          <p:cNvSpPr/>
          <p:nvPr/>
        </p:nvSpPr>
        <p:spPr>
          <a:xfrm>
            <a:off x="2928960" y="3643200"/>
            <a:ext cx="3571560" cy="1499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лшебные сказки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– «Иван царевич и серый волк»; «Царевна-лягушка»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ып"/>
          <p:cNvPicPr/>
          <p:nvPr/>
        </p:nvPicPr>
        <p:blipFill>
          <a:blip r:embed="rId1"/>
          <a:stretch/>
        </p:blipFill>
        <p:spPr>
          <a:xfrm>
            <a:off x="-285840" y="3571920"/>
            <a:ext cx="352404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7" descr="558417"/>
          <p:cNvPicPr/>
          <p:nvPr/>
        </p:nvPicPr>
        <p:blipFill>
          <a:blip r:embed="rId2"/>
          <a:stretch/>
        </p:blipFill>
        <p:spPr>
          <a:xfrm>
            <a:off x="6715080" y="3571920"/>
            <a:ext cx="2285640" cy="304776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7" descr="558417"/>
          <p:cNvPicPr/>
          <p:nvPr/>
        </p:nvPicPr>
        <p:blipFill>
          <a:blip r:embed="rId3"/>
          <a:stretch/>
        </p:blipFill>
        <p:spPr>
          <a:xfrm>
            <a:off x="6858000" y="3571920"/>
            <a:ext cx="2285640" cy="30477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5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Гуси-лебеди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://www.otlichnica.com/_ld/4/89185.jpg"/>
          <p:cNvPicPr/>
          <p:nvPr/>
        </p:nvPicPr>
        <p:blipFill>
          <a:blip r:embed="rId1"/>
          <a:stretch/>
        </p:blipFill>
        <p:spPr>
          <a:xfrm>
            <a:off x="500040" y="1214280"/>
            <a:ext cx="8071920" cy="500040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85840"/>
            <a:ext cx="8175240" cy="13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993300"/>
                </a:solidFill>
                <a:latin typeface="Arial"/>
              </a:rPr>
              <a:t>Три медведя.</a:t>
            </a:r>
            <a:endParaRPr b="0" lang="es-E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>
            <a:hlinkClick r:id="rId1" action="ppaction://hlinksldjump"/>
          </p:cNvPr>
          <p:cNvSpPr/>
          <p:nvPr/>
        </p:nvSpPr>
        <p:spPr>
          <a:xfrm>
            <a:off x="8028000" y="6021360"/>
            <a:ext cx="1115640" cy="836280"/>
          </a:xfrm>
          <a:prstGeom prst="actionButtonReturn">
            <a:avLst/>
          </a:prstGeom>
          <a:solidFill>
            <a:srgbClr val="ff99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http://e-lena-korneva.narod2.ru/opredelenie_skazki/1274458190_3-medveda-b.jpg"/>
          <p:cNvPicPr/>
          <p:nvPr/>
        </p:nvPicPr>
        <p:blipFill>
          <a:blip r:embed="rId2"/>
          <a:stretch/>
        </p:blipFill>
        <p:spPr>
          <a:xfrm>
            <a:off x="1928880" y="1714680"/>
            <a:ext cx="5500440" cy="378576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5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Курочка-Ряб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http://900igr.net/datai/informatika/Algoritmy/0028-032-Algoritmy-v-russkikh-narodnykh-skazkakh.png"/>
          <p:cNvPicPr/>
          <p:nvPr/>
        </p:nvPicPr>
        <p:blipFill>
          <a:blip r:embed="rId1"/>
          <a:stretch/>
        </p:blipFill>
        <p:spPr>
          <a:xfrm>
            <a:off x="714240" y="1143000"/>
            <a:ext cx="7500600" cy="457164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25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</a:rPr>
              <a:t>Теремок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2" descr="teremok.jpg"/>
          <p:cNvPicPr/>
          <p:nvPr/>
        </p:nvPicPr>
        <p:blipFill>
          <a:blip r:embed="rId1"/>
          <a:srcRect l="0" t="7102" r="0" b="0"/>
          <a:stretch/>
        </p:blipFill>
        <p:spPr>
          <a:xfrm>
            <a:off x="714240" y="1071720"/>
            <a:ext cx="7786440" cy="5214600"/>
          </a:xfrm>
          <a:prstGeom prst="rect">
            <a:avLst/>
          </a:prstGeom>
          <a:ln cap="sq" w="88900">
            <a:solidFill>
              <a:srgbClr val="ffffff">
                <a:lumMod val="5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</a:rPr>
              <a:t>Реп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8" descr="612c52bcbe14t.jpg"/>
          <p:cNvPicPr/>
          <p:nvPr/>
        </p:nvPicPr>
        <p:blipFill>
          <a:blip r:embed="rId1"/>
          <a:stretch/>
        </p:blipFill>
        <p:spPr>
          <a:xfrm>
            <a:off x="1500120" y="1285920"/>
            <a:ext cx="6143400" cy="4285800"/>
          </a:xfrm>
          <a:prstGeom prst="rect">
            <a:avLst/>
          </a:prstGeom>
          <a:ln cap="sq" w="88900">
            <a:solidFill>
              <a:srgbClr val="ff0000"/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  <Words>90</Words>
  <Paragraphs>15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Учитель</cp:lastModifiedBy>
  <dcterms:modified xsi:type="dcterms:W3CDTF">2016-02-20T11:20:27Z</dcterms:modified>
  <cp:revision>21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9</vt:r8>
  </property>
</Properties>
</file>