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907-577D-45D7-AB8A-787A578F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0E-C986-45A2-8EBF-3B67AA4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CF9-6AEC-4FE4-90C6-B1B621E8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076-18B4-447E-BB33-2602DEF4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05B-7635-4EE5-A32B-98E067E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DF1-3208-42D0-8538-593D9B2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6C9-B7BA-4834-98A2-7D65B2BE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6FC-F333-4267-A591-3F52007F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3B0-4936-4186-9B94-9A80867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9A1-0C63-4F8C-9583-096FF4E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EEF-667F-4497-B989-E44B98C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6B0-39D4-4878-A03A-85BC67A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B8F-4D72-4962-9F7F-672BD2F38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p-lepiux.appspot.com/new.materinstvo.ru/content/article_images/articles_10289/shablon-blagodarnosti-detskiy-sad-10.jpg"/>
          <p:cNvPicPr/>
          <p:nvPr/>
        </p:nvPicPr>
        <p:blipFill>
          <a:blip r:embed="rId1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285920" y="1214280"/>
            <a:ext cx="7072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Родительское собрание в нетрадиционной форме 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Путешествие по «Стране Воспит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Орехов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2880"/>
            <a:ext cx="75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"Семейные заповед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57120" y="100008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оставляют небольшой список семейных заповедей, обычаев, правил, запретов, привычек, установок, взглядов, которых придерживаются все члены семьи. Каждый зачитывает этот список. Данное упражнение позволяет сравнить свои представления о семейной жизни, воспитании с представлениями друг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для анализа: "Какие заповеди вас удовлетворяют, а какие нет?"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http://ped-kopilka.ru/upload/blogs2/2016/3/6818_37e8db0da400789f1ecbe85354a3870a.jpg.jpg"/>
          <p:cNvPicPr/>
          <p:nvPr/>
        </p:nvPicPr>
        <p:blipFill>
          <a:blip r:embed="rId2"/>
          <a:stretch/>
        </p:blipFill>
        <p:spPr>
          <a:xfrm>
            <a:off x="1714680" y="3143160"/>
            <a:ext cx="54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0" y="576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ая игра «Весёлый хоровод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http://ped-kopilka.ru/upload/blogs2/2016/3/6818_84a593275f224dfd1e39f98be6f857f6.jpg.jpg"/>
          <p:cNvPicPr/>
          <p:nvPr/>
        </p:nvPicPr>
        <p:blipFill>
          <a:blip r:embed="rId2"/>
          <a:stretch/>
        </p:blipFill>
        <p:spPr>
          <a:xfrm>
            <a:off x="1714680" y="2071800"/>
            <a:ext cx="5952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285840"/>
            <a:ext cx="8572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прибыли на 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ю «Шпаргалка для родителей»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уважаемые родители: есть ли среди Вас такие, кому не нравятся черты характера вашего ребенка? Поднимите руки, только честно…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мментируе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вспомните свое детство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м родителям все нравилось в вас? Что они делали? Что вы чувствовали? Как вы к этому относились? Подумайте, не повторяете ли вы ошибок ваших родителей? (Высказывания родителей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2857680"/>
            <a:ext cx="8501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ешить проблем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ожалуйста, действуйте осторожно, не тревожа ребенка, пока сами не разберетесь в причинах своего неудовольствия или тревоги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бдумайте, какие именно черты вам не нравятся, понаблюдайте за ребенком – как, в каких ситуациях они проявляются, быть может, вы какими-¬то своими действиями провоцируете его на эти негативные проявления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опробуйте взглянуть на эти не устраивающие вас черты иначе. Например, ребенок "упрямый, настырный". Если причина упрямства – не вы, то посмотрите, как эти качества проявляются в самостоятельной деятельности малыша: возможно, приняв решение, он обязательно выполняет его; начав дело, доводит его до конца, несмотря на внешние помехи (вы требуете, чтобы он немедленно шел обедать). Нет ли здесь положительных черт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57120" y="25560"/>
            <a:ext cx="75898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"Закончи предложение" (или «Острое блюдо»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начинает предложение и передаёт эстафету любому родителю, который его продолжает. Упражнение дает возможность поделиться друг с другом опытом воспитания ребенка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Моя любовь к ребёнку заключается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моему ребёнку посторонние люди делают замечания…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Если я вижу, что моего 4-х летнего сына «лупит» сверстник…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ребёнок выводит меня из себя, я -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мой ребёнок плохо ведёт себя за столом…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http://ped-kopilka.ru/upload/blogs2/2016/3/6818_7a55e12da6a22a80d7fbf82c9a747f4d.jpg.jpg"/>
          <p:cNvPicPr/>
          <p:nvPr/>
        </p:nvPicPr>
        <p:blipFill>
          <a:blip r:embed="rId2"/>
          <a:stretch/>
        </p:blipFill>
        <p:spPr>
          <a:xfrm>
            <a:off x="3000240" y="3500280"/>
            <a:ext cx="43815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571680" y="20520"/>
            <a:ext cx="807228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«Наши де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 посмотрим видео с записью ваших детей и узнае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и думают о вопросах воспит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 «Устами ребёнка» (вашим детям задавали один и тот же каверз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бя дома воспитывают? Как?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детей, конечно же, Вас рассмешат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85840" y="-15840"/>
            <a:ext cx="86454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игра-рекомендация «Рассерженные шарики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ас научу посредством этой игры формировать способы отреагирования гн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у приёмам саморегуляции эмоциональных состояний, а вы обучите этому своих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встают в круг (они дети). Воспитатель –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а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редлагает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ям - научи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иться, никого при этом не обижая. Для этого каждому ребёнку предлагает надуть воздушный шар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его в руках, чтобы он не сдув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http://ped-kopilka.ru/upload/blogs2/2016/3/6818_ffffa3b946d3afbe3d20277c4b5aacf2.jpg.jpg"/>
          <p:cNvPicPr/>
          <p:nvPr/>
        </p:nvPicPr>
        <p:blipFill>
          <a:blip r:embed="rId2"/>
          <a:stretch/>
        </p:blipFill>
        <p:spPr>
          <a:xfrm>
            <a:off x="2786040" y="3357720"/>
            <a:ext cx="443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57120" y="13680"/>
            <a:ext cx="69962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«Художественная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Две недели назад был объявлен конкурс совместных рису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па – ребёнок» - «Моя мамочка». Вы уже успели полюбоваться выста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ы объявим результаты конкурса…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 му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http://ped-kopilka.ru/upload/blogs2/2016/3/6818_7d953f937151dbdd585796b966cc5502.jpg.jpg"/>
          <p:cNvPicPr/>
          <p:nvPr/>
        </p:nvPicPr>
        <p:blipFill>
          <a:blip r:embed="rId2"/>
          <a:stretch/>
        </p:blipFill>
        <p:spPr>
          <a:xfrm>
            <a:off x="2214720" y="3143160"/>
            <a:ext cx="556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571680" y="474840"/>
            <a:ext cx="7858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ых семей не существует. В каждой семье есть свои традиции и свои особенности. Но, несмотря на различные уклады жизни, во всех семьях, где подрастают дети с уравновешенным характером, есть одна общая особенность — ровные, доброжелательные отношения взрослых и детей. В жизни много радостных переживаний. Расскажите о них ребенку, чаще приобщайте его к своим делам. Сойдите с высот своего авторитета, и вы увидите, как в равных с вами отношениях, имея возможность ощутить себя не только воспитуемым, но и защитником мамы, помощником папы, близким другом старшего брата, ваш сын или дочь станут более волевыми и отзывчивыми, самостоятельными и добрыми, умеющими уважать себя и других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428760" y="7560"/>
            <a:ext cx="75722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 встречи. 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«Ёлочка пожеланий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и вешают снежинки на ёлочку, в которых – анализ и отзывы о мероприят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http://ped-kopilka.ru/upload/blogs2/2016/3/6818_f73b4e0a0aa1706ec1ead54dcf682e2b.jpg.jpg"/>
          <p:cNvPicPr/>
          <p:nvPr/>
        </p:nvPicPr>
        <p:blipFill>
          <a:blip r:embed="rId2"/>
          <a:stretch/>
        </p:blipFill>
        <p:spPr>
          <a:xfrm>
            <a:off x="2643120" y="1857240"/>
            <a:ext cx="4378320" cy="2928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71680" y="227484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, педагогам детского сада, хочется узнать: оправдались ли ваши ожидания , что было значимым для каждого из вас, нашли ли ответы на свои вопросы, какие выводы для себя сделали… А также – пожелания на будущее. На память я хочу подарить вам буклеты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900igr.net/datas/doshkolnoe-obrazovanie/Nravstvenno-patrioticheskoe-vospitanie-doshkolnikov/0015-015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714240" y="178596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Форма проведения: 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росветительски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71680" y="2828880"/>
            <a:ext cx="70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Цель: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просвещение родителей в вопросах воспитания де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000080" y="928800"/>
            <a:ext cx="7143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57160" y="642960"/>
            <a:ext cx="771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одготовительный этап собр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готовление приглашений каждой семье и общее объявление в  групп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нкетирование родител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пись ответов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дготовка вопросов «Острого блюд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формление выставки совместных рисунков «папа – ребёнок» «Моя мамочк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готовление букле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 бейджиков, шарик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нограммы музыкальных запис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500040" y="-911160"/>
            <a:ext cx="82152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проведени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туплени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«Визитки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ведение в проблему (раскрытие темы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Принципы построения общения с ребёнком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"Семейные заповеди"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музыкальная игра «Весёлый хоровод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Шпаргалка для родителей»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"Закончи предложение" (или «Острое блюдо»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 «Устами ребёнка»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«Несколько советов как избежать конфликт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игра-рекомендация «Рассерженные шарики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тоги конкурса рисунков «Моя мамочк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флексия «Ёлочка пожеланий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уклеты на памя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14200" y="285840"/>
            <a:ext cx="86439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– очень сложное и ответственное дело. Для получения хороших результатов недостаточно одной любви к детям. Ребенка надо уметь воспитывать, а для этого нужны специальные знания. Начало правильного воспитания нельзя откладывать на более поздний срок, оно должно начинаться с первых дней рождения ребёнка. Думаю, что большинство родителей испытывают серьезные затруднения в процессе воспит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для этого мы сегодня отправимся с вами в путешествие по «Стране Воспитания». И на каждой станции нас будут ждать наши  специалис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785880" y="642960"/>
            <a:ext cx="75009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, прежде чем начать обсуждение нашей темы, провед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«Визитки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вами изготовим визитки для того, чтобы нам было проще общаться. Пусть каждый из вас напишет на визитке свое «имя», или – «имя, отчество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столе лежат маркеры, бумага (4х8), бейджики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28760" y="58680"/>
            <a:ext cx="82152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 в проблему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ри несчастья есть у человека: смерть, старость и плохие дети, - говорит  народная мудрость. Старость неотвратима, смерть неумолима. Перед этими несчастьями никто не может закрыть двери своего дома. А от плохих детей дом можно уберечь, как и от беды"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, конечно, хотите иметь хороших детей: умных, добрых, вежливых, отзывчивых, трудолюбивых, т.е. высоконравственных. Давайте объединим наши усилия в воспитании подрастающего поколения. И отправимся на поезде в «Страну Воспитания» где узнаем, как правильно общаться с детьми в семье, чему их нужно научить в первую очередь, узнаем, умеете ли вы использовать правильно методы поощрения и наказания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кторе – поезд даёт гудок, шум отправляющегося поезда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85840" y="-911160"/>
            <a:ext cx="8501040" cy="88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к, 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а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– станция «Принципов общения»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, чтобы вам научиться правильно общаться со своим ребёнком, вы должны запомнить несколько принципов построения общ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фоне музыки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слушать своих детей – основной и наиболее важный принцип общения, но большинство родителей никогда не делают этого. Они заняты "чтением морали" своим детям и рассказами, как следует поступать в том или ином случае. Это приводит к пропасти в общении между родителями и дет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ринять ребенка таким, какой он есть, без всяких условий, со всеми его индивидуальными особенностями, плюсами и минусами. В семье этому способствует безусловная любовь, которую малыш должен чувствовать все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переходить с оценки конкретных действий на оценку его личности. Говоря о внешнем виде ребенка, его рисунках, поделках, особенно в случае неудач, нельзя делать выводы о его низких умственных способностях или предсказывать ему в будущем плохую жизнь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714240" y="500040"/>
            <a:ext cx="7786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 в семье взрослые между собой должны культурно, спокойно. Для ребенка вы являетесь образом речи, поскольку дети, как правило, всегда говорят и выражаются так, как их родит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забываете, что ключ к сердцу ребенка лежит через игру. Именно в игре можете передать те навыки и знания, понятия о жизненных ценностях и просто лучше понять друг друга, сблизи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 завершении хотелось бы сказать и о принципах единства требований в семье: это единство не следует понимать упрощенно - все требуют одно и то же. Нет! Каждый в семье ведет свою партию, важен принцип совместимости и дополн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714240" y="0"/>
            <a:ext cx="8072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должно иметь положительный эмоциональный фон. Нужно замечать успехи ребенка, радоваться им. А также ребёнок должен чувствовать, что вы его любите. Почаще смотрите на него восхищёнными глазами и говорите ему, какой он «хороший». Но не «сюсюкайте» с ребёнком: «сюсюканье» делает ребёнка капризным нытик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бенок не должен чувствовать отчуждения: дети, лишенные веры в любовь родителей, становятся неуверенными в себе, приобретая ряд отклонений, что и сказывается на его развит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17:08Z</dcterms:created>
  <dc:creator>Детский сад</dc:creator>
  <dc:description/>
  <dc:language>en-US</dc:language>
  <cp:lastModifiedBy>Детский сад</cp:lastModifiedBy>
  <dcterms:modified xsi:type="dcterms:W3CDTF">2016-12-02T10:43:08Z</dcterms:modified>
  <cp:revision>3</cp:revision>
  <dc:subject/>
  <dc:title>Слайд 1</dc:title>
</cp:coreProperties>
</file>