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CC53-EBA6-4AB6-87F4-985A875C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86DE-3450-4FEF-8DB7-25FCCC2E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0A7-D737-4700-BF1B-F70BF8C5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646B-1B51-4A95-95BA-1F9FD97D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F91-63F4-4BDB-9707-77FCECD1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8DD9-A79B-4191-872D-61E923B1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3809-919C-4688-9860-A156C982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02E-909B-496F-80B7-D3807F12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B12-93E9-46EC-98F4-82A6CCB3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061-08CE-4191-95B8-936E12CB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0EF7-9E4F-4095-8DA8-7E282900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EFFE-4734-4ED9-858B-22B2844C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3359-98DD-4F6D-A347-A1E1FF37C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157320"/>
            <a:ext cx="770580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7:51:33Z</dcterms:created>
  <dc:creator>марина</dc:creator>
  <dc:description/>
  <dc:language>en-US</dc:language>
  <cp:lastModifiedBy>марина</cp:lastModifiedBy>
  <dcterms:modified xsi:type="dcterms:W3CDTF">2011-11-20T17:51:45Z</dcterms:modified>
  <cp:revision>1</cp:revision>
  <dc:subject/>
  <dc:title>Слайд 1</dc:title>
</cp:coreProperties>
</file>