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gif" ContentType="image/gif"/>
  <Override PartName="/ppt/media/image8.gif" ContentType="image/gif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4.gif" ContentType="image/gif"/>
  <Override PartName="/ppt/media/image18.png" ContentType="image/png"/>
  <Override PartName="/ppt/media/image15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00D-0FFA-462A-ADDF-DE93F289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518-A373-4F3B-BDA5-00EB9E8D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409-9025-4350-89D6-85B34C71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569-CD95-4D3F-8177-7D99F6E2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BDA-D8D7-472C-90E7-07047A8E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01A-BB8C-4C75-A71C-B39576FC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A15-BDA4-414E-8994-2F1A8201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EE1-40E6-4C81-A1E5-CFF60BDE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996-EE53-41BE-BF18-423CF3E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D7F-AFDE-492F-8336-E5A3C73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AAA-D78D-4C3B-B542-B0F9535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557-451B-4F6F-B57F-32EB41A9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958-70BE-4B05-BB08-C7E7CF513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yandsearch?text=&#1089;&#1086;&#1074;&#1072;%20&#1091;&#1095;&#1080;&#1090;&#1077;&#1083;&#1100;%20&#1082;&#1072;&#1088;&#1090;&#1080;&#1085;&#1082;&#1080;&amp;fp=0&amp;pos=1&amp;uinfo=ww-1508-wh-684-fw-1283-fh-478-pd-1&amp;rpt=simage&amp;img_url=http%3A%2F%2Fphotos2.fotosearch.com%2Fbthumb%2FCSP%2FCSP164%2Fk1646018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99;&#1096;&#1100;&amp;fp=0&amp;pos=17&amp;uinfo=ww-1508-wh-684-fw-1283-fh-478-pd-1&amp;rpt=simage&amp;img_url=http%3A%2F%2Fsavepic.ru%2F3175295m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84;&#1099;&#1096;&#1100;&amp;fp=0&amp;pos=17&amp;uinfo=ww-1508-wh-684-fw-1283-fh-478-pd-1&amp;rpt=simage&amp;img_url=http%3A%2F%2Fsavepic.ru%2F3175295m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2;&#1086;&#1090;&amp;fp=0&amp;pos=23&amp;uinfo=ww-1508-wh-684-fw-1283-fh-478-pd-1&amp;rpt=simage&amp;img_url=http%3A%2F%2Favatars.kards.qip.ru%2Fimages%2Favatar%2Fac%2Fbb%2F48044.jpg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images.yandex.ru/yandsearch?text=&#1082;&#1086;&#1090;&amp;fp=0&amp;pos=23&amp;uinfo=ww-1508-wh-684-fw-1283-fh-478-pd-1&amp;rpt=simage&amp;img_url=http%3A%2F%2Favatars.kards.qip.ru%2Fimages%2Favatar%2Fac%2Fbb%2F48044.jpg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6;&#1092;&#1077;&#1083;&#1100;%20&#1074;%20&#1074;&#1077;&#1076;&#1088;&#1077;&amp;fp=0&amp;pos=27&amp;uinfo=ww-1508-wh-684-fw-1283-fh-478-pd-1&amp;rpt=simage&amp;img_url=http%3A%2F%2Fwww.segodnya.ua%2Fimg%2Farticle%2F3960%2F40_tn.jp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3;&#1072;&#1073;&#1091;&#1096;&#1082;&#1072;%20&#1089;%20&#1086;&#1083;&#1072;&#1076;&#1100;&#1103;&#1084;&#1080;&amp;fp=1&amp;pos=30&amp;uinfo=ww-1508-wh-684-fw-1283-fh-478-pd-1&amp;rpt=simage&amp;img_url=http%3A%2F%2Fii.photocentra.ru%2Fimages%2Fmain18%2F188482_mai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images.yandex.ru/yandsearch?text=&#1089;&#1086;&#1083;&#1085;&#1099;&#1096;&#1082;&#1086;%20&#1072;&#1085;&#1080;&#1084;&#1072;&#1094;&#1080;&#1103;%20&#1082;&#1072;&#1088;&#1090;&#1080;&#1085;&#1082;&#1072;&amp;fp=0&amp;pos=12&amp;uinfo=ww-1377-wh-644-fw-1152-fh-448-pd-1&amp;rpt=simage&amp;img_url=http%3A%2F%2Fwww.school-saratov.ru%2Ffiles%2F1276760708.gif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613560" cy="1054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utcaster-photo-100361246-Owl-teacher-with-book-and-poin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905120"/>
            <a:ext cx="47246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колько ушей у двух мыш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колько ножек у двух кош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23760" y="3049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7144e7bb643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1949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7144e7bb643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676520"/>
            <a:ext cx="266688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680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06760"/>
            <a:ext cx="2514600" cy="245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6803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4406760"/>
            <a:ext cx="2514600" cy="2451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6616080" y="137160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4 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340680" y="3886200"/>
            <a:ext cx="20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8 лап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180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Работа по карточ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19320" y="205740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Слушаем вниматель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Работаем старате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Задачи решаем и отвеч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пражнение на тренировку 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зрительной памяти и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33520" y="3581280"/>
            <a:ext cx="107784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2133720" y="3581280"/>
            <a:ext cx="1066680" cy="9892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581280" y="3352680"/>
            <a:ext cx="1100160" cy="1333800"/>
          </a:xfrm>
          <a:prstGeom prst="rtTriangl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876920" y="3124080"/>
            <a:ext cx="733320" cy="1619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5943600" y="3276720"/>
            <a:ext cx="1335240" cy="1285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40960" y="2873520"/>
            <a:ext cx="57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записать только 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 rot="19439400">
            <a:off x="1308240" y="4082760"/>
            <a:ext cx="838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32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32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 rot="884400">
            <a:off x="7183080" y="300996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 rot="796200">
            <a:off x="4227120" y="506376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c0000"/>
                    </a:gs>
                  </a:gsLst>
                  <a:lin ang="199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c0000"/>
                  </a:gs>
                </a:gsLst>
                <a:lin ang="199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533520" y="762120"/>
            <a:ext cx="82296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ческий диктант</a:t>
            </a:r>
            <a:endParaRPr b="1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04920" y="240840"/>
            <a:ext cx="8496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5   умножить  на  7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  4 умножить на 6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  Первый множитель 8, второй множитель 3.  Записать произведение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  16 разделить н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80880" y="118584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Делимое 18 делитель 9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Найти част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7 умножить на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16 разделить на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Произведение чисел 3 и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Перемножить числа 8 и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0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 Разделить числа 72 и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1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Если я разделю 9 на 3 , сколько у меня получи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2)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Если я перемножу числа 6 и 8, сколько у меня получи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Перемножить числа 8 и 1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Умножить 7 на 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Разделить 9 на 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6)  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Первый множитель 5, второй множитель 5 записать произвед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380880" y="380880"/>
            <a:ext cx="6172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ческий диктант</a:t>
            </a:r>
            <a:endParaRPr b="1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295280" y="1828800"/>
            <a:ext cx="1067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038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5053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334120" y="1752480"/>
            <a:ext cx="146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654520" y="99072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imes New Roman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395080" y="54936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602440" y="1193760"/>
            <a:ext cx="40532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топаем ногами – 1,2,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хлопаем руками – 1,2,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Киваем головой – 1, 2,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руки подним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руки опуск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кружимся п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топаем ног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оп – топ – 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хлопаем ру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лоп – хлоп – хл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ы руки разве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побежим к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373_"/>
          <p:cNvPicPr/>
          <p:nvPr/>
        </p:nvPicPr>
        <p:blipFill>
          <a:blip r:embed="rId1"/>
          <a:stretch/>
        </p:blipFill>
        <p:spPr>
          <a:xfrm>
            <a:off x="7086600" y="1600200"/>
            <a:ext cx="1371600" cy="131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076194"/>
          <p:cNvPicPr/>
          <p:nvPr/>
        </p:nvPicPr>
        <p:blipFill>
          <a:blip r:embed="rId2"/>
          <a:stretch/>
        </p:blipFill>
        <p:spPr>
          <a:xfrm>
            <a:off x="457200" y="2666880"/>
            <a:ext cx="2381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609480" y="304920"/>
            <a:ext cx="8001000" cy="61722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18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1523880" y="685800"/>
            <a:ext cx="1295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успех4"/>
          <p:cNvPicPr/>
          <p:nvPr/>
        </p:nvPicPr>
        <p:blipFill>
          <a:blip r:embed="rId1"/>
          <a:srcRect l="9852" t="0" r="0" b="0"/>
          <a:stretch/>
        </p:blipFill>
        <p:spPr>
          <a:xfrm>
            <a:off x="179280" y="3789360"/>
            <a:ext cx="1652760" cy="2960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14600" y="63432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Все расселись по мес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Никому не тес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По секрету скажу В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Будет интерес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Будем мы считать, пис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И решать за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Чтоб сегодня как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В руки шла удач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Узнаем новый матери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Закрепим ум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Чтобы каждый мог сказ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Это всё 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990000"/>
                </a:solidFill>
                <a:latin typeface="Times New Roman CYR"/>
              </a:rPr>
              <a:t>умею я!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Умножение и деление на 10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+10+10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+10+10+10+10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+10+10+10+10+10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+10+10+10+10+10+10+10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8195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39720" y="160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735360" y="2209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0292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419720" y="2743200"/>
            <a:ext cx="6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3244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792760" y="3352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05720" y="1752480"/>
            <a:ext cx="226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х3=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х5=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х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х8=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588040" y="4343400"/>
            <a:ext cx="204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умножить 10 на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число на 1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к этому чис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исать справа один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86200" y="4952880"/>
            <a:ext cx="12952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943600" y="4952880"/>
            <a:ext cx="12193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343400" y="4267080"/>
            <a:ext cx="2666880" cy="533520"/>
          </a:xfrm>
          <a:custGeom>
            <a:avLst/>
            <a:gdLst>
              <a:gd name="textAreaLeft" fmla="*/ 513000 w 2666880"/>
              <a:gd name="textAreaRight" fmla="*/ 1875960 w 266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12" hR="21600" stAng="10800000" swAng="5400000"/>
                <a:lnTo>
                  <a:pt x="11038" y="0"/>
                </a:lnTo>
                <a:arcTo wR="8312" hR="21600" stAng="-5400000" swAng="3727846"/>
                <a:lnTo>
                  <a:pt x="21433" y="17293"/>
                </a:lnTo>
                <a:lnTo>
                  <a:pt x="17987" y="21600"/>
                </a:lnTo>
                <a:lnTo>
                  <a:pt x="14207" y="17293"/>
                </a:lnTo>
                <a:lnTo>
                  <a:pt x="16457" y="17293"/>
                </a:lnTo>
                <a:arcTo wR="8312" hR="21600" stAng="-1672154" swAng="-3508241"/>
                <a:lnTo>
                  <a:pt x="9675" y="292"/>
                </a:lnTo>
                <a:arcTo wR="8312" hR="21600" stAng="-5619606" swAng="-5180394"/>
                <a:close/>
              </a:path>
              <a:path fill="darkenLess" w="21600" h="21600">
                <a:moveTo>
                  <a:pt x="0" y="21600"/>
                </a:moveTo>
                <a:arcTo wR="8312" hR="21600" stAng="10800000" swAng="5400000"/>
                <a:lnTo>
                  <a:pt x="8312" y="0"/>
                </a:lnTo>
                <a:arcTo wR="8312" hR="21600" stAng="-5400000" swAng="219606"/>
                <a:lnTo>
                  <a:pt x="9675" y="292"/>
                </a:lnTo>
                <a:arcTo wR="8312" hR="21600" stAng="-5619606" swAng="-518039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029200" y="3581280"/>
            <a:ext cx="7621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457200" y="4952880"/>
            <a:ext cx="129528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514600" y="4952880"/>
            <a:ext cx="12193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914400" y="4267080"/>
            <a:ext cx="2666880" cy="533520"/>
          </a:xfrm>
          <a:custGeom>
            <a:avLst/>
            <a:gdLst>
              <a:gd name="textAreaLeft" fmla="*/ 513000 w 2666880"/>
              <a:gd name="textAreaRight" fmla="*/ 1875960 w 266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12" hR="21600" stAng="10800000" swAng="5400000"/>
                <a:lnTo>
                  <a:pt x="11038" y="0"/>
                </a:lnTo>
                <a:arcTo wR="8312" hR="21600" stAng="-5400000" swAng="3727846"/>
                <a:lnTo>
                  <a:pt x="21433" y="17293"/>
                </a:lnTo>
                <a:lnTo>
                  <a:pt x="17987" y="21600"/>
                </a:lnTo>
                <a:lnTo>
                  <a:pt x="14207" y="17293"/>
                </a:lnTo>
                <a:lnTo>
                  <a:pt x="16457" y="17293"/>
                </a:lnTo>
                <a:arcTo wR="8312" hR="21600" stAng="-1672154" swAng="-3508241"/>
                <a:lnTo>
                  <a:pt x="9675" y="292"/>
                </a:lnTo>
                <a:arcTo wR="8312" hR="21600" stAng="-5619606" swAng="-5180394"/>
                <a:close/>
              </a:path>
              <a:path fill="darkenLess" w="21600" h="21600">
                <a:moveTo>
                  <a:pt x="0" y="21600"/>
                </a:moveTo>
                <a:arcTo wR="8312" hR="21600" stAng="10800000" swAng="5400000"/>
                <a:lnTo>
                  <a:pt x="8312" y="0"/>
                </a:lnTo>
                <a:arcTo wR="8312" hR="21600" stAng="-5400000" swAng="219606"/>
                <a:lnTo>
                  <a:pt x="9675" y="292"/>
                </a:lnTo>
                <a:arcTo wR="8312" hR="21600" stAng="-5619606" swAng="-518039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1676520" y="3581280"/>
            <a:ext cx="76176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533556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990720" y="51055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23438 -0.00231 E">
                                      <p:cBhvr>
                                        <p:cTn id="19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13438 0.23102 E">
                                      <p:cBhvr>
                                        <p:cTn id="19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2"/>
          <p:cNvSpPr/>
          <p:nvPr/>
        </p:nvSpPr>
        <p:spPr>
          <a:xfrm>
            <a:off x="1368720" y="1219320"/>
            <a:ext cx="204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 =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649760" y="1219320"/>
            <a:ext cx="210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: 10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: 10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: 10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 : 10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лении числа на 1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делимого надо отбросить один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800600" y="3886200"/>
            <a:ext cx="12193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 flipH="1" flipV="1">
            <a:off x="2971800" y="4876920"/>
            <a:ext cx="2743200" cy="838080"/>
          </a:xfrm>
          <a:custGeom>
            <a:avLst/>
            <a:gdLst>
              <a:gd name="textAreaLeft" fmla="*/ 527760 w 2743200"/>
              <a:gd name="textAreaRight" fmla="*/ 1929600 w 27432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12" hR="21600" stAng="10800000" swAng="5400000"/>
                <a:lnTo>
                  <a:pt x="11038" y="0"/>
                </a:lnTo>
                <a:arcTo wR="8312" hR="21600" stAng="-5400000" swAng="3727846"/>
                <a:lnTo>
                  <a:pt x="21433" y="17293"/>
                </a:lnTo>
                <a:lnTo>
                  <a:pt x="17987" y="21600"/>
                </a:lnTo>
                <a:lnTo>
                  <a:pt x="14207" y="17293"/>
                </a:lnTo>
                <a:lnTo>
                  <a:pt x="16457" y="17293"/>
                </a:lnTo>
                <a:arcTo wR="8312" hR="21600" stAng="-1672154" swAng="-3508241"/>
                <a:lnTo>
                  <a:pt x="9675" y="292"/>
                </a:lnTo>
                <a:arcTo wR="8312" hR="21600" stAng="-5619606" swAng="-5180394"/>
                <a:close/>
              </a:path>
              <a:path fill="darkenLess" w="21600" h="21600">
                <a:moveTo>
                  <a:pt x="0" y="21600"/>
                </a:moveTo>
                <a:arcTo wR="8312" hR="21600" stAng="10800000" swAng="5400000"/>
                <a:lnTo>
                  <a:pt x="8312" y="0"/>
                </a:lnTo>
                <a:arcTo wR="8312" hR="21600" stAng="-5400000" swAng="219606"/>
                <a:lnTo>
                  <a:pt x="9675" y="292"/>
                </a:lnTo>
                <a:arcTo wR="8312" hR="21600" stAng="-5619606" swAng="-518039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38480" y="2514600"/>
            <a:ext cx="7621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819520" y="3886200"/>
            <a:ext cx="121896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124080" y="3276720"/>
            <a:ext cx="2667240" cy="533160"/>
          </a:xfrm>
          <a:custGeom>
            <a:avLst/>
            <a:gdLst>
              <a:gd name="textAreaLeft" fmla="*/ 513000 w 2667240"/>
              <a:gd name="textAreaRight" fmla="*/ 1876320 w 26672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12" hR="21600" stAng="10800000" swAng="5400000"/>
                <a:lnTo>
                  <a:pt x="11038" y="0"/>
                </a:lnTo>
                <a:arcTo wR="8312" hR="21600" stAng="-5400000" swAng="3727846"/>
                <a:lnTo>
                  <a:pt x="21433" y="17293"/>
                </a:lnTo>
                <a:lnTo>
                  <a:pt x="17987" y="21600"/>
                </a:lnTo>
                <a:lnTo>
                  <a:pt x="14207" y="17293"/>
                </a:lnTo>
                <a:lnTo>
                  <a:pt x="16457" y="17293"/>
                </a:lnTo>
                <a:arcTo wR="8312" hR="21600" stAng="-1672154" swAng="-3508241"/>
                <a:lnTo>
                  <a:pt x="9675" y="292"/>
                </a:lnTo>
                <a:arcTo wR="8312" hR="21600" stAng="-5619606" swAng="-5180394"/>
                <a:close/>
              </a:path>
              <a:path fill="darkenLess" w="21600" h="21600">
                <a:moveTo>
                  <a:pt x="0" y="21600"/>
                </a:moveTo>
                <a:arcTo wR="8312" hR="21600" stAng="10800000" swAng="5400000"/>
                <a:lnTo>
                  <a:pt x="8312" y="0"/>
                </a:lnTo>
                <a:arcTo wR="8312" hR="21600" stAng="-5400000" swAng="219606"/>
                <a:lnTo>
                  <a:pt x="9675" y="292"/>
                </a:lnTo>
                <a:arcTo wR="8312" hR="21600" stAng="-5619606" swAng="-518039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038480" y="5867280"/>
            <a:ext cx="7621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638680" y="5181480"/>
            <a:ext cx="609840" cy="685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792760" y="49528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819520" y="2590920"/>
            <a:ext cx="609480" cy="685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957760" y="270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аблица умножения на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10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x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10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x10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x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x10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x10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x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30240" y="160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830240" y="2209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830240" y="2743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30240" y="3352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830240" y="3962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02240" y="1600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40224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6402240" y="2743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6402240" y="3352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6325920" y="3886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2"/>
          <p:cNvSpPr/>
          <p:nvPr/>
        </p:nvSpPr>
        <p:spPr>
          <a:xfrm>
            <a:off x="1116000" y="981000"/>
            <a:ext cx="6985080" cy="49690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124000" y="1700280"/>
            <a:ext cx="5113440" cy="3529080"/>
          </a:xfrm>
          <a:prstGeom prst="ellipse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132000" y="2708280"/>
            <a:ext cx="1441440" cy="1368360"/>
          </a:xfrm>
          <a:prstGeom prst="ellipse">
            <a:avLst/>
          </a:prstGeom>
          <a:noFill/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572000" y="2708280"/>
            <a:ext cx="1441440" cy="1368360"/>
          </a:xfrm>
          <a:prstGeom prst="ellipse">
            <a:avLst/>
          </a:prstGeom>
          <a:noFill/>
          <a:ln w="763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116000" y="3429000"/>
            <a:ext cx="698508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4572000" y="981000"/>
            <a:ext cx="0" cy="4969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 rot="16200000">
            <a:off x="4427640" y="5734080"/>
            <a:ext cx="287280" cy="287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rot="5400000">
            <a:off x="4428000" y="907200"/>
            <a:ext cx="287640" cy="2887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1116000" y="3284640"/>
            <a:ext cx="287280" cy="2887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 rot="10800000">
            <a:off x="7811640" y="3284640"/>
            <a:ext cx="289080" cy="2887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/>
          <p:cNvSpPr/>
          <p:nvPr/>
        </p:nvSpPr>
        <p:spPr>
          <a:xfrm rot="21374400">
            <a:off x="4427640" y="836280"/>
            <a:ext cx="287280" cy="287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3"/>
          <p:cNvSpPr/>
          <p:nvPr/>
        </p:nvSpPr>
        <p:spPr>
          <a:xfrm rot="16200000">
            <a:off x="7093080" y="3213000"/>
            <a:ext cx="287280" cy="287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 rot="16200000">
            <a:off x="3203640" y="2781360"/>
            <a:ext cx="287280" cy="287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0017 -0.69282 E">
                                      <p:cBhvr>
                                        <p:cTn id="288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6 L -3.61111E-006 0.68241 E">
                                      <p:cBhvr>
                                        <p:cTn id="305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5" nodeType="after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0.00023 L -0.72848 0.00023 E">
                                      <p:cBhvr>
                                        <p:cTn id="322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2" nodeType="after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73229 -1.48148E-006 E">
                                      <p:cBhvr>
                                        <p:cTn id="339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49" nodeType="after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C 0.20851 -4.07407E-006 0.37847 0.15996 0.37847 0.35672 C 0.37847 0.55348 0.20851 0.71389 8.33333E-007 0.71389 C -0.20816 0.71389 -0.37743 0.55348 -0.37743 0.35672 C -0.37743 0.15996 -0.20816 -4.07407E-006 8.33333E-007 -4.07407E-006 Z">
                                      <p:cBhvr>
                                        <p:cTn id="356" dur="5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2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3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C -0.00017 -0.01366 0.00035 -0.01551 -0.00243 -0.02708 C -0.00521 -0.03866 -0.01146 -0.05787 -0.01667 -0.06991 C -0.02187 -0.08195 -0.02517 -0.08796 -0.03333 -0.1 C -0.04149 -0.11204 -0.05642 -0.13218 -0.06545 -0.14283 C -0.07448 -0.15347 -0.07778 -0.15556 -0.08802 -0.16366 C -0.09826 -0.17176 -0.11493 -0.18403 -0.12743 -0.19213 C -0.13993 -0.20023 -0.14739 -0.20648 -0.16302 -0.21273 C -0.17864 -0.21898 -0.20417 -0.22708 -0.22135 -0.23033 C -0.23854 -0.23357 -0.25173 -0.23148 -0.26667 -0.23171 C -0.2816 -0.23195 -0.29444 -0.23333 -0.31076 -0.23171 C -0.32708 -0.23009 -0.34635 -0.22732 -0.36423 -0.22222 C -0.38212 -0.21713 -0.4 -0.21111 -0.41788 -0.20162 C -0.43576 -0.19213 -0.4559 -0.17801 -0.47135 -0.16505 C -0.4868 -0.15208 -0.49948 -0.13912 -0.51076 -0.12384 C -0.52205 -0.10857 -0.53229 -0.08796 -0.53923 -0.07315 C -0.54618 -0.05833 -0.54896 -0.05 -0.55243 -0.03496 C -0.5559 -0.01991 -0.55937 -0.00185 -0.55955 0.01736 C -0.55972 0.03657 -0.55798 0.0618 -0.55347 0.08079 C -0.54896 0.09977 -0.53923 0.11643 -0.53212 0.13171 C -0.525 0.14699 -0.525 0.15602 -0.51076 0.17292 C -0.49653 0.18981 -0.46805 0.21852 -0.44635 0.23333 C -0.42465 0.24815 -0.40607 0.25393 -0.3809 0.2618 C -0.35573 0.26967 -0.32639 0.2794 -0.29514 0.28079 C -0.26389 0.28217 -0.22205 0.27754 -0.19288 0.26967 C -0.16371 0.2618 -0.14357 0.24907 -0.12014 0.23333 C -0.0967 0.21759 -0.07031 0.1956 -0.05243 0.17454 C -0.03455 0.15347 -0.02153 0.12616 -0.01302 0.10625 C -0.00451 0.08634 -0.0033 0.0743 -0.00121 0.05555 C 0.00087 0.0368 0.00018 0.01366 -1.94444E-006 3.33333E-006 Z">
                                      <p:cBhvr>
                                        <p:cTn id="373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85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9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9500"/>
                            </p:stCondLst>
                            <p:childTnLst>
                              <p:par>
                                <p:cTn id="383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111 C 0.00452 -0.01551 0.00643 -0.01644 0.01233 -0.01898 C 0.01823 -0.02153 0.029 -0.02546 0.03611 -0.02708 C 0.04323 -0.0287 0.04948 -0.02894 0.05521 -0.0287 C 0.06094 -0.02847 0.06389 -0.02801 0.07066 -0.02546 C 0.07743 -0.02292 0.0882 -0.01806 0.09566 -0.01273 C 0.10313 -0.00741 0.11025 -0.00463 0.11597 0.00625 C 0.1217 0.01713 0.12691 0.03727 0.13021 0.05231 C 0.13351 0.06736 0.13368 0.08449 0.13611 0.09676 C 0.13854 0.10903 0.14028 0.11643 0.14445 0.12546 C 0.14861 0.13449 0.15139 0.14305 0.16111 0.15069 C 0.17084 0.15833 0.19202 0.16805 0.20278 0.1713 C 0.21354 0.17454 0.21632 0.17338 0.22552 0.16991 C 0.23472 0.16643 0.24913 0.15856 0.25764 0.15069 C 0.26615 0.14282 0.27101 0.13403 0.27674 0.12222 C 0.28247 0.11042 0.29045 0.09352 0.29219 0.0794 C 0.29393 0.06528 0.29011 0.05046 0.28733 0.03796 C 0.28455 0.02546 0.28212 0.01412 0.27552 0.00463 C 0.26893 -0.00486 0.25816 -0.01343 0.24809 -0.01898 C 0.23802 -0.02454 0.225 -0.02755 0.21476 -0.0287 C 0.20452 -0.02986 0.19757 -0.03148 0.18611 -0.02546 C 0.17466 -0.01945 0.15469 -0.00671 0.14566 0.00787 C 0.13663 0.02245 0.13525 0.04375 0.13143 0.0618 C 0.12761 0.07986 0.12656 0.10301 0.12309 0.11574 C 0.11962 0.12847 0.11476 0.13079 0.11007 0.13796 C 0.10538 0.14514 0.10035 0.15486 0.09445 0.1588 C 0.08854 0.16273 0.07986 0.15995 0.07431 0.1618 C 0.06875 0.16366 0.06667 0.16852 0.06111 0.16991 C 0.05556 0.1713 0.04809 0.17176 0.04097 0.16991 C 0.03386 0.16805 0.02483 0.16273 0.01841 0.1588 C 0.01198 0.15486 0.00834 0.15139 0.00278 0.14606 C -0.00278 0.14074 -0.00955 0.13588 -0.01493 0.12685 C -0.02031 0.11782 -0.02725 0.10648 -0.02934 0.09213 C -0.03142 0.07778 -0.02986 0.05532 -0.02691 0.0412 C -0.02396 0.02708 -0.01666 0.0169 -0.01146 0.00787 C -0.00625 -0.00116 -0.00347 -0.00671 0.00052 -0.01111 Z">
                                      <p:cBhvr>
                                        <p:cTn id="390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Работа с учебн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C:\Users\Администратор\Desktop\10464.jpg"/>
          <p:cNvPicPr/>
          <p:nvPr/>
        </p:nvPicPr>
        <p:blipFill>
          <a:blip r:embed="rId1"/>
          <a:stretch/>
        </p:blipFill>
        <p:spPr>
          <a:xfrm>
            <a:off x="380880" y="1295280"/>
            <a:ext cx="5181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Занимательн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3581280" y="1371600"/>
          <a:ext cx="4191120" cy="37152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2120"/>
                <a:gridCol w="685800"/>
                <a:gridCol w="838080"/>
                <a:gridCol w="457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895480" y="1752480"/>
          <a:ext cx="4876920" cy="371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762120"/>
                <a:gridCol w="685800"/>
                <a:gridCol w="823680"/>
                <a:gridCol w="4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029200" y="2133720"/>
          <a:ext cx="350532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45720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48120" y="2514600"/>
          <a:ext cx="4267080" cy="37152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685800"/>
                <a:gridCol w="762120"/>
                <a:gridCol w="685800"/>
                <a:gridCol w="838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286000" y="2895480"/>
          <a:ext cx="6858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609480"/>
                <a:gridCol w="685800"/>
                <a:gridCol w="762120"/>
                <a:gridCol w="685800"/>
                <a:gridCol w="838080"/>
                <a:gridCol w="4572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3276720"/>
          <a:ext cx="579132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685800"/>
                <a:gridCol w="609480"/>
                <a:gridCol w="68580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3" descr="C:\Users\Администратор\Desktop\CI3Lq11_LLc.jpg"/>
          <p:cNvPicPr/>
          <p:nvPr/>
        </p:nvPicPr>
        <p:blipFill>
          <a:blip r:embed="rId3"/>
          <a:stretch/>
        </p:blipFill>
        <p:spPr>
          <a:xfrm>
            <a:off x="304920" y="3733920"/>
            <a:ext cx="4647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http://s58.radikal.ru/i161/0907/6b/9f1ad9ff6e97.gif"/>
          <p:cNvPicPr/>
          <p:nvPr/>
        </p:nvPicPr>
        <p:blipFill>
          <a:blip r:embed="rId1"/>
          <a:stretch/>
        </p:blipFill>
        <p:spPr>
          <a:xfrm>
            <a:off x="-838080" y="-60948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595680" cy="3733920"/>
          </a:xfrm>
          <a:prstGeom prst="rect">
            <a:avLst/>
          </a:prstGeom>
          <a:ln w="0">
            <a:noFill/>
          </a:ln>
        </p:spPr>
      </p:pic>
      <p:sp>
        <p:nvSpPr>
          <p:cNvPr id="214" name="Oval 9"/>
          <p:cNvSpPr/>
          <p:nvPr/>
        </p:nvSpPr>
        <p:spPr>
          <a:xfrm>
            <a:off x="3581280" y="6094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839480" y="83808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Доволен собой, у меня все получ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581280" y="16765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053320" y="182880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оволен собой, хотя у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не все получ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3657600" y="27432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5030280" y="29718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 чудес на пла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М существует и ЗДЕ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ети –тоже одно из чуд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мните тверд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оть ная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оть во сн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жизни она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пригодилась и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Администратор\Desktop\520573_original.jpg"/>
          <p:cNvPicPr/>
          <p:nvPr/>
        </p:nvPicPr>
        <p:blipFill>
          <a:blip r:embed="rId1"/>
          <a:stretch/>
        </p:blipFill>
        <p:spPr>
          <a:xfrm>
            <a:off x="5237280" y="2664000"/>
            <a:ext cx="3930480" cy="841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1801"/>
          <p:cNvPicPr/>
          <p:nvPr/>
        </p:nvPicPr>
        <p:blipFill>
          <a:blip r:embed="rId2"/>
          <a:stretch/>
        </p:blipFill>
        <p:spPr>
          <a:xfrm>
            <a:off x="739152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s58.radikal.ru/i161/0907/6b/9f1ad9ff6e97.gif"/>
          <p:cNvPicPr/>
          <p:nvPr/>
        </p:nvPicPr>
        <p:blipFill>
          <a:blip r:embed="rId1"/>
          <a:stretch/>
        </p:blipFill>
        <p:spPr>
          <a:xfrm>
            <a:off x="-838080" y="-60948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59568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Oval 9"/>
          <p:cNvSpPr/>
          <p:nvPr/>
        </p:nvSpPr>
        <p:spPr>
          <a:xfrm>
            <a:off x="3581280" y="6094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839480" y="83808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Доволен собой, у меня все получ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3581280" y="16765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53320" y="182880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оволен собой, хотя у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не все получ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3657600" y="27432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030280" y="29718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о новых встр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Users\Администратор\Desktop\images.jpg"/>
          <p:cNvPicPr/>
          <p:nvPr/>
        </p:nvPicPr>
        <p:blipFill>
          <a:blip r:embed="rId1"/>
          <a:stretch/>
        </p:blipFill>
        <p:spPr>
          <a:xfrm>
            <a:off x="228600" y="1676520"/>
            <a:ext cx="8305920" cy="36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801"/>
          <p:cNvPicPr/>
          <p:nvPr/>
        </p:nvPicPr>
        <p:blipFill>
          <a:blip r:embed="rId2"/>
          <a:stretch/>
        </p:blipFill>
        <p:spPr>
          <a:xfrm>
            <a:off x="72388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s58.radikal.ru/i161/0907/6b/9f1ad9ff6e97.gif"/>
          <p:cNvPicPr/>
          <p:nvPr/>
        </p:nvPicPr>
        <p:blipFill>
          <a:blip r:embed="rId1"/>
          <a:stretch/>
        </p:blipFill>
        <p:spPr>
          <a:xfrm>
            <a:off x="-838080" y="-380880"/>
            <a:ext cx="518148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59568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743200" y="2209680"/>
            <a:ext cx="58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Ответить хоче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не шу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а только руку под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8600" y="380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ма урока: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Georgia"/>
              </a:rPr>
              <a:t>Умножение и деление на 1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2120" y="1981080"/>
            <a:ext cx="704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множать и делить число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ешать примеры и задачи на умножение и деление числа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Закреплять таблицу умножения от 2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сматривать  табличные случаи умножения и деления н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Четверо весёлых лягуш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омаров лов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аждый съел уже по 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ак же всех их сос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лягушонок"/>
          <p:cNvPicPr/>
          <p:nvPr/>
        </p:nvPicPr>
        <p:blipFill>
          <a:blip r:embed="rId1"/>
          <a:stretch/>
        </p:blipFill>
        <p:spPr>
          <a:xfrm>
            <a:off x="5867280" y="3048120"/>
            <a:ext cx="1362240" cy="14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лягушонок"/>
          <p:cNvPicPr/>
          <p:nvPr/>
        </p:nvPicPr>
        <p:blipFill>
          <a:blip r:embed="rId2"/>
          <a:stretch/>
        </p:blipFill>
        <p:spPr>
          <a:xfrm>
            <a:off x="4724280" y="4419720"/>
            <a:ext cx="1362240" cy="14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лягушонок"/>
          <p:cNvPicPr/>
          <p:nvPr/>
        </p:nvPicPr>
        <p:blipFill>
          <a:blip r:embed="rId3"/>
          <a:stretch/>
        </p:blipFill>
        <p:spPr>
          <a:xfrm>
            <a:off x="5791320" y="1219320"/>
            <a:ext cx="1361880" cy="148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лягушонок"/>
          <p:cNvPicPr/>
          <p:nvPr/>
        </p:nvPicPr>
        <p:blipFill>
          <a:blip r:embed="rId4"/>
          <a:stretch/>
        </p:blipFill>
        <p:spPr>
          <a:xfrm>
            <a:off x="7238880" y="198108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862560" y="4495680"/>
            <a:ext cx="28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20 </a:t>
            </a: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ком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18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981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8600" y="1523880"/>
            <a:ext cx="63381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Мышки с поля колосья та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Все они в норки их убир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аждая спрятала их по во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Двое всех мы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 сколько колос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Анимированные мышки, анимашки мышки | Smayls.ru"/>
          <p:cNvPicPr/>
          <p:nvPr/>
        </p:nvPicPr>
        <p:blipFill>
          <a:blip r:embed="rId1"/>
          <a:stretch/>
        </p:blipFill>
        <p:spPr>
          <a:xfrm>
            <a:off x="4267080" y="3276720"/>
            <a:ext cx="3581640" cy="1749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1073520" y="51055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16 колос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68280" y="1600200"/>
            <a:ext cx="86378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Мы картошку убир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Ведрами в мешки ссып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Пятнадцать вёдер – поровну в пять меш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А сколько вёдер в одном ме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98571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65760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075680" y="4898880"/>
            <a:ext cx="193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3 ве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18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723760" y="5335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Веселы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6760" y="1295280"/>
            <a:ext cx="518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Испекла нам баб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Вкусные олад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Всего оладий двадцать 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По три нам хватило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Кто ответит из ребя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Times New Roman"/>
              </a:rPr>
              <a:t>Сколько было же внуч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88482_m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19520"/>
            <a:ext cx="327672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2307600" y="444168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9 внуч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18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18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08:24:32Z</dcterms:created>
  <dc:creator>Tania</dc:creator>
  <dc:description/>
  <dc:language>en-US</dc:language>
  <cp:lastModifiedBy>каб 2.2</cp:lastModifiedBy>
  <dcterms:modified xsi:type="dcterms:W3CDTF">2016-12-05T09:08:26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