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8.jpeg" ContentType="image/jpeg"/>
  <Override PartName="/ppt/media/image15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65B-B0B0-4D76-A61E-D1808073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D8A-13E8-468C-AFCA-DD8904E1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2D1-68C4-4076-B2DD-C3DF9BC2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9F0-18DC-4B28-98A6-08706BA5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B0B0-CFD9-41DE-BB6A-E6C63559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5B87-572D-4D86-9938-F3991774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051E-EB11-4C08-95CE-A6478354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4249-8CAD-443D-B758-D91D7C50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D92D-D72F-410D-8AF0-2172893D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3910-19F1-48A8-A1F8-4CE81435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10E2-361B-4C4B-97BE-70C90F52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F48-0AFD-4207-8152-B7FB30AA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6327-AEEA-489F-A1E1-EDE09E49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2E52-9750-4225-A69F-4E94DBED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105E-9BE5-45E0-AC53-8DEEE29F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1C19-946F-4633-878F-33B557DA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139-CDF9-4886-A95A-C3EB5F73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3B66-BBEB-4F91-916F-0C5D4649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ACDC-901C-4946-A7A0-32932F8B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5015-6756-467D-A3A1-FA45541F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ACC1-F213-46FE-9E56-21B1AD6F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7345-DB44-488A-AC85-C2742D9C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4B2-D755-4052-9282-A83D29BC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95AB-2331-4505-9662-C3AA1F3C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6F94-37B5-4A9D-AE41-087FB0ED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0248-B22C-4452-9C2F-E4FC4ED5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5B87-E6FC-4ABF-9488-D9AE9F83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B524-7345-4216-8D73-D2060771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7D81-292F-40F5-A1D8-2D12A826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45B1-999E-453E-B60E-5EDCC7CC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3F7B-9F61-4C82-A3D8-E922F491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A0946-0953-43D3-A619-18BEB4BB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1ECD-9455-40BC-948A-CB024B73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207-E8ED-4E28-9338-F8E69947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B02D-47BB-4BAC-A300-6B0B99FF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16E75-5A49-4A62-BB82-796E4D72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0D153-B949-4A26-8802-ED5E1E2C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B76A-8A13-4584-A749-0A898DA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0CB45-A02A-4FE9-BB99-D687F91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FF5F2-4423-4709-A49A-99502257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4F12-8D49-40C5-88D5-60BE4074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B22F-4F28-4CA3-B777-7508B8FB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738EB-E9C0-4ECD-B558-FE395908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161-ABA8-4409-9844-505C7C90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D2D-7A98-4D2C-8736-81B4E992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CC9-3CAB-4A41-ABBA-145E8468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096-F3E0-46FE-AE36-30B80886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702-8E03-4133-A1AE-142CB841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4816-0E7D-45E9-9794-D5997E9DCC6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F75E-E2C5-4D3D-B078-532A1CC6A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34C4-1A5C-4790-89A5-4D1D37A12E6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8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5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DB97-8768-4138-ACE3-72BFC37331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5;&#1074;&#1072;_(&#1090;&#1082;&#1072;&#1085;&#1100;)" TargetMode="External"/><Relationship Id="rId2" Type="http://schemas.openxmlformats.org/officeDocument/2006/relationships/hyperlink" Target="http://ru.wikipedia.org/wiki/&#1052;&#1091;&#1083;&#1080;&#1085;&#1077;" TargetMode="External"/><Relationship Id="rId3" Type="http://schemas.openxmlformats.org/officeDocument/2006/relationships/hyperlink" Target="http://ph.files.7ja.ru/7ya-photo/2006/10/2/1159789193386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Untitled - 211"/>
          <p:cNvPicPr/>
          <p:nvPr/>
        </p:nvPicPr>
        <p:blipFill>
          <a:blip r:embed="rId1"/>
          <a:srcRect l="1082" t="50658" r="0" b="0"/>
          <a:stretch/>
        </p:blipFill>
        <p:spPr>
          <a:xfrm>
            <a:off x="457200" y="228600"/>
            <a:ext cx="8381880" cy="639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70c0"/>
                </a:solidFill>
                <a:latin typeface="Arial"/>
              </a:rPr>
              <a:t>Техника безопас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1Требования безопасности перед началом занят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1.1 Хранить рукоделие в специальном пенале или шкатул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1.2 Хранить иголки и булавки в игольни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1.3 Не приносить на урок большое количество иголок и булав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1" descr="IMGP1214-1"/>
          <p:cNvPicPr/>
          <p:nvPr/>
        </p:nvPicPr>
        <p:blipFill>
          <a:blip r:embed="rId1"/>
          <a:stretch/>
        </p:blipFill>
        <p:spPr>
          <a:xfrm>
            <a:off x="6477120" y="38098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015j"/>
          <p:cNvPicPr/>
          <p:nvPr/>
        </p:nvPicPr>
        <p:blipFill>
          <a:blip r:embed="rId2"/>
          <a:stretch/>
        </p:blipFill>
        <p:spPr>
          <a:xfrm>
            <a:off x="380880" y="3809880"/>
            <a:ext cx="3043440" cy="2430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5345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Требования безопасности во время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1. Бережно относиться к своей работе и инструментам дл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2. Не брать иголки, булавки, спицы и крючки в рот, не вкалывать их в одеж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3. Для шитья и вышивки вдевать в иглу нить не длиннее локт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4.Во время перерыва в работе вкалывать иголки и булавки в игольницу, ножницы класть на стол с сомкнутыми лез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5. Передавать ножницы друг другу только сомкнутыми лезвиями кольцами впе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6. Следите за тем, чтобы ножницы не падали на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7. Не перекусывать нитку зубами и не отрывать ее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9892b5f58ed4441d6f50007c29c9a0e1"/>
          <p:cNvPicPr/>
          <p:nvPr/>
        </p:nvPicPr>
        <p:blipFill>
          <a:blip r:embed="rId1"/>
          <a:stretch/>
        </p:blipFill>
        <p:spPr>
          <a:xfrm>
            <a:off x="0" y="5791320"/>
            <a:ext cx="1447920" cy="1066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70c0"/>
                </a:solidFill>
                <a:latin typeface="Arial"/>
              </a:rPr>
              <a:t>Инструменты и принадлежнос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н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улине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яль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жницы(ножницы-цапл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ерст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г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I:\вишивка\dublin.gif"/>
          <p:cNvPicPr/>
          <p:nvPr/>
        </p:nvPicPr>
        <p:blipFill>
          <a:blip r:embed="rId1"/>
          <a:stretch/>
        </p:blipFill>
        <p:spPr>
          <a:xfrm>
            <a:off x="1752480" y="1523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I:\вишивка\mouline.gif"/>
          <p:cNvPicPr/>
          <p:nvPr/>
        </p:nvPicPr>
        <p:blipFill>
          <a:blip r:embed="rId2"/>
          <a:stretch/>
        </p:blipFill>
        <p:spPr>
          <a:xfrm>
            <a:off x="5715000" y="1523880"/>
            <a:ext cx="1547640" cy="1638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I:\вишивка\hoop.gif"/>
          <p:cNvPicPr/>
          <p:nvPr/>
        </p:nvPicPr>
        <p:blipFill>
          <a:blip r:embed="rId3"/>
          <a:stretch/>
        </p:blipFill>
        <p:spPr>
          <a:xfrm>
            <a:off x="685800" y="3657600"/>
            <a:ext cx="1424160" cy="1447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018"/>
          <p:cNvPicPr/>
          <p:nvPr/>
        </p:nvPicPr>
        <p:blipFill>
          <a:blip r:embed="rId4"/>
          <a:stretch/>
        </p:blipFill>
        <p:spPr>
          <a:xfrm>
            <a:off x="2438280" y="4419720"/>
            <a:ext cx="2210040" cy="180000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8" descr=""/>
          <p:cNvPicPr/>
          <p:nvPr/>
        </p:nvPicPr>
        <p:blipFill>
          <a:blip r:embed="rId5"/>
          <a:stretch/>
        </p:blipFill>
        <p:spPr>
          <a:xfrm>
            <a:off x="5867280" y="4419720"/>
            <a:ext cx="1143000" cy="1757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n-US" sz="3400" spc="-1" strike="noStrike">
                <a:solidFill>
                  <a:srgbClr val="0070c0"/>
                </a:solidFill>
                <a:latin typeface="Arial"/>
              </a:rPr>
              <a:t>Вышивка простым крестик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удобства лучше всего натянуть работу на специальную рамку для вышивания - пяльцы.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того, что бы вышивка была более наглядная, все верхние стежки должны лежать в одну сторону (в одном направлении), для этого нужно сразу привыкнуть выполнять нижний стежок крестика от верхней левой стороны к нижней правой.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трочка из крестиков вышивается в два приема: сначала вышиваем строчку из нижних стежков в нужном количестве, затем заканчиваем крестики верхними стежками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6" descr="вышивка простым крестиком"/>
          <p:cNvPicPr/>
          <p:nvPr/>
        </p:nvPicPr>
        <p:blipFill>
          <a:blip r:embed="rId1"/>
          <a:stretch/>
        </p:blipFill>
        <p:spPr>
          <a:xfrm>
            <a:off x="3352680" y="990720"/>
            <a:ext cx="190512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70c0"/>
                </a:solidFill>
                <a:latin typeface="Arial"/>
              </a:rPr>
              <a:t>Техника выши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9" descr="Изображение 004"/>
          <p:cNvPicPr/>
          <p:nvPr/>
        </p:nvPicPr>
        <p:blipFill>
          <a:blip r:embed="rId1">
            <a:lum bright="12000"/>
          </a:blip>
          <a:srcRect l="45395" t="76361" r="2701" b="546"/>
          <a:stretch/>
        </p:blipFill>
        <p:spPr>
          <a:xfrm>
            <a:off x="1600200" y="1371600"/>
            <a:ext cx="6027840" cy="41148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2"/>
          <a:stretch/>
        </p:blipFill>
        <p:spPr>
          <a:xfrm>
            <a:off x="987480" y="420840"/>
            <a:ext cx="7400880" cy="82836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3" descr=""/>
          <p:cNvPicPr/>
          <p:nvPr/>
        </p:nvPicPr>
        <p:blipFill>
          <a:blip r:embed="rId3"/>
          <a:stretch/>
        </p:blipFill>
        <p:spPr>
          <a:xfrm>
            <a:off x="1749600" y="5748480"/>
            <a:ext cx="61815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Arial"/>
                <a:ea typeface="Times New Roman"/>
              </a:rPr>
              <a:t>Первый шаг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8" name="Picture 4" descr="Изображение 003"/>
          <p:cNvPicPr/>
          <p:nvPr/>
        </p:nvPicPr>
        <p:blipFill>
          <a:blip r:embed="rId1"/>
          <a:srcRect l="21140" t="21897" r="49665" b="62046"/>
          <a:stretch/>
        </p:blipFill>
        <p:spPr>
          <a:xfrm>
            <a:off x="533520" y="1219320"/>
            <a:ext cx="4647960" cy="388620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4"/>
          <p:cNvSpPr/>
          <p:nvPr/>
        </p:nvSpPr>
        <p:spPr>
          <a:xfrm>
            <a:off x="5257800" y="9907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Arial"/>
                <a:ea typeface="Times New Roman"/>
              </a:rPr>
              <a:t>Проложите первоначальный кос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Arial"/>
                <a:ea typeface="Times New Roman"/>
              </a:rPr>
              <a:t>стежок, направляя иг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Arial"/>
                <a:ea typeface="Times New Roman"/>
              </a:rPr>
              <a:t>вертикально сверху вниз</a:t>
            </a:r>
            <a:r>
              <a:rPr b="0" lang="en-US" sz="3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Второй шаг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1" name="Picture 4" descr="Изображение 003"/>
          <p:cNvPicPr/>
          <p:nvPr/>
        </p:nvPicPr>
        <p:blipFill>
          <a:blip r:embed="rId1"/>
          <a:srcRect l="20137" t="39783" r="50169" b="43798"/>
          <a:stretch/>
        </p:blipFill>
        <p:spPr>
          <a:xfrm>
            <a:off x="762120" y="1295280"/>
            <a:ext cx="4190760" cy="44197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5"/>
          <p:cNvSpPr/>
          <p:nvPr/>
        </p:nvSpPr>
        <p:spPr>
          <a:xfrm>
            <a:off x="5029200" y="1371600"/>
            <a:ext cx="380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Arial"/>
                <a:ea typeface="Times New Roman"/>
              </a:rPr>
              <a:t>Завершите шов обрат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Arial"/>
                <a:ea typeface="Times New Roman"/>
              </a:rPr>
              <a:t>косым стежком, направля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336699"/>
                </a:solidFill>
                <a:latin typeface="Arial"/>
                <a:ea typeface="Times New Roman"/>
              </a:rPr>
              <a:t>иглу вертика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Arial"/>
                <a:ea typeface="Times New Roman"/>
              </a:rPr>
              <a:t>сверху вни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Arial"/>
                <a:ea typeface="Times New Roman"/>
              </a:rPr>
              <a:t>Так выглядит</a:t>
            </a:r>
            <a:br>
              <a:rPr sz="4400"/>
            </a:br>
            <a:r>
              <a:rPr b="1" i="1" lang="en-US" sz="4400" spc="-1" strike="noStrike">
                <a:solidFill>
                  <a:srgbClr val="336699"/>
                </a:solidFill>
                <a:latin typeface="Arial"/>
                <a:ea typeface="Times New Roman"/>
              </a:rPr>
              <a:t>простой шов</a:t>
            </a:r>
            <a:br>
              <a:rPr sz="4400"/>
            </a:br>
            <a:r>
              <a:rPr b="1" i="1" lang="en-US" sz="4400" spc="-1" strike="noStrike">
                <a:solidFill>
                  <a:srgbClr val="336699"/>
                </a:solidFill>
                <a:latin typeface="Arial"/>
                <a:ea typeface="Times New Roman"/>
              </a:rPr>
              <a:t>крестиком.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4" name="Picture 4" descr="Изображение 003"/>
          <p:cNvPicPr/>
          <p:nvPr/>
        </p:nvPicPr>
        <p:blipFill>
          <a:blip r:embed="rId1"/>
          <a:srcRect l="20636" t="57789" r="50002" b="26157"/>
          <a:stretch/>
        </p:blipFill>
        <p:spPr>
          <a:xfrm>
            <a:off x="3352680" y="228600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Большие смайлики"/>
          <p:cNvPicPr/>
          <p:nvPr/>
        </p:nvPicPr>
        <p:blipFill>
          <a:blip r:embed="rId1"/>
          <a:stretch/>
        </p:blipFill>
        <p:spPr>
          <a:xfrm>
            <a:off x="1523880" y="2743200"/>
            <a:ext cx="4067280" cy="3200400"/>
          </a:xfrm>
          <a:prstGeom prst="rect">
            <a:avLst/>
          </a:prstGeom>
          <a:ln w="0">
            <a:noFill/>
          </a:ln>
        </p:spPr>
      </p:pic>
      <p:sp>
        <p:nvSpPr>
          <p:cNvPr id="266" name="WordArt 3"/>
          <p:cNvSpPr txBox="1"/>
          <p:nvPr/>
        </p:nvSpPr>
        <p:spPr>
          <a:xfrm>
            <a:off x="826920" y="476280"/>
            <a:ext cx="7129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альнейших успехов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850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дин стежок, другой стежок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 спи моя иголк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крылся лист, расцвел цвет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азоревого шел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 себе я птиц веселых жд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ни вернутся к ма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 это дерево в сад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них я вышива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685800" y="2286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шивка кресто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761760" y="457200"/>
            <a:ext cx="80010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ышивка-это техника украшения изделий различными  стежками из ни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ышивка крестом — вид вышивания;  это способ вышивания рисунка на 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канве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 с помощью иглы и цветных нитей 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мулине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, используется техника в полный крест или полукрест. 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-main-pic" descr="Картинка 700 из 209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4429080"/>
            <a:ext cx="221436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ff"/>
                </a:solidFill>
                <a:latin typeface="Arial"/>
              </a:rPr>
              <a:t>История русской вышив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Руси издревле вышивка была одним из самых любимых и распространенных видов народно-прикладного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50314282_1256481253_ba22e777f184edd3b47b68fa12314250_full"/>
          <p:cNvPicPr/>
          <p:nvPr/>
        </p:nvPicPr>
        <p:blipFill>
          <a:blip r:embed="rId1"/>
          <a:stretch/>
        </p:blipFill>
        <p:spPr>
          <a:xfrm>
            <a:off x="4724280" y="1600200"/>
            <a:ext cx="3886200" cy="4548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 основе вышивки лежали старинные обряды и обычаи. Особенно это касается вышивки крестом. Крест всегда рассматривался русичами как оберег, который способен защитить человека и жилище от нечистой силы и дурного глаз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16-1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2133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0_19045_2bb3d2a1_XL"/>
          <p:cNvPicPr/>
          <p:nvPr/>
        </p:nvPicPr>
        <p:blipFill>
          <a:blip r:embed="rId2"/>
          <a:stretch/>
        </p:blipFill>
        <p:spPr>
          <a:xfrm>
            <a:off x="7162920" y="480060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1895031_f99022a164b79a3c5262e8f216059cf7_1"/>
          <p:cNvPicPr/>
          <p:nvPr/>
        </p:nvPicPr>
        <p:blipFill>
          <a:blip r:embed="rId3"/>
          <a:stretch/>
        </p:blipFill>
        <p:spPr>
          <a:xfrm>
            <a:off x="380880" y="5257800"/>
            <a:ext cx="1905120" cy="1382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gallery_349_451_297698"/>
          <p:cNvPicPr/>
          <p:nvPr/>
        </p:nvPicPr>
        <p:blipFill>
          <a:blip r:embed="rId4"/>
          <a:stretch/>
        </p:blipFill>
        <p:spPr>
          <a:xfrm>
            <a:off x="152280" y="152280"/>
            <a:ext cx="2286000" cy="147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ff"/>
                </a:solidFill>
                <a:latin typeface="Arial"/>
              </a:rPr>
              <a:t>История чувашской вышивк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ышивка является одним из основных видов чувашского народного орнаментального искусства. Современная чувашская вышивка, ее орнаментика, техника, цветовая гамма генетически связаны с художественной культурой чувашского народа в прошлом.</a:t>
            </a:r>
            <a:br>
              <a:rPr sz="2200"/>
            </a:b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562360" y="1600200"/>
            <a:ext cx="2514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638680" y="4343040"/>
            <a:ext cx="243864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fragment-zanaveski"/>
          <p:cNvPicPr/>
          <p:nvPr/>
        </p:nvPicPr>
        <p:blipFill>
          <a:blip r:embed="rId1"/>
          <a:stretch/>
        </p:blipFill>
        <p:spPr>
          <a:xfrm>
            <a:off x="5562720" y="1523880"/>
            <a:ext cx="2590560" cy="2266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yarmarkana-panno"/>
          <p:cNvPicPr/>
          <p:nvPr/>
        </p:nvPicPr>
        <p:blipFill>
          <a:blip r:embed="rId2"/>
          <a:stretch/>
        </p:blipFill>
        <p:spPr>
          <a:xfrm>
            <a:off x="5562720" y="3886200"/>
            <a:ext cx="2590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45720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Обработка животного и растительного волокна была известна чувашской женщине издавна. Старинная одежда была домотканой, богато украшенной вышивк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lip_image003"/>
          <p:cNvPicPr/>
          <p:nvPr/>
        </p:nvPicPr>
        <p:blipFill>
          <a:blip r:embed="rId1"/>
          <a:stretch/>
        </p:blipFill>
        <p:spPr>
          <a:xfrm>
            <a:off x="5334120" y="838080"/>
            <a:ext cx="34099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70c0"/>
                </a:solidFill>
                <a:latin typeface="Arial"/>
              </a:rPr>
              <a:t>Символика русской и чувашской вышивк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48320" y="1600200"/>
          <a:ext cx="4267080" cy="449568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</a:tblGrid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, гармони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упь неба и земли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ево рода, жизни, мудрости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26" descr="image001.gif"/>
          <p:cNvPicPr/>
          <p:nvPr/>
        </p:nvPicPr>
        <p:blipFill>
          <a:blip r:embed="rId1"/>
          <a:stretch/>
        </p:blipFill>
        <p:spPr>
          <a:xfrm>
            <a:off x="4952880" y="1828800"/>
            <a:ext cx="1152720" cy="781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7" descr="image002.gif"/>
          <p:cNvPicPr/>
          <p:nvPr/>
        </p:nvPicPr>
        <p:blipFill>
          <a:blip r:embed="rId2"/>
          <a:stretch/>
        </p:blipFill>
        <p:spPr>
          <a:xfrm>
            <a:off x="5105520" y="3352680"/>
            <a:ext cx="106668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8" descr="image003.gif"/>
          <p:cNvPicPr/>
          <p:nvPr/>
        </p:nvPicPr>
        <p:blipFill>
          <a:blip r:embed="rId3"/>
          <a:stretch/>
        </p:blipFill>
        <p:spPr>
          <a:xfrm>
            <a:off x="4876920" y="4800600"/>
            <a:ext cx="1495440" cy="704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1" descr="img5"/>
          <p:cNvPicPr/>
          <p:nvPr/>
        </p:nvPicPr>
        <p:blipFill>
          <a:blip r:embed="rId4"/>
          <a:stretch/>
        </p:blipFill>
        <p:spPr>
          <a:xfrm>
            <a:off x="228600" y="1600200"/>
            <a:ext cx="39225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В языческие времена вышивкой в основном украшались полотенца, простыни, рушники, скатерти, занавески различные покрывала. Также вышивкой украшали одежду: сарафаны, головные уборы, рубах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a"/>
          <p:cNvPicPr/>
          <p:nvPr/>
        </p:nvPicPr>
        <p:blipFill>
          <a:blip r:embed="rId1"/>
          <a:stretch/>
        </p:blipFill>
        <p:spPr>
          <a:xfrm>
            <a:off x="5410080" y="3429000"/>
            <a:ext cx="3524400" cy="2629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8763b"/>
          <p:cNvPicPr/>
          <p:nvPr/>
        </p:nvPicPr>
        <p:blipFill>
          <a:blip r:embed="rId2"/>
          <a:stretch/>
        </p:blipFill>
        <p:spPr>
          <a:xfrm>
            <a:off x="457200" y="3429000"/>
            <a:ext cx="3505320" cy="2478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2-02-02T02:54:3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