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2F8-BB3A-46B7-BC28-3AFD5D85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5E2-7F5D-4714-977D-CB359C5A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D4ABE-23E5-48D6-9CA6-527C164B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54E1F-1E07-4EBF-B1C9-04633A7D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A200E-4EB8-4051-AA24-A9B02F17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A0468-C8E3-4370-8CC3-E449ED40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0706B-2219-41E6-A835-21D618E9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0F27E-B89B-4C2A-BB14-22C472AB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80AE3-D2F2-4892-89F7-3074EEB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CFA46-B672-4B2F-B428-A797D847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23610-FD77-4CFD-9155-87CD3ED8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E74-B0FB-432B-B254-8BE77DD8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CD3-DBDF-41AC-9847-B40C5F01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F6EA-0C7F-4EC9-A938-E2B528B5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8C3A-8DAD-46A5-B09E-1A7EAFF8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D2AE-4B4C-43D0-BCBB-4432ED3C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30FE-11AA-43E9-8E3A-A7E6A5CD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22A9-E915-4D0B-BD43-E6943A40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B0D6-CB5E-47C4-BFFA-58574D28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7EEF-A8F9-4669-A57B-AA93837F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A30-F49E-480E-B11C-727712FA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2D6B-C98B-4A36-80EB-9934BB94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0D49-D6E0-43D1-B866-DEF5BE24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235C-2771-48D4-B4F3-BE3B2294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FDA7-9DF2-487F-A920-FD899217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6FDD-CCAE-48A2-8E4D-BF0843B9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858F-9BE3-407A-A8C3-2345134E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4F15-3DE6-4793-98F3-2037EB95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E791-CDA2-4353-A147-EB3AF1CC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7259-1CD5-4295-9836-024B8433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20FD-AFCC-46A5-A15A-04525730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F8D-4F72-4200-9B29-97549DE9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B3355-CF06-4E8B-8E47-A05B44E3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30166-5618-4333-9426-C8303205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5E4B-37BF-46A1-AFC2-30C2F800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C4E7-7D8E-4115-875C-92A2EDB3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399D1-67F2-4B94-85AF-0A08532A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2D57-C68A-4422-BAFB-25C5953B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3588D-1361-4491-BE92-ACE1A316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F72B-646D-4D3E-B413-F9442A24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3632C-5CFC-4594-9C7E-A5530561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752B8-F2C4-4FDD-81CA-180AC0BF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F8A-F2C2-45A7-B0B7-97FF9284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AB2C-6AA7-406D-82FD-B6957CB5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90BF-8081-4183-8AD9-EB89E1FB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4C4E-3E4D-4B04-A7CF-0739D6B5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AA2A-8241-4CA2-937A-8573737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3FBD2-A7CD-4B11-87D4-432C91C1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28B30-301C-4DD1-867A-BA9C4711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A92D-3436-41AE-AF28-32F6684D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74DC-10A1-4959-BDDD-880A3B08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02F8C-6C15-4F47-A766-722904F4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EB1F7-3029-4B9F-BDE9-5BA2544F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2BD-6714-4834-BE4F-B8481CEF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AD6E5-2EE1-4795-BBFE-1492F3A5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1B147-5FFF-4978-9B30-D7E3CB47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DBD2-8842-432D-84BF-9018173B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9767-3C5C-43AD-BC96-37F8B8D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167B0-B433-4420-8204-20DD023B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017DA-2D53-408B-9ED6-4C237A5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A90CA-F3BC-47F4-8B5D-E6E558AB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27C28-B72C-4B5D-ACB6-B9599B96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7BEBA-AF93-4B2E-B6BA-A009E106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AEF92-ADFB-496C-81F9-D9DD5468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CD1-FC77-4BB4-9B48-D4E40658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73B13-284E-486E-9AC1-CD441B7F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7D82F-15E3-4DCA-AB3C-D799A782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7F26A-7D9D-4DAB-9633-26A4548B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08684-7C27-4B5E-9BBF-A68CE2F0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B3581-8CDB-4E3B-B098-2A0902AE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2A1E-B8E2-49CF-B779-A0400F70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87B14-6F41-46A1-A10B-6026E7AE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2EC2E-C6A4-4028-AFDC-66DC0A4F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E2C58-AC0E-4B1B-99A8-3C95B871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0852B-73AB-44AC-9067-305DFB5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76B-1E2D-410F-8D2F-4ED5AB9C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72F94-46E2-40DE-BB0F-2F4308D0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91587-BC7C-45AC-AE5C-B8CA4AE3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60DA0-6BAC-4FA7-845F-CDF93451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A979D-B4A3-42AC-B93B-058BFDF3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DD96A-9FB4-4A66-8ED1-BB685579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5A6D5-60B1-45FC-8C84-BEFC6B8B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A0C38-9FCF-4FC8-967A-9DF89EC7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F3B20-FBC5-4A95-856B-4214BDE3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06A5C-3118-40F8-93C7-A6F728D0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602DC-4EF9-44B7-849C-FF4783A8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A56-F057-4B23-B1EE-864B1EE7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FDD64-30F1-49E5-844C-C383B577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32996-FC80-43B8-8778-EEBB09CE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C45CF-9011-421A-A76B-770FE754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97A2A-9C47-4092-A9C8-B70CDDC2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1A11E-F93E-4786-AD58-09679406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C056A-974B-4691-A13E-53DF6B01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D6FA4-2738-47B8-84F0-95FBA4A7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35140-21BC-4F72-A9F9-E66F6FD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90562-B969-4532-8888-FBB767B2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FE868-B9EE-44EF-BECC-0E638F3A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765-615B-4F54-8F01-6BCF2FB4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23797-C2BA-4F4B-B62E-E3BF74A7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EE6B4-F6BD-4396-8B38-7DE48312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6ECDB-FF83-4722-8703-4743687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FCA35-B313-472E-869A-7BFEC131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112A7-7F18-4C6F-8E1F-E1E26040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09131-0532-4EA0-8646-6BC50446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049BD-0299-4C13-85F2-B3D0BC9E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A9864-62E0-470D-8EBC-9E59FE25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FB743-731A-46F6-B92D-BAC8D0D0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A4C9D-9F6C-419B-A873-93750829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D5E6-376E-49A7-8112-700A219785F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23A0-1DFE-4A28-8C20-BC0B6CD648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BF18-CD8F-44A1-ACE3-3BCDAA87764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4B4E-4B62-4634-98AD-C3AB65C7B4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E9A9-3F87-4D9C-B728-B3294B3BC16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6CFC-2FAC-4DA3-92C0-EF85B10A6BA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FFA8-7005-42E1-BE68-B6F297230B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2F89-2E79-4401-86A4-720E1D8976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DE46-1246-4E89-965D-64A4211945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139920" y="2414520"/>
            <a:ext cx="6010560" cy="1005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8501040" y="8075520"/>
            <a:ext cx="4968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523227"/>
              </a:solidFill>
              <a:latin typeface="Franklin Gothic Book"/>
            </a:endParaRPr>
          </a:p>
        </p:txBody>
      </p:sp>
      <p:pic>
        <p:nvPicPr>
          <p:cNvPr id="401" name="Прямоугольник 3" descr=""/>
          <p:cNvPicPr/>
          <p:nvPr/>
        </p:nvPicPr>
        <p:blipFill>
          <a:blip r:embed="rId2"/>
          <a:stretch/>
        </p:blipFill>
        <p:spPr>
          <a:xfrm>
            <a:off x="963720" y="-208080"/>
            <a:ext cx="7583400" cy="2799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Носов Николай Николаевич - его биография и жизнеописание"/>
          <p:cNvPicPr/>
          <p:nvPr/>
        </p:nvPicPr>
        <p:blipFill>
          <a:blip r:embed="rId3"/>
          <a:stretch/>
        </p:blipFill>
        <p:spPr>
          <a:xfrm>
            <a:off x="317520" y="1695600"/>
            <a:ext cx="2852640" cy="379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457440" cy="4824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4211640" y="115920"/>
            <a:ext cx="4932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Наиболее известны и любимы читателями сказочные произведения Николая Носова о Незнайке. Первое из них — сказка </a:t>
            </a:r>
            <a:r>
              <a:rPr b="0" lang="ru-RU" sz="3200" spc="-1" strike="noStrike" u="sng">
                <a:solidFill>
                  <a:srgbClr val="85540a"/>
                </a:solidFill>
                <a:uFillTx/>
                <a:latin typeface="Times New Roman"/>
                <a:ea typeface="Times New Roman"/>
              </a:rPr>
              <a:t>«Винтик, Шпунтик и пылесос»</a:t>
            </a:r>
            <a:r>
              <a:rPr b="0" lang="ru-RU" sz="32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. Потом была написана знаменитая трилогия, </a:t>
            </a:r>
            <a:r>
              <a:rPr b="0" lang="ru-RU" sz="3200" spc="-1" strike="noStrike" u="sng">
                <a:solidFill>
                  <a:srgbClr val="85540a"/>
                </a:solidFill>
                <a:uFillTx/>
                <a:latin typeface="Times New Roman"/>
                <a:ea typeface="Times New Roman"/>
              </a:rPr>
              <a:t>«Приключения Незнайки и его друзей», «Незнайка в Солнечном городе» </a:t>
            </a:r>
            <a:r>
              <a:rPr b="0" lang="ru-RU" sz="32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 u="sng">
                <a:solidFill>
                  <a:srgbClr val="85540a"/>
                </a:solidFill>
                <a:uFillTx/>
                <a:latin typeface="Times New Roman"/>
                <a:ea typeface="Times New Roman"/>
              </a:rPr>
              <a:t> «Незнайка на Лу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5"/>
          <p:cNvSpPr/>
          <p:nvPr/>
        </p:nvSpPr>
        <p:spPr>
          <a:xfrm>
            <a:off x="2700360" y="620640"/>
            <a:ext cx="36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Экранизация произведений Н.Но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C:\Users\User\Desktop\Рисунок1.jpg"/>
          <p:cNvPicPr/>
          <p:nvPr/>
        </p:nvPicPr>
        <p:blipFill>
          <a:blip r:embed="rId1"/>
          <a:stretch/>
        </p:blipFill>
        <p:spPr>
          <a:xfrm>
            <a:off x="250920" y="115920"/>
            <a:ext cx="2381040" cy="3381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C:\Users\User\Desktop\Рисунок2.jpg"/>
          <p:cNvPicPr/>
          <p:nvPr/>
        </p:nvPicPr>
        <p:blipFill>
          <a:blip r:embed="rId2"/>
          <a:stretch/>
        </p:blipFill>
        <p:spPr>
          <a:xfrm>
            <a:off x="6732720" y="115920"/>
            <a:ext cx="2184120" cy="3002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C:\Users\User\Desktop\Рисунок3.jpg"/>
          <p:cNvPicPr/>
          <p:nvPr/>
        </p:nvPicPr>
        <p:blipFill>
          <a:blip r:embed="rId3"/>
          <a:stretch/>
        </p:blipFill>
        <p:spPr>
          <a:xfrm>
            <a:off x="250920" y="3645000"/>
            <a:ext cx="3693960" cy="2987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C:\Users\User\Desktop\Рисунок4.png"/>
          <p:cNvPicPr/>
          <p:nvPr/>
        </p:nvPicPr>
        <p:blipFill>
          <a:blip r:embed="rId4"/>
          <a:stretch/>
        </p:blipFill>
        <p:spPr>
          <a:xfrm>
            <a:off x="6516720" y="3284640"/>
            <a:ext cx="2413080" cy="3436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http://alexgetti.narod.ru/imgi126.jpg"/>
          <p:cNvPicPr/>
          <p:nvPr/>
        </p:nvPicPr>
        <p:blipFill>
          <a:blip r:embed="rId1"/>
          <a:stretch/>
        </p:blipFill>
        <p:spPr>
          <a:xfrm>
            <a:off x="108000" y="189000"/>
            <a:ext cx="2160360" cy="2735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http://www.diafilms-tv.ru/sites/default/files/imagecache/slideshow/nosov_fantazeri.jpg"/>
          <p:cNvPicPr/>
          <p:nvPr/>
        </p:nvPicPr>
        <p:blipFill>
          <a:blip r:embed="rId2"/>
          <a:stretch/>
        </p:blipFill>
        <p:spPr>
          <a:xfrm>
            <a:off x="2484360" y="189000"/>
            <a:ext cx="1727280" cy="2743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http://bovasan.narod.ru/photo01.jpg"/>
          <p:cNvPicPr/>
          <p:nvPr/>
        </p:nvPicPr>
        <p:blipFill>
          <a:blip r:embed="rId3"/>
          <a:stretch/>
        </p:blipFill>
        <p:spPr>
          <a:xfrm>
            <a:off x="4427640" y="189000"/>
            <a:ext cx="2089080" cy="27385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http://static2.etoya.ru/files/images/imgsng/part_0/15840/src/semenov-ogurcy.jpg"/>
          <p:cNvPicPr/>
          <p:nvPr/>
        </p:nvPicPr>
        <p:blipFill>
          <a:blip r:embed="rId4"/>
          <a:stretch/>
        </p:blipFill>
        <p:spPr>
          <a:xfrm>
            <a:off x="6659640" y="189000"/>
            <a:ext cx="2233440" cy="2793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2" descr="http://img-fotki.yandex.ru/get/5505/31075627.292/0_71a17_8b01d93c_XL.jp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108000" y="3284640"/>
            <a:ext cx="2592360" cy="337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4" descr="http://www.colibri.ru/photos/abr04/abr95750.jpg"/>
          <p:cNvPicPr/>
          <p:nvPr/>
        </p:nvPicPr>
        <p:blipFill>
          <a:blip r:embed="rId6"/>
          <a:stretch/>
        </p:blipFill>
        <p:spPr>
          <a:xfrm>
            <a:off x="2987640" y="3284640"/>
            <a:ext cx="2521080" cy="3319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6" descr="http://static.media.svoy.ru/f3bc49f5fdd5fa518553ae00e8c3a9ee"/>
          <p:cNvPicPr/>
          <p:nvPr/>
        </p:nvPicPr>
        <p:blipFill>
          <a:blip r:embed="rId7"/>
          <a:stretch/>
        </p:blipFill>
        <p:spPr>
          <a:xfrm>
            <a:off x="5724360" y="335772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>
            <a:off x="5940360" y="765000"/>
            <a:ext cx="32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Николай Но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уме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в Моск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26 ию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1976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http://900igr.net/datas/literatura/Nikolaj-Nikolaevich-Nosov/0002-002-1908-1976.jpg"/>
          <p:cNvPicPr/>
          <p:nvPr/>
        </p:nvPicPr>
        <p:blipFill>
          <a:blip r:embed="rId1"/>
          <a:stretch/>
        </p:blipFill>
        <p:spPr>
          <a:xfrm>
            <a:off x="324000" y="404640"/>
            <a:ext cx="4782960" cy="5832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00720" y="620640"/>
            <a:ext cx="4643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Родился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10 (23) ноября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1908 год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в Киеве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в семье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актера-эстрадника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6" descr="http://900igr.net/datas/literatura/ZHivaja-shljapa/0002-002-Nikolaj-Nikolaevich-Nosov-1908-1976.jpg"/>
          <p:cNvPicPr/>
          <p:nvPr/>
        </p:nvPicPr>
        <p:blipFill>
          <a:blip r:embed="rId1"/>
          <a:stretch/>
        </p:blipFill>
        <p:spPr>
          <a:xfrm>
            <a:off x="539640" y="404640"/>
            <a:ext cx="3168720" cy="424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4067280" y="189000"/>
            <a:ext cx="489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Разносторонне одаренный мальчи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Носов с гимназических лет увлекался музыкой, театром, сочинительством – наряду с шахматами, фотографией, электротехникой, радиолюбитель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6" descr="http://img11.nnm.ru/b/5/f/1/6/da708cc17a6a1c6718ac71cd086.jpg"/>
          <p:cNvPicPr/>
          <p:nvPr/>
        </p:nvPicPr>
        <p:blipFill>
          <a:blip r:embed="rId1"/>
          <a:stretch/>
        </p:blipFill>
        <p:spPr>
          <a:xfrm>
            <a:off x="179280" y="260280"/>
            <a:ext cx="3787920" cy="547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1"/>
          <p:cNvSpPr/>
          <p:nvPr/>
        </p:nvSpPr>
        <p:spPr>
          <a:xfrm>
            <a:off x="4284720" y="0"/>
            <a:ext cx="4859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Был газетным торговцем, землекопом, косаре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в 1927–1929 учи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в Киевском художественном институ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откуда переве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в Московский институт кинематографии (окончил в 1932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http://gallery.forum-grad.ru/files/4/1/0/9/6/11s09_nosov1_thumb.jpg"/>
          <p:cNvPicPr/>
          <p:nvPr/>
        </p:nvPicPr>
        <p:blipFill>
          <a:blip r:embed="rId1"/>
          <a:stretch/>
        </p:blipFill>
        <p:spPr>
          <a:xfrm>
            <a:off x="250920" y="333360"/>
            <a:ext cx="3889440" cy="388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4859280" y="765000"/>
            <a:ext cx="428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В 1932–1951 – режиссер-постановщик мультипликационных, научно-популярных и учебных (в т.ч. для Красной Армии, заслужив этим в 1943 орден Красной Звезды) филь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http://900igr.net/datas/literatura/Nikolaj-Nikolaevich-Nosov/0009-009-Vstrecha-so-shkolnikami-Moskvy.jpg"/>
          <p:cNvPicPr/>
          <p:nvPr/>
        </p:nvPicPr>
        <p:blipFill>
          <a:blip r:embed="rId1"/>
          <a:stretch/>
        </p:blipFill>
        <p:spPr>
          <a:xfrm>
            <a:off x="179280" y="333360"/>
            <a:ext cx="4537080" cy="612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3635280" y="0"/>
            <a:ext cx="5508720" cy="63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26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Начал публиковать рассказы в 193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540a"/>
                </a:solidFill>
                <a:uFillTx/>
                <a:latin typeface="Times New Roman"/>
                <a:ea typeface="Times New Roman"/>
              </a:rPr>
              <a:t>«Затейники», «Живая шляпа», «Огурцы», «Чудесные брюки», «Мишкина каша», «Огородники», «Фантазеры»</a:t>
            </a: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, напечатанные главным образом в журнале «Мурзилка» и составившие основу первого сборника Носова «Тук-тук-тук», 1945 го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737080" cy="3857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4140360" y="404640"/>
            <a:ext cx="500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Носов ввел в детскую литературу нового героя – наивного и здравомыслящего, озорного и любознательного непоседу, одержимого жаждой деятельности и постоянно попадающего в необычные, зачастую комические ситу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http://my-shop.ru/_files/product/2/12/113759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395280" y="333360"/>
            <a:ext cx="3313080" cy="5199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0" y="189000"/>
            <a:ext cx="9144000" cy="65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Особенно широкую популярность завоевали его повести для подрост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540a"/>
                </a:solidFill>
                <a:uFillTx/>
                <a:latin typeface="Times New Roman"/>
                <a:ea typeface="Times New Roman"/>
              </a:rPr>
              <a:t>«Веселая семейка» </a:t>
            </a: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(1949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540a"/>
                </a:solidFill>
                <a:uFillTx/>
                <a:latin typeface="Times New Roman"/>
                <a:ea typeface="Times New Roman"/>
              </a:rPr>
              <a:t>«Дневник Коли Синицына» </a:t>
            </a: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(1950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540a"/>
                </a:solidFill>
                <a:uFillTx/>
                <a:latin typeface="Times New Roman"/>
                <a:ea typeface="Times New Roman"/>
              </a:rPr>
              <a:t>«Витя Малеев в школе и дома» </a:t>
            </a: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(1951). Последняя успешно решает одну из сложнейших задач художественной литературы для детей: назидание без скуки, показ эволюции детского характера в преодолении собственных недостатков - лени, неорганизованности, безответственности -  в увлекательном изложении событий школьной и «домашней» жизни подрос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5219640" y="0"/>
            <a:ext cx="392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Сам Николай Николаевич говорил, что начал писать для детей совершенно случайно — сперва просто рассказывал сказки своему маленькому сынишк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540a"/>
                </a:solidFill>
                <a:latin typeface="Times New Roman"/>
                <a:ea typeface="Times New Roman"/>
              </a:rPr>
              <a:t>его друзья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http://900igr.net/datas/literatura/Nikolaj-Nikolaevich-Nosov/0006-006-N.N.Nosov-s-synom-Petrom.jpg"/>
          <p:cNvPicPr/>
          <p:nvPr/>
        </p:nvPicPr>
        <p:blipFill>
          <a:blip r:embed="rId1"/>
          <a:stretch/>
        </p:blipFill>
        <p:spPr>
          <a:xfrm>
            <a:off x="324000" y="44280"/>
            <a:ext cx="4392360" cy="6742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8:40:47Z</dcterms:created>
  <dc:creator>yana</dc:creator>
  <dc:description/>
  <dc:language>en-US</dc:language>
  <cp:lastModifiedBy>Андрей</cp:lastModifiedBy>
  <dcterms:modified xsi:type="dcterms:W3CDTF">2016-12-05T15:01:52Z</dcterms:modified>
  <cp:revision>12</cp:revision>
  <dc:subject/>
  <dc:title>Н</dc:title>
</cp:coreProperties>
</file>