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249-E83D-47C6-A2DD-CD626C9E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BF2A-F86C-48CC-ACEA-95797A74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E80-F82F-45E9-A31A-466D30D4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047E-6034-4D62-8C57-E3B50499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2638-18BD-4C26-AE97-8ACCD0D0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DCB3-C0AF-4C7D-B534-7DBCD96C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4A41-9074-4C58-B66D-BAEA444B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2DF0-C985-49CE-9F53-9391F536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0E2C-ACDB-41E1-95A4-D64BD2C8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7ABD-A7CF-4040-BDB8-FD64F2E7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E0E4-AB81-40FB-8699-9DEBFAB8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8A3C-02E8-4D53-9963-B3BDDDCA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0D0C-8321-42E3-BF3F-3CFB938D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B525-5843-4A8A-B6AD-EF8A1D28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CCA7-2A90-4CD8-9DE4-9DA06D31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B78B-7A97-4819-BFFC-552078A6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92D6-8EFA-4BAF-8896-5D3DAC38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21391-C47E-4E73-8A59-1841659F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2273E-3BF7-42BF-96D2-3F759FD6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B6503-55E2-4E59-B9C7-171340CC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02DCB-1376-4056-9B8E-6DC48625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B80D8-8646-4193-A6F2-C4148F9B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5F5-AD27-4879-A534-8AD108A8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B0D34-B43E-4F2A-A195-3DF30CBE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2EA1B-0271-4CF7-B0AE-0272EE2A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AC6BE-7994-4C69-A5AC-043AD925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B06CD-8798-4B4E-AC67-9B8F670E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5F696-7177-4D81-998D-61A9FE3D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6E1F0-4421-43D1-BDC6-237991F6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AC5E9-81FC-4188-A3B5-1D887505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BBBA2-ED4F-4534-8790-8EEB4A5D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4306B-E477-40E4-B14E-C80E833A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A99FE-CB40-4625-9319-619E5DA4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A58-5265-4E72-B1E9-5E39F045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31D4F-9BBB-4AA5-9EBE-04322116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D301D-FB00-4574-8928-ACCB1F7E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CC4C0-DFDB-45E9-AE43-11319194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7FA99-AF8D-417B-B814-2D7429CD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0D50C-4876-4233-A26A-4166D3EE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92852-6076-45B8-9B59-8A61AD60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B03E6-750A-4273-9841-E3D23F9B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9FD45-972E-48BC-9AC8-947D6F5D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B329D-05CE-4B75-B26D-6C705A95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D131D3-060F-4320-A397-6D1790A2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0127-E575-4321-898E-BB10FDA0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B5D7F-4F69-46A6-9E31-0358658C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030458-CFFB-47CE-A9F2-60810934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DDF3F-F491-4E8B-BC05-4ACEB589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9F6C5-78AC-4428-AC39-F47BC032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148D0-4A61-4884-8CA2-8DD3DE56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D3E34C-9ECB-4B16-9A8B-FAA21D35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62F52-5BAD-4821-99D6-E85FF412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3F207-EE1A-481B-A01A-AED27041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EF456B-4F1B-4048-93BC-E3E9F595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96524D-1F32-43D4-B9ED-DEA9BA9B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9E3-0AC7-445B-860E-10B61D85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0AB74-BF62-4A29-845C-CC7DCFC0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6B07EE-B19D-4BE3-82C8-8216C835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E6727-9272-4934-B72C-5BDB4C86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D08024-B982-4A27-ACBC-32007910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10AF5-FDFA-4346-9E57-23BCDE22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7B6F1E-7F14-434B-B9FB-0F2E44CE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BB6B02-A297-48C7-A6E2-F17BD02F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341942-FD2A-4DA8-BD24-53A3A1EC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479B95-13A0-48F9-8F6F-9679338D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D5216B-9202-4E5F-8F1C-F682AA7F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3D1-93F9-4881-A5B3-B748A24D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D32436-136A-42B8-BBC3-0319B376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CCFC6D-496C-4114-AA4A-408F87ED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97953C-7E97-447A-AA02-DA37C434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C762F1-CC49-4AF5-87D2-F3FE1709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BA10FD-E214-410B-81AD-A19B375C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CFEAB6-86D6-4DCD-8912-54228041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D4A333-DA5C-4650-9B40-36902472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00CD5A-03FE-4E31-AFE5-0343932D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249E84-4850-4965-8424-94607140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2CE092-7EC1-4B9E-A608-8F9C1ACB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695-0FDA-440F-96C7-697645E4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A2B2FD-7B84-4021-BCAD-E92F68D2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376BC2-F243-4080-B8D2-926B9190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66C4F4-8000-4C93-9B13-CDF03566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89BF3A-AE73-4A92-A8FC-F21FCEF4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3A5608-B506-4CDF-9EAE-E77DC6AA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6409-7B83-4CFC-82BB-A75669C1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34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Baskerville Old Face"/>
              </a:defRPr>
            </a:lvl1pPr>
          </a:lstStyle>
          <a:p>
            <a:pPr algn="ctr">
              <a:spcBef>
                <a:spcPts val="34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206A-22A0-448C-899D-9B704A6384CA}" type="slidenum">
              <a:rPr b="1" lang="ru-RU" sz="1400" spc="-1" strike="noStrike">
                <a:solidFill>
                  <a:srgbClr val="ffffff"/>
                </a:solidFill>
                <a:latin typeface="Baskerville Old Fac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34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Baskerville Old Face"/>
              </a:defRPr>
            </a:lvl1pPr>
          </a:lstStyle>
          <a:p>
            <a:pPr algn="ctr">
              <a:spcBef>
                <a:spcPts val="34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97A1-217F-48EB-B53B-10761027A3CF}" type="slidenum">
              <a:rPr b="1" lang="ru-RU" sz="1400" spc="-1" strike="noStrike">
                <a:solidFill>
                  <a:srgbClr val="ffffff"/>
                </a:solidFill>
                <a:latin typeface="Baskerville Old Fac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34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Baskerville Old Face"/>
              </a:defRPr>
            </a:lvl1pPr>
          </a:lstStyle>
          <a:p>
            <a:pPr algn="ctr">
              <a:spcBef>
                <a:spcPts val="34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5A1B-EBD2-4E4B-A9E1-1DBA1E333AC1}" type="slidenum">
              <a:rPr b="1" lang="ru-RU" sz="1400" spc="-1" strike="noStrike">
                <a:solidFill>
                  <a:srgbClr val="ffffff"/>
                </a:solidFill>
                <a:latin typeface="Baskerville Old Fac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34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Baskerville Old Face"/>
              </a:defRPr>
            </a:lvl1pPr>
          </a:lstStyle>
          <a:p>
            <a:pPr algn="ctr">
              <a:spcBef>
                <a:spcPts val="34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A715-F2B4-4598-B14E-30572314D759}" type="slidenum">
              <a:rPr b="1" lang="ru-RU" sz="1400" spc="-1" strike="noStrike">
                <a:solidFill>
                  <a:srgbClr val="ffffff"/>
                </a:solidFill>
                <a:latin typeface="Baskerville Old Fac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34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Baskerville Old Face"/>
              </a:defRPr>
            </a:lvl1pPr>
          </a:lstStyle>
          <a:p>
            <a:pPr algn="ctr">
              <a:spcBef>
                <a:spcPts val="34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3521-6904-4C6D-9F3C-D65DB1B77819}" type="slidenum">
              <a:rPr b="1" lang="ru-RU" sz="1400" spc="-1" strike="noStrike">
                <a:solidFill>
                  <a:srgbClr val="ffffff"/>
                </a:solidFill>
                <a:latin typeface="Baskerville Old Fac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34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Baskerville Old Face"/>
              </a:defRPr>
            </a:lvl1pPr>
          </a:lstStyle>
          <a:p>
            <a:pPr algn="ctr">
              <a:spcBef>
                <a:spcPts val="34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C122-3B6A-4596-BCDF-89D3964F38EE}" type="slidenum">
              <a:rPr b="1" lang="ru-RU" sz="1400" spc="-1" strike="noStrike">
                <a:solidFill>
                  <a:srgbClr val="ffffff"/>
                </a:solidFill>
                <a:latin typeface="Baskerville Old Fac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34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Baskerville Old Face"/>
              </a:defRPr>
            </a:lvl1pPr>
          </a:lstStyle>
          <a:p>
            <a:pPr algn="ctr">
              <a:spcBef>
                <a:spcPts val="349"/>
              </a:spcBef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D0C4-E3CF-4337-827A-F54D389D6565}" type="slidenum">
              <a:rPr b="1" lang="ru-RU" sz="1400" spc="-1" strike="noStrike">
                <a:solidFill>
                  <a:srgbClr val="ffffff"/>
                </a:solidFill>
                <a:latin typeface="Baskerville Old Fac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98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entury Schoolbook"/>
              </a:rPr>
              <a:t>Развитие фонематических процессов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Учитель – логопед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Закамалдина Н.Н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Freeform 95"/>
          <p:cNvSpPr/>
          <p:nvPr/>
        </p:nvSpPr>
        <p:spPr>
          <a:xfrm rot="2098800">
            <a:off x="473040" y="4800240"/>
            <a:ext cx="455760" cy="339840"/>
          </a:xfrm>
          <a:custGeom>
            <a:avLst/>
            <a:gdLst>
              <a:gd name="textAreaLeft" fmla="*/ 0 w 455760"/>
              <a:gd name="textAreaRight" fmla="*/ 456120 w 45576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287" h="398">
                <a:moveTo>
                  <a:pt x="0" y="0"/>
                </a:moveTo>
                <a:cubicBezTo>
                  <a:pt x="66" y="13"/>
                  <a:pt x="91" y="21"/>
                  <a:pt x="149" y="60"/>
                </a:cubicBezTo>
                <a:cubicBezTo>
                  <a:pt x="159" y="67"/>
                  <a:pt x="169" y="73"/>
                  <a:pt x="179" y="80"/>
                </a:cubicBezTo>
                <a:cubicBezTo>
                  <a:pt x="189" y="87"/>
                  <a:pt x="208" y="100"/>
                  <a:pt x="208" y="100"/>
                </a:cubicBezTo>
                <a:cubicBezTo>
                  <a:pt x="221" y="120"/>
                  <a:pt x="235" y="139"/>
                  <a:pt x="248" y="159"/>
                </a:cubicBezTo>
                <a:cubicBezTo>
                  <a:pt x="255" y="169"/>
                  <a:pt x="277" y="167"/>
                  <a:pt x="278" y="179"/>
                </a:cubicBezTo>
                <a:cubicBezTo>
                  <a:pt x="287" y="251"/>
                  <a:pt x="278" y="325"/>
                  <a:pt x="278" y="39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3" name="TextBox 58"/>
          <p:cNvSpPr/>
          <p:nvPr/>
        </p:nvSpPr>
        <p:spPr>
          <a:xfrm>
            <a:off x="4495680" y="6248520"/>
            <a:ext cx="44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354" name="Picture 5" descr="C:\Users\1\Desktop\74322332_clipart64.png"/>
          <p:cNvPicPr/>
          <p:nvPr/>
        </p:nvPicPr>
        <p:blipFill>
          <a:blip r:embed="rId1"/>
          <a:stretch/>
        </p:blipFill>
        <p:spPr>
          <a:xfrm>
            <a:off x="1066680" y="4114800"/>
            <a:ext cx="2819520" cy="1973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e9b6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685800" y="-297000"/>
            <a:ext cx="8153280" cy="69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lang="ru-RU" sz="3200" spc="-1" strike="noStrike">
                <a:solidFill>
                  <a:srgbClr val="3333ff"/>
                </a:solidFill>
                <a:latin typeface="Baskerville Old Face"/>
              </a:rPr>
              <a:t>2. Развитие речевого слуха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skerville Old Face"/>
              </a:rPr>
              <a:t>различение одинаковых слов, фраз, звукокомплексов и звуков по высоте, силе и тембру голоса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skerville Old Face"/>
              </a:rPr>
              <a:t>различение слов, близких по звуковому составу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skerville Old Face"/>
              </a:rPr>
              <a:t>дифференциация слогов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skerville Old Face"/>
              </a:rPr>
              <a:t>дифференциация фонем</a:t>
            </a:r>
            <a:r>
              <a:rPr b="0" lang="ru-RU" sz="2400" spc="-1" strike="noStrike">
                <a:solidFill>
                  <a:srgbClr val="000000"/>
                </a:solidFill>
                <a:latin typeface="Baskerville Old Fac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skerville Old Face"/>
              </a:rPr>
              <a:t>Детям раздаются картинки домашних животных и их детенышей - коровы и теленка, козы и козленка и т. д. Педагог произносит каждое звукоподражание то низким, то высоким голосом. Дети должны поднять соответствующую картинку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372" name="Picture 5" descr="C:\Users\1\Desktop\4b7c247849c14ccbb15e82f346b3624e.jpg"/>
          <p:cNvPicPr/>
          <p:nvPr/>
        </p:nvPicPr>
        <p:blipFill>
          <a:blip r:embed="rId1"/>
          <a:stretch/>
        </p:blipFill>
        <p:spPr>
          <a:xfrm>
            <a:off x="3352680" y="4648320"/>
            <a:ext cx="24670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e9b6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533520" y="-780120"/>
            <a:ext cx="75438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Baskerville Old Face"/>
              </a:rPr>
              <a:t>3. Развитие навыков элементарного звукового анализа.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skerville Old Face"/>
              </a:rPr>
              <a:t>Начинается эта работа с того, что дошкольников учим  определять количество слогов в слове и отхлопывать 2-х и 3-х сложные слова. Затем учим детей выделять гласные звуки из слова, согласные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skerville Old Face"/>
              </a:rPr>
              <a:t>Педагог предлагает детям внимательно послушать и определить, в каком слове есть заданный звук. Если в слове заданный звук есть, дети должны поднять красный кружок, если нет - поднимают белый кружок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skerville Old Face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Baskerville Old Face"/>
              </a:rPr>
              <a:t>Где звук?» </a:t>
            </a:r>
            <a:r>
              <a:rPr b="0" lang="ru-RU" sz="2400" spc="-1" strike="noStrike">
                <a:solidFill>
                  <a:srgbClr val="000000"/>
                </a:solidFill>
                <a:latin typeface="Baskerville Old Face"/>
              </a:rPr>
              <a:t>Сначала дети определяют место звука только в начале, а затем в конце слова. И лишь когда они все это усвоят, можно взять слова, в которых заданный звук в середине слова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e9b6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533520" y="2756160"/>
            <a:ext cx="7543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380880" y="457200"/>
            <a:ext cx="8382240" cy="65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Для обучения детей старшего дошкольного возраста звуковому анализу можно рекомендовать следующие приёмы: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indent="270000">
              <a:spcBef>
                <a:spcPts val="4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indent="270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ение первого звука анализируемого слова и придумывание детьми слов на выделенный звук;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indent="270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ение последнего звука анализируемого слова и придумывание детьми слов с этим звуком: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 чтобы этот звук был первым в придуманном слове,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 чтобы этот звук находился в середине слова,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 чтобы этот звук был последним в слове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304920" y="411480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думывание слов на первый, второй, третий звуки анализируемых слов;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думывание слов из определённого количества звуков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7" name="Прямоугольник 4"/>
          <p:cNvSpPr/>
          <p:nvPr/>
        </p:nvSpPr>
        <p:spPr>
          <a:xfrm>
            <a:off x="380880" y="5181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хождение одинаковых и разных звуков в словах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т.д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"/>
          <p:cNvSpPr/>
          <p:nvPr/>
        </p:nvSpPr>
        <p:spPr>
          <a:xfrm>
            <a:off x="457200" y="334080"/>
            <a:ext cx="7162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овые приёмы: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прыгни через скакалку столько раз, столько звуков в названном слове;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жи столько пальцев на руке, сколько звуков в  анализируемом слове;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йди столько шагов, сколько согласных звуков в слов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кла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подойдёт к столу тот , в имени которого столько звуков, сколько раз ударили в барабан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Baskerville Old Face"/>
                <a:ea typeface="Calibri"/>
              </a:rPr>
              <a:t>–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Ира, 4 </a:t>
            </a:r>
            <a:r>
              <a:rPr b="0" i="1" lang="ru-RU" sz="2400" spc="-1" strike="noStrike">
                <a:solidFill>
                  <a:srgbClr val="000000"/>
                </a:solidFill>
                <a:latin typeface="Baskerville Old Face"/>
                <a:ea typeface="Calibri"/>
              </a:rPr>
              <a:t>–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аша 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. д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а </a:t>
            </a:r>
            <a:r>
              <a:rPr b="0" lang="ru-RU" sz="2400" spc="-1" strike="noStrike">
                <a:solidFill>
                  <a:srgbClr val="000000"/>
                </a:solidFill>
                <a:latin typeface="Baskerville Old Face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ало слова за тобой</a:t>
            </a:r>
            <a:r>
              <a:rPr b="0" lang="ru-RU" sz="2400" spc="-1" strike="noStrike">
                <a:solidFill>
                  <a:srgbClr val="000000"/>
                </a:solidFill>
                <a:latin typeface="Baskerville Old Face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(назови первый звук  слов с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 </a:t>
            </a:r>
            <a:r>
              <a:rPr b="0" i="1" lang="ru-RU" sz="2400" spc="-1" strike="noStrike">
                <a:solidFill>
                  <a:srgbClr val="000000"/>
                </a:solidFill>
                <a:latin typeface="Baskerville Old Face"/>
                <a:ea typeface="Calibri"/>
              </a:rPr>
              <a:t>–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ак, лак, бак 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. д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йди и опусти в </a:t>
            </a:r>
            <a:r>
              <a:rPr b="0" lang="ru-RU" sz="2400" spc="-1" strike="noStrike">
                <a:solidFill>
                  <a:srgbClr val="000000"/>
                </a:solidFill>
                <a:latin typeface="Baskerville Old Face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удесный мешочек</a:t>
            </a:r>
            <a:r>
              <a:rPr b="0" lang="ru-RU" sz="2400" spc="-1" strike="noStrike">
                <a:solidFill>
                  <a:srgbClr val="000000"/>
                </a:solidFill>
                <a:latin typeface="Baskerville Old Face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грушку, в названии которой второй звук гласны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кла, жук, Бурати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т. д.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а </a:t>
            </a:r>
            <a:r>
              <a:rPr b="0" lang="ru-RU" sz="2400" spc="-1" strike="noStrike">
                <a:solidFill>
                  <a:srgbClr val="000000"/>
                </a:solidFill>
                <a:latin typeface="Baskerville Old Face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ец слова за тобой</a:t>
            </a:r>
            <a:r>
              <a:rPr b="0" lang="ru-RU" sz="2400" spc="-1" strike="noStrike">
                <a:solidFill>
                  <a:srgbClr val="000000"/>
                </a:solidFill>
                <a:latin typeface="Baskerville Old Face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(добавь третий звук слова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  - мак, мал; ко </a:t>
            </a:r>
            <a:r>
              <a:rPr b="0" i="1" lang="ru-RU" sz="2400" spc="-1" strike="noStrike">
                <a:solidFill>
                  <a:srgbClr val="000000"/>
                </a:solidFill>
                <a:latin typeface="Baskerville Old Face"/>
                <a:ea typeface="Calibri"/>
              </a:rPr>
              <a:t>–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от, ком, к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т. д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76964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ff"/>
                </a:solidFill>
                <a:latin typeface="Century Schoolbook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Рисунок 2" descr="52448167_422.jpg"/>
          <p:cNvPicPr/>
          <p:nvPr/>
        </p:nvPicPr>
        <p:blipFill>
          <a:blip r:embed="rId1"/>
          <a:stretch/>
        </p:blipFill>
        <p:spPr>
          <a:xfrm>
            <a:off x="1066680" y="3657600"/>
            <a:ext cx="1981440" cy="213516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3" descr="52448177_427.jpg"/>
          <p:cNvPicPr/>
          <p:nvPr/>
        </p:nvPicPr>
        <p:blipFill>
          <a:blip r:embed="rId2"/>
          <a:stretch/>
        </p:blipFill>
        <p:spPr>
          <a:xfrm>
            <a:off x="5562720" y="3657600"/>
            <a:ext cx="2209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3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685800" y="182520"/>
            <a:ext cx="8153280" cy="99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Baskerville Old Face"/>
              </a:rPr>
              <a:t>По мнению известного психолога Д.Б. Эльконина, «чтение – есть воссоздание звуковой формы слова по его графической (буквенной модели)».  К.Д.Ушинский отмечал, что «сознательно читать и писать может только тот, кто понял звуко-слоговое строение слова</a:t>
            </a:r>
            <a:r>
              <a:rPr b="0" lang="ru-RU" sz="3200" spc="-1" strike="noStrike">
                <a:solidFill>
                  <a:srgbClr val="c00000"/>
                </a:solidFill>
                <a:latin typeface="Baskerville Old Face"/>
              </a:rPr>
              <a:t>».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4752"/>
                </a:solidFill>
                <a:latin typeface="Baskerville Old Face"/>
              </a:rPr>
              <a:t>То есть мы хотим, чтобы ребёнок усвоил письменную речь (чтение и письмо) быстро, легко, а также избежал многих ошибок, следует обучить его </a:t>
            </a:r>
            <a:r>
              <a:rPr b="0" i="1" lang="ru-RU" sz="3200" spc="-1" strike="noStrike">
                <a:solidFill>
                  <a:srgbClr val="414752"/>
                </a:solidFill>
                <a:latin typeface="Baskerville Old Face"/>
              </a:rPr>
              <a:t>звуковому анализу и синтезу. </a:t>
            </a:r>
            <a:r>
              <a:rPr b="0" lang="ru-RU" sz="3200" spc="-1" strike="noStrike">
                <a:solidFill>
                  <a:srgbClr val="414752"/>
                </a:solidFill>
                <a:latin typeface="Baskerville Old Face"/>
              </a:rPr>
              <a:t>В свою очередь звуковой анализ и синтез должны базироваться на устойчивом </a:t>
            </a:r>
            <a:r>
              <a:rPr b="0" i="1" lang="ru-RU" sz="3200" spc="-1" strike="noStrike">
                <a:solidFill>
                  <a:srgbClr val="414752"/>
                </a:solidFill>
                <a:latin typeface="Baskerville Old Face"/>
              </a:rPr>
              <a:t>фонематическом восприятии</a:t>
            </a:r>
            <a:r>
              <a:rPr b="0" lang="ru-RU" sz="3200" spc="-1" strike="noStrike">
                <a:solidFill>
                  <a:srgbClr val="414752"/>
                </a:solidFill>
                <a:latin typeface="Baskerville Old Face"/>
              </a:rPr>
              <a:t> каждого звука родного языка.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AutoShape 4"/>
          <p:cNvSpPr/>
          <p:nvPr/>
        </p:nvSpPr>
        <p:spPr>
          <a:xfrm>
            <a:off x="1981080" y="2666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2209680" y="5410080"/>
            <a:ext cx="914400" cy="91440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9" name="Cloud"/>
          <p:cNvSpPr/>
          <p:nvPr/>
        </p:nvSpPr>
        <p:spPr>
          <a:xfrm>
            <a:off x="609480" y="609480"/>
            <a:ext cx="6705720" cy="377208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skerville Old Face"/>
              </a:rPr>
              <a:t>Фонематическое восприятие – первая ступень в поступательном движении к овладению грамотой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0" name="Cloud"/>
          <p:cNvSpPr/>
          <p:nvPr/>
        </p:nvSpPr>
        <p:spPr>
          <a:xfrm>
            <a:off x="3429000" y="4114800"/>
            <a:ext cx="5029200" cy="229536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skerville Old Face"/>
              </a:rPr>
              <a:t>Звуковой анализ – вторая. 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93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30360" indent="-93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онематическое восприятие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30360" indent="-93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ключает:</a:t>
            </a:r>
            <a:r>
              <a:rPr b="0" lang="ru-RU" sz="36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30360" indent="-93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30360" indent="-93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skerville Old Face"/>
              </a:rPr>
              <a:t>умение определять линейную последовательность звуков в слове;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30360" indent="-93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skerville Old Face"/>
              </a:rPr>
              <a:t>умение определять позицию звука в слове по отношению к его началу, середине или концу;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30360" indent="-93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askerville Old Face"/>
              </a:rPr>
              <a:t>осознание или подсчет количества звуков в слов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30360" indent="-939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4"/>
          <p:cNvSpPr/>
          <p:nvPr/>
        </p:nvSpPr>
        <p:spPr>
          <a:xfrm>
            <a:off x="380880" y="581760"/>
            <a:ext cx="8534520" cy="4483080"/>
          </a:xfrm>
          <a:prstGeom prst="rect">
            <a:avLst/>
          </a:prstGeom>
          <a:solidFill>
            <a:srgbClr val="acc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Baskerville Old Face"/>
              </a:rPr>
              <a:t>Под звуковым анализом понимается: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Baskerville Old Face"/>
                <a:ea typeface="Times New Roman"/>
              </a:rPr>
              <a:t>1) определение порядка слогов и звуков в слове;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Baskerville Old Face"/>
                <a:ea typeface="Times New Roman"/>
              </a:rPr>
              <a:t>2) выделение отдельных звуков;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Baskerville Old Face"/>
                <a:ea typeface="Times New Roman"/>
              </a:rPr>
              <a:t>3) выделение основных качественных характеристик звука (согл. – гл., тверд. – мягк.» 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-33840" y="-92880"/>
            <a:ext cx="70740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indent="450720" algn="just">
              <a:spcBef>
                <a:spcPts val="400"/>
              </a:spcBef>
              <a:buClr>
                <a:srgbClr val="000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  <a:p>
            <a:pPr indent="450720" algn="just">
              <a:spcBef>
                <a:spcPts val="400"/>
              </a:spcBef>
              <a:buClr>
                <a:srgbClr val="000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  <a:p>
            <a:pPr indent="450720" algn="just">
              <a:spcBef>
                <a:spcPts val="400"/>
              </a:spcBef>
              <a:buClr>
                <a:srgbClr val="000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  <a:p>
            <a:pPr indent="450720" algn="just">
              <a:spcBef>
                <a:spcPts val="400"/>
              </a:spcBef>
              <a:buClr>
                <a:srgbClr val="000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  <a:p>
            <a:pPr indent="450720" algn="just">
              <a:spcBef>
                <a:spcPts val="400"/>
              </a:spcBef>
              <a:buClr>
                <a:srgbClr val="000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  <a:p>
            <a:pPr indent="450720" algn="just">
              <a:spcBef>
                <a:spcPts val="400"/>
              </a:spcBef>
              <a:buClr>
                <a:srgbClr val="000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762120" y="762120"/>
          <a:ext cx="7848360" cy="5456160"/>
        </p:xfrm>
        <a:graphic>
          <a:graphicData uri="http://schemas.openxmlformats.org/drawingml/2006/table">
            <a:tbl>
              <a:tblPr/>
              <a:tblGrid>
                <a:gridCol w="3825720"/>
                <a:gridCol w="4022640"/>
              </a:tblGrid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онематическое воспри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вуковой ан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Не требует специального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Требует специального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 Первая ступень к овладению грамото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 Вторая ступень к овладению грамото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 Формируется в период от 1 года до 4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 Формируется в более позднем возрас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3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 Способность различать особенности и порядок звуков, чтобы воспроизвести их ус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 Способность различать тоже самое, чтобы воспроизвести звуки в письменной фор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askerville Old Fac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4"/>
          <p:cNvSpPr/>
          <p:nvPr/>
        </p:nvSpPr>
        <p:spPr>
          <a:xfrm>
            <a:off x="0" y="-265320"/>
            <a:ext cx="7696080" cy="71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askerville Old Face"/>
              </a:rPr>
              <a:t>Нарушение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Baskerville Old Face"/>
              </a:rPr>
              <a:t>фонематического восприятия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Baskerville Old Face"/>
              </a:rPr>
              <a:t>мешает детям 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askerville Old Face"/>
              </a:rPr>
              <a:t>овладеть в нужной степени: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askerville Old Face"/>
              </a:rPr>
              <a:t>•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ffffff"/>
                </a:solidFill>
                <a:latin typeface="Baskerville Old Face"/>
              </a:rPr>
              <a:t>словарным запасом 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  <a:p>
            <a:pPr algn="just"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Baskerville Old Face"/>
              </a:rPr>
              <a:t>   </a:t>
            </a:r>
            <a:r>
              <a:rPr b="1" i="1" lang="ru-RU" sz="4000" spc="-1" strike="noStrike">
                <a:solidFill>
                  <a:srgbClr val="ffffff"/>
                </a:solidFill>
                <a:latin typeface="Baskerville Old Face"/>
              </a:rPr>
              <a:t>грамматическим строем 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  <a:p>
            <a:pPr algn="just"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Baskerville Old Face"/>
              </a:rPr>
              <a:t>   </a:t>
            </a:r>
            <a:r>
              <a:rPr b="1" i="1" lang="ru-RU" sz="4000" spc="-1" strike="noStrike">
                <a:solidFill>
                  <a:srgbClr val="ffffff"/>
                </a:solidFill>
                <a:latin typeface="Baskerville Old Face"/>
              </a:rPr>
              <a:t>тормозит развитие связной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4000" spc="-1" strike="noStrike">
                <a:solidFill>
                  <a:srgbClr val="ffffff"/>
                </a:solidFill>
                <a:latin typeface="Baskerville Old Face"/>
              </a:rPr>
              <a:t>речи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9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7c7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5"/>
          <p:cNvSpPr/>
          <p:nvPr/>
        </p:nvSpPr>
        <p:spPr>
          <a:xfrm>
            <a:off x="152280" y="226800"/>
            <a:ext cx="7278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Baskerville Old Face"/>
              </a:rPr>
              <a:t>Этапы развития фонематического восприятия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-303840" y="2577960"/>
            <a:ext cx="841824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askerville Old Face"/>
              </a:rPr>
              <a:t>Развитие неречевого слуха.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askerville Old Face"/>
              </a:rPr>
              <a:t>2. Развитие речевого слуха.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askerville Old Face"/>
              </a:rPr>
              <a:t>3. Развитие навыка элементарного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askerville Old Face"/>
              </a:rPr>
              <a:t>звукового анализа и синтеза</a:t>
            </a:r>
            <a:r>
              <a:rPr b="0" i="1" lang="ru-RU" sz="3200" spc="-1" strike="noStrike">
                <a:solidFill>
                  <a:srgbClr val="000000"/>
                </a:solidFill>
                <a:latin typeface="Baskerville Old Fac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b659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228600" y="4561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Baskerville Old Face"/>
              </a:rPr>
              <a:t>1. Развитие неречевого слуха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838080" y="1896480"/>
            <a:ext cx="662940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skerville Old Face"/>
              </a:rPr>
              <a:t>упражнения включают задания на распознание: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buClr>
                <a:srgbClr val="000000"/>
              </a:buClr>
              <a:buFont typeface="Baskerville Old Fa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skerville Old Face"/>
              </a:rPr>
              <a:t>звучащих инструментов; звучащих предметов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buClr>
                <a:srgbClr val="000000"/>
              </a:buClr>
              <a:buFont typeface="Baskerville Old Fa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skerville Old Face"/>
              </a:rPr>
              <a:t>действий предметов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0" name="Прямоугольник 3"/>
          <p:cNvSpPr/>
          <p:nvPr/>
        </p:nvSpPr>
        <p:spPr>
          <a:xfrm>
            <a:off x="533520" y="3962520"/>
            <a:ext cx="7162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askerville Old Face"/>
              </a:rPr>
              <a:t>Дети встают в круг. Педагог предлагает им незаметно для водящего передавать за спиной колокольчик. Водящий должен отгадать и показать, за спиной какого ребенка звенел колокольчик.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ня</dc:creator>
  <dc:description/>
  <dc:language>en-US</dc:language>
  <cp:lastModifiedBy>RePack by SPecialiST</cp:lastModifiedBy>
  <dcterms:modified xsi:type="dcterms:W3CDTF">2016-12-04T19:16:49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