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23.jpeg" ContentType="image/jpeg"/>
  <Override PartName="/ppt/media/image32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31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33.jpeg" ContentType="image/jpeg"/>
  <Override PartName="/ppt/media/image42.png" ContentType="image/png"/>
  <Override PartName="/ppt/media/image37.png" ContentType="image/png"/>
  <Override PartName="/ppt/media/image4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B22-C574-42CA-A355-B25D9A42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6B7-E596-4C31-A91E-8B97A21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E0A-A0AC-4A55-B56F-5B1C56B5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7A1-150B-4376-A5EB-BD3F44D8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790A-F02F-4FD9-A73C-C88DF4DC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5B4F-5A44-4950-92BA-8320DD1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428-2AD9-4784-9560-6F149EC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CD50-B932-4167-B908-8929A75C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B865-861F-42C6-9CFB-7F94B80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438-DCA1-4991-805C-2FEA8C4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E077-1376-4678-97E3-5E45753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B29-BA6F-4AAA-AB45-E3E41F1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B073-03DB-4BD9-A82F-ADC5FF0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1002-DC43-4834-A293-EC4950B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ACA6-55FB-4AFB-8851-6434671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F44-6234-42FB-B2FE-E7B0C465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CF9-B13B-41CE-AAD6-E82E435C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E4A7-4C62-45B1-BA9C-2AE7850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E563-E8B2-4552-9B13-646EE2B5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7D5F-56A2-4296-AE4C-980D8D99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8ED5-1257-4056-B410-B789E1A7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8AC0-4DBF-401B-B44B-70E8EDFB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3C4-50B7-485B-B3EA-BDE9F6C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6251-6B2A-4002-A595-59B042C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E354-D444-4954-A2B2-F9FA778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A44E-E2D7-4DA2-B696-44C579C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35C3-2227-41AD-B0A7-08EA494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7A1E-5373-4704-92D9-42014A8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CBBC-C6D8-4DB3-9E03-8929F3D0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3B5D-129A-4E00-8E29-2640D1FD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17D4-DE0B-42DE-9938-317D2AF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F369-0483-43AA-862D-3317A12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84AA-42EC-4AB8-90D0-3741F90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ECF-3431-41D0-BE2C-13E6FD4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D579-259D-4AAD-B352-6C82C14A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4DCB-54DC-488E-9456-6E0631B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3401-EA69-4842-B074-04A823BE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E1D8-E349-4541-B2C0-64A68866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3629-0E95-473A-A142-18C8087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6CAA-F6A0-4B07-BA05-8D4D7D7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9FCC-59D4-42B9-8957-96C7025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E2A9-F39B-43B8-B59F-FE20E5B4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00EF-E7C2-47BA-9862-F2680832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D0D6-175D-4354-8A46-F3EE4571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72A-EF42-4B35-B2A9-40D8141A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3E0D-EBED-4B9A-945D-BAFDFE8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0D1F-7542-4B3F-B575-3BDDD396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302E-F2CA-49B3-87F1-5D44B3C8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417B-FC11-4EFF-874E-C9789DA6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2E27-1FC6-4D94-97AD-97F2A8BF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9457-D775-4447-9920-9B99F25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2056-777C-4135-B050-2634036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FD17-4001-445F-BB62-FF35988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70CC-59CE-40E3-8646-8CA4270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0ECA-4DA2-4E44-BDF2-5E62ABB3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FB5-BDA7-4014-94BB-B159B81F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4FCE-442E-4632-8564-5108E38C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C425-C0A8-4B62-BA38-6B17BA7E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ACD0-CF8E-4CFD-90C1-40BD28E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55D3-8E89-4130-8FF8-C2CB5A9C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282C-D970-4044-8E08-C98F901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C2A5-66E2-4294-A3D4-677B69C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92A17-83DB-436E-A0FA-BB36BCF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E449-F392-4DF9-B82C-6F69C52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511F-E030-485C-9743-90C483C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957B3-1F30-4D50-BA55-1C09DAC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415-65A8-4FCB-B885-5C13B1F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300A-C90D-40BE-B75A-DC286E5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B0C88-CE04-43B7-9172-4AEB8DAA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2C34-66B2-408D-8888-B5D0E74F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734-8605-4FD1-98FF-CA42967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822-23AA-4AEA-831E-86B24AA0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9601-6242-44B5-BBAC-81DA984F9D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1D1-2DFC-48AA-BDBE-3A8DA076E6D6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BC30-113B-4039-96CF-D02E384DF8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30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2513-7B9C-499D-A179-8E861FDB2EED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0C7-7311-42AF-A3B6-F05AEF56DB4E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A02-2108-400E-9ABD-FEC55785BD73}" type="slidenum">
              <a:rPr b="0" lang="ru-RU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0" descr="11"/>
          <p:cNvPicPr/>
          <p:nvPr/>
        </p:nvPicPr>
        <p:blipFill>
          <a:blip r:embed="rId1"/>
          <a:srcRect l="0" t="0" r="4279" b="7450"/>
          <a:stretch/>
        </p:blipFill>
        <p:spPr>
          <a:xfrm>
            <a:off x="6218280" y="1052640"/>
            <a:ext cx="2678040" cy="30970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32000" y="115920"/>
            <a:ext cx="5680080" cy="968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Комплект учебников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«Школа России»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5" name="Picture 16" descr="0001-001-Proschaj-Azbuka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492360" y="1341360"/>
            <a:ext cx="1978200" cy="2625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big"/>
          <p:cNvPicPr/>
          <p:nvPr/>
        </p:nvPicPr>
        <p:blipFill>
          <a:blip r:embed="rId3">
            <a:lum bright="-12000"/>
          </a:blip>
          <a:srcRect l="0" t="5425" r="0" b="5569"/>
          <a:stretch/>
        </p:blipFill>
        <p:spPr>
          <a:xfrm>
            <a:off x="7221600" y="4292640"/>
            <a:ext cx="1735200" cy="23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6"/>
          <p:cNvPicPr/>
          <p:nvPr/>
        </p:nvPicPr>
        <p:blipFill>
          <a:blip r:embed="rId4"/>
          <a:srcRect l="0" t="0" r="3519" b="0"/>
          <a:stretch/>
        </p:blipFill>
        <p:spPr>
          <a:xfrm rot="20836200">
            <a:off x="480960" y="603000"/>
            <a:ext cx="2570040" cy="2663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1003853800"/>
          <p:cNvPicPr/>
          <p:nvPr/>
        </p:nvPicPr>
        <p:blipFill>
          <a:blip r:embed="rId5">
            <a:lum bright="-6000"/>
          </a:blip>
          <a:srcRect l="10355" t="2268" r="10242" b="0"/>
          <a:stretch/>
        </p:blipFill>
        <p:spPr>
          <a:xfrm>
            <a:off x="2666880" y="4221000"/>
            <a:ext cx="2049480" cy="2521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1" descr="big (1)"/>
          <p:cNvPicPr/>
          <p:nvPr/>
        </p:nvPicPr>
        <p:blipFill>
          <a:blip r:embed="rId6">
            <a:lum bright="-12000"/>
          </a:blip>
          <a:srcRect l="0" t="9638" r="0" b="7726"/>
          <a:stretch/>
        </p:blipFill>
        <p:spPr>
          <a:xfrm>
            <a:off x="4859280" y="4076640"/>
            <a:ext cx="2097000" cy="266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" descr="Attachment"/>
          <p:cNvPicPr/>
          <p:nvPr/>
        </p:nvPicPr>
        <p:blipFill>
          <a:blip r:embed="rId7"/>
          <a:stretch/>
        </p:blipFill>
        <p:spPr>
          <a:xfrm rot="20881200">
            <a:off x="355680" y="3655800"/>
            <a:ext cx="1971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productimage-picture-00090534-128316"/>
          <p:cNvPicPr/>
          <p:nvPr/>
        </p:nvPicPr>
        <p:blipFill>
          <a:blip r:embed="rId1"/>
          <a:stretch/>
        </p:blipFill>
        <p:spPr>
          <a:xfrm>
            <a:off x="6227640" y="3429000"/>
            <a:ext cx="2784600" cy="23922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Школьные принадлежности к       основным урокам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268360" y="1484280"/>
            <a:ext cx="673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тради в крупную клетку - 4 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тради в косую линейку  - 4 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ожки для тетрадей и книг плот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каранда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ейка 20 с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ик, точи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бочка с циф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a22d832d0bbe329706dcf1b7a4cf3c92"/>
          <p:cNvPicPr/>
          <p:nvPr/>
        </p:nvPicPr>
        <p:blipFill>
          <a:blip r:embed="rId1"/>
          <a:stretch/>
        </p:blipFill>
        <p:spPr>
          <a:xfrm>
            <a:off x="2484360" y="4149720"/>
            <a:ext cx="3888000" cy="2708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12"/>
          <p:cNvPicPr/>
          <p:nvPr/>
        </p:nvPicPr>
        <p:blipFill>
          <a:blip r:embed="rId2"/>
          <a:stretch/>
        </p:blipFill>
        <p:spPr>
          <a:xfrm>
            <a:off x="6440400" y="2708280"/>
            <a:ext cx="2703600" cy="3166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0" y="115560"/>
            <a:ext cx="6696360" cy="679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К урокам физкульту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Заголовок 6"/>
          <p:cNvSpPr/>
          <p:nvPr/>
        </p:nvSpPr>
        <p:spPr>
          <a:xfrm>
            <a:off x="2268360" y="981000"/>
            <a:ext cx="6696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зкультурная форма:</a:t>
            </a:r>
            <a:br>
              <a:rPr sz="2400"/>
            </a:br>
            <a:br>
              <a:rPr sz="14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ля спортивного зала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005c"/>
                </a:solidFill>
                <a:latin typeface="Wingdings 2"/>
                <a:ea typeface="Wingdings 2"/>
              </a:rPr>
              <a:t>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утболка белого цвета, спортивны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брюки, шорты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005c"/>
                </a:solidFill>
                <a:latin typeface="Wingdings 2"/>
                <a:ea typeface="Wingdings 2"/>
              </a:rPr>
              <a:t>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оски, спортивная обувь.</a:t>
            </a:r>
            <a:br>
              <a:rPr sz="2400"/>
            </a:br>
            <a:br>
              <a:rPr sz="1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ля улицы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005c"/>
                </a:solidFill>
                <a:latin typeface="Wingdings 2"/>
                <a:ea typeface="Wingdings 2"/>
              </a:rPr>
              <a:t>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портивный костю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4005c"/>
                </a:solidFill>
                <a:latin typeface="Wingdings 2"/>
                <a:ea typeface="Wingdings 2"/>
              </a:rPr>
              <a:t>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портивная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9" descr="2798956"/>
          <p:cNvPicPr/>
          <p:nvPr/>
        </p:nvPicPr>
        <p:blipFill>
          <a:blip r:embed="rId1"/>
          <a:stretch/>
        </p:blipFill>
        <p:spPr>
          <a:xfrm>
            <a:off x="6948360" y="4076640"/>
            <a:ext cx="1878120" cy="26528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800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c4502"/>
                </a:solidFill>
                <a:latin typeface="Arial"/>
              </a:rPr>
              <a:t>Приобрести к урокам ИЗО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339640" y="1125360"/>
            <a:ext cx="6499080" cy="36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Краски – акварель (мед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Гуашь (6 цве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Кисти круглые (бел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2 альбома по 36-40 листов на пруж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Карандаши цветные (12 шт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Фломастеры (12 шт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Папка с бумагой для рисования А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440" indent="-514440"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0f62"/>
                </a:solidFill>
                <a:latin typeface="Arial"/>
              </a:rPr>
              <a:t>Простые каранд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1342721014_school_accessories_02"/>
          <p:cNvPicPr/>
          <p:nvPr/>
        </p:nvPicPr>
        <p:blipFill>
          <a:blip r:embed="rId2"/>
          <a:stretch/>
        </p:blipFill>
        <p:spPr>
          <a:xfrm>
            <a:off x="2771640" y="4581360"/>
            <a:ext cx="31734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3906726-thumb"/>
          <p:cNvPicPr/>
          <p:nvPr/>
        </p:nvPicPr>
        <p:blipFill>
          <a:blip r:embed="rId1"/>
          <a:stretch/>
        </p:blipFill>
        <p:spPr>
          <a:xfrm>
            <a:off x="5148360" y="3610080"/>
            <a:ext cx="3809880" cy="3247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обрести к урокам труд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438280" y="1599840"/>
            <a:ext cx="6400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ая бум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точки для кл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лы с большим у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тки му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440" indent="-51444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400800" cy="679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 домашние зада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10" name="Picture 2" descr="https://docs.google.com/viewer?url=http%3A%2F%2Fnsportal.ru%2Fsites%2Fdefault%2Ffiles%2F2013%2F1%2Fprezentaciya_skoro_v_shkolu.ppt&amp;docid=565fc8a427d2e4f45bddb893d2cee3a4&amp;a=bi&amp;pagenumber=7&amp;w=523"/>
          <p:cNvPicPr/>
          <p:nvPr/>
        </p:nvPicPr>
        <p:blipFill>
          <a:blip r:embed="rId1"/>
          <a:srcRect l="0" t="11599" r="0" b="17509"/>
          <a:stretch/>
        </p:blipFill>
        <p:spPr>
          <a:xfrm>
            <a:off x="395280" y="836640"/>
            <a:ext cx="8569440" cy="4246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201303311614261"/>
          <p:cNvPicPr/>
          <p:nvPr/>
        </p:nvPicPr>
        <p:blipFill>
          <a:blip r:embed="rId2"/>
          <a:stretch/>
        </p:blipFill>
        <p:spPr>
          <a:xfrm>
            <a:off x="3851280" y="4594320"/>
            <a:ext cx="34066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400800" cy="824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товый телефон у ребён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13" name="Picture 2" descr="https://docs.google.com/viewer?url=http%3A%2F%2Fnsportal.ru%2Fsites%2Fdefault%2Ffiles%2F2013%2F1%2Fprezentaciya_skoro_v_shkolu.ppt&amp;docid=565fc8a427d2e4f45bddb893d2cee3a4&amp;a=bi&amp;pagenumber=26&amp;w=523"/>
          <p:cNvPicPr/>
          <p:nvPr/>
        </p:nvPicPr>
        <p:blipFill>
          <a:blip r:embed="rId1"/>
          <a:stretch/>
        </p:blipFill>
        <p:spPr>
          <a:xfrm>
            <a:off x="395280" y="985680"/>
            <a:ext cx="8569440" cy="5658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babyonmobile_winalite-sibir"/>
          <p:cNvPicPr/>
          <p:nvPr/>
        </p:nvPicPr>
        <p:blipFill>
          <a:blip r:embed="rId2"/>
          <a:stretch/>
        </p:blipFill>
        <p:spPr>
          <a:xfrm>
            <a:off x="250920" y="2060640"/>
            <a:ext cx="2744640" cy="1950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11"/>
          <p:cNvPicPr/>
          <p:nvPr/>
        </p:nvPicPr>
        <p:blipFill>
          <a:blip r:embed="rId3"/>
          <a:stretch/>
        </p:blipFill>
        <p:spPr>
          <a:xfrm>
            <a:off x="250920" y="4005360"/>
            <a:ext cx="2736720" cy="2611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zapret_mobile_telephone_378x377"/>
          <p:cNvPicPr/>
          <p:nvPr/>
        </p:nvPicPr>
        <p:blipFill>
          <a:blip r:embed="rId4"/>
          <a:stretch/>
        </p:blipFill>
        <p:spPr>
          <a:xfrm>
            <a:off x="7093080" y="981000"/>
            <a:ext cx="172692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4000" y="115560"/>
            <a:ext cx="6327720" cy="679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хранность вещей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18" name="Picture 2" descr="https://docs.google.com/viewer?url=http%3A%2F%2Fnsportal.ru%2Fsites%2Fdefault%2Ffiles%2F2013%2F1%2Fprezentaciya_skoro_v_shkolu.ppt&amp;docid=565fc8a427d2e4f45bddb893d2cee3a4&amp;a=bi&amp;pagenumber=27&amp;w=523"/>
          <p:cNvPicPr/>
          <p:nvPr/>
        </p:nvPicPr>
        <p:blipFill>
          <a:blip r:embed="rId1"/>
          <a:stretch/>
        </p:blipFill>
        <p:spPr>
          <a:xfrm>
            <a:off x="468360" y="865080"/>
            <a:ext cx="8496360" cy="5830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izdat_zakon-logo-red"/>
          <p:cNvPicPr/>
          <p:nvPr/>
        </p:nvPicPr>
        <p:blipFill>
          <a:blip r:embed="rId2"/>
          <a:srcRect l="0" t="0" r="0" b="10775"/>
          <a:stretch/>
        </p:blipFill>
        <p:spPr>
          <a:xfrm>
            <a:off x="7164360" y="907920"/>
            <a:ext cx="1755720" cy="14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400800" cy="649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грушки в школ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21" name="Picture 2" descr="https://docs.google.com/viewer?url=http%3A%2F%2Fnsportal.ru%2Fsites%2Fdefault%2Ffiles%2F2013%2F1%2Fprezentaciya_skoro_v_shkolu.ppt&amp;docid=565fc8a427d2e4f45bddb893d2cee3a4&amp;a=bi&amp;pagenumber=28&amp;w=523"/>
          <p:cNvPicPr/>
          <p:nvPr/>
        </p:nvPicPr>
        <p:blipFill>
          <a:blip r:embed="rId1"/>
          <a:stretch/>
        </p:blipFill>
        <p:spPr>
          <a:xfrm>
            <a:off x="755640" y="824040"/>
            <a:ext cx="8209080" cy="5887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3360"/>
          <p:cNvPicPr/>
          <p:nvPr/>
        </p:nvPicPr>
        <p:blipFill>
          <a:blip r:embed="rId2"/>
          <a:srcRect l="23199" t="0" r="10099" b="0"/>
          <a:stretch/>
        </p:blipFill>
        <p:spPr>
          <a:xfrm>
            <a:off x="7308720" y="981000"/>
            <a:ext cx="1657440" cy="248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15"/>
          <p:cNvPicPr/>
          <p:nvPr/>
        </p:nvPicPr>
        <p:blipFill>
          <a:blip r:embed="rId3"/>
          <a:stretch/>
        </p:blipFill>
        <p:spPr>
          <a:xfrm>
            <a:off x="755640" y="1197000"/>
            <a:ext cx="2160720" cy="189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b6DEwpeIMPc"/>
          <p:cNvPicPr/>
          <p:nvPr/>
        </p:nvPicPr>
        <p:blipFill>
          <a:blip r:embed="rId4"/>
          <a:stretch/>
        </p:blipFill>
        <p:spPr>
          <a:xfrm>
            <a:off x="4211640" y="177336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depositphotos_26420147-Kids-Hand-Holding-a-Pencil"/>
          <p:cNvPicPr/>
          <p:nvPr/>
        </p:nvPicPr>
        <p:blipFill>
          <a:blip r:embed="rId1"/>
          <a:stretch/>
        </p:blipFill>
        <p:spPr>
          <a:xfrm>
            <a:off x="5867280" y="4581360"/>
            <a:ext cx="2944800" cy="21290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8240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альцы помогают говорить!!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11280" y="105264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леп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штрихов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ырез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завязывание ба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азвязывание узел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асстёгивание и застёгивание пугов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моза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онстру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8" descr="http://rylik.ru/uploads/posts/2010-09/1283778426_school-7-kopiya.jpg"/>
          <p:cNvPicPr/>
          <p:nvPr/>
        </p:nvPicPr>
        <p:blipFill>
          <a:blip r:embed="rId2"/>
          <a:srcRect l="0" t="10431" r="0" b="5931"/>
          <a:stretch/>
        </p:blipFill>
        <p:spPr>
          <a:xfrm>
            <a:off x="6977160" y="1052640"/>
            <a:ext cx="200952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268000" y="189000"/>
            <a:ext cx="6691320" cy="331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ill Sans MT Ext Condensed Bold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alligraph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 Ext Condensed Bold"/>
              </a:rPr>
              <a:t>Школа </a:t>
            </a:r>
            <a:r>
              <a:rPr b="1" i="1" lang="ru-RU" sz="2400" spc="-1" strike="noStrike">
                <a:solidFill>
                  <a:srgbClr val="9966ff"/>
                </a:solidFill>
                <a:latin typeface="Gill Sans MT Ext Condensed Bold"/>
              </a:rPr>
              <a:t>не должна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 Ext Condensed Bold"/>
              </a:rPr>
              <a:t> вносить резкого перелома в  жизнь детей. Пусть, став учеником, ребенок продолжает делать сегодня то, что делал вч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 Ext Condensed Bold"/>
              </a:rPr>
              <a:t>      </a:t>
            </a:r>
            <a:r>
              <a:rPr b="1" i="1" lang="ru-RU" sz="2400" spc="-1" strike="noStrike">
                <a:solidFill>
                  <a:srgbClr val="9966ff"/>
                </a:solidFill>
                <a:latin typeface="Gill Sans MT Ext Condensed Bold"/>
              </a:rPr>
              <a:t>Пусть новое появляется в его жизни постепенно и не ошеломляет лавиной впечатлений</a:t>
            </a:r>
            <a:r>
              <a:rPr b="1" i="1" lang="ru-RU" sz="2400" spc="-1" strike="noStrike">
                <a:solidFill>
                  <a:srgbClr val="9966ff"/>
                </a:solidFill>
                <a:latin typeface="Calligraph"/>
              </a:rPr>
              <a:t>»</a:t>
            </a:r>
            <a:r>
              <a:rPr b="1" i="1" lang="en-US" sz="2400" spc="-1" strike="noStrike">
                <a:solidFill>
                  <a:srgbClr val="9966ff"/>
                </a:solidFill>
                <a:latin typeface="Gill Sans MT Ext Condensed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 Ext Condensed Bold"/>
              </a:rPr>
              <a:t>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187-0"/>
          <p:cNvPicPr/>
          <p:nvPr/>
        </p:nvPicPr>
        <p:blipFill>
          <a:blip r:embed="rId1"/>
          <a:stretch/>
        </p:blipFill>
        <p:spPr>
          <a:xfrm>
            <a:off x="2987640" y="3716280"/>
            <a:ext cx="532944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children_in_school"/>
          <p:cNvPicPr/>
          <p:nvPr/>
        </p:nvPicPr>
        <p:blipFill>
          <a:blip r:embed="rId1"/>
          <a:srcRect l="11332" t="0" r="11805" b="0"/>
          <a:stretch/>
        </p:blipFill>
        <p:spPr>
          <a:xfrm>
            <a:off x="108000" y="3776760"/>
            <a:ext cx="4103640" cy="26064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27280" y="115920"/>
            <a:ext cx="6127920" cy="1874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Arial"/>
              </a:rPr>
              <a:t>Что такое </a:t>
            </a:r>
            <a:br>
              <a:rPr sz="2400"/>
            </a:b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Федеральный государственный стандарт начального общего образования?  (ФГОС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76720" y="2420640"/>
            <a:ext cx="55497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3600" spc="-1" strike="noStrike">
                <a:solidFill>
                  <a:srgbClr val="874396"/>
                </a:solidFill>
                <a:latin typeface="Arial"/>
              </a:rPr>
              <a:t>совокупность требова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da3d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торые обязательно должна       выполнить каждая школа, организуя процесс обучения и вос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flag"/>
          <p:cNvPicPr/>
          <p:nvPr/>
        </p:nvPicPr>
        <p:blipFill>
          <a:blip r:embed="rId2"/>
          <a:srcRect l="5836" t="0" r="0" b="0"/>
          <a:stretch/>
        </p:blipFill>
        <p:spPr>
          <a:xfrm>
            <a:off x="108000" y="115920"/>
            <a:ext cx="2376360" cy="18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Надеюсь на сотрудничество и взаимопонимание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32" name="Picture 5" descr="Depositphotos_9165834_s800"/>
          <p:cNvPicPr/>
          <p:nvPr/>
        </p:nvPicPr>
        <p:blipFill>
          <a:blip r:embed="rId1"/>
          <a:stretch/>
        </p:blipFill>
        <p:spPr>
          <a:xfrm>
            <a:off x="2268360" y="1557360"/>
            <a:ext cx="676764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gost"/>
          <p:cNvPicPr/>
          <p:nvPr/>
        </p:nvPicPr>
        <p:blipFill>
          <a:blip r:embed="rId1"/>
          <a:stretch/>
        </p:blipFill>
        <p:spPr>
          <a:xfrm>
            <a:off x="6659640" y="4365720"/>
            <a:ext cx="2284200" cy="234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Какие требования выдвигает новый ФГОС НОО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57320" y="1642680"/>
            <a:ext cx="5981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ндарт выдвигает три группы требова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·   Требования к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зультатам освоени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основной образовательной программы начального общего образ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·   Требования к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труктуре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основной образовательной программы начального общего образ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·   Требования к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ловиям реализаци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основной образовательной программы начального общего образования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1392977390_roditsobranie1"/>
          <p:cNvPicPr/>
          <p:nvPr/>
        </p:nvPicPr>
        <p:blipFill>
          <a:blip r:embed="rId2"/>
          <a:stretch/>
        </p:blipFill>
        <p:spPr>
          <a:xfrm>
            <a:off x="0" y="4659480"/>
            <a:ext cx="377208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84360" y="115920"/>
            <a:ext cx="6191280" cy="792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23640" y="981000"/>
            <a:ext cx="67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53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тандарты                                            Стандарт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торого поколения                              первого покол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ормировать, давать знания                               Развивать ум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но и  умени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вить цель и добиваться е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стоятельно добывать и применять знан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ставлять план своих действий и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стоятельно оценивать их последстви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авать вопросы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ясно выражать свои мысли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ботиться о других, быть нравственны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елове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охранять и укреплять своё здоровье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В информационн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бществе главны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стали не зна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а умения им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3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ользоваться!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lori-0001913994-bigwww800"/>
          <p:cNvPicPr/>
          <p:nvPr/>
        </p:nvPicPr>
        <p:blipFill>
          <a:blip r:embed="rId1"/>
          <a:stretch/>
        </p:blipFill>
        <p:spPr>
          <a:xfrm>
            <a:off x="5724360" y="4724280"/>
            <a:ext cx="323532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340000" y="189000"/>
            <a:ext cx="66960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у с традиционным письмом ребенок сразу начинает осва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виатурный набор тек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окружающего мира предполагает не только изучение материалов учебника, 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 и опы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водимые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фровых измерительных приборов, цифрового микроскопа, цифрового фотоаппарата и видеока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shutterstock_48074155"/>
          <p:cNvPicPr/>
          <p:nvPr/>
        </p:nvPicPr>
        <p:blipFill>
          <a:blip r:embed="rId1"/>
          <a:stretch/>
        </p:blipFill>
        <p:spPr>
          <a:xfrm>
            <a:off x="4932360" y="4317840"/>
            <a:ext cx="3672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1_52553b95a787c52553b95a78ba"/>
          <p:cNvPicPr/>
          <p:nvPr/>
        </p:nvPicPr>
        <p:blipFill>
          <a:blip r:embed="rId1"/>
          <a:srcRect l="14468" t="0" r="0" b="0"/>
          <a:stretch/>
        </p:blipFill>
        <p:spPr>
          <a:xfrm>
            <a:off x="5003640" y="3625920"/>
            <a:ext cx="4034160" cy="3144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6624720" cy="792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Что такое обучение деятельностью?</a:t>
            </a:r>
            <a:br>
              <a:rPr sz="2600"/>
            </a:b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(проектная деятельность)</a:t>
            </a:r>
            <a:endParaRPr b="0" lang="en-US" sz="2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19280" y="1052280"/>
            <a:ext cx="66247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-ом классе реализуется цикл проектов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вуя в которых,  дети знакомятся др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ругом, обмениваются информацией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бе, о школе, о своих интересах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леч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, например,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мое им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я семья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издание Азбук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е дру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88" name="Picture 2" descr="https://docs.google.com/viewer?url=http%3A%2F%2Fnsportal.ru%2Fsites%2Fdefault%2Ffiles%2F2012%2F12%2Froditelskoe_sobranie_fgos_noo.pps&amp;docid=bbd76b6a3daca9b3e70cad31ebd31f2a&amp;a=bi&amp;pagenumber=6&amp;w=523"/>
          <p:cNvPicPr/>
          <p:nvPr/>
        </p:nvPicPr>
        <p:blipFill>
          <a:blip r:embed="rId1"/>
          <a:stretch/>
        </p:blipFill>
        <p:spPr>
          <a:xfrm>
            <a:off x="108000" y="404640"/>
            <a:ext cx="8856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56000" y="115560"/>
            <a:ext cx="6130800" cy="1152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8c0039"/>
                </a:solidFill>
                <a:uFillTx/>
                <a:latin typeface="Arial"/>
              </a:rPr>
              <a:t>Во  внеурочную деятельность могут входить</a:t>
            </a:r>
            <a:r>
              <a:rPr b="0" lang="ru-RU" sz="30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340000" y="1412640"/>
            <a:ext cx="66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домашних заданий (начиная со второго полугод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занятия учителя с детьми, требующими психолого-педагогической и коррекционной поддержки (в том числе – индивидуальные занятия по постановке устной речи, почерка и письменной реч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и групповые консультации (в том числе – дистанционные) для детей различных категор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е ст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у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е научные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овые и научные                                                исслед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uroki-obschenija-v-nachalnoj-shkole"/>
          <p:cNvPicPr/>
          <p:nvPr/>
        </p:nvPicPr>
        <p:blipFill>
          <a:blip r:embed="rId1"/>
          <a:stretch/>
        </p:blipFill>
        <p:spPr>
          <a:xfrm>
            <a:off x="6084720" y="3645000"/>
            <a:ext cx="28800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unhappygirlwithbooks476x290"/>
          <p:cNvPicPr/>
          <p:nvPr/>
        </p:nvPicPr>
        <p:blipFill>
          <a:blip r:embed="rId1"/>
          <a:stretch/>
        </p:blipFill>
        <p:spPr>
          <a:xfrm>
            <a:off x="4500720" y="4797360"/>
            <a:ext cx="3201840" cy="1951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11280" y="981000"/>
            <a:ext cx="655344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усский язык                 - 5 уроков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литературное  чтение  - 4 урока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атематика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    - 4 урока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окружающий мир         - 2 урока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узык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            - 1 урок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изобразит. искусство   - 1 урок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технология                    </a:t>
            </a:r>
            <a:r>
              <a:rPr b="0" lang="ru-RU" sz="3400" spc="-1" strike="noStrike">
                <a:solidFill>
                  <a:srgbClr val="8c0039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1 урок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физкультура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    </a:t>
            </a:r>
            <a:r>
              <a:rPr b="0" lang="ru-RU" sz="3400" spc="-1" strike="noStrike">
                <a:solidFill>
                  <a:srgbClr val="8c0039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3 урок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2484360" y="115920"/>
            <a:ext cx="634680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</a:rPr>
              <a:t>Количество уроков в неде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7:28:39Z</dcterms:created>
  <dc:creator>Ramzes</dc:creator>
  <dc:description/>
  <dc:language>en-US</dc:language>
  <cp:lastModifiedBy>User</cp:lastModifiedBy>
  <dcterms:modified xsi:type="dcterms:W3CDTF">2016-12-05T13:53:30Z</dcterms:modified>
  <cp:revision>66</cp:revision>
  <dc:subject/>
  <dc:title>Родительское собрание в 1 «В» классе Видновской гимназии</dc:title>
</cp:coreProperties>
</file>