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1488-386C-46E0-8F0C-24367845C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92D5-5070-4CE0-B6B8-527169B6E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034-38E6-4E76-A678-0C6BCE75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FD0-371C-4DFD-8A6B-CC190152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E3B-B243-4665-BB1A-F0C33D1C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F29-4529-46E1-8FFC-BB1174EF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3A3-91E9-41EA-B22A-D231BBB0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9F9-BCAC-43DF-9B6A-1ED08D5D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BBB-AECF-4119-A333-28D41F87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417-1A77-4533-BA66-936623CC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38C-FD82-45F7-9ABB-8164F7D6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774-2B4C-4C67-8DD7-E67BBF76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54C-5E31-4188-88EE-1D325E01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19C-AC86-4D47-A773-5F85ED97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CAAF-972D-4F89-9E9D-126706411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О и Н РТ   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ГАПОУ Казанский педагогический колледж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Ц по подготовке педагогических ка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539640" y="5591160"/>
            <a:ext cx="83534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урбанова М.Н. ,учитель начальных классов высшей квалификационной категор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г. Казань   2016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5760" y="1989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ыпускная работа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«Формирование навыков самоорганизации младших школьников как условие сохранения здоров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Предмет исслед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</a:rPr>
              <a:t>содержание, формы и методы формирования самоорганизации жизни младшего школьн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Задачи  исслед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560" y="8366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1. провести теоретический анализ психолого-педагогической литературы по данной пробл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2. разработать систему занятий по формированию условий самоорганизации младших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3. провести опытно-экспериментальную работу по формированию условий самоорганизации младших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4. развить у учащихся самостоятельность в познавательной деятельности, научить их самостоятельно овладевать знаниями, формировать свое мировоззр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5. научить их самостоятельно применять имеющиеся знания в учении и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Гипотеза исследов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Monotype Corsiva"/>
              </a:rPr>
              <a:t>предполагаем, что система занятий будет способствовать формированию условия самоорганизации младших школьни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Этапы исследо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Monotype Corsiva"/>
              </a:rPr>
              <a:t>1 этап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- анализ проблемы в педагогической, психологической литературе по теме исследования, научный аппарат и база исследования; методики опытно-экспериментального исследования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Monotype Corsiva"/>
              </a:rPr>
              <a:t>2 этап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- проверка гипотезы исследования, апробирование форм и методов педагогического взаимодействия с детьми младшего школьного возраста с целью формирования условия само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Monotype Corsiva"/>
              </a:rPr>
              <a:t>3 этап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- результаты исследования,  теоретические и экспериментальные 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Критерии самоорганиз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</a:rPr>
              <a:t>Вол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</a:rPr>
              <a:t>Самомотиваци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</a:rPr>
              <a:t>Навыки преодоления себ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</a:rPr>
              <a:t>Образ будущего дн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Закон РФ «Об образовани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«... важнейшим направлением государственной политики в области образования является развитие физической культуры и спорта, особенно среди молодежи»     </a:t>
            </a: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В.В.Пути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онцепция нового Федерального государственного образовательного стандарта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умение видеть пробле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спокойно принимать и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самостоятельно реш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42160" cy="39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2060"/>
                </a:solidFill>
                <a:uFillTx/>
                <a:latin typeface="Monotype Corsiva"/>
              </a:rPr>
              <a:t>Самоорганизация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 – свойство личности мобилизовать себя, целеустремлённо, активно использовать все свои возможности для достижения промежуточных и конечных целей, рационально используя при этом время, силы, средст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Умения самоорганизации учебной деятельности школьника: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- умение определять цель учебного задания;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- умение планировать учебное задание;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- умение целесообразно выполнять учебное задание;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- умение контролировать ход и результаты учебного задания;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- умение оценивать ход и результаты учебного зад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Актуальность темы выдвигает противоречие:</a:t>
            </a:r>
            <a:br>
              <a:rPr sz="3600"/>
            </a:br>
            <a:br>
              <a:rPr sz="3600"/>
            </a:br>
            <a:r>
              <a:rPr b="1" i="1" lang="ru-RU" sz="4400" spc="-1" strike="noStrike">
                <a:solidFill>
                  <a:srgbClr val="c00000"/>
                </a:solidFill>
                <a:latin typeface="Monotype Corsiva"/>
              </a:rPr>
              <a:t>между необходимостью сохранения здоровья у учащихся начальной школы, с одной стороны, и недостаточной сформированностью навыков самоорганизации с другой сторо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Проблема исследов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Monotype Corsiva"/>
              </a:rPr>
              <a:t>Каковы условия формирования навыков самоорганизации в образовательном процессе в начальной шко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Цель исследов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Создание условий для формирования у учащихся   начальной школы базовых навыков самоорганизац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Объект исследов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</a:rPr>
              <a:t>процесс формирования самоорганизации младшего школьник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4:12:04Z</dcterms:created>
  <dc:creator>Mixa</dc:creator>
  <dc:description/>
  <dc:language>en-US</dc:language>
  <cp:lastModifiedBy>Lenovo</cp:lastModifiedBy>
  <dcterms:modified xsi:type="dcterms:W3CDTF">2016-09-26T13:49:59Z</dcterms:modified>
  <cp:revision>51</cp:revision>
  <dc:subject/>
  <dc:title>МОУ «Гимназия №52» Приволжского района</dc:title>
</cp:coreProperties>
</file>