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07AD-ECA0-472D-842B-35D7F6A4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A826-11A6-466F-9000-C53CC572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B78C-2BAD-4CED-B287-85F60690E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9637-CE33-4FD0-9C17-8A950516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111F-3BBD-410E-BAD0-F75F45B3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5DCC-D885-49E1-BA63-A7CC7000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1912-93E1-4810-8BEA-D66CCEA2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8E9-A5EF-4570-8263-5D932AAA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FCB8-B684-4DE4-9EB8-1B81D22C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06CA-ED47-4CF5-A255-E8051A30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BC0B-14D7-461D-8219-0906D0C8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7321-86D8-489F-9F27-73EAAF5E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EA52D-E960-4671-BEB8-21A5188734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6000" y="1722240"/>
            <a:ext cx="9070920" cy="37494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Школа Росси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 класс 1 част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жнение 8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Гулакова И.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удентка 46 групп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1640" y="2236680"/>
            <a:ext cx="907128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аленьк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го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, ча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ли, с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нальщика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52360" y="1368360"/>
            <a:ext cx="8229600" cy="59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Кто такие сигнальщи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  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Матросы или старшины на корабле или береговом посту, выполняющие обязанности по ведению наблюдения и передаче сигна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488360" y="4319640"/>
            <a:ext cx="2458800" cy="244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896000" y="5040360"/>
            <a:ext cx="2376360" cy="24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7280" y="2663640"/>
            <a:ext cx="871236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, нахим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ц, получа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ся, радоват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я, довер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08000" y="1319040"/>
            <a:ext cx="8229600" cy="58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Палу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Архитектурный элемент судн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горизонтальное перекрыт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в корпус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40360" y="4608360"/>
            <a:ext cx="3689280" cy="26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368360" y="130644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пров . д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б . льш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нагр . д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с . р . 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вып . да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пом . г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разр . ш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11600" y="1306440"/>
            <a:ext cx="4243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к . нику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к . мандов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м . тро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с . гнальщ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н . химовск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к  . раб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крейс . 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72720" y="1800360"/>
            <a:ext cx="1728720" cy="29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02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35280" y="1349280"/>
            <a:ext cx="5032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02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Georgi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28720" y="2141640"/>
            <a:ext cx="5032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02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Georgi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48000" y="3743280"/>
            <a:ext cx="5032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02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Georgi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48000" y="5327640"/>
            <a:ext cx="5032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02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Georgi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67280" y="2160720"/>
            <a:ext cx="5032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02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Georgi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11640" y="5327640"/>
            <a:ext cx="5032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02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Georgi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4518000"/>
            <a:ext cx="4827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02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Georgi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85960" y="2933640"/>
            <a:ext cx="4827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02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Georgi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89600" y="1349280"/>
            <a:ext cx="4824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02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Georgi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11640" y="2933640"/>
            <a:ext cx="4827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02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Georgi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40360" y="4518000"/>
            <a:ext cx="4824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02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Georgi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4000" y="6102360"/>
            <a:ext cx="4698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02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Georgi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64360" y="6102360"/>
            <a:ext cx="4698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02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Georgi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96000" y="3726000"/>
            <a:ext cx="544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02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Georgi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7680" y="3743280"/>
            <a:ext cx="544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02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Georgi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20720" y="1295280"/>
            <a:ext cx="8640720" cy="58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Где проводил каникулы Саш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106800" y="2146320"/>
            <a:ext cx="5532480" cy="2604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68360" y="5111640"/>
            <a:ext cx="4464360" cy="91440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d3e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КРЕЙС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28720" y="1368360"/>
            <a:ext cx="896472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Кто такой Василий Васильевич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24000" y="2879640"/>
            <a:ext cx="5832360" cy="10796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d3e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Командир кораб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238880" y="3600360"/>
            <a:ext cx="269712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47640" y="1224000"/>
            <a:ext cx="8229600" cy="53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За что матросы любили мальч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208160" y="2592360"/>
            <a:ext cx="2751120" cy="2016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735440" y="2138400"/>
            <a:ext cx="3834000" cy="1965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176720" y="4319640"/>
            <a:ext cx="2879640" cy="20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4360" y="2664000"/>
            <a:ext cx="907092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Изложение</a:t>
            </a:r>
            <a:br>
              <a:rPr sz="6000"/>
            </a:br>
            <a:r>
              <a:rPr b="0" i="1" lang="ru-RU" sz="6000" spc="-1" strike="noStrike">
                <a:solidFill>
                  <a:srgbClr val="000000"/>
                </a:solidFill>
                <a:latin typeface="Arial"/>
              </a:rPr>
              <a:t>«Первая вахт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71480" y="1368360"/>
            <a:ext cx="822960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Какую награду придумали матросы Саш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616720" y="2139840"/>
            <a:ext cx="3130560" cy="39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54040" y="1246320"/>
            <a:ext cx="8229600" cy="60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Как вы думаете, что чувствовал мальчик, когда стоял на первой вахт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52360" y="3384720"/>
            <a:ext cx="4248360" cy="86328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d3e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РАД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43640" y="3240000"/>
            <a:ext cx="4032000" cy="93528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d3e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ГОРД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7080" y="4751280"/>
            <a:ext cx="4067280" cy="90828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d3e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ВОЛН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98920" y="590400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d3e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ОТВЕТСТВ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1480" y="1461960"/>
            <a:ext cx="8229600" cy="58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Как вы понимаете выражение </a:t>
            </a: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«усердная служба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0000" y="2808360"/>
            <a:ext cx="4680000" cy="71892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d3e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безукоризне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3527280"/>
            <a:ext cx="4969080" cy="71928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d3e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безупреч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59280" y="4246560"/>
            <a:ext cx="2953080" cy="6476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d3e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вер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71640" y="4680000"/>
            <a:ext cx="3887640" cy="6476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d3e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настоящ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27280" y="5327640"/>
            <a:ext cx="5616720" cy="71928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d3e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неукосните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20720" y="1390680"/>
            <a:ext cx="822960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Найдите слова, которыми автор называет Саш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08000" y="3240000"/>
            <a:ext cx="3240000" cy="5763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d3e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маль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59280" y="3529080"/>
            <a:ext cx="2519640" cy="5763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d3e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сир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40000" y="4392720"/>
            <a:ext cx="3527280" cy="64764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d3e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нахимов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64000" y="5256360"/>
            <a:ext cx="5616360" cy="71892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d3e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маленький моря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2000" y="1584000"/>
            <a:ext cx="77756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Текст состоит из предложений, связанных по смыслу;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Предложение в тексте не имеют определенной последовательности;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К тексту нельзя придумать заглавие;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 тексте всегда о чем-то или о ком-то говорится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08000" y="1650960"/>
            <a:ext cx="82296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К какому типу относится прочитанный вами текс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58920" y="3745080"/>
            <a:ext cx="5832720" cy="129528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d3e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ПОВЕСТВ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76360" y="1579680"/>
            <a:ext cx="820728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 algn="ctr"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buClr>
                <a:srgbClr val="a04da3"/>
              </a:buClr>
              <a:buSzPct val="45000"/>
              <a:buFont typeface="Georgi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Кто главный герой рассказ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3789360"/>
            <a:ext cx="4103640" cy="122400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d3e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eorgia"/>
              </a:rPr>
              <a:t>Саш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95280" y="2624040"/>
            <a:ext cx="2016360" cy="299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2431800"/>
            <a:ext cx="90709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оманд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ал, крейс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, н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овское, учил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щ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4T20:20:12Z</dcterms:created>
  <dc:creator>Ирина Гулакова</dc:creator>
  <dc:description/>
  <dc:language>en-US</dc:language>
  <cp:lastModifiedBy/>
  <cp:revision>1</cp:revision>
  <dc:subject/>
  <dc:title/>
</cp:coreProperties>
</file>