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652-EE6E-454B-9427-7BA19121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89B-8800-44CC-B8E3-3A75CBA0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225-88CF-4941-87EA-86F93E66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59F-1261-4E61-8DA4-1EA2227F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E17-6604-4674-9CAC-30C61E43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754-D46D-4691-BA7E-7C83C17A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043-1CD0-4494-AC42-F2D2FB09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CAD-022C-4658-A5F2-09411E89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860-D035-4F5E-A6EC-1208C950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D96-5611-46B3-B00E-7AAF0312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834-F132-4642-8906-3EEC34E3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9EE-A22D-45EA-A632-BD23E205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B72E-6873-4A8B-8C9F-487DCD43C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МДОУ Детский сад 66 - Мобильные игры: скачай и развлекайся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Подзаголовок 2"/>
          <p:cNvSpPr/>
          <p:nvPr/>
        </p:nvSpPr>
        <p:spPr>
          <a:xfrm>
            <a:off x="179280" y="189000"/>
            <a:ext cx="86756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ГБОУ СОШ (ОЦ) с. Челно-Вер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труктурное подразделение детский сад «Солнышко» Сама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250920" y="4149720"/>
            <a:ext cx="8642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Непосредственная образовательная деятельность</a:t>
            </a:r>
            <a:br>
              <a:rPr sz="3500"/>
            </a:b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 «В гости к Солнышку» </a:t>
            </a:r>
            <a:br>
              <a:rPr sz="3500"/>
            </a:b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для детей второй младшей групп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325440" y="5950080"/>
            <a:ext cx="86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ламихина Наталья Геннад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Мария\Desktop\Сламихина\100NIKON\DSCN4197.JPG"/>
          <p:cNvPicPr/>
          <p:nvPr/>
        </p:nvPicPr>
        <p:blipFill>
          <a:blip r:embed="rId2"/>
          <a:stretch/>
        </p:blipFill>
        <p:spPr>
          <a:xfrm>
            <a:off x="2627280" y="1052640"/>
            <a:ext cx="4105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МДОУ Детский сад 66 - Мобильные игры: скачай и развлекайся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79280" y="-27000"/>
            <a:ext cx="8785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Calibri"/>
              </a:rPr>
              <a:t>Цель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оздание условий для развития связной, грамматически правильной диалогической и монологической речи, детского твор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дзаголовок 2"/>
          <p:cNvSpPr/>
          <p:nvPr/>
        </p:nvSpPr>
        <p:spPr>
          <a:xfrm>
            <a:off x="108000" y="5950080"/>
            <a:ext cx="86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179280" y="1268280"/>
            <a:ext cx="8964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точнение, активизация и актуализация словаря, путем привлечения детей к проговариванию чистоговорок и поте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пражнять детей в образовании названий детёнышей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Формировать умение двигаться под му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пражнять детей в работе с кисточками, клеем, рисовании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звивать слуховое и зрительное внимание, мыслительные процессы (классификации, обобщ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звивать интонационную выразительность речи, упражнять детей в чётком произношении зву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оспитывать навыки культурного общения, сотрудничества, взаимодействия, самостоятельности, инициативности. </a:t>
            </a:r>
            <a:br>
              <a:rPr sz="2500"/>
            </a:b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МДОУ Детский сад 66 - Мобильные игры: скачай и развлекайся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Мария\Desktop\Сламихина\100NIKON\DSCN4178.JPG"/>
          <p:cNvPicPr/>
          <p:nvPr/>
        </p:nvPicPr>
        <p:blipFill>
          <a:blip r:embed="rId2"/>
          <a:stretch/>
        </p:blipFill>
        <p:spPr>
          <a:xfrm>
            <a:off x="1547640" y="765000"/>
            <a:ext cx="6034320" cy="452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Подзаголовок 2"/>
          <p:cNvSpPr/>
          <p:nvPr/>
        </p:nvSpPr>
        <p:spPr>
          <a:xfrm>
            <a:off x="179280" y="-27000"/>
            <a:ext cx="8785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a50021"/>
                </a:solidFill>
                <a:uFillTx/>
                <a:latin typeface="Calibri"/>
              </a:rPr>
              <a:t>Игра «Чего не стало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574560" y="5345280"/>
            <a:ext cx="810108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Calibri"/>
              </a:rPr>
              <a:t>Цель: </a:t>
            </a:r>
            <a:r>
              <a:rPr b="1" lang="ru-RU" sz="3100" spc="-1" strike="noStrike">
                <a:solidFill>
                  <a:srgbClr val="002060"/>
                </a:solidFill>
                <a:latin typeface="Calibri"/>
              </a:rPr>
              <a:t>Развивать память, внимание, умение анализироват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МДОУ Детский сад 66 - Мобильные игры: скачай и развлекайся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5" name="Подзаголовок 2"/>
          <p:cNvSpPr/>
          <p:nvPr/>
        </p:nvSpPr>
        <p:spPr>
          <a:xfrm>
            <a:off x="179280" y="-27000"/>
            <a:ext cx="8785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a50021"/>
                </a:solidFill>
                <a:uFillTx/>
                <a:latin typeface="Calibri"/>
              </a:rPr>
              <a:t>Игра «Найди маму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дзаголовок 2"/>
          <p:cNvSpPr/>
          <p:nvPr/>
        </p:nvSpPr>
        <p:spPr>
          <a:xfrm>
            <a:off x="574560" y="5345280"/>
            <a:ext cx="810108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Calibri"/>
              </a:rPr>
              <a:t>Цель: </a:t>
            </a:r>
            <a:r>
              <a:rPr b="1" lang="ru-RU" sz="3100" spc="-1" strike="noStrike">
                <a:solidFill>
                  <a:srgbClr val="002060"/>
                </a:solidFill>
                <a:latin typeface="Calibri"/>
              </a:rPr>
              <a:t>Упражнять детей в образовании названий детёнышей животны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Мария\Desktop\Сламихина\100NIKON\DSCN4180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324000" y="692280"/>
            <a:ext cx="60339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3" descr="C:\Users\Мария\Desktop\Сламихина\100NIKON\DSCN4199.JPG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588000" y="3068640"/>
            <a:ext cx="2305080" cy="20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МДОУ Детский сад 66 - Мобильные игры: скачай и развлекайся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0" name="Подзаголовок 2"/>
          <p:cNvSpPr/>
          <p:nvPr/>
        </p:nvSpPr>
        <p:spPr>
          <a:xfrm>
            <a:off x="179280" y="-27000"/>
            <a:ext cx="8785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a50021"/>
                </a:solidFill>
                <a:uFillTx/>
                <a:latin typeface="Calibri"/>
              </a:rPr>
              <a:t>Игра «Зайка серенький сидит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574560" y="5345280"/>
            <a:ext cx="810108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Calibri"/>
              </a:rPr>
              <a:t>Цель: </a:t>
            </a:r>
            <a:r>
              <a:rPr b="1" lang="ru-RU" sz="3100" spc="-1" strike="noStrike">
                <a:solidFill>
                  <a:srgbClr val="002060"/>
                </a:solidFill>
                <a:latin typeface="Calibri"/>
              </a:rPr>
              <a:t>совершенствовать умение выполнять действия под музык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Мария\Desktop\Сламихина\100NIKON\DSCN4183.JPG"/>
          <p:cNvPicPr/>
          <p:nvPr/>
        </p:nvPicPr>
        <p:blipFill>
          <a:blip r:embed="rId2"/>
          <a:stretch/>
        </p:blipFill>
        <p:spPr>
          <a:xfrm>
            <a:off x="1547640" y="836640"/>
            <a:ext cx="60343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МДОУ Детский сад 66 - Мобильные игры: скачай и развлекайся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4" name="Подзаголовок 2"/>
          <p:cNvSpPr/>
          <p:nvPr/>
        </p:nvSpPr>
        <p:spPr>
          <a:xfrm>
            <a:off x="179280" y="-27000"/>
            <a:ext cx="8785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a50021"/>
                </a:solidFill>
                <a:uFillTx/>
                <a:latin typeface="Calibri"/>
              </a:rPr>
              <a:t>Работа по мнемотаблиц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дзаголовок 2"/>
          <p:cNvSpPr/>
          <p:nvPr/>
        </p:nvSpPr>
        <p:spPr>
          <a:xfrm>
            <a:off x="0" y="5345280"/>
            <a:ext cx="914400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Цель: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Формировать умение рассказывать стихотворение по картинкам мнемотаблицы, развивать связную речь</a:t>
            </a:r>
            <a:r>
              <a:rPr b="1" lang="ru-RU" sz="29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Мария\Desktop\Сламихина\100NIKON\DSCN4192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3276720" y="1268280"/>
            <a:ext cx="5398920" cy="394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3" descr="C:\Users\Мария\Desktop\Сламихина\100NIKON\DSCN4200.JPG"/>
          <p:cNvPicPr/>
          <p:nvPr/>
        </p:nvPicPr>
        <p:blipFill>
          <a:blip r:embed="rId3"/>
          <a:stretch/>
        </p:blipFill>
        <p:spPr>
          <a:xfrm>
            <a:off x="395280" y="765000"/>
            <a:ext cx="2449440" cy="368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МДОУ Детский сад 66 - Мобильные игры: скачай и развлекайся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9" name="Подзаголовок 2"/>
          <p:cNvSpPr/>
          <p:nvPr/>
        </p:nvSpPr>
        <p:spPr>
          <a:xfrm>
            <a:off x="179280" y="-27000"/>
            <a:ext cx="8785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a50021"/>
                </a:solidFill>
                <a:uFillTx/>
                <a:latin typeface="Calibri"/>
              </a:rPr>
              <a:t>Игра «Весна-красна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574560" y="558972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Цель: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богащение активного словаря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Мария\Desktop\Сламихина\100NIKON\DSCN4196.JPG"/>
          <p:cNvPicPr/>
          <p:nvPr/>
        </p:nvPicPr>
        <p:blipFill>
          <a:blip r:embed="rId2"/>
          <a:stretch/>
        </p:blipFill>
        <p:spPr>
          <a:xfrm>
            <a:off x="1835280" y="907920"/>
            <a:ext cx="5616360" cy="446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МДОУ Детский сад 66 - Мобильные игры: скачай и развлекайся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3" name="Подзаголовок 2"/>
          <p:cNvSpPr/>
          <p:nvPr/>
        </p:nvSpPr>
        <p:spPr>
          <a:xfrm>
            <a:off x="179280" y="-27000"/>
            <a:ext cx="8785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a50021"/>
                </a:solidFill>
                <a:uFillTx/>
                <a:latin typeface="Calibri"/>
              </a:rPr>
              <a:t>Творческая работа «Солнышко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одзаголовок 2"/>
          <p:cNvSpPr/>
          <p:nvPr/>
        </p:nvSpPr>
        <p:spPr>
          <a:xfrm>
            <a:off x="324000" y="5589720"/>
            <a:ext cx="8351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Calibri"/>
              </a:rPr>
              <a:t>Цель: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формировать умение рисовать солнышко, развивать творческие способности, мелкую мотор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Мария\Desktop\Сламихина\100NIKON\DSCN4205.JPG"/>
          <p:cNvPicPr/>
          <p:nvPr/>
        </p:nvPicPr>
        <p:blipFill>
          <a:blip r:embed="rId2"/>
          <a:stretch/>
        </p:blipFill>
        <p:spPr>
          <a:xfrm>
            <a:off x="179280" y="765000"/>
            <a:ext cx="4321440" cy="324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3" descr="C:\Users\Мария\Desktop\Сламихина\100NIKON\DSCN4208.JPG"/>
          <p:cNvPicPr/>
          <p:nvPr/>
        </p:nvPicPr>
        <p:blipFill>
          <a:blip r:embed="rId3"/>
          <a:stretch/>
        </p:blipFill>
        <p:spPr>
          <a:xfrm>
            <a:off x="4619520" y="2060640"/>
            <a:ext cx="4416480" cy="33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МДОУ Детский сад 66 - Мобильные игры: скачай и развлекайся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8" name="Подзаголовок 2"/>
          <p:cNvSpPr/>
          <p:nvPr/>
        </p:nvSpPr>
        <p:spPr>
          <a:xfrm>
            <a:off x="142920" y="142920"/>
            <a:ext cx="885816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libri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libri"/>
                <a:ea typeface="Arial"/>
              </a:rPr>
              <a:t>Сформиров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навык четкого произношения звуков, чистоговоро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навык рассказа стихотворения по мнемотабл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интерес к продолжению деятельности совмес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libri"/>
                <a:ea typeface="Arial"/>
              </a:rPr>
              <a:t>Созданы условия д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развития слухового и зрительного внимания,  обобщения, мыслительных процессов, памя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обогащения активного словар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продуктивной 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libri"/>
                <a:ea typeface="Arial"/>
              </a:rPr>
              <a:t>Совершенствовали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навыки привет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знания о питании бе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навыки движения под музы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двигательные навы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навыки рисования сол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9T15:24:27Z</dcterms:created>
  <dc:creator>Мария</dc:creator>
  <dc:description/>
  <dc:language>en-US</dc:language>
  <cp:lastModifiedBy>Мария</cp:lastModifiedBy>
  <dcterms:modified xsi:type="dcterms:W3CDTF">2016-12-05T15:32:54Z</dcterms:modified>
  <cp:revision>36</cp:revision>
  <dc:subject/>
  <dc:title>Слайд 1</dc:title>
</cp:coreProperties>
</file>