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25.gif" ContentType="image/gif"/>
  <Override PartName="/ppt/media/image17.png" ContentType="image/png"/>
  <Override PartName="/ppt/media/image7.png" ContentType="image/png"/>
  <Override PartName="/ppt/media/image4.gif" ContentType="image/gif"/>
  <Override PartName="/ppt/media/image26.jpeg" ContentType="image/jpeg"/>
  <Override PartName="/ppt/media/image5.jpeg" ContentType="image/jpeg"/>
  <Override PartName="/ppt/media/image33.gif" ContentType="image/gif"/>
  <Override PartName="/ppt/media/image9.gif" ContentType="image/gif"/>
  <Override PartName="/ppt/media/image8.gif" ContentType="image/gif"/>
  <Override PartName="/ppt/media/image38.gif" ContentType="image/gif"/>
  <Override PartName="/ppt/media/image34.wmf" ContentType="image/x-wmf"/>
  <Override PartName="/ppt/media/image11.png" ContentType="image/png"/>
  <Override PartName="/ppt/media/image31.gif" ContentType="image/gif"/>
  <Override PartName="/ppt/media/image35.gif" ContentType="image/gif"/>
  <Override PartName="/ppt/media/image1.jpeg" ContentType="image/jpeg"/>
  <Override PartName="/ppt/media/image10.png" ContentType="image/png"/>
  <Override PartName="/ppt/media/image27.jpeg" ContentType="image/jpeg"/>
  <Override PartName="/ppt/media/image13.wmf" ContentType="image/x-wmf"/>
  <Override PartName="/ppt/media/image28.wmf" ContentType="image/x-wmf"/>
  <Override PartName="/ppt/media/image30.png" ContentType="image/png"/>
  <Override PartName="/ppt/media/image3.wmf" ContentType="image/x-wmf"/>
  <Override PartName="/ppt/media/image37.gif" ContentType="image/gif"/>
  <Override PartName="/ppt/media/image23.jpeg" ContentType="image/jpeg"/>
  <Override PartName="/ppt/media/image12.png" ContentType="image/png"/>
  <Override PartName="/ppt/media/image14.wmf" ContentType="image/x-wmf"/>
  <Override PartName="/ppt/media/image2.wmf" ContentType="image/x-wmf"/>
  <Override PartName="/ppt/media/image32.wmf" ContentType="image/x-wmf"/>
  <Override PartName="/ppt/media/image29.png" ContentType="image/png"/>
  <Override PartName="/ppt/media/image36.gif" ContentType="image/gif"/>
  <Override PartName="/ppt/media/image15.png" ContentType="image/png"/>
  <Override PartName="/ppt/media/image1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637B-B6E8-4F57-9954-67BD2BD7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CBA6-ED44-4BA9-A4BB-F67403A4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8429A-6FFF-4B8F-977C-7904A5F0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A79A9-917F-448D-BCDB-BF2BA407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128BE-2E42-4DE0-AB51-8CEFA12A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4A702-52C5-4915-8B0C-8A58E6A1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CFD43-D1CE-46D3-BBAF-E16EB44F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E1737-F084-45FA-99F6-EA6FA7DC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DAFF9-1A72-4A32-A47C-817069D5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EE01B-BD7F-4131-9740-B1706C01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9051A-F38C-4658-B0CE-25CED0D9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CE3723-3247-496E-BC49-A3938D30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F1DE-1FAB-4B25-8BC5-07BAA31B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7A8D27-42A2-4CAF-B0DB-C4A0F5E1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CD1D62-2C93-4FAA-80EA-8D54C186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9EFF97-0A1A-4A20-9789-CB40DC4A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802492-71AB-42CF-8D7A-27449B57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41432B-26BA-4D67-9BC2-2A7094EA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53DA55-A9D3-406B-A924-C4BE67C3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76721A-66BD-4A12-88CE-3A176FA3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F647CC-45D3-4862-9BA5-419B0908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F026E0-61F1-4979-92BB-93F66C2B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8E0C07-FB0E-4D68-BA38-ABEE4401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01E4-EBBF-4122-AC96-7F21DDC8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BA4F4D-8163-42CF-B006-D72E66AD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6334C-30AC-4FCA-8C3B-1258EE6C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E90CB-4028-471C-AF45-0D21BC10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4AB91-2ADC-477E-8CD9-F7077E24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036B8-C1D1-4EE7-98A4-49A4D2D6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C4119-421A-4359-A90F-B8991857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6A8C8-B6FA-4094-B203-09AFA8C1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E3C09-90BB-4DC6-A5F8-8992C508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B35AC-A5B6-4AED-AAC5-7921B39C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F2C8C-E5AB-4ADA-9C83-78E22DDE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D0D8-411B-463B-97B3-67D885AE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013B1-CC2A-4D82-B605-718A629D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8ADA1-4A22-4321-89D3-A38A89A3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2BC26-FC8C-4999-B491-925492E9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46767-BA53-428F-B6EF-5260A279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FCCD2-794F-401D-8732-D0340130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468A5-2756-43BB-8BF7-308D6121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476C8-26AA-4E41-9F01-3BCC149E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6B5FA-DF3B-4117-8A35-4D6AE7F2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C2CD0-F4D9-4392-9793-D3D8AB69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4F10E-6C92-4C8D-9987-A87F4A3B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22E8-DB0B-47E7-98BE-EF02160C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0FA0A-327C-4DB6-93C6-81E5E3B5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F5551-4271-416D-969F-41358BA8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15384-03BE-4BAB-B0D3-84B6045C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48A82-F07B-457A-B834-FC098D6C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F7380-0AC2-47F6-8A55-0953BE14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4CFF07-7C00-4508-8731-B1C37570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78FF2D-D159-4902-B61B-9E165E86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0C8A8-52B6-46D2-B8D3-EE1B5674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AFFF35-6F4A-4917-BA6E-65B49363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76F8F-AC21-4B87-821E-15F5A386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103A-6A0D-492D-B185-8BB2A86C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AEA23-B605-4F02-90D4-E3B7FB8D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52ACBE-0615-4D48-92DF-B0A2480B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64C07-41B5-47F0-9745-F285FBDA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9B450-9D83-458C-857C-C7361E0E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84A4BA-631E-411F-9783-800E55F5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E680E-3319-4214-B993-629C537B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EE841-5D78-4C6B-A4EF-70C059B1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2E9932-3F2C-4E84-BD7D-B47BE997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17B909-ACB0-4C20-8343-1991BF9A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F7F408-3C41-4CBE-8986-4553DC17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42A1-AE07-46EB-806C-7CA76F6F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D8D70A-F7EA-4B12-B145-87C1A251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051249-A904-44B8-9DE6-72932F88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145569-C9C8-43B0-84EF-45792485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BB714-817B-42F3-B32D-54A60B31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EC19D2-669B-480F-94A3-498B3253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2784C-99CA-4F32-A257-09A8C71C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31355E-4004-404A-8981-5359967A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8FEB95-159C-4458-B65F-7F47C85A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D2DB1E-728A-4471-BB70-32F05BBE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D62A69-5D03-475B-A91A-F1BC9ED9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4534-2BAC-4A99-9FBA-9364E761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6D3E08-8811-4822-B134-9B37616B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CE41FB-6E7D-44C2-8F6D-6B1DA678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69B02C-1F21-4245-8663-374A7F6A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321030-9BF4-4E72-BA05-4EF7A03E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DDB6E8-D60E-4EBD-854A-584A80E1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5DFC79-8079-44AD-9BE2-0501F7A3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EF4DF1-DB98-415D-855B-AC43DE1A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BD781-F3C0-4802-BAB1-50910D83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E26903-8576-46A0-9370-86390C4E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AF836B-00B0-4A2E-B0DB-F5914E4C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F6AE-7BF9-4D61-9589-7455A5F5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4DE4DB-C783-490C-8825-E27422DF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C706C1-D75B-474B-AE97-0ADA43C6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F8382B-141D-4AA3-94A0-2E4C26E6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692F25-EF35-411B-AEA1-505A2742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9E3277-E41B-486A-8CC6-1E5C358C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BEC7E0-59B3-4740-944A-CFF06D61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125CCD-B7A8-4C75-9F43-6482B284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64B580-F2D2-4E45-BEA4-83ECE352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3674C9-6DFD-4AE5-97A9-440FA78B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7DE3D5-5B9B-4A54-AB09-DC226994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7DBD-D1DB-46FC-AA26-48FB1B6F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B4E78F-0EE0-40B9-8CAA-9B75EFE4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463C4D-3D4F-4E33-86DC-385C7F8D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70F91A-B118-4670-91E8-3A5B010F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075511-6451-49CA-B2B1-2933F2F6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97F30B-818B-4788-875C-EF1DD128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153673-A742-4070-BB15-56B930BA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8BD0D2-1DEF-4E02-8E06-196C0FEE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FB448E-199A-455E-9B19-8EFB50A0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AADC0B-D565-4843-93C9-BF8A5071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3E54F7-6A34-46DB-ABD6-049768BD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D2C-216F-4A89-B10C-B4A9D4D6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7327-2265-44D4-B732-4052AD38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B58B89-F841-4EC8-AF17-E4AC422F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679D92-E45B-4F88-86AE-DAC06C32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F24750-7A98-417E-AAEB-734EA771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954A8F-4892-4341-AC94-4DDF91F2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334F93-FDFC-41A5-9CB6-DA434C22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27E504-4DDE-4E3C-AAA2-783E831B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752627-66B7-4B4F-BD31-0284EB22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3B65E6-AA2C-46C2-9932-5FB8AD80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6A0BF3-6E69-4193-9471-93A479F4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92FA45-A432-4088-ACF7-729FE6B0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C003-32D7-40EC-AC1C-C3FE8E94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3CBF7B-E08E-4EFA-A2B9-518C8FBB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0791CE-A1ED-435A-B441-8E7B12C9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2F969E-36A1-4016-B1E9-EF5A7307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93565D-7A27-4FAC-B579-70274639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55CFAA-81C0-4444-A583-4D065AC0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D2ABE6-3DEF-4031-A97A-6A5FDDEF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807B75-0456-4C19-84AB-6CE4B66C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E5EF96-B127-4A22-AE83-8BB20DB0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7383F2-E471-4992-9FAD-2131698C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D4FE12-8970-441E-A8DF-397FDEFA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5824-C5BB-4ABD-9E63-64569EFA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278C12-C524-4BD4-AB05-65F6B703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61FDBB-62BA-4BC8-B4F2-EF010DB9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64E85F-B1AA-4D03-85A8-59C31135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E48CB8-E9A9-4822-B2D5-CFDE9B25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DB4889-D133-4755-96B1-58F9F7D8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A2282B-1682-49EE-B69F-116F1AF8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635567-C761-451D-A842-3F8E3FC2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36C5BC-BDA9-4CF9-A17E-9FB92786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14CD4B-745D-45E3-B38F-C3B37DFA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78CBC1-2A61-4AFD-9354-22C60736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33C8-74D5-4AE7-830A-E2F1E885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3ACEC3-D7B1-4042-9668-11421A9B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6C3909-B0CC-41B0-B012-431AA498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849D03-D031-4AEB-8291-8585E805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FC51F4-0055-4804-953A-CA9EFD5E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F2AB4D-3B21-40D6-BDDB-46CBFDCB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8E59FE-12FB-4DE0-BAA3-E6F707E3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3D84F4-90FE-404D-BA28-9CA9FF88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499AD2-0C12-4A95-A924-64930418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1EFBAD-C2DA-410D-B78C-DE3E095B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DD4F40-C6CC-45ED-B861-61E352CB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6BF8-CBF6-4EC2-898B-0DCCEE41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85D2BD-EAC6-45EC-A970-EC91EB97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B3397F-562E-4859-9DA3-7A8CE822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5EE640-ED50-4BAF-ABF3-AA22D218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D97F7C-BDAA-4967-AFA9-D13E4374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CCD1D1-C57D-494B-9F09-909E390E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8BE39A-2812-4467-ACF6-B5C2DABB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EE62A5-0A72-4884-9B7C-315AB89B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EABAC9-834F-42E1-AE0B-6030258B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546C43-369D-4A2C-811D-0BE64BC5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EEBDE6-DF70-41EA-98DF-E8E1F80D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FF9B7-AB98-40DE-A903-E71C8F34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EBC170-1C94-4E8B-8BC1-BD4846CC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6422D5-2A09-4C6C-8FE3-6EEBEE9E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29C57F-BE2B-4B24-9E54-4266BB51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F18101-5992-4C0D-B7F7-24A81228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B41C86-0CF6-4703-BBBE-7D2415A4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C538BC-5D29-4D04-818D-9DC85575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8D8CF4-68E6-487A-8BC0-4D9F5BC6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AEA6F4-61FE-4360-9854-512A6559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9132BC-CBC9-4C74-822A-C3211898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4E0BB0-3EC7-4B39-B7AA-05946A4B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4FDFA-BAE4-46EC-B491-464254A7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3A752F-3036-43F8-8C27-EE4431C9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5AD659-2DCF-4E7E-8988-E3BEB4E5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BF0B63-9CA4-4CDE-A89D-D5E0F422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65DB54-9451-4CCA-8A85-DC7592F4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748207-7E8F-4300-9FA5-7585EE89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5731B2-CB5A-41D5-B9AD-A70AACCA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EB609B-CB97-492D-8C32-B24CE81C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97B927-C3D7-4E1C-AE4C-075A90D7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19EEBF-DEA8-438C-B060-7B87130A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980291-8CD6-4C3F-B82E-4AF4C151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DE4A1-C78C-4AEF-8A83-0141B380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2ECF72-E027-4712-898F-05E95FAA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D66A4B-D6B4-4155-8280-5C8D00A3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880F56-041D-4279-BACD-9C162F4B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F0758B-5C72-4D8B-8E2B-F693B1D3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BC3399-5DCA-4340-8927-46E3ABF7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FCFD18-BEB8-4E68-A8CD-FF472713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3D893D-F1E6-49BA-9E66-CA750564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D89292-A383-4A3D-8029-A0C3709A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47FD7E-FDA4-4E41-9B19-9E956DAF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FCFB95-A1BE-4C64-B52F-63DA2041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F288B-317D-407D-9B0E-0EE38DC0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BDB3A1-1F7D-4919-870F-B621C0C9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784C39-1F51-44B8-B09F-DC46BADB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23831B-26D7-481B-99F3-E64BAD04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BE3894-71AB-4F21-90D9-DAE6FDC8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51989A-BADC-4765-B301-6FE49440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9F92E6-A350-4196-AAD7-D95C08FD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071E59-4AE6-49B9-A950-54BDC4FF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0F3C27-AFEE-47A6-9F58-A7764FFF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A5DE62-8585-48A3-B15B-70E69BF3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42863B-3385-4F65-B2CD-208A72E9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38904-CB5A-4C4F-86ED-637B7A2C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A65D33-DC74-4BB4-9124-27D8C25C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D0DD53-0618-497E-96EB-74708373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AD63AC-68C5-44FA-9554-509CF608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3A3257-E7EC-4975-98B6-DCD1633C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C66CCB-966C-482F-A0A5-D00B73C6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31BEBE-F351-41C6-8631-3F8876B8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69B4C1-A7AF-4183-BBE4-286FA02B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206C4B-CE3A-46AE-9E48-09C3EA68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7B804D-FF86-4B7C-8748-446C8404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249720-2729-4697-A2D6-332D6E95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F8A6-0162-4E75-ACD5-C60E8427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F81F9-20EE-4902-9441-66BC037B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3E1B54-FBA1-4D08-BC23-D0DC5106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A70C0F-88C0-48D3-9C72-24ED884D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32B0B7-AAD2-4EC6-B6D1-3BBCA9B2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A90E4E-FF1D-4045-9326-392DE8A1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0962FD-003E-4AA9-AE67-1C9B462F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1D6518-A11F-415C-A430-12987F6D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5AF5BB-2BA2-4853-953D-43601906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296E20-F8CA-4635-8A50-837E9489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5843A2-1A1D-4E0C-A60E-7E1305BA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E7EA98-DEA5-4F98-91EF-6DF6ED86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62D02-99D7-46A2-BB5C-50BA7762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A880C2-4615-45AF-AE18-DBC4CF83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317DD6-D85C-40BD-BD03-ECB47A0B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FF1BCB-C987-446F-A9FD-3D9AB375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C4F5F9-FB9B-4F5B-BFD1-4331FDDC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BF722F-6E45-4133-A100-B2909AEE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4D923A-7346-444B-A4C2-7651C9CF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028BB5-B7BE-45A0-B8B3-044DE8C1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2631E1-F970-4D5F-9F3B-31D73C3E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D83CF6-03A5-4DC1-9F9A-15B6C55D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3D201F-E0CF-4DF0-8726-B3656C3E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122A3-4985-4E8A-942C-23DE7507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B99B51-2C2A-47A0-9DBB-54BFA852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370247-F15D-458B-80DE-53D30C79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2D35B3-2FA3-448B-999F-15E1CCED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8F42F8-BA33-434C-8B6D-51BCE891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E79568-5B89-48A0-B027-2E037D63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A771E9-992C-4CF5-8357-7C1E0333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11FE13-1D92-421E-86E0-0237B5D4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A0D143-D591-40FD-82EA-8693FDF0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2E30FC-E8DB-4EBC-B793-31BA82B4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F9290E-8F4B-4595-9DE9-650446BA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84A89-F27F-4E32-896C-5C6B98FC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62F51E-FFF3-4D30-88AC-C6743929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8A96AD-9EE5-4104-AEB6-F6926255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2E30D1-FC15-4042-8125-DFBE98D1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ACEE1F-44A4-4E85-9CBE-65045BAE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BA000E-597D-4506-8858-A38F5E52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E70854-A6DF-494F-B4D9-149F664C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9D0834-D912-4BDF-966A-CA086F48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BB065E-55B5-4FDB-8E23-A14B9E1F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46FF3F-2BE3-49A7-B90A-0F14E400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02FC28-83DB-454D-B5C9-2A6A1818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20DC2-25FB-4876-BEE5-26A153F5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3F00CD-9698-4ABE-B9A2-FDF5058C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237CA4-41CA-4862-B6CC-362A9354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F63604C-1990-4E51-AC44-35445C5D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B1309E-C167-4661-BD19-51C0EC4A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2EA830-955B-434F-8CD3-E0C35511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1AD5F6-4553-44A9-9EA6-7DA22810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D0433A-BAC0-4543-8EF5-D7ADECFF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B8DF32-274F-4B6B-BC4D-73A1850A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2B03C3-81A8-459F-AFC9-C0A8F987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3D65C-9EFD-4E83-A5F1-706F1EF3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BCD8F-ED8D-46DD-A84F-B069CA17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0CACA-7DE5-4824-93AE-C99D9667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224F6-0BFD-4CA8-8451-24435756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69770-2688-4095-99A9-40C85FDB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A9D1-DAF7-4230-9364-7E32E6BE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4D890-8207-42AF-8F05-2526614E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F7610-C1A7-4184-BB5F-91527640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E1F24-82EC-48AD-AAB7-9F13A946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F1A67-2E07-46F9-9464-14419FDB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69F27-4AF9-439C-A746-13BD0DCD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1D7F9-61EB-4ACB-9D5B-3FC24909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26124-8809-4EBA-9D14-D2267507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6AE05-103A-494F-8669-C8C3BAA2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F0EFB-8E16-4562-A5E3-3796D329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84CBA-0893-4F23-B328-5BCF9FB3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902-B6D4-4390-A1FA-3AD71FAE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A77DD-48CD-4035-9E31-9CBCF05E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EC510-0EEE-4789-AB86-6AEAE0D0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10FD4-D940-47A0-83E7-C1F873D4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7AC24-C096-4A99-92CD-D8BAD2F1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12CD6-18CA-4127-A49A-C989BB9C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32E5B-AC70-4997-821D-94FCA685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608BB-B816-40E8-B73A-58EF25FA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3CE3B-0BAD-41E2-B220-0B8044FF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7A42D-C6F5-4184-864A-C45C1CDF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10646-9569-41D0-9628-171D2CDB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A942-67CF-453E-AE86-9B3D7B23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EC3A6-A038-44B7-97B4-6E786E5F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2D9A3-181D-4CEB-AD67-755A53B0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95413-26A6-4764-8465-7CE9ABC1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A4987-8A5D-42D9-9231-54043217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BA017-D616-4066-8A29-DDB353E5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E20F2-B225-4678-BEE3-5EEB1C82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12319-995F-48A9-A2C2-5C1F2EFE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16457-3085-41CE-8263-1986DEC5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CB357-8082-459C-B8FA-63E12062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ADE43-C51C-48CF-9C00-1B131E58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9836-A9B0-41C2-ACF7-4A97ECAE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BDD3B-8E16-4551-9FA8-BC8FEF5B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51DAC-429A-4608-9866-9B5DA6E7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CE655-6D03-448B-9BEB-9A283C90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FA5E9-8FF9-461B-AAED-C4DFFFCE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0824C-7DF6-44F3-A716-2BE7AF50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41FC0-EBC4-4757-9FB1-BB72F8A7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444E7-8A8E-4240-8075-549E0C7B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F5B62-6AA5-4BE0-A3E8-01F447A5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0FC3A-34B0-4802-972A-6830AD40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2F549-DCD9-43CC-8EDD-B5448007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33E-9A5B-4FC5-8490-26B7093C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5F052-2B39-4E64-9EF4-41124505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C6CD6-2AB9-4965-99DA-7D9E59A2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53FF8-3BC0-4116-824C-16D815C8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573FC-A033-435E-B06A-A8F3A007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2DA6F-161F-464D-BDBB-E5CC3752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C6484-B46D-4106-9B98-8D467777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D44BC-2590-47F0-8594-F8B13C4C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6EFBF-7543-45DC-86AF-4750BA24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C3A2C-FF2B-4104-AEF0-A27C1153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AAEE2-E31D-4CA3-886B-DFB5AD47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BB8-1ED3-4E5A-8D75-AE6505C7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FBD3A-DB17-4E32-8E53-327AF6C7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2A9E3-3BBC-4475-B1ED-E5377ACB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FF37B-7681-4533-BBD4-FCA66D47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0B529-455F-4D24-8480-6106F3B7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54514-1DB6-4B40-92F4-9F14071A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DDF61-9CBE-4DFF-973D-24ED85C3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1A1AA-7482-4CC6-ACBF-87AF6212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3BDF1-C664-4C1D-BF48-44BAAC76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CEF0F-5EBF-45BC-BB76-3E5C466B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2D06C-D9E0-4D4F-A80F-1A70148F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1EFB-B8E2-4C97-B1DB-08969C8B80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1CF9-F87D-40A8-ABA4-3659177A64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98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30C1-8BF9-48D7-A682-50D12BBA35B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5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3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3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3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851A-C7BB-4CE6-8F8E-CD46ACEE78E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0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3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3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E854-2585-42DD-AF07-02D1C7F5B0A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75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76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76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4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4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4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2B20-1104-4A0F-AD5C-026702BDA41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0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1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4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4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06CC-101F-4992-B335-273A289C9B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5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5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4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4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4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3F7F-1320-454C-813C-6B6C3F0842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0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0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dt" idx="4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5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sldNum" idx="5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2D65-8067-4B70-980D-4E65B3E30C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 type="dt" idx="5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 type="ftr" idx="5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 type="sldNum" idx="5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A251-C1C6-41DC-8E3E-0C6E46291D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9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9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dt" idx="5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ftr" idx="5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sldNum" idx="5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C5B6-8472-4D15-80BA-D36EE4B44DC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730F-640E-437B-AF97-CBE17BB6EC1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04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4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 type="dt" idx="5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 type="ftr" idx="5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 type="sldNum" idx="6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7B7E-6F77-4521-A66A-42B87979E6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09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9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4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dt" idx="6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ftr" idx="6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sldNum" idx="6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B20A-49D9-48D0-B447-AF92374B5D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3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3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dt" idx="6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ftr" idx="6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 type="sldNum" idx="6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B260-9102-4D37-8292-33100B39F5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8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8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6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6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6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654A-1BCB-44C5-98D9-9D18752CB3C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23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23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dt" idx="7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ftr" idx="7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 type="sldNum" idx="7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437C-954B-4731-836D-132FBE4261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27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28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5945-25DE-4632-A7F2-980FDE92DF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32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32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7A41-28EC-479E-9881-842872160A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37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37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0A68-9A36-4B97-B583-55287EEF98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41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42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A1AE-C613-45D6-AB8F-D7F3FEFB74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46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46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E894-0F65-40E5-85D6-A00FCCF99F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35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3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4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8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1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52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5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60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2FC3-4646-4D29-9430-F07046EA273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280B-9303-455E-8159-87A4E42F81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7B75-E08A-4438-8157-9B0EFE17532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1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1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3BD4-6105-4F41-A4FF-FA4CF76B2F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6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6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19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0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4500-F0A3-44C8-AE08-8DB6E63F88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1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1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2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2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8462-A77C-426C-BC08-084B571907E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473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474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488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492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496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500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504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F5F3-2090-4908-A00A-B7D3DF626D7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gif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9.gi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3779640" y="1125000"/>
            <a:ext cx="45370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33"/>
                </a:solidFill>
                <a:latin typeface="Times New Roman"/>
              </a:rPr>
              <a:t>Урок математики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13" name="Picture 8" descr="j0292982"/>
          <p:cNvPicPr/>
          <p:nvPr/>
        </p:nvPicPr>
        <p:blipFill>
          <a:blip r:embed="rId1"/>
          <a:stretch/>
        </p:blipFill>
        <p:spPr>
          <a:xfrm>
            <a:off x="7596360" y="5373720"/>
            <a:ext cx="1366560" cy="1333440"/>
          </a:xfrm>
          <a:prstGeom prst="rect">
            <a:avLst/>
          </a:prstGeom>
          <a:ln w="0">
            <a:noFill/>
          </a:ln>
        </p:spPr>
      </p:pic>
      <p:pic>
        <p:nvPicPr>
          <p:cNvPr id="1514" name="Picture 17" descr="PE03254_"/>
          <p:cNvPicPr/>
          <p:nvPr/>
        </p:nvPicPr>
        <p:blipFill>
          <a:blip r:embed="rId2"/>
          <a:stretch/>
        </p:blipFill>
        <p:spPr>
          <a:xfrm>
            <a:off x="7596360" y="620640"/>
            <a:ext cx="1371600" cy="1236600"/>
          </a:xfrm>
          <a:prstGeom prst="rect">
            <a:avLst/>
          </a:prstGeom>
          <a:ln w="0">
            <a:noFill/>
          </a:ln>
        </p:spPr>
      </p:pic>
      <p:sp>
        <p:nvSpPr>
          <p:cNvPr id="1515" name="Rectangle 20"/>
          <p:cNvSpPr/>
          <p:nvPr/>
        </p:nvSpPr>
        <p:spPr>
          <a:xfrm>
            <a:off x="108000" y="115920"/>
            <a:ext cx="417672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Мы пришли сюда учи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Не лениться,  а труди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Работаем старате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Слушаем внимате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6" name="Picture 21" descr="Дискета"/>
          <p:cNvPicPr/>
          <p:nvPr/>
        </p:nvPicPr>
        <p:blipFill>
          <a:blip r:embed="rId3"/>
          <a:stretch/>
        </p:blipFill>
        <p:spPr>
          <a:xfrm>
            <a:off x="1187280" y="4941720"/>
            <a:ext cx="782640" cy="782640"/>
          </a:xfrm>
          <a:prstGeom prst="rect">
            <a:avLst/>
          </a:prstGeom>
          <a:ln w="0">
            <a:noFill/>
          </a:ln>
        </p:spPr>
      </p:pic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1420920" y="370008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учший способ изучить что-либо – это открыть сам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Прямоугольник 1"/>
          <p:cNvSpPr/>
          <p:nvPr/>
        </p:nvSpPr>
        <p:spPr>
          <a:xfrm>
            <a:off x="5511600" y="5251320"/>
            <a:ext cx="24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жордж 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орядок действий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504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тобы из неправильной дроби выделить целую часть, над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делить с остатком числитель на знамен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полное частное будет целой ча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аток (если он есть) дает числитель, а делитель- знаменатель дроб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AutoShape 4"/>
          <p:cNvSpPr/>
          <p:nvPr/>
        </p:nvSpPr>
        <p:spPr>
          <a:xfrm>
            <a:off x="539640" y="6093000"/>
            <a:ext cx="4105440" cy="504720"/>
          </a:xfrm>
          <a:prstGeom prst="wedgeRectCallout">
            <a:avLst>
              <a:gd name="adj1" fmla="val 29078"/>
              <a:gd name="adj2" fmla="val -8836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помним правил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5" name="Picture 5" descr="picture"/>
          <p:cNvPicPr/>
          <p:nvPr/>
        </p:nvPicPr>
        <p:blipFill>
          <a:blip r:embed="rId1"/>
          <a:stretch/>
        </p:blipFill>
        <p:spPr>
          <a:xfrm>
            <a:off x="6156360" y="907920"/>
            <a:ext cx="2592360" cy="266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616" name="AutoShape 7"/>
          <p:cNvSpPr/>
          <p:nvPr/>
        </p:nvSpPr>
        <p:spPr>
          <a:xfrm>
            <a:off x="5508720" y="3933720"/>
            <a:ext cx="1584360" cy="503280"/>
          </a:xfrm>
          <a:prstGeom prst="wedgeRectCallout">
            <a:avLst>
              <a:gd name="adj1" fmla="val 32564"/>
              <a:gd name="adj2" fmla="val -13233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AutoShape 8"/>
          <p:cNvSpPr/>
          <p:nvPr/>
        </p:nvSpPr>
        <p:spPr>
          <a:xfrm>
            <a:off x="7236000" y="3933720"/>
            <a:ext cx="1728720" cy="505080"/>
          </a:xfrm>
          <a:prstGeom prst="wedgeRectCallout">
            <a:avLst>
              <a:gd name="adj1" fmla="val -8953"/>
              <a:gd name="adj2" fmla="val -30503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AutoShape 9"/>
          <p:cNvSpPr/>
          <p:nvPr/>
        </p:nvSpPr>
        <p:spPr>
          <a:xfrm>
            <a:off x="6300720" y="260280"/>
            <a:ext cx="2303640" cy="432000"/>
          </a:xfrm>
          <a:prstGeom prst="wedgeRectCallout">
            <a:avLst>
              <a:gd name="adj1" fmla="val 21328"/>
              <a:gd name="adj2" fmla="val 11543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мен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9" name="Picture 10" descr="picture"/>
          <p:cNvPicPr/>
          <p:nvPr/>
        </p:nvPicPr>
        <p:blipFill>
          <a:blip r:embed="rId2"/>
          <a:stretch/>
        </p:blipFill>
        <p:spPr>
          <a:xfrm>
            <a:off x="5940360" y="4653000"/>
            <a:ext cx="2808360" cy="2017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620" name="AutoShape 11">
            <a:hlinkClick r:id="rId3" action="ppaction://hlinksldjump"/>
          </p:cNvPr>
          <p:cNvSpPr/>
          <p:nvPr/>
        </p:nvSpPr>
        <p:spPr>
          <a:xfrm>
            <a:off x="5003640" y="6237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Если при сложении получится неправильная дробь, то из нее надо выделить целую часть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22" name="Object 3"/>
          <p:cNvGraphicFramePr/>
          <p:nvPr/>
        </p:nvGraphicFramePr>
        <p:xfrm>
          <a:off x="1808280" y="2068560"/>
          <a:ext cx="57816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8280" y="2068560"/>
                    <a:ext cx="57816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Прямоугольник 4" descr=""/>
          <p:cNvPicPr/>
          <p:nvPr/>
        </p:nvPicPr>
        <p:blipFill>
          <a:blip r:embed="rId1"/>
          <a:stretch/>
        </p:blipFill>
        <p:spPr>
          <a:xfrm>
            <a:off x="1116000" y="2262240"/>
            <a:ext cx="7296120" cy="968400"/>
          </a:xfrm>
          <a:prstGeom prst="rect">
            <a:avLst/>
          </a:prstGeom>
          <a:ln w="0">
            <a:noFill/>
          </a:ln>
        </p:spPr>
      </p:pic>
      <p:pic>
        <p:nvPicPr>
          <p:cNvPr id="1625" name="зарядка.mp4" descr=""/>
          <p:cNvPicPr/>
          <p:nvPr/>
        </p:nvPicPr>
        <p:blipFill>
          <a:blip r:embed="rId2"/>
          <a:stretch/>
        </p:blipFill>
        <p:spPr>
          <a:xfrm>
            <a:off x="250920" y="217440"/>
            <a:ext cx="85104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Работаем с заданиями учебника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3745080" y="1628280"/>
            <a:ext cx="5256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084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085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08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(первые пять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08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(первые четыр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Text Box 8"/>
          <p:cNvSpPr/>
          <p:nvPr/>
        </p:nvSpPr>
        <p:spPr>
          <a:xfrm>
            <a:off x="3132000" y="515772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Text Box 9"/>
          <p:cNvSpPr/>
          <p:nvPr/>
        </p:nvSpPr>
        <p:spPr>
          <a:xfrm>
            <a:off x="3780000" y="4941720"/>
            <a:ext cx="72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0" name="Picture 13" descr="пп11"/>
          <p:cNvPicPr/>
          <p:nvPr/>
        </p:nvPicPr>
        <p:blipFill>
          <a:blip r:embed="rId1"/>
          <a:stretch/>
        </p:blipFill>
        <p:spPr>
          <a:xfrm>
            <a:off x="7812000" y="1989000"/>
            <a:ext cx="936720" cy="1143000"/>
          </a:xfrm>
          <a:prstGeom prst="rect">
            <a:avLst/>
          </a:prstGeom>
          <a:ln w="0">
            <a:noFill/>
          </a:ln>
        </p:spPr>
      </p:pic>
      <p:sp>
        <p:nvSpPr>
          <p:cNvPr id="1631" name="AutoShape 14"/>
          <p:cNvSpPr/>
          <p:nvPr/>
        </p:nvSpPr>
        <p:spPr>
          <a:xfrm>
            <a:off x="611280" y="1628640"/>
            <a:ext cx="3456000" cy="4753080"/>
          </a:xfrm>
          <a:prstGeom prst="wedgeRectCallout">
            <a:avLst>
              <a:gd name="adj1" fmla="val 66398"/>
              <a:gd name="adj2" fmla="val -1843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мире мудрых мыс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ропись - да не ошиб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у нельзя изучить, наблюдая, как это делает сосе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думает- тот всегда додумае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нас все получи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899640" y="17280"/>
            <a:ext cx="668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Подведем итоги работы: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747360" y="109512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стигли ли мы наши ц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ить понятие «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мешанное числ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иться  выделять целую часть из       неправильной др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мешанное число сделать неправильной дроб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ь внимание и аккуратность в оформлении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4" name="Picture 4" descr="BS00554_"/>
          <p:cNvPicPr/>
          <p:nvPr/>
        </p:nvPicPr>
        <p:blipFill>
          <a:blip r:embed="rId1"/>
          <a:stretch/>
        </p:blipFill>
        <p:spPr>
          <a:xfrm>
            <a:off x="7451640" y="4724280"/>
            <a:ext cx="1438200" cy="156852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5" descr="11"/>
          <p:cNvPicPr/>
          <p:nvPr/>
        </p:nvPicPr>
        <p:blipFill>
          <a:blip r:embed="rId2"/>
          <a:stretch/>
        </p:blipFill>
        <p:spPr>
          <a:xfrm>
            <a:off x="7740720" y="404640"/>
            <a:ext cx="934920" cy="935280"/>
          </a:xfrm>
          <a:prstGeom prst="rect">
            <a:avLst/>
          </a:prstGeom>
          <a:ln w="0">
            <a:noFill/>
          </a:ln>
        </p:spPr>
      </p:pic>
      <p:sp>
        <p:nvSpPr>
          <p:cNvPr id="1636" name="AutoShape 6"/>
          <p:cNvSpPr/>
          <p:nvPr/>
        </p:nvSpPr>
        <p:spPr>
          <a:xfrm>
            <a:off x="879480" y="4519440"/>
            <a:ext cx="6416640" cy="2324160"/>
          </a:xfrm>
          <a:prstGeom prst="flowChartDocumen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дание на д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.28, № 1086 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1087 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№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88, 11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AutoShape 7">
            <a:hlinkClick r:id="rId3" action="ppaction://hlinksldjump"/>
          </p:cNvPr>
          <p:cNvSpPr/>
          <p:nvPr/>
        </p:nvSpPr>
        <p:spPr>
          <a:xfrm>
            <a:off x="7740720" y="1488960"/>
            <a:ext cx="863640" cy="576360"/>
          </a:xfrm>
          <a:prstGeom prst="leftArrow">
            <a:avLst>
              <a:gd name="adj1" fmla="val 50000"/>
              <a:gd name="adj2" fmla="val 374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3"/>
          <p:cNvSpPr/>
          <p:nvPr/>
        </p:nvSpPr>
        <p:spPr>
          <a:xfrm>
            <a:off x="538200" y="1587240"/>
            <a:ext cx="86058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Wingdings 2"/>
                <a:ea typeface="Wingdings 2"/>
              </a:rPr>
              <a:t>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считаете, что вы поняли тему сегодняшнего урока, то наклейте розовый листочек на смешанную дроб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Wingdings 2"/>
                <a:ea typeface="Wingdings 2"/>
              </a:rPr>
              <a:t>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считаете, что не достаточно усвоили материал,        то наклейте голубой листочек на смешанную дроб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Wingdings 2"/>
                <a:ea typeface="Wingdings 2"/>
              </a:rPr>
              <a:t>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считаете, что вы не поняли тему сегодняшнего урока, то наклейте желтый листочек на смешанную дроб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Прямоугольник 4"/>
          <p:cNvSpPr/>
          <p:nvPr/>
        </p:nvSpPr>
        <p:spPr>
          <a:xfrm>
            <a:off x="1143000" y="928800"/>
            <a:ext cx="7215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Математику, друзь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е любить никак нельз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чень строгая наук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чень точная наук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нтересная наука-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Это математик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12720" y="191880"/>
            <a:ext cx="8207280" cy="107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1" i="1" lang="ru-RU" sz="4400" spc="-1" strike="noStrike">
                <a:solidFill>
                  <a:srgbClr val="0000ff"/>
                </a:solidFill>
                <a:latin typeface="Verdana"/>
              </a:rPr>
              <a:t>Спасибо за сотрудничество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336600"/>
                </a:solidFill>
                <a:latin typeface="Verdana"/>
              </a:rPr>
              <a:t>Урок сегодня завершён,</a:t>
            </a:r>
            <a:br>
              <a:rPr sz="3600"/>
            </a:br>
            <a:r>
              <a:rPr b="0" lang="ru-RU" sz="3600" spc="-1" strike="noStrike">
                <a:solidFill>
                  <a:srgbClr val="336600"/>
                </a:solidFill>
                <a:latin typeface="Verdana"/>
              </a:rPr>
              <a:t>Но каждый должен знать:</a:t>
            </a:r>
            <a:br>
              <a:rPr sz="3600"/>
            </a:br>
            <a:r>
              <a:rPr b="0" lang="ru-RU" sz="3600" spc="-1" strike="noStrike">
                <a:solidFill>
                  <a:srgbClr val="336600"/>
                </a:solidFill>
                <a:latin typeface="Verdana"/>
              </a:rPr>
              <a:t>Познание, упорство, труд</a:t>
            </a:r>
            <a:br>
              <a:rPr sz="3600"/>
            </a:br>
            <a:r>
              <a:rPr b="0" lang="ru-RU" sz="3600" spc="-1" strike="noStrike">
                <a:solidFill>
                  <a:srgbClr val="336600"/>
                </a:solidFill>
                <a:latin typeface="Verdana"/>
              </a:rPr>
              <a:t>К успеху в жизни приведут!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Желаю всем успехов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и хорошего настроения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42" name="Picture 4" descr="PE01561_"/>
          <p:cNvPicPr/>
          <p:nvPr/>
        </p:nvPicPr>
        <p:blipFill>
          <a:blip r:embed="rId1"/>
          <a:stretch/>
        </p:blipFill>
        <p:spPr>
          <a:xfrm>
            <a:off x="6012000" y="4653000"/>
            <a:ext cx="2447640" cy="162396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5" descr="07"/>
          <p:cNvPicPr/>
          <p:nvPr/>
        </p:nvPicPr>
        <p:blipFill>
          <a:blip r:embed="rId2"/>
          <a:stretch/>
        </p:blipFill>
        <p:spPr>
          <a:xfrm>
            <a:off x="7380360" y="1413000"/>
            <a:ext cx="131580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rebuchet MS"/>
              </a:rPr>
              <a:t>Вырази свое настрое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600120" y="1930320"/>
            <a:ext cx="65548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54a021"/>
                </a:solidFill>
                <a:latin typeface="Trebuchet MS"/>
                <a:ea typeface="Times New Roman"/>
              </a:rPr>
              <a:t>Мне все понятно, у меня все получается!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ffff00"/>
                </a:solidFill>
                <a:latin typeface="Trebuchet MS"/>
                <a:ea typeface="Times New Roman"/>
              </a:rPr>
              <a:t>У меня еще есть ошибки, но я стараюсь!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Я ничего не понимаю,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  </a:t>
            </a:r>
            <a:r>
              <a:rPr b="0" lang="ru-RU" sz="33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у меня ничего не получается!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646" name="Picture 10" descr="http://miranimashek.ucoz.ru/_ph/100/2/539499165.gif"/>
          <p:cNvPicPr/>
          <p:nvPr/>
        </p:nvPicPr>
        <p:blipFill>
          <a:blip r:embed="rId1"/>
          <a:stretch/>
        </p:blipFill>
        <p:spPr>
          <a:xfrm>
            <a:off x="6713640" y="1197000"/>
            <a:ext cx="2430360" cy="158436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12" descr="http://miranimashek.ucoz.ru/_ph/100/2/419793401.gif"/>
          <p:cNvPicPr/>
          <p:nvPr/>
        </p:nvPicPr>
        <p:blipFill>
          <a:blip r:embed="rId2"/>
          <a:stretch/>
        </p:blipFill>
        <p:spPr>
          <a:xfrm>
            <a:off x="7164360" y="2781360"/>
            <a:ext cx="1554120" cy="155412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8" descr="http://miranimashek.ucoz.ru/_ph/100/2/431130505.gif"/>
          <p:cNvPicPr/>
          <p:nvPr/>
        </p:nvPicPr>
        <p:blipFill>
          <a:blip r:embed="rId3"/>
          <a:stretch/>
        </p:blipFill>
        <p:spPr>
          <a:xfrm>
            <a:off x="7164360" y="4437000"/>
            <a:ext cx="160344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/>
          </p:nvPr>
        </p:nvSpPr>
        <p:spPr>
          <a:xfrm>
            <a:off x="914400" y="404640"/>
            <a:ext cx="77724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Проверь себ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0" name="Picture 4" descr="Дискета"/>
          <p:cNvPicPr/>
          <p:nvPr/>
        </p:nvPicPr>
        <p:blipFill>
          <a:blip r:embed="rId1"/>
          <a:stretch/>
        </p:blipFill>
        <p:spPr>
          <a:xfrm>
            <a:off x="7956720" y="907920"/>
            <a:ext cx="782640" cy="782640"/>
          </a:xfrm>
          <a:prstGeom prst="rect">
            <a:avLst/>
          </a:prstGeom>
          <a:ln w="0">
            <a:noFill/>
          </a:ln>
        </p:spPr>
      </p:pic>
      <p:sp>
        <p:nvSpPr>
          <p:cNvPr id="1651" name="Line 5"/>
          <p:cNvSpPr/>
          <p:nvPr/>
        </p:nvSpPr>
        <p:spPr>
          <a:xfrm>
            <a:off x="611280" y="3429000"/>
            <a:ext cx="784836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6"/>
          <p:cNvSpPr/>
          <p:nvPr/>
        </p:nvSpPr>
        <p:spPr>
          <a:xfrm>
            <a:off x="611280" y="3068640"/>
            <a:ext cx="0" cy="71928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Line 7"/>
          <p:cNvSpPr/>
          <p:nvPr/>
        </p:nvSpPr>
        <p:spPr>
          <a:xfrm>
            <a:off x="4500720" y="3141720"/>
            <a:ext cx="0" cy="71892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Line 8"/>
          <p:cNvSpPr/>
          <p:nvPr/>
        </p:nvSpPr>
        <p:spPr>
          <a:xfrm>
            <a:off x="1187280" y="3213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Line 9"/>
          <p:cNvSpPr/>
          <p:nvPr/>
        </p:nvSpPr>
        <p:spPr>
          <a:xfrm>
            <a:off x="1835280" y="321300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Line 10"/>
          <p:cNvSpPr/>
          <p:nvPr/>
        </p:nvSpPr>
        <p:spPr>
          <a:xfrm>
            <a:off x="2484360" y="3141720"/>
            <a:ext cx="0" cy="71892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Line 11"/>
          <p:cNvSpPr/>
          <p:nvPr/>
        </p:nvSpPr>
        <p:spPr>
          <a:xfrm>
            <a:off x="6588000" y="3141720"/>
            <a:ext cx="0" cy="71892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Line 12"/>
          <p:cNvSpPr/>
          <p:nvPr/>
        </p:nvSpPr>
        <p:spPr>
          <a:xfrm>
            <a:off x="3132000" y="328464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Line 13"/>
          <p:cNvSpPr/>
          <p:nvPr/>
        </p:nvSpPr>
        <p:spPr>
          <a:xfrm>
            <a:off x="3780000" y="328464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Line 14"/>
          <p:cNvSpPr/>
          <p:nvPr/>
        </p:nvSpPr>
        <p:spPr>
          <a:xfrm>
            <a:off x="5148360" y="321300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Line 15"/>
          <p:cNvSpPr/>
          <p:nvPr/>
        </p:nvSpPr>
        <p:spPr>
          <a:xfrm>
            <a:off x="5867280" y="321300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Line 16"/>
          <p:cNvSpPr/>
          <p:nvPr/>
        </p:nvSpPr>
        <p:spPr>
          <a:xfrm>
            <a:off x="7236000" y="3213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Text Box 17"/>
          <p:cNvSpPr/>
          <p:nvPr/>
        </p:nvSpPr>
        <p:spPr>
          <a:xfrm>
            <a:off x="250920" y="378936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 Box 18"/>
          <p:cNvSpPr/>
          <p:nvPr/>
        </p:nvSpPr>
        <p:spPr>
          <a:xfrm>
            <a:off x="2268360" y="2349360"/>
            <a:ext cx="3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Text Box 19"/>
          <p:cNvSpPr/>
          <p:nvPr/>
        </p:nvSpPr>
        <p:spPr>
          <a:xfrm>
            <a:off x="4284720" y="2421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Text Box 20"/>
          <p:cNvSpPr/>
          <p:nvPr/>
        </p:nvSpPr>
        <p:spPr>
          <a:xfrm>
            <a:off x="6372360" y="2421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 Box 21"/>
          <p:cNvSpPr/>
          <p:nvPr/>
        </p:nvSpPr>
        <p:spPr>
          <a:xfrm>
            <a:off x="971640" y="4076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 Box 22"/>
          <p:cNvSpPr/>
          <p:nvPr/>
        </p:nvSpPr>
        <p:spPr>
          <a:xfrm>
            <a:off x="1692360" y="3789360"/>
            <a:ext cx="35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2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 Box 23"/>
          <p:cNvSpPr/>
          <p:nvPr/>
        </p:nvSpPr>
        <p:spPr>
          <a:xfrm>
            <a:off x="2340000" y="4076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24"/>
          <p:cNvSpPr/>
          <p:nvPr/>
        </p:nvSpPr>
        <p:spPr>
          <a:xfrm>
            <a:off x="2916360" y="4076640"/>
            <a:ext cx="3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25"/>
          <p:cNvSpPr/>
          <p:nvPr/>
        </p:nvSpPr>
        <p:spPr>
          <a:xfrm>
            <a:off x="3637440" y="3860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Rectangle 26"/>
          <p:cNvSpPr/>
          <p:nvPr/>
        </p:nvSpPr>
        <p:spPr>
          <a:xfrm>
            <a:off x="4358160" y="3860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Rectangle 27"/>
          <p:cNvSpPr/>
          <p:nvPr/>
        </p:nvSpPr>
        <p:spPr>
          <a:xfrm>
            <a:off x="5005800" y="3860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Rectangle 28"/>
          <p:cNvSpPr/>
          <p:nvPr/>
        </p:nvSpPr>
        <p:spPr>
          <a:xfrm>
            <a:off x="5653440" y="3860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Rectangle 29"/>
          <p:cNvSpPr/>
          <p:nvPr/>
        </p:nvSpPr>
        <p:spPr>
          <a:xfrm>
            <a:off x="6445440" y="3860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Rectangle 30"/>
          <p:cNvSpPr/>
          <p:nvPr/>
        </p:nvSpPr>
        <p:spPr>
          <a:xfrm>
            <a:off x="7095240" y="386064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AutoShape 31"/>
          <p:cNvSpPr/>
          <p:nvPr/>
        </p:nvSpPr>
        <p:spPr>
          <a:xfrm>
            <a:off x="611280" y="5013360"/>
            <a:ext cx="8208720" cy="1511280"/>
          </a:xfrm>
          <a:prstGeom prst="flowChartPunchedCard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лько целых единиц содержат дро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3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 6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             3         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 Box 32"/>
          <p:cNvSpPr/>
          <p:nvPr/>
        </p:nvSpPr>
        <p:spPr>
          <a:xfrm>
            <a:off x="6094440" y="585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AutoShape 33"/>
          <p:cNvSpPr/>
          <p:nvPr/>
        </p:nvSpPr>
        <p:spPr>
          <a:xfrm>
            <a:off x="5076720" y="2133720"/>
            <a:ext cx="935280" cy="863640"/>
          </a:xfrm>
          <a:prstGeom prst="wedgeRectCallout">
            <a:avLst>
              <a:gd name="adj1" fmla="val -41000"/>
              <a:gd name="adj2" fmla="val 10312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 Box 34"/>
          <p:cNvSpPr/>
          <p:nvPr/>
        </p:nvSpPr>
        <p:spPr>
          <a:xfrm>
            <a:off x="971640" y="436572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 Box 35"/>
          <p:cNvSpPr/>
          <p:nvPr/>
        </p:nvSpPr>
        <p:spPr>
          <a:xfrm>
            <a:off x="2340000" y="436572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68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авайте вспомним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60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дроби называются прави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дроби называются неправи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е и неправильные др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 u="sng">
                <a:solidFill>
                  <a:srgbClr val="0066ff"/>
                </a:solidFill>
                <a:uFillTx/>
                <a:latin typeface="Arial"/>
              </a:rPr>
              <a:t>1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ru-RU" sz="3200" spc="-1" strike="noStrike" u="sng">
                <a:solidFill>
                  <a:srgbClr val="0066ff"/>
                </a:solidFill>
                <a:uFillTx/>
                <a:latin typeface="Arial"/>
              </a:rPr>
              <a:t>3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ru-RU" sz="3200" spc="-1" strike="noStrike" u="sng">
                <a:solidFill>
                  <a:srgbClr val="0066ff"/>
                </a:solidFill>
                <a:uFillTx/>
                <a:latin typeface="Arial"/>
              </a:rPr>
              <a:t> 5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lang="ru-RU" sz="3200" spc="-1" strike="noStrike" u="sng">
                <a:solidFill>
                  <a:srgbClr val="0066ff"/>
                </a:solidFill>
                <a:uFillTx/>
                <a:latin typeface="Arial"/>
              </a:rPr>
              <a:t>11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ru-RU" sz="3200" spc="-1" strike="noStrike" u="sng">
                <a:solidFill>
                  <a:srgbClr val="0066ff"/>
                </a:solidFill>
                <a:uFillTx/>
                <a:latin typeface="Arial"/>
              </a:rPr>
              <a:t> 3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ru-RU" sz="3200" spc="-1" strike="noStrike" u="sng">
                <a:solidFill>
                  <a:srgbClr val="0066ff"/>
                </a:solidFill>
                <a:uFillTx/>
                <a:latin typeface="Arial"/>
              </a:rPr>
              <a:t> 2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ru-RU" sz="3200" spc="-1" strike="noStrike" u="sng">
                <a:solidFill>
                  <a:srgbClr val="0066ff"/>
                </a:solidFill>
                <a:uFillTx/>
                <a:latin typeface="Arial"/>
              </a:rPr>
              <a:t>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2     4       3        8         3       9      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11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1" name="Picture 5" descr="picture"/>
          <p:cNvPicPr/>
          <p:nvPr/>
        </p:nvPicPr>
        <p:blipFill>
          <a:blip r:embed="rId1"/>
          <a:stretch/>
        </p:blipFill>
        <p:spPr>
          <a:xfrm>
            <a:off x="6804000" y="260280"/>
            <a:ext cx="2076480" cy="1152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522" name="Picture 6" descr="picture"/>
          <p:cNvPicPr/>
          <p:nvPr/>
        </p:nvPicPr>
        <p:blipFill>
          <a:blip r:embed="rId2"/>
          <a:stretch/>
        </p:blipFill>
        <p:spPr>
          <a:xfrm>
            <a:off x="5724360" y="4149720"/>
            <a:ext cx="3024360" cy="2374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523" name="AutoShape 7"/>
          <p:cNvSpPr/>
          <p:nvPr/>
        </p:nvSpPr>
        <p:spPr>
          <a:xfrm>
            <a:off x="2484360" y="4149720"/>
            <a:ext cx="2808360" cy="2303640"/>
          </a:xfrm>
          <a:prstGeom prst="wedgeRectCallout">
            <a:avLst>
              <a:gd name="adj1" fmla="val -67750"/>
              <a:gd name="adj2" fmla="val -1822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 означ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11» и «8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Text Box 8"/>
          <p:cNvSpPr/>
          <p:nvPr/>
        </p:nvSpPr>
        <p:spPr>
          <a:xfrm>
            <a:off x="3132000" y="2565360"/>
            <a:ext cx="720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 Box 8"/>
          <p:cNvSpPr/>
          <p:nvPr/>
        </p:nvSpPr>
        <p:spPr>
          <a:xfrm>
            <a:off x="5580000" y="2637000"/>
            <a:ext cx="720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Прямоугольник 8"/>
          <p:cNvSpPr/>
          <p:nvPr/>
        </p:nvSpPr>
        <p:spPr>
          <a:xfrm>
            <a:off x="4290120" y="2967120"/>
            <a:ext cx="56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7" name="Мультфильм- В стране невыученных уроков-[save4.net].mp4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4193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527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527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ff00"/>
                </a:solidFill>
                <a:latin typeface="Times New Roman"/>
              </a:rPr>
              <a:t>Разгадайте  ребус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00D8-DFCE-4DF8-B7F4-2DB9555AA4D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ectangle 15"/>
          <p:cNvSpPr/>
          <p:nvPr/>
        </p:nvSpPr>
        <p:spPr>
          <a:xfrm>
            <a:off x="4859280" y="1484280"/>
            <a:ext cx="3816360" cy="2305080"/>
          </a:xfrm>
          <a:prstGeom prst="rect">
            <a:avLst/>
          </a:prstGeom>
          <a:solidFill>
            <a:srgbClr val="ffe7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Rectangle 14"/>
          <p:cNvSpPr/>
          <p:nvPr/>
        </p:nvSpPr>
        <p:spPr>
          <a:xfrm>
            <a:off x="500040" y="1500120"/>
            <a:ext cx="3816360" cy="2305080"/>
          </a:xfrm>
          <a:prstGeom prst="rect">
            <a:avLst/>
          </a:prstGeom>
          <a:solidFill>
            <a:srgbClr val="ffe7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2" name="Picture 4" descr="baby83[1]"/>
          <p:cNvPicPr/>
          <p:nvPr/>
        </p:nvPicPr>
        <p:blipFill>
          <a:blip r:embed="rId1"/>
          <a:stretch/>
        </p:blipFill>
        <p:spPr>
          <a:xfrm rot="291600">
            <a:off x="84240" y="3774960"/>
            <a:ext cx="1500120" cy="2057400"/>
          </a:xfrm>
          <a:prstGeom prst="rect">
            <a:avLst/>
          </a:prstGeom>
          <a:ln w="0">
            <a:noFill/>
          </a:ln>
        </p:spPr>
      </p:pic>
      <p:sp>
        <p:nvSpPr>
          <p:cNvPr id="1533" name="AutoShape 5"/>
          <p:cNvSpPr/>
          <p:nvPr/>
        </p:nvSpPr>
        <p:spPr>
          <a:xfrm>
            <a:off x="2143080" y="5429160"/>
            <a:ext cx="6408720" cy="1143000"/>
          </a:xfrm>
          <a:prstGeom prst="wedgeRoundRectCallout">
            <a:avLst>
              <a:gd name="adj1" fmla="val -60402"/>
              <a:gd name="adj2" fmla="val -127092"/>
              <a:gd name="adj3" fmla="val 16667"/>
            </a:avLst>
          </a:prstGeom>
          <a:solidFill>
            <a:srgbClr val="cefee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0000"/>
                </a:solidFill>
                <a:latin typeface="Arial"/>
              </a:rPr>
              <a:t>Сформулируйте тему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4" name="Picture 8" descr="angel"/>
          <p:cNvPicPr/>
          <p:nvPr/>
        </p:nvPicPr>
        <p:blipFill>
          <a:blip r:embed="rId2"/>
          <a:stretch/>
        </p:blipFill>
        <p:spPr>
          <a:xfrm>
            <a:off x="2268360" y="1989000"/>
            <a:ext cx="1511640" cy="1440000"/>
          </a:xfrm>
          <a:prstGeom prst="rect">
            <a:avLst/>
          </a:prstGeom>
          <a:ln w="0">
            <a:noFill/>
          </a:ln>
        </p:spPr>
      </p:pic>
      <p:pic>
        <p:nvPicPr>
          <p:cNvPr id="1535" name="Picture 9" descr="img14"/>
          <p:cNvPicPr/>
          <p:nvPr/>
        </p:nvPicPr>
        <p:blipFill>
          <a:blip r:embed="rId3"/>
          <a:srcRect l="0" t="0" r="55981" b="0"/>
          <a:stretch/>
        </p:blipFill>
        <p:spPr>
          <a:xfrm>
            <a:off x="684360" y="1989000"/>
            <a:ext cx="1584000" cy="1440000"/>
          </a:xfrm>
          <a:prstGeom prst="rect">
            <a:avLst/>
          </a:prstGeom>
          <a:ln w="0">
            <a:noFill/>
          </a:ln>
        </p:spPr>
      </p:pic>
      <p:sp>
        <p:nvSpPr>
          <p:cNvPr id="1536" name="Text Box 10"/>
          <p:cNvSpPr/>
          <p:nvPr/>
        </p:nvSpPr>
        <p:spPr>
          <a:xfrm>
            <a:off x="2700360" y="155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 = 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WordArt 12"/>
          <p:cNvSpPr txBox="1"/>
          <p:nvPr/>
        </p:nvSpPr>
        <p:spPr>
          <a:xfrm>
            <a:off x="3851280" y="3162240"/>
            <a:ext cx="152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pic>
        <p:nvPicPr>
          <p:cNvPr id="1538" name="Picture 13" descr="img15"/>
          <p:cNvPicPr/>
          <p:nvPr/>
        </p:nvPicPr>
        <p:blipFill>
          <a:blip r:embed="rId4"/>
          <a:srcRect l="0" t="0" r="45964" b="0"/>
          <a:stretch/>
        </p:blipFill>
        <p:spPr>
          <a:xfrm>
            <a:off x="5435640" y="206064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1539" name="Picture 16" descr="игла"/>
          <p:cNvPicPr/>
          <p:nvPr/>
        </p:nvPicPr>
        <p:blipFill>
          <a:blip r:embed="rId5"/>
          <a:srcRect l="0" t="0" r="67953" b="-7953"/>
          <a:stretch/>
        </p:blipFill>
        <p:spPr>
          <a:xfrm>
            <a:off x="7380360" y="2060640"/>
            <a:ext cx="496800" cy="1368360"/>
          </a:xfrm>
          <a:prstGeom prst="rect">
            <a:avLst/>
          </a:prstGeom>
          <a:ln w="0">
            <a:noFill/>
          </a:ln>
        </p:spPr>
      </p:pic>
      <p:sp>
        <p:nvSpPr>
          <p:cNvPr id="1540" name="WordArt 17"/>
          <p:cNvSpPr txBox="1"/>
          <p:nvPr/>
        </p:nvSpPr>
        <p:spPr>
          <a:xfrm>
            <a:off x="7451640" y="3162240"/>
            <a:ext cx="152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1541" name="WordArt 18"/>
          <p:cNvSpPr txBox="1"/>
          <p:nvPr/>
        </p:nvSpPr>
        <p:spPr>
          <a:xfrm>
            <a:off x="7236000" y="3162240"/>
            <a:ext cx="152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1542" name="Rectangle 15"/>
          <p:cNvSpPr/>
          <p:nvPr/>
        </p:nvSpPr>
        <p:spPr>
          <a:xfrm>
            <a:off x="4881600" y="1506600"/>
            <a:ext cx="3816360" cy="2305080"/>
          </a:xfrm>
          <a:prstGeom prst="rect">
            <a:avLst/>
          </a:prstGeom>
          <a:solidFill>
            <a:srgbClr val="ffe7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Rectangle 14"/>
          <p:cNvSpPr/>
          <p:nvPr/>
        </p:nvSpPr>
        <p:spPr>
          <a:xfrm>
            <a:off x="522360" y="1522440"/>
            <a:ext cx="3816360" cy="2305080"/>
          </a:xfrm>
          <a:prstGeom prst="rect">
            <a:avLst/>
          </a:prstGeom>
          <a:solidFill>
            <a:srgbClr val="ffe7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4" name="Picture 8" descr="angel"/>
          <p:cNvPicPr/>
          <p:nvPr/>
        </p:nvPicPr>
        <p:blipFill>
          <a:blip r:embed="rId6"/>
          <a:stretch/>
        </p:blipFill>
        <p:spPr>
          <a:xfrm>
            <a:off x="2290680" y="2011320"/>
            <a:ext cx="1511280" cy="1440000"/>
          </a:xfrm>
          <a:prstGeom prst="rect">
            <a:avLst/>
          </a:prstGeom>
          <a:ln w="0">
            <a:noFill/>
          </a:ln>
        </p:spPr>
      </p:pic>
      <p:pic>
        <p:nvPicPr>
          <p:cNvPr id="1545" name="Picture 9" descr="img14"/>
          <p:cNvPicPr/>
          <p:nvPr/>
        </p:nvPicPr>
        <p:blipFill>
          <a:blip r:embed="rId7"/>
          <a:srcRect l="0" t="0" r="55981" b="0"/>
          <a:stretch/>
        </p:blipFill>
        <p:spPr>
          <a:xfrm>
            <a:off x="706320" y="2011320"/>
            <a:ext cx="1584360" cy="1440000"/>
          </a:xfrm>
          <a:prstGeom prst="rect">
            <a:avLst/>
          </a:prstGeom>
          <a:ln w="0">
            <a:noFill/>
          </a:ln>
        </p:spPr>
      </p:pic>
      <p:sp>
        <p:nvSpPr>
          <p:cNvPr id="1546" name="Text Box 10"/>
          <p:cNvSpPr/>
          <p:nvPr/>
        </p:nvSpPr>
        <p:spPr>
          <a:xfrm>
            <a:off x="2722680" y="15796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 = 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WordArt 12"/>
          <p:cNvSpPr txBox="1"/>
          <p:nvPr/>
        </p:nvSpPr>
        <p:spPr>
          <a:xfrm>
            <a:off x="3873600" y="3184560"/>
            <a:ext cx="152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pic>
        <p:nvPicPr>
          <p:cNvPr id="1548" name="Picture 13" descr="img15"/>
          <p:cNvPicPr/>
          <p:nvPr/>
        </p:nvPicPr>
        <p:blipFill>
          <a:blip r:embed="rId8"/>
          <a:srcRect l="0" t="0" r="45964" b="0"/>
          <a:stretch/>
        </p:blipFill>
        <p:spPr>
          <a:xfrm>
            <a:off x="5457960" y="208296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1549" name="Picture 16" descr="игла"/>
          <p:cNvPicPr/>
          <p:nvPr/>
        </p:nvPicPr>
        <p:blipFill>
          <a:blip r:embed="rId9"/>
          <a:srcRect l="0" t="0" r="67953" b="-7953"/>
          <a:stretch/>
        </p:blipFill>
        <p:spPr>
          <a:xfrm>
            <a:off x="7402680" y="2082960"/>
            <a:ext cx="496800" cy="1368360"/>
          </a:xfrm>
          <a:prstGeom prst="rect">
            <a:avLst/>
          </a:prstGeom>
          <a:ln w="0">
            <a:noFill/>
          </a:ln>
        </p:spPr>
      </p:pic>
      <p:sp>
        <p:nvSpPr>
          <p:cNvPr id="1550" name="WordArt 17"/>
          <p:cNvSpPr txBox="1"/>
          <p:nvPr/>
        </p:nvSpPr>
        <p:spPr>
          <a:xfrm>
            <a:off x="7473960" y="3184560"/>
            <a:ext cx="152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1551" name="WordArt 18"/>
          <p:cNvSpPr txBox="1"/>
          <p:nvPr/>
        </p:nvSpPr>
        <p:spPr>
          <a:xfrm>
            <a:off x="7257960" y="3184560"/>
            <a:ext cx="152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610920" y="277920"/>
            <a:ext cx="82818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Тема урока: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«Смешанные числа»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386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4" name="Picture 4" descr="PE01496_"/>
          <p:cNvPicPr/>
          <p:nvPr/>
        </p:nvPicPr>
        <p:blipFill>
          <a:blip r:embed="rId1"/>
          <a:stretch/>
        </p:blipFill>
        <p:spPr>
          <a:xfrm>
            <a:off x="6996240" y="1628640"/>
            <a:ext cx="1611360" cy="1943280"/>
          </a:xfrm>
          <a:prstGeom prst="rect">
            <a:avLst/>
          </a:prstGeom>
          <a:ln w="0">
            <a:noFill/>
          </a:ln>
        </p:spPr>
      </p:pic>
      <p:sp>
        <p:nvSpPr>
          <p:cNvPr id="1555" name="Line 5"/>
          <p:cNvSpPr/>
          <p:nvPr/>
        </p:nvSpPr>
        <p:spPr>
          <a:xfrm>
            <a:off x="2268360" y="242100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6"/>
          <p:cNvSpPr/>
          <p:nvPr/>
        </p:nvSpPr>
        <p:spPr>
          <a:xfrm>
            <a:off x="2268360" y="270828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7"/>
          <p:cNvSpPr/>
          <p:nvPr/>
        </p:nvSpPr>
        <p:spPr>
          <a:xfrm>
            <a:off x="3203640" y="2060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 Box 8"/>
          <p:cNvSpPr/>
          <p:nvPr/>
        </p:nvSpPr>
        <p:spPr>
          <a:xfrm>
            <a:off x="4211640" y="1916280"/>
            <a:ext cx="720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9"/>
          <p:cNvSpPr/>
          <p:nvPr/>
        </p:nvSpPr>
        <p:spPr>
          <a:xfrm>
            <a:off x="4211640" y="2781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10"/>
          <p:cNvSpPr/>
          <p:nvPr/>
        </p:nvSpPr>
        <p:spPr>
          <a:xfrm>
            <a:off x="3995640" y="2349360"/>
            <a:ext cx="0" cy="50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Line 11"/>
          <p:cNvSpPr/>
          <p:nvPr/>
        </p:nvSpPr>
        <p:spPr>
          <a:xfrm>
            <a:off x="3780000" y="256536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5"/>
          <p:cNvSpPr/>
          <p:nvPr/>
        </p:nvSpPr>
        <p:spPr>
          <a:xfrm>
            <a:off x="5508720" y="213372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16"/>
          <p:cNvSpPr/>
          <p:nvPr/>
        </p:nvSpPr>
        <p:spPr>
          <a:xfrm>
            <a:off x="4859280" y="24210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17"/>
          <p:cNvSpPr/>
          <p:nvPr/>
        </p:nvSpPr>
        <p:spPr>
          <a:xfrm>
            <a:off x="4859280" y="27082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Rectangle 18"/>
          <p:cNvSpPr/>
          <p:nvPr/>
        </p:nvSpPr>
        <p:spPr>
          <a:xfrm>
            <a:off x="6087960" y="246060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9"/>
          <p:cNvSpPr/>
          <p:nvPr/>
        </p:nvSpPr>
        <p:spPr>
          <a:xfrm>
            <a:off x="6086520" y="19558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AutoShape 20"/>
          <p:cNvSpPr/>
          <p:nvPr/>
        </p:nvSpPr>
        <p:spPr>
          <a:xfrm>
            <a:off x="250920" y="3789360"/>
            <a:ext cx="8748720" cy="2881440"/>
          </a:xfrm>
          <a:prstGeom prst="flowChartDocumen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ить понятие «смешанное число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иться  выделять целую часть из  неправильной дроби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ь внимание и аккуратность в оформлении за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Прямоугольник 1"/>
          <p:cNvSpPr/>
          <p:nvPr/>
        </p:nvSpPr>
        <p:spPr>
          <a:xfrm>
            <a:off x="3286080" y="214200"/>
            <a:ext cx="30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нн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"/>
          <p:cNvSpPr/>
          <p:nvPr/>
        </p:nvSpPr>
        <p:spPr>
          <a:xfrm>
            <a:off x="571680" y="1059840"/>
            <a:ext cx="76435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нными числами называются числа, состоящие из целой и дробной ч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2"/>
          <p:cNvSpPr/>
          <p:nvPr/>
        </p:nvSpPr>
        <p:spPr>
          <a:xfrm>
            <a:off x="571680" y="2059920"/>
            <a:ext cx="68292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Wingdings 2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ь числа, содержащую целую и дробную части называют смеша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Picture 3" descr=""/>
          <p:cNvPicPr/>
          <p:nvPr/>
        </p:nvPicPr>
        <p:blipFill>
          <a:blip r:embed="rId1"/>
          <a:stretch/>
        </p:blipFill>
        <p:spPr>
          <a:xfrm>
            <a:off x="4071960" y="5643720"/>
            <a:ext cx="1785960" cy="784080"/>
          </a:xfrm>
          <a:prstGeom prst="rect">
            <a:avLst/>
          </a:prstGeom>
          <a:ln w="0">
            <a:noFill/>
          </a:ln>
        </p:spPr>
      </p:pic>
      <p:sp>
        <p:nvSpPr>
          <p:cNvPr id="1572" name="Rectangle 7"/>
          <p:cNvSpPr/>
          <p:nvPr/>
        </p:nvSpPr>
        <p:spPr>
          <a:xfrm>
            <a:off x="3454560" y="2787840"/>
            <a:ext cx="35870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ная черта по середине целой ч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Rectangle 8"/>
          <p:cNvSpPr/>
          <p:nvPr/>
        </p:nvSpPr>
        <p:spPr>
          <a:xfrm>
            <a:off x="4321440" y="471528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ная ч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7"/>
          <p:cNvSpPr/>
          <p:nvPr/>
        </p:nvSpPr>
        <p:spPr>
          <a:xfrm>
            <a:off x="4011480" y="3430800"/>
            <a:ext cx="13784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ая ч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Rectangle 8"/>
          <p:cNvSpPr/>
          <p:nvPr/>
        </p:nvSpPr>
        <p:spPr>
          <a:xfrm>
            <a:off x="3076560" y="5858280"/>
            <a:ext cx="55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                                        (принято записывать короче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6" name="Группа 22"/>
          <p:cNvGrpSpPr/>
          <p:nvPr/>
        </p:nvGrpSpPr>
        <p:grpSpPr>
          <a:xfrm>
            <a:off x="714240" y="3286080"/>
            <a:ext cx="1179720" cy="1852560"/>
            <a:chOff x="714240" y="3286080"/>
            <a:chExt cx="1179720" cy="1852560"/>
          </a:xfrm>
        </p:grpSpPr>
        <p:pic>
          <p:nvPicPr>
            <p:cNvPr id="1577" name="Прямоугольник 13" descr=""/>
            <p:cNvPicPr/>
            <p:nvPr/>
          </p:nvPicPr>
          <p:blipFill>
            <a:blip r:embed="rId2"/>
            <a:stretch/>
          </p:blipFill>
          <p:spPr>
            <a:xfrm>
              <a:off x="714240" y="3785760"/>
              <a:ext cx="534960" cy="92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8" name="Прямоугольник 14" descr=""/>
            <p:cNvPicPr/>
            <p:nvPr/>
          </p:nvPicPr>
          <p:blipFill>
            <a:blip r:embed="rId3"/>
            <a:stretch/>
          </p:blipFill>
          <p:spPr>
            <a:xfrm>
              <a:off x="1285920" y="3286080"/>
              <a:ext cx="534960" cy="92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9" name="Прямоугольник 15" descr=""/>
            <p:cNvPicPr/>
            <p:nvPr/>
          </p:nvPicPr>
          <p:blipFill>
            <a:blip r:embed="rId4"/>
            <a:stretch/>
          </p:blipFill>
          <p:spPr>
            <a:xfrm>
              <a:off x="1359000" y="4212360"/>
              <a:ext cx="534960" cy="92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0" name="Прямоугольник 16" descr=""/>
            <p:cNvPicPr/>
            <p:nvPr/>
          </p:nvPicPr>
          <p:blipFill>
            <a:blip r:embed="rId5"/>
            <a:stretch/>
          </p:blipFill>
          <p:spPr>
            <a:xfrm>
              <a:off x="1298160" y="3432240"/>
              <a:ext cx="565560" cy="92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1" name="Группа 24"/>
          <p:cNvGrpSpPr/>
          <p:nvPr/>
        </p:nvGrpSpPr>
        <p:grpSpPr>
          <a:xfrm>
            <a:off x="3429000" y="4071960"/>
            <a:ext cx="714240" cy="1533600"/>
            <a:chOff x="3429000" y="4071960"/>
            <a:chExt cx="714240" cy="1533600"/>
          </a:xfrm>
        </p:grpSpPr>
        <p:pic>
          <p:nvPicPr>
            <p:cNvPr id="1582" name="Прямоугольник 18" descr=""/>
            <p:cNvPicPr/>
            <p:nvPr/>
          </p:nvPicPr>
          <p:blipFill>
            <a:blip r:embed="rId6"/>
            <a:stretch/>
          </p:blipFill>
          <p:spPr>
            <a:xfrm>
              <a:off x="3547800" y="4071960"/>
              <a:ext cx="432720" cy="749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3" name="Группа 23"/>
            <p:cNvGrpSpPr/>
            <p:nvPr/>
          </p:nvGrpSpPr>
          <p:grpSpPr>
            <a:xfrm>
              <a:off x="3429000" y="4187520"/>
              <a:ext cx="714240" cy="1418040"/>
              <a:chOff x="3429000" y="4187520"/>
              <a:chExt cx="714240" cy="1418040"/>
            </a:xfrm>
          </p:grpSpPr>
          <p:pic>
            <p:nvPicPr>
              <p:cNvPr id="1584" name="Прямоугольник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3526920" y="4857120"/>
                <a:ext cx="392400" cy="74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5" name="Прямоугольник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3429000" y="4187520"/>
                <a:ext cx="714240" cy="852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586" name="Прямоугольник 21" descr=""/>
          <p:cNvPicPr/>
          <p:nvPr/>
        </p:nvPicPr>
        <p:blipFill>
          <a:blip r:embed="rId9"/>
          <a:stretch/>
        </p:blipFill>
        <p:spPr>
          <a:xfrm>
            <a:off x="3571920" y="3213000"/>
            <a:ext cx="42696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33"/>
                </a:solidFill>
                <a:latin typeface="Times New Roman"/>
              </a:rPr>
              <a:t>Работаем с задачей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88" name="Picture 5" descr="picture"/>
          <p:cNvPicPr/>
          <p:nvPr/>
        </p:nvPicPr>
        <p:blipFill>
          <a:blip r:embed="rId1"/>
          <a:srcRect l="3638" t="0" r="3837" b="5848"/>
          <a:stretch/>
        </p:blipFill>
        <p:spPr>
          <a:xfrm>
            <a:off x="1116000" y="1700280"/>
            <a:ext cx="6120000" cy="2160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589" name="Picture 6" descr="picture"/>
          <p:cNvPicPr/>
          <p:nvPr/>
        </p:nvPicPr>
        <p:blipFill>
          <a:blip r:embed="rId2"/>
          <a:srcRect l="5117" t="0" r="0" b="7599"/>
          <a:stretch/>
        </p:blipFill>
        <p:spPr>
          <a:xfrm>
            <a:off x="1187280" y="4221000"/>
            <a:ext cx="5689800" cy="2159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590" name="Picture 7" descr="125"/>
          <p:cNvPicPr/>
          <p:nvPr/>
        </p:nvPicPr>
        <p:blipFill>
          <a:blip r:embed="rId3"/>
          <a:stretch/>
        </p:blipFill>
        <p:spPr>
          <a:xfrm>
            <a:off x="8028000" y="260280"/>
            <a:ext cx="771480" cy="771480"/>
          </a:xfrm>
          <a:prstGeom prst="rect">
            <a:avLst/>
          </a:prstGeom>
          <a:ln w="0">
            <a:noFill/>
          </a:ln>
        </p:spPr>
      </p:pic>
      <p:sp>
        <p:nvSpPr>
          <p:cNvPr id="1591" name="AutoShape 8"/>
          <p:cNvSpPr/>
          <p:nvPr/>
        </p:nvSpPr>
        <p:spPr>
          <a:xfrm>
            <a:off x="7596360" y="2637000"/>
            <a:ext cx="1296720" cy="863280"/>
          </a:xfrm>
          <a:prstGeom prst="wedgeRectCallout">
            <a:avLst>
              <a:gd name="adj1" fmla="val -135800"/>
              <a:gd name="adj2" fmla="val 35662"/>
            </a:avLst>
          </a:prstGeom>
          <a:solidFill>
            <a:srgbClr val="cc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AutoShape 9"/>
          <p:cNvSpPr/>
          <p:nvPr/>
        </p:nvSpPr>
        <p:spPr>
          <a:xfrm>
            <a:off x="7380360" y="4221000"/>
            <a:ext cx="1512720" cy="719280"/>
          </a:xfrm>
          <a:prstGeom prst="wedgeRectCallout">
            <a:avLst>
              <a:gd name="adj1" fmla="val -128592"/>
              <a:gd name="adj2" fmla="val -42273"/>
            </a:avLst>
          </a:prstGeom>
          <a:solidFill>
            <a:srgbClr val="cc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10"/>
          <p:cNvSpPr/>
          <p:nvPr/>
        </p:nvSpPr>
        <p:spPr>
          <a:xfrm>
            <a:off x="900000" y="1628640"/>
            <a:ext cx="86364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11"/>
          <p:cNvSpPr/>
          <p:nvPr/>
        </p:nvSpPr>
        <p:spPr>
          <a:xfrm>
            <a:off x="7380360" y="5516640"/>
            <a:ext cx="1297080" cy="107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Text Box 12"/>
          <p:cNvSpPr/>
          <p:nvPr/>
        </p:nvSpPr>
        <p:spPr>
          <a:xfrm>
            <a:off x="8028000" y="5516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Text Box 13"/>
          <p:cNvSpPr/>
          <p:nvPr/>
        </p:nvSpPr>
        <p:spPr>
          <a:xfrm>
            <a:off x="8028000" y="6021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14"/>
          <p:cNvSpPr/>
          <p:nvPr/>
        </p:nvSpPr>
        <p:spPr>
          <a:xfrm>
            <a:off x="7093080" y="5229360"/>
            <a:ext cx="1728720" cy="1439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5"/>
          <p:cNvSpPr/>
          <p:nvPr/>
        </p:nvSpPr>
        <p:spPr>
          <a:xfrm>
            <a:off x="1619280" y="1989000"/>
            <a:ext cx="6192720" cy="4105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Text Box 8"/>
          <p:cNvSpPr/>
          <p:nvPr/>
        </p:nvSpPr>
        <p:spPr>
          <a:xfrm>
            <a:off x="8047080" y="5241960"/>
            <a:ext cx="536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Прямоугольник 2"/>
          <p:cNvSpPr/>
          <p:nvPr/>
        </p:nvSpPr>
        <p:spPr>
          <a:xfrm>
            <a:off x="7802640" y="5491080"/>
            <a:ext cx="1857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Text Box 8"/>
          <p:cNvSpPr/>
          <p:nvPr/>
        </p:nvSpPr>
        <p:spPr>
          <a:xfrm>
            <a:off x="5308560" y="2579760"/>
            <a:ext cx="863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Прямоугольник 8"/>
          <p:cNvSpPr/>
          <p:nvPr/>
        </p:nvSpPr>
        <p:spPr>
          <a:xfrm>
            <a:off x="4353840" y="2967120"/>
            <a:ext cx="56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Text Box 8"/>
          <p:cNvSpPr/>
          <p:nvPr/>
        </p:nvSpPr>
        <p:spPr>
          <a:xfrm>
            <a:off x="2228760" y="2536920"/>
            <a:ext cx="863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4" name="Группа 7"/>
          <p:cNvGrpSpPr/>
          <p:nvPr/>
        </p:nvGrpSpPr>
        <p:grpSpPr>
          <a:xfrm>
            <a:off x="2864520" y="2421000"/>
            <a:ext cx="1567800" cy="1783800"/>
            <a:chOff x="2864520" y="2421000"/>
            <a:chExt cx="1567800" cy="1783800"/>
          </a:xfrm>
        </p:grpSpPr>
        <p:sp>
          <p:nvSpPr>
            <p:cNvPr id="1605" name="Text Box 8"/>
            <p:cNvSpPr/>
            <p:nvPr/>
          </p:nvSpPr>
          <p:spPr>
            <a:xfrm>
              <a:off x="3742560" y="2421000"/>
              <a:ext cx="68976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00"/>
                  </a:solidFill>
                  <a:uFillTx/>
                  <a:latin typeface="Arial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Прямоугольник 2"/>
            <p:cNvSpPr/>
            <p:nvPr/>
          </p:nvSpPr>
          <p:spPr>
            <a:xfrm>
              <a:off x="3322800" y="2681280"/>
              <a:ext cx="56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Прямоугольник 4"/>
            <p:cNvSpPr/>
            <p:nvPr/>
          </p:nvSpPr>
          <p:spPr>
            <a:xfrm>
              <a:off x="2864520" y="268128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Группа 9"/>
          <p:cNvGrpSpPr/>
          <p:nvPr/>
        </p:nvGrpSpPr>
        <p:grpSpPr>
          <a:xfrm>
            <a:off x="6192720" y="2521080"/>
            <a:ext cx="1567080" cy="1783800"/>
            <a:chOff x="6192720" y="2521080"/>
            <a:chExt cx="1567080" cy="1783800"/>
          </a:xfrm>
        </p:grpSpPr>
        <p:sp>
          <p:nvSpPr>
            <p:cNvPr id="1609" name="Text Box 8"/>
            <p:cNvSpPr/>
            <p:nvPr/>
          </p:nvSpPr>
          <p:spPr>
            <a:xfrm>
              <a:off x="7070400" y="2521080"/>
              <a:ext cx="68940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00"/>
                  </a:solidFill>
                  <a:uFillTx/>
                  <a:latin typeface="Arial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Прямоугольник 11"/>
            <p:cNvSpPr/>
            <p:nvPr/>
          </p:nvSpPr>
          <p:spPr>
            <a:xfrm>
              <a:off x="6650640" y="2781360"/>
              <a:ext cx="56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Прямоугольник 12"/>
            <p:cNvSpPr/>
            <p:nvPr/>
          </p:nvSpPr>
          <p:spPr>
            <a:xfrm>
              <a:off x="6192720" y="278136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ork</dc:creator>
  <dc:description/>
  <dc:language>en-US</dc:language>
  <cp:lastModifiedBy>Work</cp:lastModifiedBy>
  <dcterms:modified xsi:type="dcterms:W3CDTF">2016-02-02T05:12:01Z</dcterms:modified>
  <cp:revision>66</cp:revision>
  <dc:subject/>
  <dc:title>PowerPoint Presentation</dc:title>
</cp:coreProperties>
</file>