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5.gif" ContentType="image/gif"/>
  <Override PartName="/ppt/media/image17.png" ContentType="image/png"/>
  <Override PartName="/ppt/media/image7.png" ContentType="image/png"/>
  <Override PartName="/ppt/media/image4.gif" ContentType="image/gif"/>
  <Override PartName="/ppt/media/image26.jpeg" ContentType="image/jpeg"/>
  <Override PartName="/ppt/media/image5.jpeg" ContentType="image/jpeg"/>
  <Override PartName="/ppt/media/image33.gif" ContentType="image/gif"/>
  <Override PartName="/ppt/media/image9.gif" ContentType="image/gif"/>
  <Override PartName="/ppt/media/image8.gif" ContentType="image/gif"/>
  <Override PartName="/ppt/media/image38.gif" ContentType="image/gif"/>
  <Override PartName="/ppt/media/image34.wmf" ContentType="image/x-wmf"/>
  <Override PartName="/ppt/media/image11.png" ContentType="image/png"/>
  <Override PartName="/ppt/media/image31.gif" ContentType="image/gif"/>
  <Override PartName="/ppt/media/image35.gif" ContentType="image/gif"/>
  <Override PartName="/ppt/media/image1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28.wmf" ContentType="image/x-wmf"/>
  <Override PartName="/ppt/media/image30.png" ContentType="image/png"/>
  <Override PartName="/ppt/media/image3.wmf" ContentType="image/x-wmf"/>
  <Override PartName="/ppt/media/image37.gif" ContentType="image/gif"/>
  <Override PartName="/ppt/media/image23.jpeg" ContentType="image/jpeg"/>
  <Override PartName="/ppt/media/image12.png" ContentType="image/png"/>
  <Override PartName="/ppt/media/image14.wmf" ContentType="image/x-wmf"/>
  <Override PartName="/ppt/media/image2.wmf" ContentType="image/x-wmf"/>
  <Override PartName="/ppt/media/image32.wmf" ContentType="image/x-wmf"/>
  <Override PartName="/ppt/media/image29.png" ContentType="image/png"/>
  <Override PartName="/ppt/media/image36.gif" ContentType="image/gif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543-6CA5-47F5-A63B-3CC22DC9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63A-239B-4581-BB93-C954737C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ADE79-C054-43D6-8423-507C21AF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91AAA-9C69-4956-B9C7-36FBF1A0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2D4C1-62FC-45A7-A32D-B02D08AF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A8039-FC35-4D14-8EDE-1A35070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59E2E-CBF3-4628-B672-C93D8A9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651BD-68DF-4D21-9954-E75F97F2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8307E-B81F-4376-B11A-0BD910FF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6D340-B7BB-43D8-A809-4503C7BB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30AFA-C0FA-46A4-B178-1917F14A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8CE2A2-1326-4AB0-8502-AB640CCA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2B7-F2D9-4F0A-AAA5-2A52A3DF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789AFD-F447-4C6A-8EBD-E5AD41C9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ECE77-11A1-4B93-9A4F-563C46B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0A90A-1BD5-4DDE-8E7C-8455413B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676BA6-A919-4B83-AFCF-7B8940CE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25A5CE-DE48-40C6-9BEC-3DDA288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1B1F89-5871-4747-8680-BCA31F4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869590-18E5-46F3-8090-5779DD2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E04571-6335-48F0-A634-709B2B3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A2A11A-F7FF-4C1A-A1D2-81EC387C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C7933-227F-4457-8C18-B3DBD043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DA9-AB3E-4DDC-971C-1CFF954D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A8180-1128-4B73-8D55-573CA42B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626E-1C44-4D6B-9F14-FB35DC4A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CC940-D2EB-4121-968C-68D28706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1EE1-171C-46DD-BD43-4741C3F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7276-895F-4649-B66C-D46A52A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4B39-CE2C-465F-B6D4-7C85E3B1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9E9A-9AD9-4B33-824E-D6D23ED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7400C-0F08-48B6-81FB-545B0D8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A3659-66D2-4E88-A1C4-1171ABC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E2C3-B7A0-4881-B9AE-A50F193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E33-B1A1-4C27-96B0-6AB77A55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A2CA0-50A3-4394-BEE1-3AF639A1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D197D-97CB-48E7-BFBF-001E078D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ED332-475F-4F83-97DB-620BB340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B23C2-CD2E-418E-898B-A6EEEADF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375F5-89BD-4EF3-A3B8-B85A522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FAD60-6B8D-48EA-A7A7-F3504BF4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FB26E-9873-4F3B-8F11-76307989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1B9A0-A871-446D-B1A0-7DE3E5D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98AC6-EC2E-4AC1-AFF6-54924987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2A5F5-2AD7-409D-B026-28BA905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F8F-D5EB-499D-93AF-1BFAAB7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9B4AE-1AB5-49F6-8596-A5E1882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FB39F-6194-4E8E-97BE-560FA45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D51F-0104-4483-8108-ABB6A082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19D2B-7E09-4369-9110-4D67B484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E348C-C958-40C5-99E0-21B8449C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03CDD-B5ED-4CFD-9886-F61E8E08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01EDF-C81B-4F9B-948B-39389C1F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E7420-B279-4DEE-90D1-D5157223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521DF-6BDD-429E-B885-D62B4C4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77087-D40D-49D0-9C81-3F38216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0898-4A0A-4090-AD3A-1EEBC722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07879-4A92-4BE8-ABC1-F6A6ED1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34B85-D515-49EA-9FD1-E4F555E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C9A11-A817-460B-9F4D-CE1CA671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3F259-310E-47DF-B736-C249ADC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38575-4036-4A58-ABCF-18BFB8FB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65980-62C7-4D75-8B9C-F6FFEAF7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88116-54DB-441A-9A1F-F902A742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03EA7-3DB6-4282-86CA-AA5CF53A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EA295-59FE-4109-8B26-DEFA764F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D378D-1267-4368-9BD0-E539B93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EFC-50CE-4B32-A0FA-7AD16A0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7D74D-369E-4222-A60E-A62AD05C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0A812-AD90-4FCD-A45A-F70C94B8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11409-B90C-4283-B420-E46BD59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D582F-72D6-4588-99B6-DFF70B4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EE4CE-06CB-4B08-B25B-BF7A8AD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8D6CB-61B8-49BE-93F6-35F1EF9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7A116-8DAB-4D4F-9F3D-06F23CD2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B0D44-B251-4CE1-918A-CB354C0B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04137-E1F1-47A8-B020-8D3E1666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A8EFE-C8D0-4E10-A586-609BDD7D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D846-6E50-4A93-8D6C-4DA6F62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68F27-6C15-409F-9584-003F76F2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6C9AB-DDD2-4DCB-A683-996413DC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83B2A-60A3-40D1-A89A-61C9F34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C71ED-0D15-4D5C-BC6D-BA14CF90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3A3D8-2E51-4991-9576-F4FE70E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545F0-2D64-4BC1-905B-7CFB377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A2B5B-E98E-4E73-902D-AD01747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268D0-E052-461F-BF0B-D354CF6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3BBD9-35D7-43E2-A6D0-D40D7DA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CA228-DDFD-4132-9B6B-06D1E13E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921-587F-4751-9A6F-F5A29645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9CE21-E7D4-4808-B1C9-13481431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CC7E6-B6B5-4E3D-84A4-C8BCC8FD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182A3-C411-458D-8D57-3CA3EB1A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D37C4-3C5E-4D8C-ACC5-4F2FCDC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06AD6-2DE5-4C11-B564-714866A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E6057-295F-49EC-8858-B6F1D2AD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6FC80-D702-437F-A31C-FBECB97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818F3-39DF-404B-9976-C833713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7133B-2B3C-4BD1-9945-2F49CDC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9EC51-67A8-446A-8AEF-931DFDC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09A4-E6AD-4E80-AFED-00AAA8E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34567-78C2-4EF1-B9B3-5E2D2DBA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3750D-B15D-4DA8-A908-4B81127D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2D5D6-8E66-4955-A9D4-DF6B73C1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78849-B98C-49D8-A92B-F3C0D647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21004-B998-48BC-8683-7A69BE94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E9654-FF30-47AB-A447-56F17E3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EA8C0-D3BC-44DE-9ACC-C76B154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74B72-9C9C-4191-A899-8863CE8A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DF70A-07E4-4C3B-B570-3804758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2EE82-38A5-4811-89FC-068FEDA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F3F-16BB-4F93-BBEE-436C293D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7B8-FD3F-49EB-9AA7-EA9007D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487D2-FF25-4A97-A153-8F882829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1509A-432B-45AF-8C47-F0338E8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E4E80-76D9-4829-A46F-5707373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74EBE-F33A-4803-87A1-5E1D5038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1A53D-8952-4FF4-B530-75E857A2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AE6C1-F1B1-4893-B077-00A1CF69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2F31C-3F3E-422A-B29C-2B97393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AAA9C-8262-4939-A82F-504C653C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6053A-1AD1-4D5A-93FA-167D283E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EFA1C-C496-48E7-A9EF-4C3247A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A579-8DD7-4BA3-9669-352E0A8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663F7-51DC-4D9E-B85A-F9FB840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5D672-FBD7-4F34-8184-9F45EDD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0A68A-A640-4372-A21A-3B64E530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AA072-BD60-41F0-AC93-A7EE68F6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226FF-F4FC-43E1-A30B-A8C7926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50B64-FD28-483C-B8D9-A7D878F5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DBFD6-9FF7-43BB-A8BD-F73D66D1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1BFEF-0B72-4595-9D44-EDC3CFA3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FDC32-E13F-4D8B-A63E-36978A6C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F29E6-9D09-418A-911F-6F8BF2CE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DD00-A02A-4699-B2A8-75852DBA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599B9-1A59-44F6-B99C-30A89691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CBBE7-1055-49A9-8F97-14B2F22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D3C70-624F-4FF9-8307-A9D84C5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06C2E-22F2-4E3D-A55F-FBF89D8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A6F29-E3E1-4969-B9C6-481AD1CC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C2C99-96F2-45AD-BC6B-D6A7E22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0649E-050C-4F99-B40F-B65A31A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9E1EE-DBC1-4AD8-A1C6-13F3EAFD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90FE5-14EE-4010-B7B1-66C0FA1B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CAB76-AFCE-4540-B0AA-F080BD13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9FEC-1FF1-450F-9992-EE1747D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0B03D-D036-4A70-A5FD-C3A50DB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6010D-C5B1-4791-90C5-A91D464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26719-8808-41A5-B9B4-67877D2E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4E6B9-5723-49BF-8779-0641B68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CF3C7-93C8-4B65-A2F6-50370DE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A1168-CFBE-4955-AAEE-6956812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F13E2-D6B6-43AE-92C8-FBE22ADA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C6A77-436F-47DD-AF4E-1DF28AA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C26AF-8B59-4662-A284-BBAE9F56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DF313-9971-4CAE-A908-40BC9C6F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560-16EE-4EB4-BCC4-C82E2F48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38B53-ABA6-407E-BE34-AEDD4F2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681C3-7496-4C8C-A6A9-706C3779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B88A2-7BF6-492E-A3C9-2E20FAAF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26835-BEE9-4F5E-A9D6-94C44D2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9ABE4-DAF5-4BF7-BCDA-0AC8531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546E4-5CD7-470B-8D0D-603BAC5C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6338A-B061-4B35-A870-D7AE875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76749-E520-4639-9CF7-17547133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4B386-7DFF-4CCE-8A04-F6648E2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806B3-192B-4CCB-84EE-BFC073E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58EA-6D0D-4366-A931-F1D6E3CA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27349-0849-49CB-9B48-27055672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B30A7-1C5D-4D43-A7D7-86FF09A1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3F87D-0F92-410C-BB64-C7241F64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05D615-931F-47B2-BF37-67B78F04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B8A2D7-5F6C-4288-879B-C0E65C6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688E1C-AEB6-4DA7-B392-94B69F47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561652-7D47-49E4-9438-58A5D7E8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8B1FB3-AF4B-4E72-A04E-42021DE6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20D17-E3A8-4D0A-B871-748F2195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3F921C-EE75-430E-90C8-0795023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523D-D387-499C-BBA2-44FFCB74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3F4285-36C0-43FB-A6AB-F69611AA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B5569-9597-44CC-8045-67D4744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0390A-2A88-4173-B352-E849010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165CB4-349A-4683-BAC2-2EA035DB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AD833-669C-42FF-99FC-52B6919E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A70B3-BD2C-4D29-BFE7-67BDFCF8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D651BF-6D65-4541-B656-3142B63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7EF32D-3EAE-4342-BC45-554A7A00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85D48-D5EE-4D7C-8B3A-3FB1EB1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36342-4FA7-48EF-B90A-81465DE3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F2DE-2A21-4F58-9EE2-7FD6CE0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8F25E-BACB-4C49-951D-B562A92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D6E27D-A60C-4711-9519-D9C0B84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6296A7-6D99-473A-BE65-BBCAD75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E8621-795D-458B-92EF-5002EA65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DC72B6-2EF9-45AB-92E6-73DBF85C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2DA2E-C133-4E83-ADCF-7FA07530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F8DAD-A1C8-40B9-84CE-D37E94F0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55DC80-31F7-45AE-8607-29619C81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D49FDD-3282-4722-B8FD-BBDBDE15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B4A68D-7BEF-41EF-B275-0217DF9F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258E-D2B7-4957-9254-66954E90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5A30B1-1A41-4F57-8141-7F8181F0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B069A7-625C-49AE-9C1D-111C420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38ECE4-1E7E-4E48-BB63-6DF2045F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18AD0D-3C1A-4A02-8EA7-163E10A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0A43B1-BB51-45D7-8AE4-E9A057C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13724F-7488-4AF1-8B25-21E3437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919A91-4DE2-461C-87E3-233C82DE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749F8-D605-49CD-B255-04EC6ED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0AA3A1-DDF2-402B-A22B-C9F53B94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44F7C0-02E3-4ADC-875C-63A6A4C5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C285-C723-4B82-ADC4-908F08F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7F237A-143A-4A43-BCEF-8623161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65B1A0-213C-47D1-863C-BBAEA602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49F306-5916-4861-8445-923F040C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01B426-FD88-406C-A330-1F22A4EA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89D970-9823-46B5-8D26-07E8A418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2DD3F2-D5A6-4528-9027-EBCE78E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2E4166-E88A-4C59-ACA2-1C770A6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92048C-FC4A-46D0-A113-4DDD5B35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2BEFE-1A50-4A7D-B758-0C1F874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FCEF94-B2E4-49E6-A62A-3A6CE12C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A81-F8D4-403E-A612-D8A143DE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D7F7-5D0D-4EA3-BF85-4CF6F81C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6C768-2920-4373-A9A0-9FC62B89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5DC9B-98EE-4A70-B1D6-38F7A700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392BB9-1597-4CE9-A042-A40A085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2646B3-9442-47C2-A61D-D9FAB3B7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082FBE-2EFA-4D19-86A0-DCF3976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C46DF9-5CCC-403B-96D8-E8751D7D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0782C3-A3DB-40B1-886F-2B245A4E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6CB451-4EA7-43D7-8999-35532C27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BE5DC8-3939-485C-9732-CB1B4E1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6DD669-4E66-4267-A015-DFEADF2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C080-EA85-4407-BC88-F0E941B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0D9FA9-3663-4DCD-9CB8-51441D1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4EDEA0-F7D7-4E49-96DB-9D6D1D26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E5ED49-FF2E-47BB-9FA5-020C1093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10F148-AC2F-443D-9294-C10BC360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0FF973-3061-4CAA-A21E-73C268E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A36C23-1FA4-485E-9A9B-5B0AC67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DF1EAC-5FC0-47E9-A68A-E0268ABE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62522-5BEE-4B80-9FA6-D04063BC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0EF4EF-0884-4C10-8188-09E25368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9C0449-A337-49D8-A34F-6A25471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E962-C078-435F-878E-B68D0A0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B22499-5BD9-4EF3-AC89-2075431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E18790-B29D-4AA6-863D-726F1D7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31BCBB-4C73-4FC4-B2A7-303436D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66D8F4-D835-4F3C-9107-356B0436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764D67-E36F-4CE5-8264-5BD6F3B9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C5C3C8-28B3-49BE-8309-FBE4B982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86E6FF-8742-4CD2-A6C4-DCCFCED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DDFC08-B679-428E-982F-2D48294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769FA2-995C-4C8E-B49D-2D03DDE6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577719-83BA-481C-823A-04022CC0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EFFD-B092-46BE-8C25-BC582E3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0B26FF-1BE0-4056-BA42-739BEF53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B5B084-91FA-41C3-AFAE-045598A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4C2DD5-BE60-4F34-8E3B-0CA7673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229776-AD17-4CB9-B17D-5F50757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76D637-0B1E-4E80-896B-509471A7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37A011-DDC4-404E-9D50-3687D20C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A64846-E6E8-4379-9FA1-75E46C52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D63722-C9FD-4395-950C-A153503B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70C15A-C985-4A58-ACF4-C664AC08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013D23-C84A-4761-9C46-C1586C2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4BF3-03CD-4176-A0B7-505D72D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44A4FB-3DD4-4E82-8D6D-6754D50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5F2428-E033-4A69-A22E-FD91F6FA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8B8A7E-39DA-4AEB-B00B-22A1787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3E184E-59A4-4BDD-B604-3206FED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B8F32F-B6D9-447B-A362-5ECCF4C9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5EB62D-855A-47D8-8F6C-EBA0813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DAA632-C5DB-47F3-8270-381B2FC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6F748E-FC2E-4297-96D0-0A10D597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DA834E-CC1A-43CE-B225-2879584E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705E-B0EA-4978-9F45-56A959AD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79D6-A4E0-4DBD-8451-078FCF27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074C3-644D-4D01-9CA5-5DB38E3E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051B-A9F8-4501-BC4F-E43A0276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06C8-7DE6-4DE0-80D4-02E6C9E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5FC-7C82-4ED1-AA7D-0E21D6D4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944B-8744-4CCB-9D5E-4FB86C2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1201-6537-4522-871A-5400CC6D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21F6-3C38-43B9-A7F8-2641A72E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DCD1-3C8F-46EB-8FF3-D1F720B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E338-989A-4138-8954-5A35E85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FBCA-32A2-4F65-B832-C5F447F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4097-30FE-4ADF-B00F-E93BB96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6BE0-649E-4EC8-999A-A6A27776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31AF-D2F7-49D5-999C-215BB507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30D0-19A5-4424-AC5C-DE295C23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908-7D02-4CC9-BF8E-EFB85E2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C9B8-1D8B-4E5D-90AB-998B352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7664-48B8-4C5E-A8A0-1075A87F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24F03-249B-4E17-893A-5845DE35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9585-AC59-4EE2-9A61-11BA169B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7736-5DBA-48DD-9E13-B3BADFE0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BA63-8F4D-48F7-B5A6-1B213C9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DA9D7-CF88-4516-B5FA-5752E82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FA5A-FB4D-4C58-AC6E-6B01517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62CD-187D-4262-BE03-F1806C33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7C90A-1368-471D-80EB-1B24066F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CEA-3E39-4FD7-80CF-2C76F0C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B5FA-AF68-4D26-92A2-EB80149E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94644-DBEF-4E6C-AE20-64EEB748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5AF3-CCF0-43B5-91D3-77006F0D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171B-7EA8-4CC7-9F2A-A3E426AA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F2E4-AAE5-4862-AD15-3EAFF2F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54DC-A76B-48C0-9DE5-9C81FEA6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0BEC5-53F2-4F3D-914E-0D886E57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69A77-AA09-4346-A95A-DAF5BA8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ED5F-070D-44C1-AD1A-ABDA96AB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2D35-A992-447D-8E46-E38FE46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2E9-B803-4145-8485-0BEEF3D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F9A1-F1B8-4961-8474-C8553D1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AE61-2D12-4EBB-BBAE-46C6918E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CBA2-CC41-4B04-9D85-19E133EF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BC0AC-DE8A-45A1-9CDB-D689A5AA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CE468-4A6F-4F15-804F-71151C66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4E3AF-2DB0-482F-9853-4083300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4C8B-EB94-4DE8-8C58-4B872A7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4131-BA9C-4789-B2AB-81B890B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DAD4-AEF7-404C-8F7A-EBE5F01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C54D-6067-4065-96BC-0CD5914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774-83B6-42B2-8D85-3E7E714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E8024-7236-4E58-BB37-2E80718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ACE6F-DEC9-4ACA-9A33-12267F2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7DBB0-ACED-4856-8572-3CDDB7A9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F0D7-B97D-4A75-998C-B97CF894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27EF-9EE9-4CBE-A060-D25333AF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73C78-8A09-4811-A5AF-C1525860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E4D7A-9DA9-403A-92F6-25A7D8A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D1AB-3942-4EA3-BDA7-3D450BC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AB4E-B3DB-480D-AAD0-D7D6372A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7FE59-0DA1-4216-88E7-43113D26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A18-306D-4B01-992B-7B47902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AE4A-28F1-4E14-9D37-E0025C5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A0604-F2FC-4BB2-AD86-674D3D9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AAD96-AEB9-4D95-ABD6-2F0A11CB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39E08-B6C1-4EDB-8538-285B9D0D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6923-7418-4679-8223-87ADBDD9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A5B4B-1FD8-45C0-967E-6674D7A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09AF-9926-41F3-9EEB-0BF83DA8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CE11B-F402-4F41-BB6B-08E91D8D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D7856-6974-44DC-B259-BEE0E94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D9807-12B6-42BB-94CC-9693D5B6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6B7-88CA-4DE3-8D90-DA2D8030CA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6F4B-7A87-4AC0-A4D6-52A5FB1EC8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8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365-FA82-4DD0-9B4F-80E227FEEC5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5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E0F1-F459-4C3E-8070-8D995ED522D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0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ACB7-6772-425A-8C7F-B7C286ECD74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5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6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6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4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4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DDE8-161C-4E27-ABB2-B8D49C3B98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0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74CE-4F8B-4322-9310-4E396A6325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6D04-B897-450D-9AE7-9FB6E92CA3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0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2843-80E8-470B-BA51-57B04BA4C9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8F68-7C26-421A-A282-EA4668B754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9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98C3-F010-4890-A94F-B0BF252374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237-A30C-4A10-9270-35CDBC6BD7D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4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4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DBA-D582-4CC5-8134-301CF60DB7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9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9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55D-4EBB-42C6-9F3D-09A74CFFCD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79F-EBE9-41FF-8799-2ECD6E922B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8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8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6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6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DC14-3E22-4ED9-8840-29BF84BABF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3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3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7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7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A1EE-A460-4E5B-90C4-2AF832F603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7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8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96D8-FEA8-458A-B534-4B933F6E68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2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2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7991-4F97-45A4-A66C-F139DB33C2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7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7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842-5D9A-453D-AB44-E2058981A4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1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2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AEC6-E072-4219-BF4A-BDEB6808C2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6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6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4455-511E-4263-A78A-6C52AD90DF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3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4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8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2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6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FB9C-5740-423B-9FC0-7AC12756BB4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A545-015B-4A8B-AEC1-1C8830ADB5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665-B801-42F0-97BA-E167505203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1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1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012-250B-4202-BD9D-250A836121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6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6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7A6-33DF-4D77-B951-0E210BAC7A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4A80-1B95-4CDE-B234-1317E46F5B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74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8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92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96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0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0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9FF-3633-4762-B7CE-1C8FF084AEE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779640" y="1125000"/>
            <a:ext cx="4537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Урок математик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3" name="Picture 8" descr="j0292982"/>
          <p:cNvPicPr/>
          <p:nvPr/>
        </p:nvPicPr>
        <p:blipFill>
          <a:blip r:embed="rId1"/>
          <a:stretch/>
        </p:blipFill>
        <p:spPr>
          <a:xfrm>
            <a:off x="7596360" y="5373720"/>
            <a:ext cx="1366560" cy="133344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7" descr="PE03254_"/>
          <p:cNvPicPr/>
          <p:nvPr/>
        </p:nvPicPr>
        <p:blipFill>
          <a:blip r:embed="rId2"/>
          <a:stretch/>
        </p:blipFill>
        <p:spPr>
          <a:xfrm>
            <a:off x="7596360" y="620640"/>
            <a:ext cx="1371600" cy="1236600"/>
          </a:xfrm>
          <a:prstGeom prst="rect">
            <a:avLst/>
          </a:prstGeom>
          <a:ln w="0">
            <a:noFill/>
          </a:ln>
        </p:spPr>
      </p:pic>
      <p:sp>
        <p:nvSpPr>
          <p:cNvPr id="1515" name="Rectangle 20"/>
          <p:cNvSpPr/>
          <p:nvPr/>
        </p:nvSpPr>
        <p:spPr>
          <a:xfrm>
            <a:off x="108000" y="115920"/>
            <a:ext cx="417672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Мы пришли сюда уч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е лениться,  а труд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ботаем стар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лушаем вним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Picture 21" descr="Дискета"/>
          <p:cNvPicPr/>
          <p:nvPr/>
        </p:nvPicPr>
        <p:blipFill>
          <a:blip r:embed="rId3"/>
          <a:stretch/>
        </p:blipFill>
        <p:spPr>
          <a:xfrm>
            <a:off x="1187280" y="494172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420920" y="37000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ший способ изучить что-либо – это открыть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"/>
          <p:cNvSpPr/>
          <p:nvPr/>
        </p:nvSpPr>
        <p:spPr>
          <a:xfrm>
            <a:off x="5511600" y="5251320"/>
            <a:ext cx="24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жордж 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орядок действи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504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бы из неправильной дроби выделить целую часть, на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ь с остатком числитель на знамен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олное частное будет целой ча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ток (если он есть) дает числитель, а делитель- знаменатель дроб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AutoShape 4"/>
          <p:cNvSpPr/>
          <p:nvPr/>
        </p:nvSpPr>
        <p:spPr>
          <a:xfrm>
            <a:off x="539640" y="6093000"/>
            <a:ext cx="4105440" cy="504720"/>
          </a:xfrm>
          <a:prstGeom prst="wedgeRectCallout">
            <a:avLst>
              <a:gd name="adj1" fmla="val 29078"/>
              <a:gd name="adj2" fmla="val -883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омним прави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5" descr="picture"/>
          <p:cNvPicPr/>
          <p:nvPr/>
        </p:nvPicPr>
        <p:blipFill>
          <a:blip r:embed="rId1"/>
          <a:stretch/>
        </p:blipFill>
        <p:spPr>
          <a:xfrm>
            <a:off x="6156360" y="907920"/>
            <a:ext cx="2592360" cy="266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16" name="AutoShape 7"/>
          <p:cNvSpPr/>
          <p:nvPr/>
        </p:nvSpPr>
        <p:spPr>
          <a:xfrm>
            <a:off x="5508720" y="3933720"/>
            <a:ext cx="1584360" cy="503280"/>
          </a:xfrm>
          <a:prstGeom prst="wedgeRectCallout">
            <a:avLst>
              <a:gd name="adj1" fmla="val 32564"/>
              <a:gd name="adj2" fmla="val -1323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utoShape 8"/>
          <p:cNvSpPr/>
          <p:nvPr/>
        </p:nvSpPr>
        <p:spPr>
          <a:xfrm>
            <a:off x="7236000" y="3933720"/>
            <a:ext cx="1728720" cy="505080"/>
          </a:xfrm>
          <a:prstGeom prst="wedgeRectCallout">
            <a:avLst>
              <a:gd name="adj1" fmla="val -8953"/>
              <a:gd name="adj2" fmla="val -30503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utoShape 9"/>
          <p:cNvSpPr/>
          <p:nvPr/>
        </p:nvSpPr>
        <p:spPr>
          <a:xfrm>
            <a:off x="6300720" y="260280"/>
            <a:ext cx="2303640" cy="432000"/>
          </a:xfrm>
          <a:prstGeom prst="wedgeRectCallout">
            <a:avLst>
              <a:gd name="adj1" fmla="val 21328"/>
              <a:gd name="adj2" fmla="val 11543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Picture 10" descr="picture"/>
          <p:cNvPicPr/>
          <p:nvPr/>
        </p:nvPicPr>
        <p:blipFill>
          <a:blip r:embed="rId2"/>
          <a:stretch/>
        </p:blipFill>
        <p:spPr>
          <a:xfrm>
            <a:off x="5940360" y="4653000"/>
            <a:ext cx="2808360" cy="2017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20" name="AutoShape 11">
            <a:hlinkClick r:id="rId3" action="ppaction://hlinksldjump"/>
          </p:cNvPr>
          <p:cNvSpPr/>
          <p:nvPr/>
        </p:nvSpPr>
        <p:spPr>
          <a:xfrm>
            <a:off x="5003640" y="6237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Если при сложении получится неправильная дробь, то из нее надо выделить целую часть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22" name="Object 3"/>
          <p:cNvGraphicFramePr/>
          <p:nvPr/>
        </p:nvGraphicFramePr>
        <p:xfrm>
          <a:off x="1808280" y="2068560"/>
          <a:ext cx="57816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2068560"/>
                    <a:ext cx="57816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Прямоугольник 4" descr=""/>
          <p:cNvPicPr/>
          <p:nvPr/>
        </p:nvPicPr>
        <p:blipFill>
          <a:blip r:embed="rId1"/>
          <a:stretch/>
        </p:blipFill>
        <p:spPr>
          <a:xfrm>
            <a:off x="1116000" y="2262240"/>
            <a:ext cx="7296120" cy="968400"/>
          </a:xfrm>
          <a:prstGeom prst="rect">
            <a:avLst/>
          </a:prstGeom>
          <a:ln w="0">
            <a:noFill/>
          </a:ln>
        </p:spPr>
      </p:pic>
      <p:pic>
        <p:nvPicPr>
          <p:cNvPr id="1625" name="зарядка.mp4" descr=""/>
          <p:cNvPicPr/>
          <p:nvPr/>
        </p:nvPicPr>
        <p:blipFill>
          <a:blip r:embed="rId2"/>
          <a:stretch/>
        </p:blipFill>
        <p:spPr>
          <a:xfrm>
            <a:off x="250920" y="217440"/>
            <a:ext cx="8510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Работаем с заданиями учебник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745080" y="1628280"/>
            <a:ext cx="525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4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5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первые пять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первые четыр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8"/>
          <p:cNvSpPr/>
          <p:nvPr/>
        </p:nvSpPr>
        <p:spPr>
          <a:xfrm>
            <a:off x="3132000" y="515772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9"/>
          <p:cNvSpPr/>
          <p:nvPr/>
        </p:nvSpPr>
        <p:spPr>
          <a:xfrm>
            <a:off x="3780000" y="4941720"/>
            <a:ext cx="72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13" descr="пп11"/>
          <p:cNvPicPr/>
          <p:nvPr/>
        </p:nvPicPr>
        <p:blipFill>
          <a:blip r:embed="rId1"/>
          <a:stretch/>
        </p:blipFill>
        <p:spPr>
          <a:xfrm>
            <a:off x="7812000" y="1989000"/>
            <a:ext cx="936720" cy="1143000"/>
          </a:xfrm>
          <a:prstGeom prst="rect">
            <a:avLst/>
          </a:prstGeom>
          <a:ln w="0">
            <a:noFill/>
          </a:ln>
        </p:spPr>
      </p:pic>
      <p:sp>
        <p:nvSpPr>
          <p:cNvPr id="1631" name="AutoShape 14"/>
          <p:cNvSpPr/>
          <p:nvPr/>
        </p:nvSpPr>
        <p:spPr>
          <a:xfrm>
            <a:off x="611280" y="1628640"/>
            <a:ext cx="3456000" cy="4753080"/>
          </a:xfrm>
          <a:prstGeom prst="wedgeRectCallout">
            <a:avLst>
              <a:gd name="adj1" fmla="val 66398"/>
              <a:gd name="adj2" fmla="val -1843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мире мудрых мы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опись - да не ошиб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у нельзя изучить, наблюдая, как это делает сосе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думает- тот всегда додум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ас все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899640" y="1728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одведем итоги работы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747360" y="10951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стигли ли мы наши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понятие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шанное чис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ся  выделять целую часть из       неправильной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мешанное число сделать неправильной дроб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ь внимание и аккуратность в оформлени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4" name="Picture 4" descr="BS00554_"/>
          <p:cNvPicPr/>
          <p:nvPr/>
        </p:nvPicPr>
        <p:blipFill>
          <a:blip r:embed="rId1"/>
          <a:stretch/>
        </p:blipFill>
        <p:spPr>
          <a:xfrm>
            <a:off x="7451640" y="4724280"/>
            <a:ext cx="1438200" cy="156852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" descr="11"/>
          <p:cNvPicPr/>
          <p:nvPr/>
        </p:nvPicPr>
        <p:blipFill>
          <a:blip r:embed="rId2"/>
          <a:stretch/>
        </p:blipFill>
        <p:spPr>
          <a:xfrm>
            <a:off x="7740720" y="40464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1636" name="AutoShape 6"/>
          <p:cNvSpPr/>
          <p:nvPr/>
        </p:nvSpPr>
        <p:spPr>
          <a:xfrm>
            <a:off x="879480" y="4519440"/>
            <a:ext cx="6416640" cy="2324160"/>
          </a:xfrm>
          <a:prstGeom prst="flowChartDocumen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ние на д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28, № 1086 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1087 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88, 1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AutoShape 7">
            <a:hlinkClick r:id="rId3" action="ppaction://hlinksldjump"/>
          </p:cNvPr>
          <p:cNvSpPr/>
          <p:nvPr/>
        </p:nvSpPr>
        <p:spPr>
          <a:xfrm>
            <a:off x="7740720" y="1488960"/>
            <a:ext cx="863640" cy="576360"/>
          </a:xfrm>
          <a:prstGeom prst="leftArrow">
            <a:avLst>
              <a:gd name="adj1" fmla="val 50000"/>
              <a:gd name="adj2" fmla="val 37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3"/>
          <p:cNvSpPr/>
          <p:nvPr/>
        </p:nvSpPr>
        <p:spPr>
          <a:xfrm>
            <a:off x="538200" y="1587240"/>
            <a:ext cx="8605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Wingdings 2"/>
                <a:ea typeface="Wingdings 2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вы поняли тему сегодняшнего урока, то наклейте розовый листочек на смешанную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Wingdings 2"/>
                <a:ea typeface="Wingdings 2"/>
              </a:rPr>
              <a:t>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не достаточно усвоили материал,        то наклейте голубой листочек на смешанную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вы не поняли тему сегодняшнего урока, то наклейте желтый листочек на смешанную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Прямоугольник 4"/>
          <p:cNvSpPr/>
          <p:nvPr/>
        </p:nvSpPr>
        <p:spPr>
          <a:xfrm>
            <a:off x="1143000" y="92880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атематику, друзь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е любить никак нельз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чень строгая наук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чень точная наук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тересная наука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то математик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12720" y="191880"/>
            <a:ext cx="8207280" cy="107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Verdana"/>
              </a:rPr>
              <a:t>Спасибо за сотрудничество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Урок сегодня завершён,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Но каждый должен знать: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Познание, упорство, труд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К успеху в жизни приведут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Желаю всем успехов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 хорошего настроения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42" name="Picture 4" descr="PE01561_"/>
          <p:cNvPicPr/>
          <p:nvPr/>
        </p:nvPicPr>
        <p:blipFill>
          <a:blip r:embed="rId1"/>
          <a:stretch/>
        </p:blipFill>
        <p:spPr>
          <a:xfrm>
            <a:off x="6012000" y="4653000"/>
            <a:ext cx="2447640" cy="162396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5" descr="07"/>
          <p:cNvPicPr/>
          <p:nvPr/>
        </p:nvPicPr>
        <p:blipFill>
          <a:blip r:embed="rId2"/>
          <a:stretch/>
        </p:blipFill>
        <p:spPr>
          <a:xfrm>
            <a:off x="7380360" y="1413000"/>
            <a:ext cx="13158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Вырази свое настро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600120" y="1930320"/>
            <a:ext cx="65548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54a021"/>
                </a:solidFill>
                <a:latin typeface="Trebuchet MS"/>
                <a:ea typeface="Times New Roman"/>
              </a:rPr>
              <a:t>Мне все понятно, у меня все получается!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У меня еще есть ошибки, но я стараюсь!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Я ничего не понимаю,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у меня ничего не получается!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46" name="Picture 10" descr="http://miranimashek.ucoz.ru/_ph/100/2/539499165.gif"/>
          <p:cNvPicPr/>
          <p:nvPr/>
        </p:nvPicPr>
        <p:blipFill>
          <a:blip r:embed="rId1"/>
          <a:stretch/>
        </p:blipFill>
        <p:spPr>
          <a:xfrm>
            <a:off x="6713640" y="1197000"/>
            <a:ext cx="2430360" cy="158436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12" descr="http://miranimashek.ucoz.ru/_ph/100/2/419793401.gif"/>
          <p:cNvPicPr/>
          <p:nvPr/>
        </p:nvPicPr>
        <p:blipFill>
          <a:blip r:embed="rId2"/>
          <a:stretch/>
        </p:blipFill>
        <p:spPr>
          <a:xfrm>
            <a:off x="7164360" y="278136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8" descr="http://miranimashek.ucoz.ru/_ph/100/2/431130505.gif"/>
          <p:cNvPicPr/>
          <p:nvPr/>
        </p:nvPicPr>
        <p:blipFill>
          <a:blip r:embed="rId3"/>
          <a:stretch/>
        </p:blipFill>
        <p:spPr>
          <a:xfrm>
            <a:off x="7164360" y="4437000"/>
            <a:ext cx="16034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Picture 4" descr="Дискета"/>
          <p:cNvPicPr/>
          <p:nvPr/>
        </p:nvPicPr>
        <p:blipFill>
          <a:blip r:embed="rId1"/>
          <a:stretch/>
        </p:blipFill>
        <p:spPr>
          <a:xfrm>
            <a:off x="7956720" y="90792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651" name="Line 5"/>
          <p:cNvSpPr/>
          <p:nvPr/>
        </p:nvSpPr>
        <p:spPr>
          <a:xfrm>
            <a:off x="611280" y="3429000"/>
            <a:ext cx="784836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6"/>
          <p:cNvSpPr/>
          <p:nvPr/>
        </p:nvSpPr>
        <p:spPr>
          <a:xfrm>
            <a:off x="611280" y="3068640"/>
            <a:ext cx="0" cy="719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7"/>
          <p:cNvSpPr/>
          <p:nvPr/>
        </p:nvSpPr>
        <p:spPr>
          <a:xfrm>
            <a:off x="4500720" y="3141720"/>
            <a:ext cx="0" cy="7189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8"/>
          <p:cNvSpPr/>
          <p:nvPr/>
        </p:nvSpPr>
        <p:spPr>
          <a:xfrm>
            <a:off x="118728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9"/>
          <p:cNvSpPr/>
          <p:nvPr/>
        </p:nvSpPr>
        <p:spPr>
          <a:xfrm>
            <a:off x="1835280" y="321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0"/>
          <p:cNvSpPr/>
          <p:nvPr/>
        </p:nvSpPr>
        <p:spPr>
          <a:xfrm>
            <a:off x="2484360" y="3141720"/>
            <a:ext cx="0" cy="7189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1"/>
          <p:cNvSpPr/>
          <p:nvPr/>
        </p:nvSpPr>
        <p:spPr>
          <a:xfrm>
            <a:off x="6588000" y="3141720"/>
            <a:ext cx="0" cy="7189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2"/>
          <p:cNvSpPr/>
          <p:nvPr/>
        </p:nvSpPr>
        <p:spPr>
          <a:xfrm>
            <a:off x="3132000" y="3284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3"/>
          <p:cNvSpPr/>
          <p:nvPr/>
        </p:nvSpPr>
        <p:spPr>
          <a:xfrm>
            <a:off x="3780000" y="3284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4"/>
          <p:cNvSpPr/>
          <p:nvPr/>
        </p:nvSpPr>
        <p:spPr>
          <a:xfrm>
            <a:off x="5148360" y="321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5"/>
          <p:cNvSpPr/>
          <p:nvPr/>
        </p:nvSpPr>
        <p:spPr>
          <a:xfrm>
            <a:off x="5867280" y="321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6"/>
          <p:cNvSpPr/>
          <p:nvPr/>
        </p:nvSpPr>
        <p:spPr>
          <a:xfrm>
            <a:off x="723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17"/>
          <p:cNvSpPr/>
          <p:nvPr/>
        </p:nvSpPr>
        <p:spPr>
          <a:xfrm>
            <a:off x="250920" y="3789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18"/>
          <p:cNvSpPr/>
          <p:nvPr/>
        </p:nvSpPr>
        <p:spPr>
          <a:xfrm>
            <a:off x="2268360" y="2349360"/>
            <a:ext cx="3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19"/>
          <p:cNvSpPr/>
          <p:nvPr/>
        </p:nvSpPr>
        <p:spPr>
          <a:xfrm>
            <a:off x="4284720" y="242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20"/>
          <p:cNvSpPr/>
          <p:nvPr/>
        </p:nvSpPr>
        <p:spPr>
          <a:xfrm>
            <a:off x="6372360" y="2421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21"/>
          <p:cNvSpPr/>
          <p:nvPr/>
        </p:nvSpPr>
        <p:spPr>
          <a:xfrm>
            <a:off x="971640" y="4076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22"/>
          <p:cNvSpPr/>
          <p:nvPr/>
        </p:nvSpPr>
        <p:spPr>
          <a:xfrm>
            <a:off x="1692360" y="3789360"/>
            <a:ext cx="3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3"/>
          <p:cNvSpPr/>
          <p:nvPr/>
        </p:nvSpPr>
        <p:spPr>
          <a:xfrm>
            <a:off x="2340000" y="40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24"/>
          <p:cNvSpPr/>
          <p:nvPr/>
        </p:nvSpPr>
        <p:spPr>
          <a:xfrm>
            <a:off x="2916360" y="4076640"/>
            <a:ext cx="3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25"/>
          <p:cNvSpPr/>
          <p:nvPr/>
        </p:nvSpPr>
        <p:spPr>
          <a:xfrm>
            <a:off x="363744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26"/>
          <p:cNvSpPr/>
          <p:nvPr/>
        </p:nvSpPr>
        <p:spPr>
          <a:xfrm>
            <a:off x="435816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27"/>
          <p:cNvSpPr/>
          <p:nvPr/>
        </p:nvSpPr>
        <p:spPr>
          <a:xfrm>
            <a:off x="500580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28"/>
          <p:cNvSpPr/>
          <p:nvPr/>
        </p:nvSpPr>
        <p:spPr>
          <a:xfrm>
            <a:off x="565344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29"/>
          <p:cNvSpPr/>
          <p:nvPr/>
        </p:nvSpPr>
        <p:spPr>
          <a:xfrm>
            <a:off x="644544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30"/>
          <p:cNvSpPr/>
          <p:nvPr/>
        </p:nvSpPr>
        <p:spPr>
          <a:xfrm>
            <a:off x="7095240" y="38606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AutoShape 31"/>
          <p:cNvSpPr/>
          <p:nvPr/>
        </p:nvSpPr>
        <p:spPr>
          <a:xfrm>
            <a:off x="611280" y="5013360"/>
            <a:ext cx="8208720" cy="1511280"/>
          </a:xfrm>
          <a:prstGeom prst="flowChartPunchedCard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целых единиц содержат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6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            3         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32"/>
          <p:cNvSpPr/>
          <p:nvPr/>
        </p:nvSpPr>
        <p:spPr>
          <a:xfrm>
            <a:off x="6094440" y="585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33"/>
          <p:cNvSpPr/>
          <p:nvPr/>
        </p:nvSpPr>
        <p:spPr>
          <a:xfrm>
            <a:off x="5076720" y="2133720"/>
            <a:ext cx="935280" cy="863640"/>
          </a:xfrm>
          <a:prstGeom prst="wedgeRectCallout">
            <a:avLst>
              <a:gd name="adj1" fmla="val -41000"/>
              <a:gd name="adj2" fmla="val 10312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34"/>
          <p:cNvSpPr/>
          <p:nvPr/>
        </p:nvSpPr>
        <p:spPr>
          <a:xfrm>
            <a:off x="971640" y="4365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35"/>
          <p:cNvSpPr/>
          <p:nvPr/>
        </p:nvSpPr>
        <p:spPr>
          <a:xfrm>
            <a:off x="2340000" y="43657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авайте вспомним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дроби называются прав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дроби называются неправ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е и неправильные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3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 5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11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 3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 2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     4       3        8         3       9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11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Picture 5" descr="picture"/>
          <p:cNvPicPr/>
          <p:nvPr/>
        </p:nvPicPr>
        <p:blipFill>
          <a:blip r:embed="rId1"/>
          <a:stretch/>
        </p:blipFill>
        <p:spPr>
          <a:xfrm>
            <a:off x="6804000" y="260280"/>
            <a:ext cx="2076480" cy="115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22" name="Picture 6" descr="picture"/>
          <p:cNvPicPr/>
          <p:nvPr/>
        </p:nvPicPr>
        <p:blipFill>
          <a:blip r:embed="rId2"/>
          <a:stretch/>
        </p:blipFill>
        <p:spPr>
          <a:xfrm>
            <a:off x="5724360" y="4149720"/>
            <a:ext cx="3024360" cy="2374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523" name="AutoShape 7"/>
          <p:cNvSpPr/>
          <p:nvPr/>
        </p:nvSpPr>
        <p:spPr>
          <a:xfrm>
            <a:off x="2484360" y="4149720"/>
            <a:ext cx="2808360" cy="2303640"/>
          </a:xfrm>
          <a:prstGeom prst="wedgeRectCallout">
            <a:avLst>
              <a:gd name="adj1" fmla="val -67750"/>
              <a:gd name="adj2" fmla="val -1822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 означ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11» и «8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Text Box 8"/>
          <p:cNvSpPr/>
          <p:nvPr/>
        </p:nvSpPr>
        <p:spPr>
          <a:xfrm>
            <a:off x="3132000" y="2565360"/>
            <a:ext cx="72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8"/>
          <p:cNvSpPr/>
          <p:nvPr/>
        </p:nvSpPr>
        <p:spPr>
          <a:xfrm>
            <a:off x="5580000" y="2637000"/>
            <a:ext cx="72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Прямоугольник 8"/>
          <p:cNvSpPr/>
          <p:nvPr/>
        </p:nvSpPr>
        <p:spPr>
          <a:xfrm>
            <a:off x="4290120" y="2967120"/>
            <a:ext cx="5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Мультфильм- В стране невыученных уроков-[save4.net].mp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419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52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00"/>
                </a:solidFill>
                <a:latin typeface="Times New Roman"/>
              </a:rPr>
              <a:t>Разгадайте  ребус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4C8-0CBF-4C33-879C-335881FACC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15"/>
          <p:cNvSpPr/>
          <p:nvPr/>
        </p:nvSpPr>
        <p:spPr>
          <a:xfrm>
            <a:off x="4859280" y="148428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14"/>
          <p:cNvSpPr/>
          <p:nvPr/>
        </p:nvSpPr>
        <p:spPr>
          <a:xfrm>
            <a:off x="500040" y="150012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Picture 4" descr="baby83[1]"/>
          <p:cNvPicPr/>
          <p:nvPr/>
        </p:nvPicPr>
        <p:blipFill>
          <a:blip r:embed="rId1"/>
          <a:stretch/>
        </p:blipFill>
        <p:spPr>
          <a:xfrm rot="291600">
            <a:off x="84240" y="3774960"/>
            <a:ext cx="1500120" cy="2057400"/>
          </a:xfrm>
          <a:prstGeom prst="rect">
            <a:avLst/>
          </a:prstGeom>
          <a:ln w="0">
            <a:noFill/>
          </a:ln>
        </p:spPr>
      </p:pic>
      <p:sp>
        <p:nvSpPr>
          <p:cNvPr id="1533" name="AutoShape 5"/>
          <p:cNvSpPr/>
          <p:nvPr/>
        </p:nvSpPr>
        <p:spPr>
          <a:xfrm>
            <a:off x="2143080" y="5429160"/>
            <a:ext cx="6408720" cy="1143000"/>
          </a:xfrm>
          <a:prstGeom prst="wedgeRoundRectCallout">
            <a:avLst>
              <a:gd name="adj1" fmla="val -60402"/>
              <a:gd name="adj2" fmla="val -127092"/>
              <a:gd name="adj3" fmla="val 16667"/>
            </a:avLst>
          </a:prstGeom>
          <a:solidFill>
            <a:srgbClr val="cefee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0000"/>
                </a:solidFill>
                <a:latin typeface="Arial"/>
              </a:rPr>
              <a:t>Сформулируйте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4" name="Picture 8" descr="angel"/>
          <p:cNvPicPr/>
          <p:nvPr/>
        </p:nvPicPr>
        <p:blipFill>
          <a:blip r:embed="rId2"/>
          <a:stretch/>
        </p:blipFill>
        <p:spPr>
          <a:xfrm>
            <a:off x="2268360" y="1989000"/>
            <a:ext cx="1511640" cy="14400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9" descr="img14"/>
          <p:cNvPicPr/>
          <p:nvPr/>
        </p:nvPicPr>
        <p:blipFill>
          <a:blip r:embed="rId3"/>
          <a:srcRect l="0" t="0" r="55981" b="0"/>
          <a:stretch/>
        </p:blipFill>
        <p:spPr>
          <a:xfrm>
            <a:off x="684360" y="1989000"/>
            <a:ext cx="1584000" cy="144000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10"/>
          <p:cNvSpPr/>
          <p:nvPr/>
        </p:nvSpPr>
        <p:spPr>
          <a:xfrm>
            <a:off x="270036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 = 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WordArt 12"/>
          <p:cNvSpPr txBox="1"/>
          <p:nvPr/>
        </p:nvSpPr>
        <p:spPr>
          <a:xfrm>
            <a:off x="3851280" y="316224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538" name="Picture 13" descr="img15"/>
          <p:cNvPicPr/>
          <p:nvPr/>
        </p:nvPicPr>
        <p:blipFill>
          <a:blip r:embed="rId4"/>
          <a:srcRect l="0" t="0" r="45964" b="0"/>
          <a:stretch/>
        </p:blipFill>
        <p:spPr>
          <a:xfrm>
            <a:off x="5435640" y="2060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6" descr="игла"/>
          <p:cNvPicPr/>
          <p:nvPr/>
        </p:nvPicPr>
        <p:blipFill>
          <a:blip r:embed="rId5"/>
          <a:srcRect l="0" t="0" r="67953" b="-7953"/>
          <a:stretch/>
        </p:blipFill>
        <p:spPr>
          <a:xfrm>
            <a:off x="7380360" y="2060640"/>
            <a:ext cx="496800" cy="1368360"/>
          </a:xfrm>
          <a:prstGeom prst="rect">
            <a:avLst/>
          </a:prstGeom>
          <a:ln w="0">
            <a:noFill/>
          </a:ln>
        </p:spPr>
      </p:pic>
      <p:sp>
        <p:nvSpPr>
          <p:cNvPr id="1540" name="WordArt 17"/>
          <p:cNvSpPr txBox="1"/>
          <p:nvPr/>
        </p:nvSpPr>
        <p:spPr>
          <a:xfrm>
            <a:off x="7451640" y="3162240"/>
            <a:ext cx="152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541" name="WordArt 18"/>
          <p:cNvSpPr txBox="1"/>
          <p:nvPr/>
        </p:nvSpPr>
        <p:spPr>
          <a:xfrm>
            <a:off x="7236000" y="316224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542" name="Rectangle 15"/>
          <p:cNvSpPr/>
          <p:nvPr/>
        </p:nvSpPr>
        <p:spPr>
          <a:xfrm>
            <a:off x="4881600" y="150660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4"/>
          <p:cNvSpPr/>
          <p:nvPr/>
        </p:nvSpPr>
        <p:spPr>
          <a:xfrm>
            <a:off x="522360" y="152244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Picture 8" descr="angel"/>
          <p:cNvPicPr/>
          <p:nvPr/>
        </p:nvPicPr>
        <p:blipFill>
          <a:blip r:embed="rId6"/>
          <a:stretch/>
        </p:blipFill>
        <p:spPr>
          <a:xfrm>
            <a:off x="2290680" y="201132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9" descr="img14"/>
          <p:cNvPicPr/>
          <p:nvPr/>
        </p:nvPicPr>
        <p:blipFill>
          <a:blip r:embed="rId7"/>
          <a:srcRect l="0" t="0" r="55981" b="0"/>
          <a:stretch/>
        </p:blipFill>
        <p:spPr>
          <a:xfrm>
            <a:off x="706320" y="201132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0"/>
          <p:cNvSpPr/>
          <p:nvPr/>
        </p:nvSpPr>
        <p:spPr>
          <a:xfrm>
            <a:off x="2722680" y="157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 = 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WordArt 12"/>
          <p:cNvSpPr txBox="1"/>
          <p:nvPr/>
        </p:nvSpPr>
        <p:spPr>
          <a:xfrm>
            <a:off x="3873600" y="318456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548" name="Picture 13" descr="img15"/>
          <p:cNvPicPr/>
          <p:nvPr/>
        </p:nvPicPr>
        <p:blipFill>
          <a:blip r:embed="rId8"/>
          <a:srcRect l="0" t="0" r="45964" b="0"/>
          <a:stretch/>
        </p:blipFill>
        <p:spPr>
          <a:xfrm>
            <a:off x="5457960" y="20829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16" descr="игла"/>
          <p:cNvPicPr/>
          <p:nvPr/>
        </p:nvPicPr>
        <p:blipFill>
          <a:blip r:embed="rId9"/>
          <a:srcRect l="0" t="0" r="67953" b="-7953"/>
          <a:stretch/>
        </p:blipFill>
        <p:spPr>
          <a:xfrm>
            <a:off x="7402680" y="2082960"/>
            <a:ext cx="496800" cy="1368360"/>
          </a:xfrm>
          <a:prstGeom prst="rect">
            <a:avLst/>
          </a:prstGeom>
          <a:ln w="0">
            <a:noFill/>
          </a:ln>
        </p:spPr>
      </p:pic>
      <p:sp>
        <p:nvSpPr>
          <p:cNvPr id="1550" name="WordArt 17"/>
          <p:cNvSpPr txBox="1"/>
          <p:nvPr/>
        </p:nvSpPr>
        <p:spPr>
          <a:xfrm>
            <a:off x="7473960" y="318456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551" name="WordArt 18"/>
          <p:cNvSpPr txBox="1"/>
          <p:nvPr/>
        </p:nvSpPr>
        <p:spPr>
          <a:xfrm>
            <a:off x="7257960" y="3184560"/>
            <a:ext cx="152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ема урока: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«Смешанные числа»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386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4" descr="PE01496_"/>
          <p:cNvPicPr/>
          <p:nvPr/>
        </p:nvPicPr>
        <p:blipFill>
          <a:blip r:embed="rId1"/>
          <a:stretch/>
        </p:blipFill>
        <p:spPr>
          <a:xfrm>
            <a:off x="6996240" y="1628640"/>
            <a:ext cx="1611360" cy="1943280"/>
          </a:xfrm>
          <a:prstGeom prst="rect">
            <a:avLst/>
          </a:prstGeom>
          <a:ln w="0">
            <a:noFill/>
          </a:ln>
        </p:spPr>
      </p:pic>
      <p:sp>
        <p:nvSpPr>
          <p:cNvPr id="1555" name="Line 5"/>
          <p:cNvSpPr/>
          <p:nvPr/>
        </p:nvSpPr>
        <p:spPr>
          <a:xfrm>
            <a:off x="2268360" y="2421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6"/>
          <p:cNvSpPr/>
          <p:nvPr/>
        </p:nvSpPr>
        <p:spPr>
          <a:xfrm>
            <a:off x="2268360" y="2708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"/>
          <p:cNvSpPr/>
          <p:nvPr/>
        </p:nvSpPr>
        <p:spPr>
          <a:xfrm>
            <a:off x="3203640" y="206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"/>
          <p:cNvSpPr/>
          <p:nvPr/>
        </p:nvSpPr>
        <p:spPr>
          <a:xfrm>
            <a:off x="4211640" y="1916280"/>
            <a:ext cx="72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9"/>
          <p:cNvSpPr/>
          <p:nvPr/>
        </p:nvSpPr>
        <p:spPr>
          <a:xfrm>
            <a:off x="4211640" y="278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0"/>
          <p:cNvSpPr/>
          <p:nvPr/>
        </p:nvSpPr>
        <p:spPr>
          <a:xfrm>
            <a:off x="3995640" y="234936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1"/>
          <p:cNvSpPr/>
          <p:nvPr/>
        </p:nvSpPr>
        <p:spPr>
          <a:xfrm>
            <a:off x="3780000" y="2565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5"/>
          <p:cNvSpPr/>
          <p:nvPr/>
        </p:nvSpPr>
        <p:spPr>
          <a:xfrm>
            <a:off x="5508720" y="213372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6"/>
          <p:cNvSpPr/>
          <p:nvPr/>
        </p:nvSpPr>
        <p:spPr>
          <a:xfrm>
            <a:off x="4859280" y="2421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7"/>
          <p:cNvSpPr/>
          <p:nvPr/>
        </p:nvSpPr>
        <p:spPr>
          <a:xfrm>
            <a:off x="4859280" y="27082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18"/>
          <p:cNvSpPr/>
          <p:nvPr/>
        </p:nvSpPr>
        <p:spPr>
          <a:xfrm>
            <a:off x="6087960" y="2460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9"/>
          <p:cNvSpPr/>
          <p:nvPr/>
        </p:nvSpPr>
        <p:spPr>
          <a:xfrm>
            <a:off x="6086520" y="1955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20"/>
          <p:cNvSpPr/>
          <p:nvPr/>
        </p:nvSpPr>
        <p:spPr>
          <a:xfrm>
            <a:off x="250920" y="3789360"/>
            <a:ext cx="8748720" cy="2881440"/>
          </a:xfrm>
          <a:prstGeom prst="flowChartDocumen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понятие «смешанное числ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 выделять целую часть из  неправильной дроб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ь внимание и аккуратность в оформлении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Прямоугольник 1"/>
          <p:cNvSpPr/>
          <p:nvPr/>
        </p:nvSpPr>
        <p:spPr>
          <a:xfrm>
            <a:off x="3286080" y="21420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"/>
          <p:cNvSpPr/>
          <p:nvPr/>
        </p:nvSpPr>
        <p:spPr>
          <a:xfrm>
            <a:off x="571680" y="1059840"/>
            <a:ext cx="7643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ми числами называются числа, состоящие из целой и дробн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2"/>
          <p:cNvSpPr/>
          <p:nvPr/>
        </p:nvSpPr>
        <p:spPr>
          <a:xfrm>
            <a:off x="571680" y="2059920"/>
            <a:ext cx="6829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числа, содержащую целую и дробную части называют смеш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Picture 3" descr=""/>
          <p:cNvPicPr/>
          <p:nvPr/>
        </p:nvPicPr>
        <p:blipFill>
          <a:blip r:embed="rId1"/>
          <a:stretch/>
        </p:blipFill>
        <p:spPr>
          <a:xfrm>
            <a:off x="4071960" y="5643720"/>
            <a:ext cx="1785960" cy="784080"/>
          </a:xfrm>
          <a:prstGeom prst="rect">
            <a:avLst/>
          </a:prstGeom>
          <a:ln w="0">
            <a:noFill/>
          </a:ln>
        </p:spPr>
      </p:pic>
      <p:sp>
        <p:nvSpPr>
          <p:cNvPr id="1572" name="Rectangle 7"/>
          <p:cNvSpPr/>
          <p:nvPr/>
        </p:nvSpPr>
        <p:spPr>
          <a:xfrm>
            <a:off x="3454560" y="2787840"/>
            <a:ext cx="35870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ая черта по середине целой ч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8"/>
          <p:cNvSpPr/>
          <p:nvPr/>
        </p:nvSpPr>
        <p:spPr>
          <a:xfrm>
            <a:off x="4321440" y="47152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4011480" y="3430800"/>
            <a:ext cx="1378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8"/>
          <p:cNvSpPr/>
          <p:nvPr/>
        </p:nvSpPr>
        <p:spPr>
          <a:xfrm>
            <a:off x="3076560" y="585828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                                        (принято записывать короч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6" name="Группа 22"/>
          <p:cNvGrpSpPr/>
          <p:nvPr/>
        </p:nvGrpSpPr>
        <p:grpSpPr>
          <a:xfrm>
            <a:off x="714240" y="3286080"/>
            <a:ext cx="1179720" cy="1852560"/>
            <a:chOff x="714240" y="3286080"/>
            <a:chExt cx="1179720" cy="1852560"/>
          </a:xfrm>
        </p:grpSpPr>
        <p:pic>
          <p:nvPicPr>
            <p:cNvPr id="1577" name="Прямоугольник 13" descr=""/>
            <p:cNvPicPr/>
            <p:nvPr/>
          </p:nvPicPr>
          <p:blipFill>
            <a:blip r:embed="rId2"/>
            <a:stretch/>
          </p:blipFill>
          <p:spPr>
            <a:xfrm>
              <a:off x="714240" y="3785760"/>
              <a:ext cx="53496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1285920" y="3286080"/>
              <a:ext cx="53496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1359000" y="4212360"/>
              <a:ext cx="53496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1298160" y="3432240"/>
              <a:ext cx="56556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1" name="Группа 24"/>
          <p:cNvGrpSpPr/>
          <p:nvPr/>
        </p:nvGrpSpPr>
        <p:grpSpPr>
          <a:xfrm>
            <a:off x="3429000" y="4071960"/>
            <a:ext cx="714240" cy="1533600"/>
            <a:chOff x="3429000" y="4071960"/>
            <a:chExt cx="714240" cy="1533600"/>
          </a:xfrm>
        </p:grpSpPr>
        <p:pic>
          <p:nvPicPr>
            <p:cNvPr id="1582" name="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3547800" y="4071960"/>
              <a:ext cx="432720" cy="74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3" name="Группа 23"/>
            <p:cNvGrpSpPr/>
            <p:nvPr/>
          </p:nvGrpSpPr>
          <p:grpSpPr>
            <a:xfrm>
              <a:off x="3429000" y="4187520"/>
              <a:ext cx="714240" cy="1418040"/>
              <a:chOff x="3429000" y="4187520"/>
              <a:chExt cx="714240" cy="1418040"/>
            </a:xfrm>
          </p:grpSpPr>
          <p:pic>
            <p:nvPicPr>
              <p:cNvPr id="1584" name="Прямоугольник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6920" y="4857120"/>
                <a:ext cx="392400" cy="74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5" name="Прямоугольник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3429000" y="4187520"/>
                <a:ext cx="714240" cy="85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86" name="Прямоугольник 21" descr=""/>
          <p:cNvPicPr/>
          <p:nvPr/>
        </p:nvPicPr>
        <p:blipFill>
          <a:blip r:embed="rId9"/>
          <a:stretch/>
        </p:blipFill>
        <p:spPr>
          <a:xfrm>
            <a:off x="3571920" y="3213000"/>
            <a:ext cx="4269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Работаем с задачей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8" name="Picture 5" descr="picture"/>
          <p:cNvPicPr/>
          <p:nvPr/>
        </p:nvPicPr>
        <p:blipFill>
          <a:blip r:embed="rId1"/>
          <a:srcRect l="3638" t="0" r="3837" b="5848"/>
          <a:stretch/>
        </p:blipFill>
        <p:spPr>
          <a:xfrm>
            <a:off x="1116000" y="1700280"/>
            <a:ext cx="6120000" cy="216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89" name="Picture 6" descr="picture"/>
          <p:cNvPicPr/>
          <p:nvPr/>
        </p:nvPicPr>
        <p:blipFill>
          <a:blip r:embed="rId2"/>
          <a:srcRect l="5117" t="0" r="0" b="7599"/>
          <a:stretch/>
        </p:blipFill>
        <p:spPr>
          <a:xfrm>
            <a:off x="1187280" y="4221000"/>
            <a:ext cx="5689800" cy="215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90" name="Picture 7" descr="125"/>
          <p:cNvPicPr/>
          <p:nvPr/>
        </p:nvPicPr>
        <p:blipFill>
          <a:blip r:embed="rId3"/>
          <a:stretch/>
        </p:blipFill>
        <p:spPr>
          <a:xfrm>
            <a:off x="8028000" y="26028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1591" name="AutoShape 8"/>
          <p:cNvSpPr/>
          <p:nvPr/>
        </p:nvSpPr>
        <p:spPr>
          <a:xfrm>
            <a:off x="7596360" y="2637000"/>
            <a:ext cx="1296720" cy="863280"/>
          </a:xfrm>
          <a:prstGeom prst="wedgeRectCallout">
            <a:avLst>
              <a:gd name="adj1" fmla="val -135800"/>
              <a:gd name="adj2" fmla="val 35662"/>
            </a:avLst>
          </a:prstGeom>
          <a:solidFill>
            <a:srgbClr val="cc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9"/>
          <p:cNvSpPr/>
          <p:nvPr/>
        </p:nvSpPr>
        <p:spPr>
          <a:xfrm>
            <a:off x="7380360" y="4221000"/>
            <a:ext cx="1512720" cy="719280"/>
          </a:xfrm>
          <a:prstGeom prst="wedgeRectCallout">
            <a:avLst>
              <a:gd name="adj1" fmla="val -128592"/>
              <a:gd name="adj2" fmla="val -42273"/>
            </a:avLst>
          </a:prstGeom>
          <a:solidFill>
            <a:srgbClr val="cc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0"/>
          <p:cNvSpPr/>
          <p:nvPr/>
        </p:nvSpPr>
        <p:spPr>
          <a:xfrm>
            <a:off x="900000" y="1628640"/>
            <a:ext cx="863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1"/>
          <p:cNvSpPr/>
          <p:nvPr/>
        </p:nvSpPr>
        <p:spPr>
          <a:xfrm>
            <a:off x="7380360" y="5516640"/>
            <a:ext cx="129708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12"/>
          <p:cNvSpPr/>
          <p:nvPr/>
        </p:nvSpPr>
        <p:spPr>
          <a:xfrm>
            <a:off x="8028000" y="551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13"/>
          <p:cNvSpPr/>
          <p:nvPr/>
        </p:nvSpPr>
        <p:spPr>
          <a:xfrm>
            <a:off x="8028000" y="602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4"/>
          <p:cNvSpPr/>
          <p:nvPr/>
        </p:nvSpPr>
        <p:spPr>
          <a:xfrm>
            <a:off x="7093080" y="5229360"/>
            <a:ext cx="1728720" cy="143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5"/>
          <p:cNvSpPr/>
          <p:nvPr/>
        </p:nvSpPr>
        <p:spPr>
          <a:xfrm>
            <a:off x="1619280" y="1989000"/>
            <a:ext cx="6192720" cy="410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8047080" y="5241960"/>
            <a:ext cx="53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2"/>
          <p:cNvSpPr/>
          <p:nvPr/>
        </p:nvSpPr>
        <p:spPr>
          <a:xfrm>
            <a:off x="7802640" y="5491080"/>
            <a:ext cx="185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 Box 8"/>
          <p:cNvSpPr/>
          <p:nvPr/>
        </p:nvSpPr>
        <p:spPr>
          <a:xfrm>
            <a:off x="5308560" y="2579760"/>
            <a:ext cx="86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8"/>
          <p:cNvSpPr/>
          <p:nvPr/>
        </p:nvSpPr>
        <p:spPr>
          <a:xfrm>
            <a:off x="4353840" y="2967120"/>
            <a:ext cx="5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2228760" y="2536920"/>
            <a:ext cx="86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Группа 7"/>
          <p:cNvGrpSpPr/>
          <p:nvPr/>
        </p:nvGrpSpPr>
        <p:grpSpPr>
          <a:xfrm>
            <a:off x="2864520" y="2421000"/>
            <a:ext cx="1567800" cy="1783800"/>
            <a:chOff x="2864520" y="2421000"/>
            <a:chExt cx="1567800" cy="1783800"/>
          </a:xfrm>
        </p:grpSpPr>
        <p:sp>
          <p:nvSpPr>
            <p:cNvPr id="1605" name="Text Box 8"/>
            <p:cNvSpPr/>
            <p:nvPr/>
          </p:nvSpPr>
          <p:spPr>
            <a:xfrm>
              <a:off x="3742560" y="2421000"/>
              <a:ext cx="6897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Прямоугольник 2"/>
            <p:cNvSpPr/>
            <p:nvPr/>
          </p:nvSpPr>
          <p:spPr>
            <a:xfrm>
              <a:off x="3322800" y="268128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Прямоугольник 4"/>
            <p:cNvSpPr/>
            <p:nvPr/>
          </p:nvSpPr>
          <p:spPr>
            <a:xfrm>
              <a:off x="2864520" y="268128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Группа 9"/>
          <p:cNvGrpSpPr/>
          <p:nvPr/>
        </p:nvGrpSpPr>
        <p:grpSpPr>
          <a:xfrm>
            <a:off x="6192720" y="2521080"/>
            <a:ext cx="1567080" cy="1783800"/>
            <a:chOff x="6192720" y="2521080"/>
            <a:chExt cx="1567080" cy="1783800"/>
          </a:xfrm>
        </p:grpSpPr>
        <p:sp>
          <p:nvSpPr>
            <p:cNvPr id="1609" name="Text Box 8"/>
            <p:cNvSpPr/>
            <p:nvPr/>
          </p:nvSpPr>
          <p:spPr>
            <a:xfrm>
              <a:off x="7070400" y="2521080"/>
              <a:ext cx="6894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Прямоугольник 11"/>
            <p:cNvSpPr/>
            <p:nvPr/>
          </p:nvSpPr>
          <p:spPr>
            <a:xfrm>
              <a:off x="6650640" y="278136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Прямоугольник 12"/>
            <p:cNvSpPr/>
            <p:nvPr/>
          </p:nvSpPr>
          <p:spPr>
            <a:xfrm>
              <a:off x="6192720" y="278136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rk</dc:creator>
  <dc:description/>
  <dc:language>en-US</dc:language>
  <cp:lastModifiedBy>Work</cp:lastModifiedBy>
  <dcterms:modified xsi:type="dcterms:W3CDTF">2016-02-02T05:12:01Z</dcterms:modified>
  <cp:revision>66</cp:revision>
  <dc:subject/>
  <dc:title>PowerPoint Presentation</dc:title>
</cp:coreProperties>
</file>