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B32-BAF9-450C-85C5-BCE28F20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313-11D0-4151-B855-1580BAE6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A01-8842-4745-AFF0-01E211F9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77A-E4AD-49A0-8577-6E6CBD42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42CA-B821-4A89-9653-29FFC96C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6BBC-2FF7-45FF-A4B1-32947CD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7B0-8E9B-44F9-AEB2-5FFD3625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1D4-844E-46F9-91BB-D95C0BC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85DC-024F-47C1-97FD-ED33DC2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C5CB-C027-41BE-B6FB-61A2857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88A3-3FE9-4008-8CEF-87EBEB2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0F2-F1AA-4FC1-8400-6D908C49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1FA-8D3E-4DA3-8A6A-C861103F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52E-4085-4599-B430-F41D9299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CB9C-8597-4B32-90C7-FA86B79F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E01-2827-41DB-AF1C-825DA64D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4E02-0D1D-47CC-B212-9EF9CBE6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782-B07B-4CA1-AFB1-5AC69808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793-6031-45D1-8581-33416B2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122-5020-4218-B306-09962CE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0A8-5356-4EEF-A01E-4EC9817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328-29A9-43EA-891D-F9D7E0D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137-9C8D-4049-8B2C-8BE5599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F26-EFBA-4C92-84FE-2C341DD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0FB-8C9D-4383-AA44-2A75983E5B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2F1-7FEE-4E1D-891C-98BDCEFF89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Уголок экспериментирования в детском саду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124000" y="3049560"/>
            <a:ext cx="497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738440" y="2855880"/>
            <a:ext cx="5359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Picture 4" descr="5b628f566d6a6a5eaaf27c360f798f43"/>
          <p:cNvPicPr/>
          <p:nvPr/>
        </p:nvPicPr>
        <p:blipFill>
          <a:blip r:embed="rId1"/>
          <a:stretch/>
        </p:blipFill>
        <p:spPr>
          <a:xfrm>
            <a:off x="900000" y="1484280"/>
            <a:ext cx="6324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оборуд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боры-помощник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кроскоп, лупы, увеличительные стекл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сы, безме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сочные, механические час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ас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тновский метр, линейки, треугольник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&amp;mcy;&amp;icy;&amp;kcy;&amp;rcy;&amp;ocy;&amp;scy;&amp;kcy;&amp;ocy;&amp;pcy; «&amp;Bcy;&amp;icy;&amp;ocy;&amp;mcy;-2»"/>
          <p:cNvPicPr/>
          <p:nvPr/>
        </p:nvPicPr>
        <p:blipFill>
          <a:blip r:embed="rId1"/>
          <a:stretch/>
        </p:blipFill>
        <p:spPr>
          <a:xfrm>
            <a:off x="7380360" y="2637000"/>
            <a:ext cx="1571400" cy="26413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155520" y="46080"/>
            <a:ext cx="4667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42008_html_198403d6_enl"/>
          <p:cNvPicPr/>
          <p:nvPr/>
        </p:nvPicPr>
        <p:blipFill>
          <a:blip r:embed="rId2"/>
          <a:stretch/>
        </p:blipFill>
        <p:spPr>
          <a:xfrm>
            <a:off x="6948360" y="76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123018b"/>
          <p:cNvPicPr/>
          <p:nvPr/>
        </p:nvPicPr>
        <p:blipFill>
          <a:blip r:embed="rId3"/>
          <a:stretch/>
        </p:blipFill>
        <p:spPr>
          <a:xfrm>
            <a:off x="3635280" y="5445000"/>
            <a:ext cx="130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онент стимулирующ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ообразные сосуды из различных материалов (пластмасса, стекло, металл, керамика) разной конфигурации и объем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ита, воронки разного размера и материал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иродный материал: камешки, глина, песок, ракушки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ишки, перья, мох, листь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утилизированный материал: проволока, кусочки кожи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ха, ткани, пластмассы, пробк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технические материалы: гайки, скрепки, болты, гвоздики и др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.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разные виды бумаги: обычная, картон, наждачная, копировальная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красители: пищевые и непищевые (гуашь, акварельные краски  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медицинские материалы: пипетки, колбы, деревянные палочки, шприцы (без игл), мерные ложки мензурки, резиновые груши и др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прочие материалы: зеркала, воздушные шары, масло, мука, соль, сахар, цветные и прозрачные стекла, 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1284199195_11949852971136319017provette_architetto_fran_01"/>
          <p:cNvPicPr/>
          <p:nvPr/>
        </p:nvPicPr>
        <p:blipFill>
          <a:blip r:embed="rId1"/>
          <a:stretch/>
        </p:blipFill>
        <p:spPr>
          <a:xfrm>
            <a:off x="7236000" y="2060640"/>
            <a:ext cx="17398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младшего возраста должны быть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, соответствующие возрасту де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ллекции:  семена разных растений, шишки, камешки, коллекции "Подарки :" (зимы, весны, осени), "Ткани",  "Бумага", "Пуговицы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камни", чудеса из стекла" и др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есок, г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абор игрушек резиновых и пластмассовых для игр в вод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материалы для игр с мыльной пеной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расители - пищевые и непищевые (гуашь, акварельные краски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семена бобов, фасоли, гор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некоторые пищевые продукты (сахар, соль, крахмал, мук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ладшая груп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ейшие приборы и приспособ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Лупы, сосуды  для воды, "ящик ощущений" (чудесный мешочек), зеркальце для игр с "солнечным зайчиком", контейнеры из "киндер-сюрпризов" с отверстиями, внутрь помещены вещества и травы с разными запах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"бросовый материал": веревки, шнурки, тесьма, катушки деревянные, прищепки, проб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видном месте вывешиваются правила работы с материалами, доступные детям  младшего возра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ерсонажи, наделанные определенными чертами-  (кукла Катя) от имени которой моделируется проблемная ситу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рточки-схемы проведения экспериментов (заполняются воспитателем, опыт зарисовываетс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2195640" y="3814920"/>
            <a:ext cx="4068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ы с песк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0" y="1636560"/>
            <a:ext cx="2936880" cy="52214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" descr=""/>
          <p:cNvPicPr/>
          <p:nvPr/>
        </p:nvPicPr>
        <p:blipFill>
          <a:blip r:embed="rId2"/>
          <a:stretch/>
        </p:blipFill>
        <p:spPr>
          <a:xfrm>
            <a:off x="3292560" y="2421000"/>
            <a:ext cx="58514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4859280" y="3686040"/>
            <a:ext cx="4268880" cy="3187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2004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004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"/>
          <p:cNvPicPr/>
          <p:nvPr/>
        </p:nvPicPr>
        <p:blipFill>
          <a:blip r:embed="rId4"/>
          <a:stretch/>
        </p:blipFill>
        <p:spPr>
          <a:xfrm>
            <a:off x="0" y="3673440"/>
            <a:ext cx="428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ы с вод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3" descr=""/>
          <p:cNvPicPr/>
          <p:nvPr/>
        </p:nvPicPr>
        <p:blipFill>
          <a:blip r:embed="rId1"/>
          <a:stretch/>
        </p:blipFill>
        <p:spPr>
          <a:xfrm>
            <a:off x="-3240" y="4194000"/>
            <a:ext cx="3567240" cy="2664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"/>
          <p:cNvPicPr/>
          <p:nvPr/>
        </p:nvPicPr>
        <p:blipFill>
          <a:blip r:embed="rId2"/>
          <a:stretch/>
        </p:blipFill>
        <p:spPr>
          <a:xfrm>
            <a:off x="0" y="1343160"/>
            <a:ext cx="3564000" cy="26622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"/>
          <p:cNvPicPr/>
          <p:nvPr/>
        </p:nvPicPr>
        <p:blipFill>
          <a:blip r:embed="rId3"/>
          <a:stretch/>
        </p:blipFill>
        <p:spPr>
          <a:xfrm>
            <a:off x="5343480" y="1224000"/>
            <a:ext cx="3800520" cy="28400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"/>
          <p:cNvPicPr/>
          <p:nvPr/>
        </p:nvPicPr>
        <p:blipFill>
          <a:blip r:embed="rId4"/>
          <a:stretch/>
        </p:blipFill>
        <p:spPr>
          <a:xfrm>
            <a:off x="5343480" y="4076640"/>
            <a:ext cx="3724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гра «Мы в лаборатори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3240" y="1417680"/>
            <a:ext cx="4524480" cy="3379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"/>
          <p:cNvPicPr/>
          <p:nvPr/>
        </p:nvPicPr>
        <p:blipFill>
          <a:blip r:embed="rId2"/>
          <a:stretch/>
        </p:blipFill>
        <p:spPr>
          <a:xfrm>
            <a:off x="4552920" y="3429000"/>
            <a:ext cx="459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ы с бумаг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1440" y="1557360"/>
            <a:ext cx="4532400" cy="33843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"/>
          <p:cNvPicPr/>
          <p:nvPr/>
        </p:nvPicPr>
        <p:blipFill>
          <a:blip r:embed="rId2"/>
          <a:stretch/>
        </p:blipFill>
        <p:spPr>
          <a:xfrm>
            <a:off x="4695840" y="3514680"/>
            <a:ext cx="4475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чи уголка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ервичных естественнонаучных представл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люд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юбозна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ивност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слительных операций (анализ, сравнение, обобщение, классификация, наблюдение)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е умений комплексно обследовать пред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ы с воздух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3" descr=""/>
          <p:cNvPicPr/>
          <p:nvPr/>
        </p:nvPicPr>
        <p:blipFill>
          <a:blip r:embed="rId1"/>
          <a:stretch/>
        </p:blipFill>
        <p:spPr>
          <a:xfrm>
            <a:off x="0" y="1417680"/>
            <a:ext cx="4332240" cy="32353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"/>
          <p:cNvPicPr/>
          <p:nvPr/>
        </p:nvPicPr>
        <p:blipFill>
          <a:blip r:embed="rId2"/>
          <a:stretch/>
        </p:blipFill>
        <p:spPr>
          <a:xfrm>
            <a:off x="4356000" y="3281400"/>
            <a:ext cx="47880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ы с воздух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9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7920" y="1417680"/>
            <a:ext cx="4427640" cy="33066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</a:t>
            </a:r>
            <a:br>
              <a:rPr sz="3500"/>
            </a:br>
            <a:r>
              <a:rPr b="1" lang="ru-RU" sz="3500" spc="-1" strike="noStrike" u="sng">
                <a:solidFill>
                  <a:srgbClr val="330066"/>
                </a:solidFill>
                <a:uFillTx/>
                <a:latin typeface="Arial"/>
              </a:rPr>
              <a:t>Старший дошкольный возрас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схемы, таблицы, модели с алгоритмами выполнения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ерии картин с изображением природных сообщест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ниги познавательного характера, атла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тематические альбо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олле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музей (тематика различна, например "Часы бывают разные:",  "Изделия из камня".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рший возра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ито, воро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ловинки мыльниц, формы для льда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леенчатые фартуки, нарукавники, резиновые перчатки, тряпки ;    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мини-стенд "О чем хочу узнать завтра"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ичные блокноты детей для фиксации результатов опы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рточки-подсказки (разрешающие - запрещающие знаки) "Что можно, что нельзя"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  персонажи, наделённые определенными чертами - ("Незнайка") от имени которого моделируется проблемная ситу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едение фиксации детского экспериментирова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не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тека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ые блокноты де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-стенд- « О чем хочу узнать завт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рточки под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i?id=352858999-62-72&amp;n=21"/>
          <p:cNvPicPr/>
          <p:nvPr/>
        </p:nvPicPr>
        <p:blipFill>
          <a:blip r:embed="rId1"/>
          <a:stretch/>
        </p:blipFill>
        <p:spPr>
          <a:xfrm>
            <a:off x="4716360" y="4508640"/>
            <a:ext cx="3384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2"/>
          <a:stretch/>
        </p:blipFill>
        <p:spPr>
          <a:xfrm>
            <a:off x="5435640" y="130644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5438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сновная задача ДОУ - поддержать и развить в ребенке интерес к исследованиям, открытиям, создать необходимые для этого условия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отное сочетание материалов и оборудования в уголке экспериментирования способствуют овладению детьми средствами познавательной деятельности, способам действий, обследованию объектов, расширению познавательного опыт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сс познания, освоение новых знаний очень важны для детей , поэтому в детском саду не должно быть четкой границы между обыденной жизнью и экспериментированием, ведь экспериментирование не самоцель, а только способ ознакомления детей с миром, в котором им предстоит жи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-11160" y="4305240"/>
            <a:ext cx="3419640" cy="25527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"/>
          <p:cNvPicPr/>
          <p:nvPr/>
        </p:nvPicPr>
        <p:blipFill>
          <a:blip r:embed="rId2"/>
          <a:stretch/>
        </p:blipFill>
        <p:spPr>
          <a:xfrm>
            <a:off x="4572000" y="4289400"/>
            <a:ext cx="4567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ребования при оборудовании уголка экспериментирования в груп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опасность для жизни и здоровья дет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аточ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6688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 уголке экспериментальной деятельности  должны быть выделены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место для постоянной выставки, где размещают музей, различные коллекции. Экспонаты, редкие предметы ( камни, перья и т. п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место для приб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для хранения материалов (природного, "бросового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место для проведения опы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место для неструктурированных материалов (песок, вода, опилки, стружка, пенопласт и др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олок экспериментирования делится на следующие компонент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дидактический 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оборудования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онент стимулирующ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идактический компон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вательные кни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ла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тические альбо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ии картин с изображением природных сооб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ы, таблицы, модели с алгоритмами выполнения опы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лгоритмы выполнения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  опытов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Для уголка экспериментирования"/>
          <p:cNvPicPr/>
          <p:nvPr/>
        </p:nvPicPr>
        <p:blipFill>
          <a:blip r:embed="rId1"/>
          <a:stretch/>
        </p:blipFill>
        <p:spPr>
          <a:xfrm>
            <a:off x="611280" y="1916280"/>
            <a:ext cx="41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277cf528e7cf32f034214ca790c186ff"/>
          <p:cNvPicPr/>
          <p:nvPr/>
        </p:nvPicPr>
        <p:blipFill>
          <a:blip r:embed="rId2"/>
          <a:stretch/>
        </p:blipFill>
        <p:spPr>
          <a:xfrm>
            <a:off x="4788000" y="2997360"/>
            <a:ext cx="4140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хема выполнения опы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img3"/>
          <p:cNvPicPr/>
          <p:nvPr/>
        </p:nvPicPr>
        <p:blipFill>
          <a:blip r:embed="rId1"/>
          <a:stretch/>
        </p:blipFill>
        <p:spPr>
          <a:xfrm>
            <a:off x="1116000" y="1916280"/>
            <a:ext cx="6696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вила поведения в уголке эксперимен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9b8461fc2550d00c1af1fede6f5be0d9"/>
          <p:cNvPicPr/>
          <p:nvPr/>
        </p:nvPicPr>
        <p:blipFill>
          <a:blip r:embed="rId1"/>
          <a:stretch/>
        </p:blipFill>
        <p:spPr>
          <a:xfrm>
            <a:off x="826920" y="148428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07:31Z</dcterms:created>
  <dc:creator>OEM</dc:creator>
  <dc:description/>
  <dc:language>en-US</dc:language>
  <cp:lastModifiedBy>Марина</cp:lastModifiedBy>
  <dcterms:modified xsi:type="dcterms:W3CDTF">2016-12-05T20:11:01Z</dcterms:modified>
  <cp:revision>19</cp:revision>
  <dc:subject/>
  <dc:title>Уголок экспериментирования в детском саду</dc:title>
</cp:coreProperties>
</file>