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4459-077F-486B-AE1F-8BE8F3ED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DAE6-EDD1-4D70-A6D5-36DC4A63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1B09-0A13-42FB-A6DC-1712D358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42BA-B2C3-465E-AE3F-E444253B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3C01-30E2-4AC4-A8BC-02F36F90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7553-85CA-47C9-84B3-E47739F5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9521-E005-4EC0-B6C9-0DBA9FB8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9B4E-8909-4F87-9C53-6885102A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17AC-1DA6-4D4B-9239-0E4C7446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A5C1-F3AC-49EF-81CA-199AB9E2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A11D-1C46-410C-9AE7-A87EFCFD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2830-15C7-4F05-B929-AA43005F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BC14-695C-4080-9DFE-798B5D60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A7FF-179E-4684-A299-6395C0FB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72D5-AFD5-4F0D-A643-C69814A5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E3BF-C77D-4096-A71A-0A6A381F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F9FF-20EC-44E6-B8F4-8DD995A1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6BEC-A18A-44F4-8A58-74E96E5B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9EE7-238C-4FDA-8D0A-0901ABA9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E97D-A136-461D-BFF2-79DB1B46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31D4-2FAD-479A-8047-E9E719C3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7219-EE8A-4152-9731-37DF32BE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741-9570-42B1-8A60-98474F0F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C305-5136-4340-AA4D-0C70EF66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9E2A-1025-4A69-ACC8-7F30C262157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3369-3E16-47F3-A034-350C939315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8F03-B74E-46CA-B2BA-E0B540F59B0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8801-3D6F-4302-BBA5-9C5BB237A2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172200" y="3657600"/>
            <a:ext cx="2438280" cy="30481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15000" y="304920"/>
            <a:ext cx="3048120" cy="25905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380880"/>
            <a:ext cx="2895480" cy="2438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2666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Классы неорганических соединений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04560" y="44197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енажер для учащих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 кл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ушак О.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400800" y="38098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rcRect l="15672" t="25835" r="17098" b="-1800"/>
          <a:stretch/>
        </p:blipFill>
        <p:spPr>
          <a:xfrm>
            <a:off x="5867280" y="457200"/>
            <a:ext cx="2743200" cy="2324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rcRect l="0" t="6022" r="0" b="9603"/>
          <a:stretch/>
        </p:blipFill>
        <p:spPr>
          <a:xfrm>
            <a:off x="609480" y="533520"/>
            <a:ext cx="252900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5764F10-427D-4E8B-AF68-CF0092CCD7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Оксид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ыполните задание №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Соотнесите название и формулу веществ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левой части: название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ещест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правой части: формула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ещест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49528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E7473-8602-43DC-A64A-AAE3537DE2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629400" y="4724280"/>
            <a:ext cx="2286000" cy="19051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43200" y="4568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Например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1676520"/>
            <a:ext cx="3886200" cy="7617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ксид ци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1600200"/>
            <a:ext cx="182880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666880"/>
            <a:ext cx="868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НИМАНИЕ: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 списке есть лишние формулы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лишнее удалить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858000" y="495288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0CBAF-F897-4249-8764-7289FCE0A7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Оксиды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1523880"/>
            <a:ext cx="38862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ксид ме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3733920"/>
            <a:ext cx="3886200" cy="7617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ксид угле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4800600"/>
            <a:ext cx="38862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ксид 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5867280"/>
            <a:ext cx="38862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ксид фосф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590920"/>
            <a:ext cx="3886200" cy="7617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ксид алюми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819520"/>
            <a:ext cx="182880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1752480"/>
            <a:ext cx="182880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3048120"/>
            <a:ext cx="182880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uS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81680" y="4038480"/>
            <a:ext cx="182880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4343400"/>
            <a:ext cx="182880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5257800"/>
            <a:ext cx="182880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u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5638680"/>
            <a:ext cx="182880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534E5-6B09-4E12-8212-462B44F97A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Сол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1600200"/>
            <a:ext cx="38862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ульфат ме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2666880"/>
            <a:ext cx="38862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рбонат 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3733920"/>
            <a:ext cx="3886200" cy="7617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итрат алюми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4724280"/>
            <a:ext cx="38862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иликат ме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5791320"/>
            <a:ext cx="3886200" cy="7617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Хлорид  ци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2057400"/>
            <a:ext cx="205740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uS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81680" y="2666880"/>
            <a:ext cx="182880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3657600"/>
            <a:ext cx="213372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4191120"/>
            <a:ext cx="228600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l(N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5181480"/>
            <a:ext cx="182880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lP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0" y="5486400"/>
            <a:ext cx="182880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uS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1066680"/>
            <a:ext cx="182880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nC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B81DD-4DEC-4FB8-BE2E-519CA90B82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Основан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1676520"/>
            <a:ext cx="3886200" cy="7617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идроксид ме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2743200"/>
            <a:ext cx="38862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идроксид желе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3809880"/>
            <a:ext cx="472428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идроксид алюми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4800600"/>
            <a:ext cx="38862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идроксид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5867280"/>
            <a:ext cx="38862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идроксид ме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3733920"/>
            <a:ext cx="228600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u(OH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5105520"/>
            <a:ext cx="228600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lC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67080" y="5562720"/>
            <a:ext cx="228600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e(OH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2590920"/>
            <a:ext cx="228600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l(N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1752480"/>
            <a:ext cx="228600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n(OH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05720" y="380880"/>
            <a:ext cx="228600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aO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267080" y="1295280"/>
            <a:ext cx="213372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l(OH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5483A-2941-4EE3-90B5-AF152FD351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Основные класс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дание №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Заполните таблицу: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Назовите предложенные веще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57200" y="3124080"/>
          <a:ext cx="8229600" cy="3041640"/>
        </p:xfrm>
        <a:graphic>
          <a:graphicData uri="http://schemas.openxmlformats.org/drawingml/2006/table">
            <a:tbl>
              <a:tblPr/>
              <a:tblGrid>
                <a:gridCol w="3429000"/>
                <a:gridCol w="48006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O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(OH)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O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F940B7-3442-49C0-B734-D6E506C450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Основные класс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те задание 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Удалите лишнее, определите класс оставшихся в группе веществ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3733920"/>
            <a:ext cx="182880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5562720"/>
            <a:ext cx="213336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0" y="5410080"/>
            <a:ext cx="182880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495680"/>
            <a:ext cx="182880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3505320"/>
            <a:ext cx="182880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5105520"/>
            <a:ext cx="228600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aO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29400" y="3352680"/>
            <a:ext cx="228600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A987B-9B79-4C05-9816-A51C461755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257800" y="3352680"/>
            <a:ext cx="3581280" cy="3276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3657600"/>
            <a:ext cx="4647960" cy="2590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304920"/>
            <a:ext cx="4267080" cy="28191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304920"/>
            <a:ext cx="3048120" cy="30477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410080" y="3505320"/>
            <a:ext cx="3329280" cy="2955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4362480" cy="2303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609480" y="4572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rcRect l="4317" t="25147" r="21315" b="4954"/>
          <a:stretch/>
        </p:blipFill>
        <p:spPr>
          <a:xfrm>
            <a:off x="4495680" y="457200"/>
            <a:ext cx="3962520" cy="254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4895B-AA93-4435-964C-77C948E4F1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2-02-09T04:54:0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