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2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4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3.jpeg" ContentType="image/jpeg"/>
  <Override PartName="/ppt/media/image45.png" ContentType="image/png"/>
  <Override PartName="/ppt/media/image34.jpeg" ContentType="image/jpeg"/>
  <Override PartName="/ppt/media/image55.png" ContentType="image/png"/>
  <Override PartName="/ppt/media/image36.jpeg" ContentType="image/jpeg"/>
  <Override PartName="/ppt/media/image11.jpeg" ContentType="image/jpeg"/>
  <Override PartName="/ppt/media/image37.jpeg" ContentType="image/jpeg"/>
  <Override PartName="/ppt/media/image50.png" ContentType="image/png"/>
  <Override PartName="/ppt/media/image9.jpeg" ContentType="image/jpeg"/>
  <Override PartName="/ppt/media/image48.png" ContentType="image/png"/>
  <Override PartName="/ppt/media/image12.jpeg" ContentType="image/jpeg"/>
  <Override PartName="/ppt/media/image46.png" ContentType="image/png"/>
  <Override PartName="/ppt/media/image32.jpeg" ContentType="image/jpeg"/>
  <Override PartName="/ppt/media/image51.png" ContentType="image/png"/>
  <Override PartName="/ppt/media/image31.jpeg" ContentType="image/jpeg"/>
  <Override PartName="/ppt/media/image53.png" ContentType="image/png"/>
  <Override PartName="/ppt/media/image30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5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B708-4F9F-4150-95DD-D3D0C3A7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3155-950E-43E5-B6A4-2605ACFB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EA6-9E3E-4A36-963D-B2449AB0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77C-BF25-475B-8E36-F46163C3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549F-7783-4922-A028-C7D93B8E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458B-82FA-4243-838A-E7171B61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91DF-B9C2-4817-8403-8147A06E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1ECF-3063-4ED2-B286-7BE2D649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0A25-A7C7-4746-9449-ECADE1AF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2ACB-EAC8-4760-A961-E3DB600E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9F24-9FF2-4637-8381-2EFE764E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0C6-E6E8-4A68-8241-0079A0A4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046D-E4DE-42E7-B9A1-49812B68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DD17-ECEC-4A6C-8FD1-69DB1FF9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7AAA-548A-44A9-8D1A-E9EF9265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4EBB-1547-48B4-8402-DD866B65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1874-1227-4C1F-8D85-C3071689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7BACF-F4EB-47B2-BCD0-F37BEED6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CAA45-CD84-4DA3-93AC-C853D86A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F79FB-8743-4972-8B83-0313132F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E55BC-DA8A-4255-A873-2296DD0D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FA4BB-CA48-49C5-8215-3AB01C0B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795A-8465-4DAC-AF8E-0C8D87F9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8C245-D997-4C4F-A096-CBFD3484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2FA9D-6832-446C-9E85-1A6E8E5E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17E40-D2EC-412F-BC22-05E9038E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FFC26-BE7D-4345-96C6-70A5F9FA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84E55-7E72-4F46-BF08-D90EC8BC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D47D2-C869-41A0-844B-B36A3A0F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73B2D-DC18-4652-ADD5-AD7DED8A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C512F-FE1F-4BB3-9420-2879E9E8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5D954-743E-47CD-A08C-4A949BD5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B90CD-0020-4AAC-B7D1-4D745B3B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EE64-5CC9-4C3E-8315-4446699D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F0DE5-DA7A-452A-9FB2-3077AE29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70B94-F5E9-4BAD-9866-EB0201DC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4B7E1-928A-411B-92AC-ED496C51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BB0E4-6A27-4C2B-98BA-7A9217DF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F1498-A301-4408-BF84-0633FB86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20B4D-521B-4DD2-A496-4853247C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ED81E-F389-4826-AED3-2C0C8728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F64ED-67E0-432D-BDDE-398A8732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0B493-DBBB-41D6-BD41-FD7F2A49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791-CB0D-4E4A-85D6-0176388B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F63-E01F-4A02-BD56-9A214973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1D9-9A6C-4963-BB1B-25C24D39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A39-19D4-43B9-9940-AE302B81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D4E-4C73-486E-ADA6-F9B0F166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C4F0-51D7-41E5-818B-1FD68980F0A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99AE-53A5-4BC4-9F1E-A21322070A3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469C-6FBE-4A12-8E61-82B96FF6A41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C4E2-E394-42B9-8D42-ED3E0B52408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1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9040" y="907920"/>
            <a:ext cx="8223120" cy="26528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ДОУ ИРМО «Марковский детский сад комбинированного вид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оспитатель старшей группы №1 Степанова Д.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обери пазлы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419200" cy="1587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3457440" y="1700280"/>
            <a:ext cx="5100840" cy="2232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3"/>
          <a:stretch/>
        </p:blipFill>
        <p:spPr>
          <a:xfrm>
            <a:off x="3855960" y="4041720"/>
            <a:ext cx="4338720" cy="1584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468360" y="3433680"/>
            <a:ext cx="1565280" cy="2871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5"/>
          <a:stretch/>
        </p:blipFill>
        <p:spPr>
          <a:xfrm>
            <a:off x="3492360" y="6093000"/>
            <a:ext cx="506592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скрас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Объект 5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632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Любите Байкал!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Цените каждую минуту на этом удивительном озере!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Не мусорите, не ломайте деревья.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И оно вам отплатит добром!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71280" y="5084280"/>
            <a:ext cx="7715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сади отдельно хвойные деревья и отдельно лиственные деревья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Объект 4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889440" cy="1152360"/>
          </a:xfrm>
          <a:prstGeom prst="rect">
            <a:avLst/>
          </a:prstGeom>
          <a:ln w="0">
            <a:noFill/>
          </a:ln>
        </p:spPr>
      </p:pic>
      <p:pic>
        <p:nvPicPr>
          <p:cNvPr id="199" name="Объект 5" descr=""/>
          <p:cNvPicPr/>
          <p:nvPr/>
        </p:nvPicPr>
        <p:blipFill>
          <a:blip r:embed="rId2"/>
          <a:stretch/>
        </p:blipFill>
        <p:spPr>
          <a:xfrm rot="3866400">
            <a:off x="6188760" y="1253520"/>
            <a:ext cx="1648080" cy="19094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6" descr=""/>
          <p:cNvPicPr/>
          <p:nvPr/>
        </p:nvPicPr>
        <p:blipFill>
          <a:blip r:embed="rId3"/>
          <a:stretch/>
        </p:blipFill>
        <p:spPr>
          <a:xfrm>
            <a:off x="3780000" y="4334040"/>
            <a:ext cx="1076040" cy="18097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7" descr=""/>
          <p:cNvPicPr/>
          <p:nvPr/>
        </p:nvPicPr>
        <p:blipFill>
          <a:blip r:embed="rId4"/>
          <a:stretch/>
        </p:blipFill>
        <p:spPr>
          <a:xfrm>
            <a:off x="1403280" y="4221000"/>
            <a:ext cx="1076400" cy="181008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8" descr=""/>
          <p:cNvPicPr/>
          <p:nvPr/>
        </p:nvPicPr>
        <p:blipFill>
          <a:blip r:embed="rId5"/>
          <a:stretch/>
        </p:blipFill>
        <p:spPr>
          <a:xfrm>
            <a:off x="5867280" y="4221000"/>
            <a:ext cx="1438560" cy="18100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9" descr=""/>
          <p:cNvPicPr/>
          <p:nvPr/>
        </p:nvPicPr>
        <p:blipFill>
          <a:blip r:embed="rId6"/>
          <a:stretch/>
        </p:blipFill>
        <p:spPr>
          <a:xfrm>
            <a:off x="2517840" y="3141720"/>
            <a:ext cx="1257120" cy="18097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0" descr=""/>
          <p:cNvPicPr/>
          <p:nvPr/>
        </p:nvPicPr>
        <p:blipFill>
          <a:blip r:embed="rId7"/>
          <a:stretch/>
        </p:blipFill>
        <p:spPr>
          <a:xfrm>
            <a:off x="7451640" y="4253040"/>
            <a:ext cx="1266840" cy="180972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1" descr=""/>
          <p:cNvPicPr/>
          <p:nvPr/>
        </p:nvPicPr>
        <p:blipFill>
          <a:blip r:embed="rId8"/>
          <a:stretch/>
        </p:blipFill>
        <p:spPr>
          <a:xfrm>
            <a:off x="4443480" y="2637000"/>
            <a:ext cx="14475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Объект 4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887640" cy="1152360"/>
          </a:xfrm>
          <a:prstGeom prst="rect">
            <a:avLst/>
          </a:prstGeom>
          <a:ln w="0">
            <a:noFill/>
          </a:ln>
        </p:spPr>
      </p:pic>
      <p:pic>
        <p:nvPicPr>
          <p:cNvPr id="207" name="Объект 5" descr=""/>
          <p:cNvPicPr/>
          <p:nvPr/>
        </p:nvPicPr>
        <p:blipFill>
          <a:blip r:embed="rId2"/>
          <a:stretch/>
        </p:blipFill>
        <p:spPr>
          <a:xfrm rot="3866400">
            <a:off x="6188760" y="1253520"/>
            <a:ext cx="1648080" cy="19094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3" descr=""/>
          <p:cNvPicPr/>
          <p:nvPr/>
        </p:nvPicPr>
        <p:blipFill>
          <a:blip r:embed="rId3"/>
          <a:stretch/>
        </p:blipFill>
        <p:spPr>
          <a:xfrm>
            <a:off x="324000" y="3005280"/>
            <a:ext cx="2752560" cy="18097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7" descr=""/>
          <p:cNvPicPr/>
          <p:nvPr/>
        </p:nvPicPr>
        <p:blipFill>
          <a:blip r:embed="rId4"/>
          <a:stretch/>
        </p:blipFill>
        <p:spPr>
          <a:xfrm>
            <a:off x="6156360" y="4797360"/>
            <a:ext cx="2762280" cy="18097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8" descr=""/>
          <p:cNvPicPr/>
          <p:nvPr/>
        </p:nvPicPr>
        <p:blipFill>
          <a:blip r:embed="rId5"/>
          <a:stretch/>
        </p:blipFill>
        <p:spPr>
          <a:xfrm>
            <a:off x="3492360" y="2862360"/>
            <a:ext cx="2772000" cy="180972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9" descr=""/>
          <p:cNvPicPr/>
          <p:nvPr/>
        </p:nvPicPr>
        <p:blipFill>
          <a:blip r:embed="rId6"/>
          <a:stretch/>
        </p:blipFill>
        <p:spPr>
          <a:xfrm>
            <a:off x="3348000" y="4687920"/>
            <a:ext cx="2533680" cy="180972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0" descr=""/>
          <p:cNvPicPr/>
          <p:nvPr/>
        </p:nvPicPr>
        <p:blipFill>
          <a:blip r:embed="rId7"/>
          <a:stretch/>
        </p:blipFill>
        <p:spPr>
          <a:xfrm>
            <a:off x="6818400" y="2987640"/>
            <a:ext cx="1438200" cy="18097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2" descr=""/>
          <p:cNvPicPr/>
          <p:nvPr/>
        </p:nvPicPr>
        <p:blipFill>
          <a:blip r:embed="rId8"/>
          <a:stretch/>
        </p:blipFill>
        <p:spPr>
          <a:xfrm>
            <a:off x="42840" y="4610160"/>
            <a:ext cx="2886120" cy="18874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осади отдельно хвойные деревья и отдельно лиственные деревья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14" descr=""/>
          <p:cNvPicPr/>
          <p:nvPr/>
        </p:nvPicPr>
        <p:blipFill>
          <a:blip r:embed="rId1"/>
          <a:stretch/>
        </p:blipFill>
        <p:spPr>
          <a:xfrm>
            <a:off x="5132520" y="1484280"/>
            <a:ext cx="2955960" cy="2376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акорми нерпу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Объект 5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2495520" cy="18097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"/>
          <p:cNvPicPr/>
          <p:nvPr/>
        </p:nvPicPr>
        <p:blipFill>
          <a:blip r:embed="rId3"/>
          <a:stretch/>
        </p:blipFill>
        <p:spPr>
          <a:xfrm>
            <a:off x="5003640" y="5442120"/>
            <a:ext cx="1758960" cy="13158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7" descr=""/>
          <p:cNvPicPr/>
          <p:nvPr/>
        </p:nvPicPr>
        <p:blipFill>
          <a:blip r:embed="rId4"/>
          <a:stretch/>
        </p:blipFill>
        <p:spPr>
          <a:xfrm>
            <a:off x="7236000" y="5535720"/>
            <a:ext cx="1635120" cy="12222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8" descr=""/>
          <p:cNvPicPr/>
          <p:nvPr/>
        </p:nvPicPr>
        <p:blipFill>
          <a:blip r:embed="rId5"/>
          <a:stretch/>
        </p:blipFill>
        <p:spPr>
          <a:xfrm>
            <a:off x="250920" y="5346720"/>
            <a:ext cx="1873080" cy="12445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"/>
          <p:cNvPicPr/>
          <p:nvPr/>
        </p:nvPicPr>
        <p:blipFill>
          <a:blip r:embed="rId6"/>
          <a:stretch/>
        </p:blipFill>
        <p:spPr>
          <a:xfrm>
            <a:off x="3419640" y="3890880"/>
            <a:ext cx="1901520" cy="12668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1" descr=""/>
          <p:cNvPicPr/>
          <p:nvPr/>
        </p:nvPicPr>
        <p:blipFill>
          <a:blip r:embed="rId7"/>
          <a:stretch/>
        </p:blipFill>
        <p:spPr>
          <a:xfrm>
            <a:off x="2664000" y="5445000"/>
            <a:ext cx="2101680" cy="13129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2" descr=""/>
          <p:cNvPicPr/>
          <p:nvPr/>
        </p:nvPicPr>
        <p:blipFill>
          <a:blip r:embed="rId8"/>
          <a:stretch/>
        </p:blipFill>
        <p:spPr>
          <a:xfrm>
            <a:off x="6896160" y="4357800"/>
            <a:ext cx="184608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6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10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1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18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2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3 -0.1368 L -0.08732 -0.29629 E">
                                      <p:cBhvr>
                                        <p:cTn id="26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Объект 3" descr=""/>
          <p:cNvPicPr/>
          <p:nvPr/>
        </p:nvPicPr>
        <p:blipFill>
          <a:blip r:embed="rId1"/>
          <a:stretch/>
        </p:blipFill>
        <p:spPr>
          <a:xfrm>
            <a:off x="6372360" y="1484280"/>
            <a:ext cx="2571480" cy="180972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"/>
          <p:cNvPicPr/>
          <p:nvPr/>
        </p:nvPicPr>
        <p:blipFill>
          <a:blip r:embed="rId2"/>
          <a:stretch/>
        </p:blipFill>
        <p:spPr>
          <a:xfrm>
            <a:off x="1692360" y="1274760"/>
            <a:ext cx="4680000" cy="55832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7" descr=""/>
          <p:cNvPicPr/>
          <p:nvPr/>
        </p:nvPicPr>
        <p:blipFill>
          <a:blip r:embed="rId3"/>
          <a:stretch/>
        </p:blipFill>
        <p:spPr>
          <a:xfrm>
            <a:off x="108000" y="4149720"/>
            <a:ext cx="1835280" cy="1224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паси нерпу от медведя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2" descr=""/>
          <p:cNvPicPr/>
          <p:nvPr/>
        </p:nvPicPr>
        <p:blipFill>
          <a:blip r:embed="rId1"/>
          <a:stretch/>
        </p:blipFill>
        <p:spPr>
          <a:xfrm rot="3908400">
            <a:off x="2922120" y="-583920"/>
            <a:ext cx="4511520" cy="59115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65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Какие рыбы живут на Байкале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Объект 3" descr=""/>
          <p:cNvPicPr/>
          <p:nvPr/>
        </p:nvPicPr>
        <p:blipFill>
          <a:blip r:embed="rId2"/>
          <a:stretch/>
        </p:blipFill>
        <p:spPr>
          <a:xfrm>
            <a:off x="539640" y="4362480"/>
            <a:ext cx="1511280" cy="80640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"/>
          <p:cNvPicPr/>
          <p:nvPr/>
        </p:nvPicPr>
        <p:blipFill>
          <a:blip r:embed="rId3"/>
          <a:stretch/>
        </p:blipFill>
        <p:spPr>
          <a:xfrm>
            <a:off x="287280" y="5661000"/>
            <a:ext cx="2232000" cy="10368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"/>
          <p:cNvPicPr/>
          <p:nvPr/>
        </p:nvPicPr>
        <p:blipFill>
          <a:blip r:embed="rId4"/>
          <a:stretch/>
        </p:blipFill>
        <p:spPr>
          <a:xfrm>
            <a:off x="2843280" y="5481720"/>
            <a:ext cx="1800000" cy="12002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6" descr=""/>
          <p:cNvPicPr/>
          <p:nvPr/>
        </p:nvPicPr>
        <p:blipFill>
          <a:blip r:embed="rId5"/>
          <a:stretch/>
        </p:blipFill>
        <p:spPr>
          <a:xfrm>
            <a:off x="6804000" y="5508720"/>
            <a:ext cx="1871640" cy="140004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8" descr=""/>
          <p:cNvPicPr/>
          <p:nvPr/>
        </p:nvPicPr>
        <p:blipFill>
          <a:blip r:embed="rId6"/>
          <a:stretch/>
        </p:blipFill>
        <p:spPr>
          <a:xfrm>
            <a:off x="4873680" y="4362480"/>
            <a:ext cx="2247840" cy="9046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9" descr=""/>
          <p:cNvPicPr/>
          <p:nvPr/>
        </p:nvPicPr>
        <p:blipFill>
          <a:blip r:embed="rId7"/>
          <a:stretch/>
        </p:blipFill>
        <p:spPr>
          <a:xfrm>
            <a:off x="2268360" y="3821040"/>
            <a:ext cx="2232360" cy="14875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0" descr=""/>
          <p:cNvPicPr/>
          <p:nvPr/>
        </p:nvPicPr>
        <p:blipFill>
          <a:blip r:embed="rId8"/>
          <a:stretch/>
        </p:blipFill>
        <p:spPr>
          <a:xfrm>
            <a:off x="4873680" y="5481720"/>
            <a:ext cx="1636560" cy="1224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1" descr=""/>
          <p:cNvPicPr/>
          <p:nvPr/>
        </p:nvPicPr>
        <p:blipFill>
          <a:blip r:embed="rId9"/>
          <a:stretch/>
        </p:blipFill>
        <p:spPr>
          <a:xfrm>
            <a:off x="7122960" y="4005360"/>
            <a:ext cx="186228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-0.24729 L 0.06302 -0.20727 C 0.07708 -0.19825 0.09809 -0.19339 0.11996 -0.19339 C 0.14496 -0.19339 0.16493 -0.19825 0.17899 -0.20727 L 0.246 -0.24729 E">
                                      <p:cBhvr>
                                        <p:cTn id="32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18 -0.3907 L 0.09219 -0.35069 C 0.10625 -0.34166 0.12726 -0.33681 0.14913 -0.33681 C 0.17413 -0.33681 0.1941 -0.34166 0.20816 -0.35069 L 0.27518 -0.3907 E">
                                      <p:cBhvr>
                                        <p:cTn id="36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91 -0.60398 L 0.28889 -0.57321 C 0.30347 -0.56627 0.32483 -0.56419 0.34653 -0.5672 C 0.37136 -0.57067 0.39045 -0.57807 0.40417 -0.58894 L 0.46771 -0.63798 E">
                                      <p:cBhvr>
                                        <p:cTn id="4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32 -0.63845 L -0.2283 -0.59843 C -0.21424 -0.58941 -0.19323 -0.58455 -0.17136 -0.58455 C -0.14636 -0.58455 -0.12639 -0.58941 -0.11233 -0.59843 L -0.04531 -0.63845 E">
                                      <p:cBhvr>
                                        <p:cTn id="44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416 -0.39464 L -0.28715 -0.35462 C -0.27309 -0.3456 -0.25208 -0.34074 -0.2302 -0.34074 C -0.2052 -0.34074 -0.18524 -0.3456 -0.17118 -0.35462 L -0.10416 -0.39464 E">
                                      <p:cBhvr>
                                        <p:cTn id="48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кажи Байкальского эндемика.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Что значит эндемик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Объект 3" descr=""/>
          <p:cNvPicPr/>
          <p:nvPr/>
        </p:nvPicPr>
        <p:blipFill>
          <a:blip r:embed="rId1"/>
          <a:stretch/>
        </p:blipFill>
        <p:spPr>
          <a:xfrm>
            <a:off x="4788000" y="4581360"/>
            <a:ext cx="3390840" cy="18100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"/>
          <p:cNvPicPr/>
          <p:nvPr/>
        </p:nvPicPr>
        <p:blipFill>
          <a:blip r:embed="rId2"/>
          <a:stretch/>
        </p:blipFill>
        <p:spPr>
          <a:xfrm>
            <a:off x="755640" y="4797360"/>
            <a:ext cx="2981160" cy="18097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5" descr=""/>
          <p:cNvPicPr/>
          <p:nvPr/>
        </p:nvPicPr>
        <p:blipFill>
          <a:blip r:embed="rId3"/>
          <a:stretch/>
        </p:blipFill>
        <p:spPr>
          <a:xfrm>
            <a:off x="971640" y="2425680"/>
            <a:ext cx="2419200" cy="18097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6" descr=""/>
          <p:cNvPicPr/>
          <p:nvPr/>
        </p:nvPicPr>
        <p:blipFill>
          <a:blip r:embed="rId4"/>
          <a:stretch/>
        </p:blipFill>
        <p:spPr>
          <a:xfrm>
            <a:off x="5651640" y="2492280"/>
            <a:ext cx="2895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1936800" y="5505480"/>
            <a:ext cx="2341440" cy="6192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обери пазл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2411280" y="1989000"/>
            <a:ext cx="3486240" cy="1105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3"/>
          <a:stretch/>
        </p:blipFill>
        <p:spPr>
          <a:xfrm>
            <a:off x="4764240" y="3933720"/>
            <a:ext cx="3528720" cy="647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4"/>
          <a:stretch/>
        </p:blipFill>
        <p:spPr>
          <a:xfrm>
            <a:off x="6443640" y="5229360"/>
            <a:ext cx="23083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обери пазл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5364000" y="3141720"/>
            <a:ext cx="2345040" cy="3170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6151680" y="1989000"/>
            <a:ext cx="2830320" cy="1057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"/>
          <p:cNvPicPr/>
          <p:nvPr/>
        </p:nvPicPr>
        <p:blipFill>
          <a:blip r:embed="rId3"/>
          <a:stretch/>
        </p:blipFill>
        <p:spPr>
          <a:xfrm>
            <a:off x="1403280" y="2924280"/>
            <a:ext cx="28717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7T14:21:46Z</dcterms:created>
  <dc:creator>Дмитрий</dc:creator>
  <dc:description/>
  <dc:language>en-US</dc:language>
  <cp:lastModifiedBy>Admin</cp:lastModifiedBy>
  <dcterms:modified xsi:type="dcterms:W3CDTF">2016-12-05T05:31:31Z</dcterms:modified>
  <cp:revision>10</cp:revision>
  <dc:subject/>
  <dc:title>Викторина Байкальские знатоки.</dc:title>
</cp:coreProperties>
</file>