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C3C-6EE6-445E-85B0-6A02DB20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499-439B-4BC8-BB5B-02D9AE5C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7BF-F172-4D67-8112-C4CB1041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977-FE7D-41F4-9E4B-A2864553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81D-5784-4A3B-A83D-2452EFA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CC7-A70C-4C16-B81F-EC12B4D2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A07-992A-4624-9FE9-68C272C3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3F6-A974-499D-A0DD-DBAAA19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0A3-9566-4615-A54A-2F8F80A6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1EA-D1C8-414E-A57F-D27E9C8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E5C-C903-4EA6-8437-ED71DAA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133-DC15-42CB-904E-7016081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D197-F0E8-4C4C-8F8A-2D1A39326F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8"/>
          <p:cNvSpPr txBox="1"/>
          <p:nvPr/>
        </p:nvSpPr>
        <p:spPr>
          <a:xfrm>
            <a:off x="395280" y="692280"/>
            <a:ext cx="842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7 ЗАГАДОК ПРО СПОР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29"/>
          <p:cNvSpPr txBox="1"/>
          <p:nvPr/>
        </p:nvSpPr>
        <p:spPr>
          <a:xfrm>
            <a:off x="3635280" y="4869000"/>
            <a:ext cx="518472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зентацию подготови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ащийся 4 класса "В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кова Александ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скорость полета этого спортивного снаряда в матчах профессиональных спортсменов, составляет около 300 км/ч. А рекордсменом является Тан Бун Хан из Малайзии, после его удара снаряд развил скорость 493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ол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6560" y="1197000"/>
            <a:ext cx="828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Arial"/>
              </a:rPr>
              <a:t>Средняя скорость полета этого спортивного снаряда в матчах профессиональных спортсменов,  составляет около 300 км/ч. А рекордсменом является Тан Бун Хан из Малайзии, после его удара снаряд развил скорость 493 км/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ab40cc22936cca07d913c5dd344df"/>
          <p:cNvPicPr/>
          <p:nvPr/>
        </p:nvPicPr>
        <p:blipFill>
          <a:blip r:embed="rId1"/>
          <a:stretch/>
        </p:blipFill>
        <p:spPr>
          <a:xfrm>
            <a:off x="38160" y="44280"/>
            <a:ext cx="907092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смены в этом виде спорта ходят си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спорта, в котором женщины больше всего следят за своими фигу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этого вида спорта в переводе с персидского языка означает «король мерт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Шахм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2560" y="90792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портсмены в этом виде спорта ходят сид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ид спорта, в котором женщины больше всего следят за своими фигу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звание этого вида спорта в переводе с персидского языка означает «король мёрт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78-615-dp2"/>
          <p:cNvPicPr/>
          <p:nvPr/>
        </p:nvPicPr>
        <p:blipFill>
          <a:blip r:embed="rId1"/>
          <a:stretch/>
        </p:blipFill>
        <p:spPr>
          <a:xfrm>
            <a:off x="108000" y="187200"/>
            <a:ext cx="9036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международные состязания в этом виде спорта прошли на полигоне в подмосковном Алабино в августе 2013 года. Эти состязания в искусстве вождения танка и точности стрельбы из установленного на танках оруж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анковый биатл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ервые международные состязания в этом виде спорта прошли на полигоне в подмосковном Алабино в августе 2013 года. Это состязания в искусстве вождения танка и точности стрельбы из установленного на танках оруж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ewsbel_by-8_08_2014-RorA73SQT89W2QC00tx05gmJJDunOkEG"/>
          <p:cNvPicPr/>
          <p:nvPr/>
        </p:nvPicPr>
        <p:blipFill>
          <a:blip r:embed="rId1"/>
          <a:stretch/>
        </p:blipFill>
        <p:spPr>
          <a:xfrm>
            <a:off x="108000" y="34920"/>
            <a:ext cx="89647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2340000" y="5208480"/>
            <a:ext cx="640872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6" descr="stat450-3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государстве в футбольном первенстве играют такие команды как «Библиотека», «Телепочта», «Гвардейцы», «Сборная музеев», «Бан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атик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этом государстве в футбольном первенстве играют такие команды как «Библиотека», «Телепочта», «Гвардейцы», «Сборная музеев», «Банк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спортивный снаряд состоит из 32 панелек – двадцать белых шестиугольников и двенадцать черных пятиуголь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утбольный мя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5280" y="2205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Этот спортивный снаряд состоит из 32 панелек – двадцать белых шестиугольников и двенадцать черных пятиугольников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мяч"/>
          <p:cNvPicPr/>
          <p:nvPr/>
        </p:nvPicPr>
        <p:blipFill>
          <a:blip r:embed="rId1"/>
          <a:stretch/>
        </p:blipFill>
        <p:spPr>
          <a:xfrm>
            <a:off x="108000" y="115920"/>
            <a:ext cx="896472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вращения этого спортсмена – 6 оборотов в секунду! К примеру, также быстро вращается колесо автомобиля на скорости 50 километров в час, или барабан стиральной машины, когда она отжимает бел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гури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485720"/>
            <a:ext cx="8353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Скорость вращения этого спортсмена – 6 оборотов в секунду! К примеру, также быстро вращается колесо автомобиля на скорости 50 километров в час, или барабан стиральной машины, когда она отжимает бель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035587_7915f7d5_640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сентября 2009 года этот танец объявлен объектом Всемирного наследия ЮНЕСКО. Первоначально его танцевали только мужчины. Сейчас этот танец входит в европейскую программу соревнований по спортивным бальным тан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ан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280" y="1486080"/>
            <a:ext cx="813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30 сентября 2009 года этот танец объявлен объектом Всемирного наследия ЮНЕСКО. Первоначально его танцевали только мужчины. Сейчас этот танец входит в европейскую программу соревнований по спортивным бальным танц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atino-dancers-in-ballroom-against-black-background-shutterstock_163187216-1"/>
          <p:cNvPicPr/>
          <p:nvPr/>
        </p:nvPicPr>
        <p:blipFill>
          <a:blip r:embed="rId1"/>
          <a:stretch/>
        </p:blipFill>
        <p:spPr>
          <a:xfrm>
            <a:off x="73080" y="7308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ew17</cp:lastModifiedBy>
  <dcterms:modified xsi:type="dcterms:W3CDTF">2016-12-05T06:32:24Z</dcterms:modified>
  <cp:revision>329</cp:revision>
  <dc:subject/>
  <dc:title>Diapositiva 1</dc:title>
</cp:coreProperties>
</file>