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12F-3BBF-4341-AB87-A8377620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C50-EC05-4DC7-A3C0-EBE40EFB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8BE-7794-45EB-875E-367ED3BD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47D-F060-4401-9283-BBAAC76D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1D9-C9B2-4486-AEF5-B28CCD67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488-87BB-40B0-B610-42BED684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675B-9033-498D-970B-EB8CCC3E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F15-4D3A-485D-A375-F9A50D88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33A-A8E0-4385-8D72-98D8787E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CD7A-0D50-48DA-9104-3D479090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D31-0520-4BD7-9BCE-4F20976A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5492-D459-4E2B-BF16-FD83AD6D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D041-6263-4F54-99DF-49F96C5E9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тмосферные явл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л ученик 8 «В» класса Шапошников Вад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й руководитель: Гредасова Елена Петров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рабо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ю моей работы является изучение атмосферных явлений (молнии). Особое внимание я уделил шаровой мол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3213000"/>
            <a:ext cx="352908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молн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49" name=""/>
          <p:cNvSpPr/>
          <p:nvPr/>
        </p:nvSpPr>
        <p:spPr>
          <a:xfrm flipH="1">
            <a:off x="1258560" y="1916280"/>
            <a:ext cx="2600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92720" y="1916280"/>
            <a:ext cx="2519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916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6000" y="2704680"/>
            <a:ext cx="8515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емная               Внутриоблачная         Шар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08840" y="1407240"/>
            <a:ext cx="24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иды мол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исание мол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7859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лния – это электрический искровой разряд, проявляющийся, обычно, яркой вспышкой света и сопровождающим её гром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659640" y="3645000"/>
            <a:ext cx="2124000" cy="1817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716360" y="3645000"/>
            <a:ext cx="1243080" cy="1871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340000" y="3645000"/>
            <a:ext cx="189720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24000" y="3645000"/>
            <a:ext cx="16048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считаю свою работу не законченной. Мне удалось рассказать только об одном атмосферном явлении (молнии). В дальнейшем я планирую изучить остальные (наиболее известные) атмосферные я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21:07:38Z</dcterms:created>
  <dc:creator>Санек</dc:creator>
  <dc:description/>
  <dc:language>en-US</dc:language>
  <cp:lastModifiedBy>учитель</cp:lastModifiedBy>
  <dcterms:modified xsi:type="dcterms:W3CDTF">2009-03-11T05:56:02Z</dcterms:modified>
  <cp:revision>4</cp:revision>
  <dc:subject/>
  <dc:title>Атмосферные явления.</dc:title>
</cp:coreProperties>
</file>