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23F0-DA10-4877-BFAD-4BCD4214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5167-6B48-49E7-88C8-5242DCD3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7494-B223-4BD4-BFD0-2CBBDEC9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89EE-3B40-43AB-905B-6AD3B032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4100-1411-470B-ADD8-38272E22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36EA-F2AA-4AF2-B68C-43CF2811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89DD-8A25-439B-A2F2-C7EE8725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F554-ECDE-4601-9E77-59354901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C308-69B7-4022-AD30-D0C203A3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0910-F991-481B-AB98-A2527B2F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8111-8712-41FC-82D4-AB21FBD1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A3C2-476A-4F88-BF47-9EA728F3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18E1-6EA0-446E-9A37-ACE7345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8CCD-A07F-43E7-A2C2-4DFC69C8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5018-3926-4FFF-9D46-5CD6E727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E48F-5605-422B-BDEA-BEAA4D7B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C90E-B484-455F-B919-F0FD5D65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6E34C-E286-4283-8392-DA6CE2FB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DC1F-979A-4A93-BEAC-9E4F8D3C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B450-2EE0-483B-BF3A-6E410489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387E-F99E-4588-941E-1831381A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AEBC-6379-4E2A-A986-B84D8C2D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B7E2-5207-43D6-8C95-FD066311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F9D3-D128-4E21-85A0-31642208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5745-54CB-4BFC-84D9-2B92C4118F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7431-261A-4ECA-B902-FBDBAF356A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838080" y="1676520"/>
            <a:ext cx="7620120" cy="2590560"/>
            <a:chOff x="838080" y="1676520"/>
            <a:chExt cx="7620120" cy="2590560"/>
          </a:xfrm>
        </p:grpSpPr>
        <p:sp>
          <p:nvSpPr>
            <p:cNvPr id="110" name="Rectangle 13"/>
            <p:cNvSpPr/>
            <p:nvPr/>
          </p:nvSpPr>
          <p:spPr>
            <a:xfrm>
              <a:off x="914400" y="1676520"/>
              <a:ext cx="754380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0000ff"/>
                  </a:solidFill>
                  <a:latin typeface="Bookman Old Style"/>
                </a:rPr>
                <a:t>I am talented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>
              <a:off x="838080" y="1676520"/>
              <a:ext cx="754380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3300"/>
                  </a:solidFill>
                  <a:latin typeface="Bookman Old Style"/>
                </a:rPr>
                <a:t>I am talented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3"/>
          <p:cNvPicPr/>
          <p:nvPr/>
        </p:nvPicPr>
        <p:blipFill>
          <a:blip r:embed="rId2"/>
          <a:stretch/>
        </p:blipFill>
        <p:spPr>
          <a:xfrm>
            <a:off x="1523880" y="2222640"/>
            <a:ext cx="6019920" cy="4365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Bookman Old Style"/>
              </a:rPr>
              <a:t>I am Inga</a:t>
            </a:r>
            <a:r>
              <a:rPr b="1" lang="ru-RU" sz="3000" spc="-1" strike="noStrike">
                <a:solidFill>
                  <a:srgbClr val="0000ff"/>
                </a:solidFill>
                <a:latin typeface="Bookman Old Styl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Bookman Old Style"/>
              </a:rPr>
              <a:t>I am 10. I am good at playing the piano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Bookman Old Style"/>
              </a:rPr>
              <a:t>dancing and sing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I dance only at home. I can dance all day long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I think I am very talented girl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5 копия"/>
          <p:cNvPicPr/>
          <p:nvPr/>
        </p:nvPicPr>
        <p:blipFill>
          <a:blip r:embed="rId2"/>
          <a:stretch/>
        </p:blipFill>
        <p:spPr>
          <a:xfrm>
            <a:off x="1447920" y="1671480"/>
            <a:ext cx="609588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6:03:28Z</dcterms:created>
  <dc:creator>Андрей</dc:creator>
  <dc:description/>
  <dc:language>en-US</dc:language>
  <cp:lastModifiedBy>Владимир Макаричев</cp:lastModifiedBy>
  <dcterms:modified xsi:type="dcterms:W3CDTF">2016-12-06T19:51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