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1E9-1DFB-4AA1-BBC0-577AA48E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354-95B6-4BA2-9275-393B182B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FB3-2C58-47F8-AD8D-F80D1EC0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40C-C01B-42B9-AF31-122F03BF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919E-B996-40D1-B935-981CA1BA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6B18-1CC3-4B3C-AA61-040567D2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F3F5-11FC-4623-B3BE-5BB1AF73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B861-56D5-4571-A9F8-F58BE1FE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E3CD-EFB3-4FA3-89D7-33F928E0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EFEF-0068-41BA-8711-E5BCC8D7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E85D-A322-47BC-98AA-69BC08E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87C-A744-4D9D-8D44-E547BE76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1812-EB47-4D0F-83AA-1ABCFA6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2B0-74E0-4D76-8169-C36A9F0B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5B42-C2E7-42C7-ABFE-2B43CCAD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1885-2866-4C6D-B386-620578BA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894B-56E5-48A4-B129-67811AAA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351-54FC-4667-85C4-F0ADC5B7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9BA-D425-4807-A351-B0D4C7F0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5BB-FE88-43F9-94F1-A92E6A91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7E3-ED70-4501-AFFD-7ED1181D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939-1134-47BB-9559-93E8E860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821-AD6C-4F51-91C3-B6DBD0B3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CF1-6B8A-4AE5-9ADD-7378C16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E5AC-3293-4D84-926B-934C840A56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526D-2349-40F5-9598-4F621E95E6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идактическое пособие для детей дошкольного возрас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Цветик-семицвети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 формой и цвет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6" descr="SAM_0253"/>
          <p:cNvPicPr/>
          <p:nvPr/>
        </p:nvPicPr>
        <p:blipFill>
          <a:blip r:embed="rId1"/>
          <a:stretch/>
        </p:blipFill>
        <p:spPr>
          <a:xfrm>
            <a:off x="1208160" y="1905120"/>
            <a:ext cx="3190680" cy="202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SAM_0244"/>
          <p:cNvPicPr/>
          <p:nvPr/>
        </p:nvPicPr>
        <p:blipFill>
          <a:blip r:embed="rId2"/>
          <a:stretch/>
        </p:blipFill>
        <p:spPr>
          <a:xfrm>
            <a:off x="1206360" y="4070520"/>
            <a:ext cx="3192480" cy="202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SAM_0247"/>
          <p:cNvPicPr/>
          <p:nvPr/>
        </p:nvPicPr>
        <p:blipFill>
          <a:blip r:embed="rId3"/>
          <a:stretch/>
        </p:blipFill>
        <p:spPr>
          <a:xfrm>
            <a:off x="4916520" y="2752560"/>
            <a:ext cx="39290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SAM_0257"/>
          <p:cNvPicPr/>
          <p:nvPr/>
        </p:nvPicPr>
        <p:blipFill>
          <a:blip r:embed="rId1"/>
          <a:stretch/>
        </p:blipFill>
        <p:spPr>
          <a:xfrm>
            <a:off x="457200" y="426960"/>
            <a:ext cx="8388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функциональное пособие предназначено для решения целого комплекса задач обучения и воспитания: сенсорного, умственного, эстетического. Оно обогащает тактильные ощущения ребёнка и расширяет его словарный запас. Это пособие можно использовать в различных видах детской деятельности: экологии, развитие речи, познавательного развития, математических представл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школьникам даются определённые задания по развитию речи (составь рассказ, придумай сказку, поиграй в пальчиковую игру), по формированию элементарных математических представлений (количество, счёт, величина, форма, пространственные отношения). Это пособие можно использовать как на занятиях так и для индивидуаль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занятиях по экологии детей старшего  дошкольного возраста знакомят со строением цветка, его связью с животны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4070520"/>
            <a:ext cx="800748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рень – питание ( через корень цветок получает питательные веществ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4" descr="SAM_0246"/>
          <p:cNvPicPr/>
          <p:nvPr/>
        </p:nvPicPr>
        <p:blipFill>
          <a:blip r:embed="rId1"/>
          <a:stretch/>
        </p:blipFill>
        <p:spPr>
          <a:xfrm>
            <a:off x="1619280" y="189000"/>
            <a:ext cx="56005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4070520"/>
            <a:ext cx="800748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бель – проводник питательных веще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SAM_0242"/>
          <p:cNvPicPr/>
          <p:nvPr/>
        </p:nvPicPr>
        <p:blipFill>
          <a:blip r:embed="rId1"/>
          <a:stretch/>
        </p:blipFill>
        <p:spPr>
          <a:xfrm>
            <a:off x="1116000" y="33336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4070520"/>
            <a:ext cx="800748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пестки защищают главную часть цветка от ветра, дождя, привлекают насекомых; пчела собирает нектар, опыляет растения, дождевой червь рыхлит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SAM_0250"/>
          <p:cNvPicPr/>
          <p:nvPr/>
        </p:nvPicPr>
        <p:blipFill>
          <a:blip r:embed="rId1"/>
          <a:stretch/>
        </p:blipFill>
        <p:spPr>
          <a:xfrm>
            <a:off x="1619280" y="189000"/>
            <a:ext cx="58323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487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о формированию элементарных математических представлений детей дошкольного возраста знакомят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 количеством и счёт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15" descr="SAM_0243"/>
          <p:cNvPicPr/>
          <p:nvPr/>
        </p:nvPicPr>
        <p:blipFill>
          <a:blip r:embed="rId1"/>
          <a:stretch/>
        </p:blipFill>
        <p:spPr>
          <a:xfrm>
            <a:off x="838080" y="2752560"/>
            <a:ext cx="3929040" cy="249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SAM_0248"/>
          <p:cNvPicPr/>
          <p:nvPr/>
        </p:nvPicPr>
        <p:blipFill>
          <a:blip r:embed="rId2"/>
          <a:stretch/>
        </p:blipFill>
        <p:spPr>
          <a:xfrm>
            <a:off x="4916520" y="2752560"/>
            <a:ext cx="39290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22:37Z</dcterms:created>
  <dc:creator>Лёха</dc:creator>
  <dc:description/>
  <dc:language>en-US</dc:language>
  <cp:lastModifiedBy>Директор</cp:lastModifiedBy>
  <dcterms:modified xsi:type="dcterms:W3CDTF">2014-12-28T16:29:03Z</dcterms:modified>
  <cp:revision>3</cp:revision>
  <dc:subject/>
  <dc:title>Дидактическое пособие для детей дошкольного возраста</dc:title>
</cp:coreProperties>
</file>