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3.gif" ContentType="image/gi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308-182D-4678-BFB2-7B71A6A4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9EF-381B-4161-AE81-741E9E7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E09-98A2-4AAF-A8D7-39C31B7B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444-5106-442D-9F6A-29C5FB8B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B289-29BB-4A0E-97DE-06C17C45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0C53-A58D-49E6-9833-1AC3F76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677D-E331-4443-A21E-19C7A28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982C-9842-4335-BC36-136C0059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955-BCD8-4519-BB65-E314B73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F4A-56C6-4D92-B361-AD55A6B2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1E5-89A8-4451-851B-827D45B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BE2-1C6F-4B38-868E-7CE7685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C6F-95DF-45C5-84D1-D942BAD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F0C-3CEF-4151-BFEA-511998A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D647-C8F2-4DD3-8218-2986A3C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74F3-F685-4C6A-9727-09B0624A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59C-71DC-4217-8F2B-968A3957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A55-D486-420B-8843-0475CCB0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933-EFE0-4E23-8453-7305159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86C-A6F1-48CD-96C4-59EFA74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4F3-2876-445A-B0A6-E2A5DA6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444-A936-43D8-951F-154AA3E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36D-8A97-4713-8925-A55D80F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B8B-BED7-44C6-92E8-BCECBBA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DD57-F774-4660-AB5D-0DB9EDB772B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1C7-BD17-4D59-994E-7463D3DB982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Monotype Corsiva"/>
              </a:rPr>
              <a:t>Easter in Great Britain.</a:t>
            </a:r>
            <a:br>
              <a:rPr sz="6000"/>
            </a:br>
            <a:r>
              <a:rPr b="0" lang="ru-RU" sz="6000" spc="-1" strike="noStrike">
                <a:solidFill>
                  <a:srgbClr val="ff6699"/>
                </a:solidFill>
                <a:latin typeface="Monotype Corsiva"/>
              </a:rPr>
              <a:t>Пасха в Великобритании</a:t>
            </a:r>
            <a:r>
              <a:rPr b="0" lang="en-US" sz="6000" spc="-1" strike="noStrike">
                <a:solidFill>
                  <a:srgbClr val="ff6699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29840" y="4989600"/>
            <a:ext cx="67770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99"/>
              </a:solidFill>
              <a:latin typeface="Monotype Corsiva"/>
            </a:endParaRPr>
          </a:p>
        </p:txBody>
      </p:sp>
      <p:pic>
        <p:nvPicPr>
          <p:cNvPr id="213" name="Picture 9" descr="j0355083"/>
          <p:cNvPicPr/>
          <p:nvPr/>
        </p:nvPicPr>
        <p:blipFill>
          <a:blip r:embed="rId1"/>
          <a:stretch/>
        </p:blipFill>
        <p:spPr>
          <a:xfrm>
            <a:off x="1763640" y="2997360"/>
            <a:ext cx="5616720" cy="133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6" descr="j0286841"/>
          <p:cNvPicPr/>
          <p:nvPr/>
        </p:nvPicPr>
        <p:blipFill>
          <a:blip r:embed="rId1"/>
          <a:stretch/>
        </p:blipFill>
        <p:spPr>
          <a:xfrm>
            <a:off x="250920" y="2133720"/>
            <a:ext cx="3995640" cy="44622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В Англии Пасха не выпадает на одну и ту же дату, а скорее на любое воскресенье с 22 марта по 25 Апреля, так как она празднуется в первое воскресенье после полнолуния в марте. Празднование Пасхи — ряд специальных дней, посвященных ознаменованию смерти и воскрешению Иисуса Хрис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Picture 9" descr="crossflwr"/>
          <p:cNvPicPr/>
          <p:nvPr/>
        </p:nvPicPr>
        <p:blipFill>
          <a:blip r:embed="rId2"/>
          <a:stretch/>
        </p:blipFill>
        <p:spPr>
          <a:xfrm>
            <a:off x="2793960" y="1914480"/>
            <a:ext cx="2057400" cy="363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038560" y="26028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99cc"/>
                </a:solidFill>
                <a:latin typeface="Monotype Corsiva"/>
              </a:rPr>
              <a:t>Традиция Пасхального Зайца или Пасхального Кролика исходит из северо-европейской легенды. Легенда гласит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ff99cc"/>
                </a:solidFill>
                <a:latin typeface="Monotype Corsiva"/>
              </a:rPr>
              <a:t>"Давно в маленькой деревне у матерей не было денег купить своим детям подарки на Пасху. Они раскрасили яйца множеством красивых картинок и спрятали в лесу возле деревни. Когда дети пойти играть в лес в Пасхальное воскресенье, они увидели яйца, но они не знали откуда эти яйца. Вдруг выскочил заяц из-за кучи яиц и дети начали кричать: "Это яйца зайца!"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9" descr="ot_big_1869"/>
          <p:cNvPicPr/>
          <p:nvPr/>
        </p:nvPicPr>
        <p:blipFill>
          <a:blip r:embed="rId1"/>
          <a:stretch/>
        </p:blipFill>
        <p:spPr>
          <a:xfrm>
            <a:off x="250920" y="1052640"/>
            <a:ext cx="483084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0066"/>
                </a:solidFill>
                <a:latin typeface="Monotype Corsiva"/>
              </a:rPr>
              <a:t>Easter baskets</a:t>
            </a:r>
            <a:r>
              <a:rPr b="0" i="1" lang="ru-RU" sz="4400" spc="-1" strike="noStrike">
                <a:solidFill>
                  <a:srgbClr val="ff0066"/>
                </a:solidFill>
                <a:latin typeface="Monotype Corsiva"/>
              </a:rPr>
              <a:t>. </a:t>
            </a:r>
            <a:br>
              <a:rPr sz="4400"/>
            </a:br>
            <a:r>
              <a:rPr b="0" i="1" lang="ru-RU" sz="4400" spc="-1" strike="noStrike">
                <a:solidFill>
                  <a:srgbClr val="ff6699"/>
                </a:solidFill>
                <a:latin typeface="Monotype Corsiva"/>
              </a:rPr>
              <a:t>Пасхальные корзины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410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ff99cc"/>
                </a:solidFill>
                <a:latin typeface="Monotype Corsiva"/>
              </a:rPr>
              <a:t>Британская традиция Пасхальных корзин также относится к древним временам, когда люди предлагали яйца в гнездах из травы Богине весны Eostre. Сегодня Пасхальные корзины наполнены яйцами и конфетами, украшены лентами, цветами и соломк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23" descr="easterbask"/>
          <p:cNvPicPr/>
          <p:nvPr/>
        </p:nvPicPr>
        <p:blipFill>
          <a:blip r:embed="rId1"/>
          <a:stretch/>
        </p:blipFill>
        <p:spPr>
          <a:xfrm>
            <a:off x="5105520" y="2075040"/>
            <a:ext cx="10303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easterbasket"/>
          <p:cNvPicPr/>
          <p:nvPr/>
        </p:nvPicPr>
        <p:blipFill>
          <a:blip r:embed="rId2"/>
          <a:stretch/>
        </p:blipFill>
        <p:spPr>
          <a:xfrm>
            <a:off x="6948360" y="4824360"/>
            <a:ext cx="1739880" cy="1522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easterbasket4"/>
          <p:cNvPicPr/>
          <p:nvPr/>
        </p:nvPicPr>
        <p:blipFill>
          <a:blip r:embed="rId3"/>
          <a:stretch/>
        </p:blipFill>
        <p:spPr>
          <a:xfrm>
            <a:off x="7175520" y="1996920"/>
            <a:ext cx="1314360" cy="2022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5" descr="easterbasket5"/>
          <p:cNvPicPr/>
          <p:nvPr/>
        </p:nvPicPr>
        <p:blipFill>
          <a:blip r:embed="rId4"/>
          <a:stretch/>
        </p:blipFill>
        <p:spPr>
          <a:xfrm>
            <a:off x="5219640" y="4437000"/>
            <a:ext cx="1200240" cy="183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eggs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льные яйц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32360" y="2349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Традиция предоставления и получения яиц в пасху очень обычна, так как яйцо -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символ новой жизни и Пасха - время восстановления жизни. Действительно, многие</a:t>
            </a:r>
            <a:br>
              <a:rPr sz="2400"/>
            </a:b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древние культуры полагали, что мир начался с одного единственного яйц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9" descr="eastereggs"/>
          <p:cNvPicPr/>
          <p:nvPr/>
        </p:nvPicPr>
        <p:blipFill>
          <a:blip r:embed="rId1"/>
          <a:stretch/>
        </p:blipFill>
        <p:spPr>
          <a:xfrm>
            <a:off x="824040" y="2124000"/>
            <a:ext cx="3306600" cy="379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Разукрашивание Пасхальных яиц началось в Англии в средние века, когда члены знатных семей дарили друг другу позолоченные яйца на Пасху. Этот обычай вскоре стал очень популярным, но вместо драгоценных яиц люди начали дарить обычные в крутую сваренные яйца, расписанные или разукрашенные. Даже сегодня в Британии люди украшают пасхальные яйца, очень часто вешают их на ленточках или ниточках на красивых яичных деревьях.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9" descr="j0346523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469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cakes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Пасхальные</a:t>
            </a:r>
            <a:r>
              <a:rPr b="0" lang="en-US" sz="4400" spc="-1" strike="noStrike">
                <a:solidFill>
                  <a:srgbClr val="ff6699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 кексы.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7560" y="1770120"/>
            <a:ext cx="378144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99cc"/>
                </a:solidFill>
                <a:latin typeface="Monotype Corsiva"/>
              </a:rPr>
              <a:t>Типичными Британскими пасхальными кексами являются горячие крещеные булочки, маленькие, кругленькие, сладкие кексы с крестом на верхушке в память о смерти Христа, а также печенье в форме зайца, обычно их едят в хорошую пятниц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7" descr="j0379973"/>
          <p:cNvPicPr/>
          <p:nvPr/>
        </p:nvPicPr>
        <p:blipFill>
          <a:blip r:embed="rId1"/>
          <a:stretch/>
        </p:blipFill>
        <p:spPr>
          <a:xfrm>
            <a:off x="4511520" y="1687680"/>
            <a:ext cx="414504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Easter game "Egg rolling"</a:t>
            </a: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6699"/>
                </a:solidFill>
                <a:latin typeface="Monotype Corsiva"/>
              </a:rPr>
              <a:t>Старинная пасхальная иг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ff99cc"/>
                </a:solidFill>
                <a:latin typeface="Monotype Corsiva"/>
              </a:rPr>
              <a:t>"Вращение яиц" - это старая пасхальная игра, в которую традиционно играли в Пасхальный понедельник. Дети пускают яйца вниз по косогору, первое яйцо, достигающее цели без разбивания, является победителем. Это означало, что яйцо принесет удач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8" descr="j0285588"/>
          <p:cNvPicPr/>
          <p:nvPr/>
        </p:nvPicPr>
        <p:blipFill>
          <a:blip r:embed="rId1"/>
          <a:stretch/>
        </p:blipFill>
        <p:spPr>
          <a:xfrm>
            <a:off x="609480" y="2124000"/>
            <a:ext cx="4246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15"/>
          <p:cNvSpPr txBox="1"/>
          <p:nvPr/>
        </p:nvSpPr>
        <p:spPr>
          <a:xfrm>
            <a:off x="1258920" y="260280"/>
            <a:ext cx="68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8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Happy Easter</a:t>
            </a:r>
            <a:endParaRPr b="1" i="1" lang="en-US" sz="4800" spc="1" strike="noStrike">
              <a:ln w="15840">
                <a:solidFill>
                  <a:srgbClr val="00008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38" name="Picture 17" descr="anichick2"/>
          <p:cNvPicPr/>
          <p:nvPr/>
        </p:nvPicPr>
        <p:blipFill>
          <a:blip r:embed="rId1"/>
          <a:stretch/>
        </p:blipFill>
        <p:spPr>
          <a:xfrm>
            <a:off x="1763640" y="2127240"/>
            <a:ext cx="5972400" cy="3263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7:54:07Z</dcterms:created>
  <dc:creator>xxx</dc:creator>
  <dc:description/>
  <dc:language>en-US</dc:language>
  <cp:lastModifiedBy>1</cp:lastModifiedBy>
  <dcterms:modified xsi:type="dcterms:W3CDTF">2016-11-29T15:04:57Z</dcterms:modified>
  <cp:revision>10</cp:revision>
  <dc:subject/>
  <dc:title>Слайд 1</dc:title>
</cp:coreProperties>
</file>