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004-75AC-43BF-B2DE-261EDA89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6D9-3377-4AD1-8074-2807B94B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533-20BC-4559-9C61-497C07B5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2D7-2AA5-4E5B-AC96-A23AF187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BC5-B06C-4749-9D84-77847E9C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21D-CFF1-4D0B-B5C0-C8166E7E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35C-AE5A-4A3E-B947-55943AC4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267-4D90-47CD-B72E-84C25335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EDF-8ABD-46C5-93FE-18AC4740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A9A-4160-4841-B63F-25152898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956-50DE-40F3-BDF4-CB6756D3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ADB-AEC5-43D3-B527-9523C8BF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9168-6077-4694-8722-B7AD5E3E2B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" Target="slide3.xml"/><Relationship Id="rId5" Type="http://schemas.openxmlformats.org/officeDocument/2006/relationships/image" Target="../media/image3.gif"/><Relationship Id="rId6" Type="http://schemas.openxmlformats.org/officeDocument/2006/relationships/slide" Target="slide4.xml"/><Relationship Id="rId7" Type="http://schemas.openxmlformats.org/officeDocument/2006/relationships/image" Target="../media/image3.gif"/><Relationship Id="rId8" Type="http://schemas.openxmlformats.org/officeDocument/2006/relationships/slide" Target="slide5.xml"/><Relationship Id="rId9" Type="http://schemas.openxmlformats.org/officeDocument/2006/relationships/image" Target="../media/image3.gif"/><Relationship Id="rId10" Type="http://schemas.openxmlformats.org/officeDocument/2006/relationships/slide" Target="slide6.xml"/><Relationship Id="rId11" Type="http://schemas.openxmlformats.org/officeDocument/2006/relationships/image" Target="../media/image3.gif"/><Relationship Id="rId12" Type="http://schemas.openxmlformats.org/officeDocument/2006/relationships/slide" Target="slide7.xml"/><Relationship Id="rId13" Type="http://schemas.openxmlformats.org/officeDocument/2006/relationships/image" Target="../media/image3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A1BE-329E-4329-A981-A436B51306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58560"/>
            <a:ext cx="9144000" cy="37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cc"/>
                </a:solidFill>
                <a:latin typeface="Book Antiqua"/>
              </a:rPr>
              <a:t>ЭПОХА</a:t>
            </a:r>
            <a:br>
              <a:rPr sz="6000"/>
            </a:br>
            <a:r>
              <a:rPr b="1" i="1" lang="ru-RU" sz="6000" spc="-1" strike="noStrike">
                <a:solidFill>
                  <a:srgbClr val="3333cc"/>
                </a:solidFill>
                <a:latin typeface="Book Antiqua"/>
              </a:rPr>
              <a:t>ВЕЛИКИХ </a:t>
            </a:r>
            <a:br>
              <a:rPr sz="6000"/>
            </a:br>
            <a:r>
              <a:rPr b="1" i="1" lang="ru-RU" sz="6000" spc="-1" strike="noStrike">
                <a:solidFill>
                  <a:srgbClr val="3333cc"/>
                </a:solidFill>
                <a:latin typeface="Book Antiqua"/>
              </a:rPr>
              <a:t>ГЕОГРАФИЧЕСКИХ ОТКРЫТИ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TR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 flipH="1" rot="10800000">
            <a:off x="8372520" y="6105240"/>
            <a:ext cx="736560" cy="669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0" descr="kora1[1]"/>
          <p:cNvPicPr/>
          <p:nvPr/>
        </p:nvPicPr>
        <p:blipFill>
          <a:blip r:embed="rId2"/>
          <a:stretch/>
        </p:blipFill>
        <p:spPr>
          <a:xfrm flipH="1">
            <a:off x="3276720" y="4025880"/>
            <a:ext cx="25905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6D67-693C-4EC6-9CDD-4382198B48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TRNEXT"/>
          <p:cNvPicPr/>
          <p:nvPr/>
        </p:nvPicPr>
        <p:blipFill>
          <a:blip r:embed="rId1"/>
          <a:stretch/>
        </p:blipFill>
        <p:spPr>
          <a:xfrm rot="10800000">
            <a:off x="4195800" y="6105240"/>
            <a:ext cx="736560" cy="669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113640" y="212760"/>
            <a:ext cx="28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КУЛЬ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4400" y="903240"/>
            <a:ext cx="8899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ВРОПЕИЗ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ЕМ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ИГР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ПЕРЕМЕЩЕНИЯ) НАРО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ЕШ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А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ЕНИ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УГОЗОР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ВИТИЕ НАУ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ЕРВУЮ ОЧЕРЕДЬ – ГЕОГРАФИИ, ЭТНОГРАФИИ, АСТРОНОМИ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ОЛО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F72C-0BF2-4F8C-85F5-545867FC77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-413280" y="496800"/>
            <a:ext cx="994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ричины и предпосылки Великих географических откры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Основные этапы Великих географических откры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Последствия Великих географических откры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открытых зем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европейц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TRNEX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0800000">
            <a:off x="3708360" y="6105240"/>
            <a:ext cx="736560" cy="669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TR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800000">
            <a:off x="4627440" y="6105240"/>
            <a:ext cx="736560" cy="669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RBLACK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344680" y="1052640"/>
            <a:ext cx="571680" cy="19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RBLACK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916360" y="141300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RBLACK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888320" y="213372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RBLACK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071960" y="323856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RBLACK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76720" y="3598920"/>
            <a:ext cx="57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FD83-DAF4-45C9-8CCC-440B91D7A4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Organization Chart 4"/>
          <p:cNvGrpSpPr/>
          <p:nvPr/>
        </p:nvGrpSpPr>
        <p:grpSpPr>
          <a:xfrm>
            <a:off x="468360" y="1532880"/>
            <a:ext cx="8208720" cy="3845160"/>
            <a:chOff x="468360" y="1532880"/>
            <a:chExt cx="8208720" cy="3845160"/>
          </a:xfrm>
        </p:grpSpPr>
        <p:cxnSp>
          <p:nvCxnSpPr>
            <p:cNvPr id="57" name="_s1028"/>
            <p:cNvCxnSpPr>
              <a:stCxn id="58" idx="0"/>
              <a:endCxn id="59" idx="2"/>
            </p:cNvCxnSpPr>
            <p:nvPr/>
          </p:nvCxnSpPr>
          <p:spPr>
            <a:xfrm flipV="1">
              <a:off x="4573800" y="3755520"/>
              <a:ext cx="28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29"/>
            <p:cNvCxnSpPr>
              <a:stCxn id="59" idx="0"/>
              <a:endCxn id="61" idx="2"/>
            </p:cNvCxnSpPr>
            <p:nvPr/>
          </p:nvCxnSpPr>
          <p:spPr>
            <a:xfrm flipV="1">
              <a:off x="4573800" y="2505240"/>
              <a:ext cx="28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0"/>
            <p:cNvSpPr/>
            <p:nvPr/>
          </p:nvSpPr>
          <p:spPr>
            <a:xfrm>
              <a:off x="1415520" y="1532880"/>
              <a:ext cx="6311520" cy="97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600" bIns="57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 Black"/>
                </a:rPr>
                <a:t>ПОИСК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lang="ru-RU" sz="2400" spc="-1" strike="noStrike">
                  <a:solidFill>
                    <a:srgbClr val="ffcc00"/>
                  </a:solidFill>
                  <a:latin typeface="Arial Black"/>
                </a:rPr>
                <a:t>ЗОЛОТА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 И </a:t>
              </a:r>
              <a:r>
                <a:rPr b="1" lang="ru-RU" sz="2400" spc="-1" strike="noStrike">
                  <a:solidFill>
                    <a:srgbClr val="c0c0c0"/>
                  </a:solidFill>
                  <a:latin typeface="Arial Black"/>
                </a:rPr>
                <a:t>СЕРЕБ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ИЗ-ЗА ИХ НЕДОСТАТКА В ЕВРОП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31"/>
            <p:cNvSpPr/>
            <p:nvPr/>
          </p:nvSpPr>
          <p:spPr>
            <a:xfrm>
              <a:off x="480240" y="2822760"/>
              <a:ext cx="8184600" cy="933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600" bIns="57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 Black"/>
                </a:rPr>
                <a:t>ПОИСК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 НОВЫХ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 Black"/>
                </a:rPr>
                <a:t>ПУТЕЙ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 В СТРАНЫ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 Black"/>
                </a:rPr>
                <a:t>ВОСТО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В ПЕРВУЮ ОЧЕРЕДЬ В ИНДИ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468360" y="4073040"/>
              <a:ext cx="8208720" cy="1305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600" bIns="57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ЖЕЛАНИЕ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 Black"/>
                </a:rPr>
                <a:t>ИЗБАВИТЬСЯ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ОТ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 Black"/>
                </a:rPr>
                <a:t>ПОСРЕДНИКОВ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 Black"/>
                </a:rPr>
                <a:t>ТОРГОВЛЕ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 С ВОСТОК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Black"/>
                </a:rPr>
                <a:t>(АРАБЫ, ТУРК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Picture 16" descr="TRNEX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0800000">
            <a:off x="3708360" y="6105240"/>
            <a:ext cx="736560" cy="669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TR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800000">
            <a:off x="4627440" y="6105240"/>
            <a:ext cx="736560" cy="6699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3372480" y="401760"/>
            <a:ext cx="23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 Black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7482-1AD8-4015-BFEF-BD42DAA9B6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286000" y="2602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TRNEX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0800000">
            <a:off x="3708360" y="6105240"/>
            <a:ext cx="736560" cy="669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TR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800000">
            <a:off x="4627440" y="6105240"/>
            <a:ext cx="736560" cy="669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2845440" y="40176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 Black"/>
              </a:rPr>
              <a:t>ПРЕДПОСЫ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59880" y="1441440"/>
            <a:ext cx="7923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 Black"/>
              </a:rPr>
              <a:t>СОЦИАЛЬ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аличие в Испании и Португал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чительного чис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едневших дворя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 Black"/>
              </a:rPr>
              <a:t>ТЕХНИЧЕСКАЯ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совершенств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онструкций кора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 оснащение их навигацио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иб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 Black"/>
              </a:rPr>
              <a:t>НАУЧНАЯ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–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изнание 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 шарообразном строении Зем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4217-1EF8-4565-9EB6-56A9564861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TRNEX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0800000">
            <a:off x="3708360" y="6105240"/>
            <a:ext cx="736560" cy="669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TR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800000">
            <a:off x="4627440" y="6105240"/>
            <a:ext cx="736560" cy="6699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496960" y="40176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 Black"/>
              </a:rPr>
              <a:t>ОСНОВНЫЕ ЭТА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1484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141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ортугальцы достигают группы остров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дей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143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ортугальцы достигают Азорских остро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144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ортугальцы достигают островов Зелёного Мы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148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ортугальцы достигают устья реки Кон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148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Б. Ди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достигает мыса Бурь (Доброй Надежд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149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открытие Х.Колумбом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1498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. да Гама открывает морской путь в Аз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1519-152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Ф.Магеллан совершает первое кругосвет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97D7-B504-4B41-8AF7-C0B5A84E3F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TRNEX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0800000">
            <a:off x="3708360" y="6105240"/>
            <a:ext cx="736560" cy="669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R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800000">
            <a:off x="4627440" y="6105240"/>
            <a:ext cx="736560" cy="669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619200" y="401760"/>
            <a:ext cx="79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 Black"/>
              </a:rPr>
              <a:t>ДЛЯ НАСЕЛЕНИЯ ОТКРЫТЫХ ЗЕМ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84680" y="1359000"/>
            <a:ext cx="8580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ХВ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БЁЖ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ТЕРРИТОРИИ,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НИЧТ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УЛЬТУРНЫХ ЦЕН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СИЛЬСТВЕНН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ХРИСТИА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ВРАЩЕНИЕ ЗАХВАЧЕННЫХ ЗЕМЕЛЬ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ЛО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DD8A-F3B4-49A2-B95A-8F342BE1C7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TRNEX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0800000">
            <a:off x="3708360" y="6105240"/>
            <a:ext cx="736560" cy="669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TR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800000">
            <a:off x="4627440" y="6105240"/>
            <a:ext cx="736560" cy="6699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2599200" y="401760"/>
            <a:ext cx="39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 Black"/>
              </a:rPr>
              <a:t>ДЛЯ ЕВРОПЕЙЦ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053880" y="1413000"/>
            <a:ext cx="30733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ЛИ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RBLACK"/>
          <p:cNvPicPr/>
          <p:nvPr/>
        </p:nvPicPr>
        <p:blipFill>
          <a:blip r:embed="rId4"/>
          <a:stretch/>
        </p:blipFill>
        <p:spPr>
          <a:xfrm>
            <a:off x="2630520" y="1457280"/>
            <a:ext cx="860400" cy="287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RBLACK"/>
          <p:cNvPicPr/>
          <p:nvPr/>
        </p:nvPicPr>
        <p:blipFill>
          <a:blip r:embed="rId5"/>
          <a:stretch/>
        </p:blipFill>
        <p:spPr>
          <a:xfrm>
            <a:off x="2630520" y="2249640"/>
            <a:ext cx="860400" cy="287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RBLACK"/>
          <p:cNvPicPr/>
          <p:nvPr/>
        </p:nvPicPr>
        <p:blipFill>
          <a:blip r:embed="rId6"/>
          <a:stretch/>
        </p:blipFill>
        <p:spPr>
          <a:xfrm>
            <a:off x="2630520" y="2970360"/>
            <a:ext cx="8604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0B32-3177-4271-9C64-F7F3500C2B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RNEXT"/>
          <p:cNvPicPr/>
          <p:nvPr/>
        </p:nvPicPr>
        <p:blipFill>
          <a:blip r:embed="rId1"/>
          <a:stretch/>
        </p:blipFill>
        <p:spPr>
          <a:xfrm rot="10800000">
            <a:off x="3708360" y="6105240"/>
            <a:ext cx="736560" cy="669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TRNEXT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 flipH="1" rot="10800000">
            <a:off x="4627440" y="6105240"/>
            <a:ext cx="736560" cy="6699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2872080" y="212760"/>
            <a:ext cx="33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06560" y="903240"/>
            <a:ext cx="8986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ЕЩ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НТРА ДЕЛОВОЙ АКТИВ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ВНУТРЕННИХ МОРЕЙ К ОКЕАН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ТЛАНТИЧЕСК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ССАБОНА, СЕВИЛЬИ, РОТТЕРДА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ПЕРВЫЕ МЕ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ИРОВОЙ ТОРГОВ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О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ОВЫХ КОЛЛОНИАЛЬНЫХ ПРОДУ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ЕМЕСЛЕННОГО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ВЫШ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ТРЕБНОСТИ В ДЕНЬГ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ЯВЛЕНИ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НУФАКТУ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5854-E16D-4BF5-B2B3-EB29B87927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TRNEXT"/>
          <p:cNvPicPr/>
          <p:nvPr/>
        </p:nvPicPr>
        <p:blipFill>
          <a:blip r:embed="rId1"/>
          <a:stretch/>
        </p:blipFill>
        <p:spPr>
          <a:xfrm rot="10800000">
            <a:off x="3708360" y="6105240"/>
            <a:ext cx="736560" cy="669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TRNEXT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 flipH="1" rot="10800000">
            <a:off x="4627440" y="6105240"/>
            <a:ext cx="736560" cy="6699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035520" y="18900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8000" y="903240"/>
            <a:ext cx="7822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ЦВ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АПАДНЫХ ПРИАТЛАНТИЧЕСКИХ ГОСУДАРСТ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ВРОПЫ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РТУГАЛ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АН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ЖЕ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ОЛЛАНД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ГЛ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МЕНЬШ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ЛИТИЧЕСКОГ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НАЧ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НТРАЛЬНОЙ ЕВРОП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ПАДО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ВЕРНОЙ ИТАЛ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2-05-16T17:35:43Z</dcterms:modified>
  <cp:revision>4</cp:revision>
  <dc:subject/>
  <dc:title>PowerPoint Presentation</dc:title>
</cp:coreProperties>
</file>