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521-5DF7-41AD-A627-29D46679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150-47D8-45E7-87C5-3C7A97DA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5C2-5058-45B2-B602-5DAC4937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AA5-CF25-4C0C-80F6-0B968135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826-873B-4FF3-9551-7FD22E2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41B-FB66-409A-A917-962CBD01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39C-61B4-418B-A6EC-0C08FAB2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BF1-8CED-453F-B029-4231A02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989-3574-4073-BE45-F7D9A42E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055-5BB6-4821-94F7-A9C37FA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0DB-22CF-4DBF-9DEF-DC258D58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142-4DE6-4712-9FA3-FD90776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DD51-5E39-4D80-BD7B-FB8C526DCDC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ша\Desktop\фоны презентаций\579201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1749600"/>
            <a:ext cx="8888400" cy="3315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484360" y="494172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a10"/>
                </a:solidFill>
                <a:latin typeface="Verdana"/>
              </a:rPr>
              <a:t>Учитель: Бахтина Е.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Маша\Desktop\фоны презентаций\73721788_57929344_light_texture_by_Insan_St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24000" y="198900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Географическое положение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— это положение любого географического объекта относительно поверхности Земли и по отношению к другим объектам, с которыми он взаимодейству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Маша\Desktop\фоны презентаций\73721788_57929344_light_texture_by_Insan_St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8"/>
          <p:cNvSpPr/>
          <p:nvPr/>
        </p:nvSpPr>
        <p:spPr>
          <a:xfrm>
            <a:off x="250920" y="189000"/>
            <a:ext cx="8893080" cy="6048360"/>
          </a:xfrm>
          <a:prstGeom prst="wedgeRoundRectCallout">
            <a:avLst>
              <a:gd name="adj1" fmla="val 64884"/>
              <a:gd name="adj2" fmla="val 27620"/>
              <a:gd name="adj3" fmla="val 16667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1.Площа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2.Положение относительно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а) экватор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б) нулевого мериди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      </a:t>
            </a: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в)180 меридиа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3.Положение на материке, части с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4. Крайние точ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5. Протяженность С </a:t>
            </a:r>
            <a:r>
              <a:rPr b="1" i="1" lang="en-US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</a:t>
            </a:r>
            <a:r>
              <a:rPr b="1" i="1" lang="ru-RU" sz="2800" spc="-1" strike="noStrike">
                <a:solidFill>
                  <a:srgbClr val="ff3300"/>
                </a:solidFill>
                <a:latin typeface="Verdana"/>
              </a:rPr>
              <a:t>Ю</a:t>
            </a: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с </a:t>
            </a:r>
            <a:r>
              <a:rPr b="1" i="1" lang="ru-RU" sz="2800" spc="-1" strike="noStrike">
                <a:solidFill>
                  <a:srgbClr val="008000"/>
                </a:solidFill>
                <a:latin typeface="Verdana"/>
              </a:rPr>
              <a:t>З</a:t>
            </a: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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В</a:t>
            </a: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6. Какими омывается океанами и моря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Verdana"/>
              </a:rPr>
              <a:t>7.Близость других материков, границы с другими странами</a:t>
            </a:r>
            <a:r>
              <a:rPr b="1" i="1" lang="en-US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Скругленный прямоугольник 3"/>
          <p:cNvSpPr/>
          <p:nvPr/>
        </p:nvSpPr>
        <p:spPr>
          <a:xfrm>
            <a:off x="6143760" y="3643200"/>
            <a:ext cx="428400" cy="214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Равнобедренный треугольник 4"/>
          <p:cNvSpPr/>
          <p:nvPr/>
        </p:nvSpPr>
        <p:spPr>
          <a:xfrm>
            <a:off x="2500200" y="4786200"/>
            <a:ext cx="428760" cy="500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Маша\Desktop\фоны презентаций\73721788_57929344_light_texture_by_Insan_St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81000" y="549360"/>
            <a:ext cx="9016920" cy="5472000"/>
          </a:xfrm>
          <a:prstGeom prst="rect">
            <a:avLst/>
          </a:prstGeom>
          <a:ln w="76320">
            <a:solidFill>
              <a:srgbClr val="95373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ша\Desktop\фоны презентаций\73721788_57929344_light_texture_by_Insan_St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4"/>
          <p:cNvPicPr/>
          <p:nvPr/>
        </p:nvPicPr>
        <p:blipFill>
          <a:blip r:embed="rId2"/>
          <a:stretch/>
        </p:blipFill>
        <p:spPr>
          <a:xfrm>
            <a:off x="0" y="1398600"/>
            <a:ext cx="9144000" cy="5459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rcRect l="15236" t="18751" r="15038" b="14688"/>
          <a:stretch/>
        </p:blipFill>
        <p:spPr>
          <a:xfrm>
            <a:off x="-900000" y="0"/>
            <a:ext cx="1066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крайние точки ССС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крайние точк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яжё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Протяженность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V="1">
            <a:off x="1042920" y="2781360"/>
            <a:ext cx="3889440" cy="2448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Овал 5"/>
          <p:cNvSpPr/>
          <p:nvPr/>
        </p:nvSpPr>
        <p:spPr>
          <a:xfrm>
            <a:off x="8429760" y="6357960"/>
            <a:ext cx="428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я омывается водами трех океан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моря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 rot="16476600">
            <a:off x="7065720" y="3454200"/>
            <a:ext cx="3456000" cy="23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хий оке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2916360" y="1413000"/>
            <a:ext cx="338436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ный Ледовит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е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 rot="18309000">
            <a:off x="-256680" y="1852200"/>
            <a:ext cx="266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лантичский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еан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908000" y="5805360"/>
            <a:ext cx="1872000" cy="648000"/>
          </a:xfrm>
          <a:prstGeom prst="wedgeRectCallout">
            <a:avLst>
              <a:gd name="adj1" fmla="val -72731"/>
              <a:gd name="adj2" fmla="val -11763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250920" y="2060640"/>
            <a:ext cx="1800000" cy="649080"/>
          </a:xfrm>
          <a:prstGeom prst="wedgeRectCallout">
            <a:avLst>
              <a:gd name="adj1" fmla="val 439"/>
              <a:gd name="adj2" fmla="val 154643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алтий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3716280"/>
            <a:ext cx="1547640" cy="720720"/>
          </a:xfrm>
          <a:prstGeom prst="wedgeRectCallout">
            <a:avLst>
              <a:gd name="adj1" fmla="val -254"/>
              <a:gd name="adj2" fmla="val 152643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в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6137280"/>
            <a:ext cx="1332000" cy="720720"/>
          </a:xfrm>
          <a:prstGeom prst="wedgeRectCallout">
            <a:avLst>
              <a:gd name="adj1" fmla="val -7092"/>
              <a:gd name="adj2" fmla="val -125328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ёр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1619280" y="4292640"/>
            <a:ext cx="1150920" cy="649080"/>
          </a:xfrm>
          <a:prstGeom prst="wedgeRectCallout">
            <a:avLst>
              <a:gd name="adj1" fmla="val 2550"/>
              <a:gd name="adj2" fmla="val -161736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л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2195640" y="1844640"/>
            <a:ext cx="1728720" cy="720720"/>
          </a:xfrm>
          <a:prstGeom prst="wedgeRectCallout">
            <a:avLst>
              <a:gd name="adj1" fmla="val -8861"/>
              <a:gd name="adj2" fmla="val 137226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аренце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2700360" y="3716280"/>
            <a:ext cx="1366920" cy="720720"/>
          </a:xfrm>
          <a:prstGeom prst="wedgeRectCallout">
            <a:avLst>
              <a:gd name="adj1" fmla="val 53134"/>
              <a:gd name="adj2" fmla="val -97578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р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4356000" y="3645000"/>
            <a:ext cx="1584360" cy="720720"/>
          </a:xfrm>
          <a:prstGeom prst="wedgeRectCallout">
            <a:avLst>
              <a:gd name="adj1" fmla="val 21541"/>
              <a:gd name="adj2" fmla="val -155064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аптв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5651640" y="2852640"/>
            <a:ext cx="1584360" cy="720720"/>
          </a:xfrm>
          <a:prstGeom prst="wedgeRectCallout">
            <a:avLst>
              <a:gd name="adj1" fmla="val -5412"/>
              <a:gd name="adj2" fmla="val -156606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точно-Сибир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7308720" y="2708280"/>
            <a:ext cx="1440000" cy="720720"/>
          </a:xfrm>
          <a:prstGeom prst="wedgeRectCallout">
            <a:avLst>
              <a:gd name="adj1" fmla="val -76129"/>
              <a:gd name="adj2" fmla="val -236782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укот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7380360" y="765000"/>
            <a:ext cx="1511280" cy="648000"/>
          </a:xfrm>
          <a:prstGeom prst="wedgeRectCallout">
            <a:avLst>
              <a:gd name="adj1" fmla="val 19013"/>
              <a:gd name="adj2" fmla="val 211763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ринг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19"/>
          <p:cNvSpPr/>
          <p:nvPr/>
        </p:nvSpPr>
        <p:spPr>
          <a:xfrm>
            <a:off x="6804000" y="5229360"/>
            <a:ext cx="1511280" cy="647640"/>
          </a:xfrm>
          <a:prstGeom prst="wedgeRectCallout">
            <a:avLst>
              <a:gd name="adj1" fmla="val 34032"/>
              <a:gd name="adj2" fmla="val -259560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хот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20"/>
          <p:cNvSpPr/>
          <p:nvPr/>
        </p:nvSpPr>
        <p:spPr>
          <a:xfrm>
            <a:off x="6227640" y="6181560"/>
            <a:ext cx="1584360" cy="676440"/>
          </a:xfrm>
          <a:prstGeom prst="wedgeRectCallout">
            <a:avLst>
              <a:gd name="adj1" fmla="val 99500"/>
              <a:gd name="adj2" fmla="val -102583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пон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21"/>
          <p:cNvSpPr/>
          <p:nvPr/>
        </p:nvSpPr>
        <p:spPr>
          <a:xfrm>
            <a:off x="3635280" y="4653000"/>
            <a:ext cx="28814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мывает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-мя океанами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2 моря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море – озер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спий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2" descr="0808AE~12"/>
          <p:cNvPicPr/>
          <p:nvPr/>
        </p:nvPicPr>
        <p:blipFill>
          <a:blip r:embed="rId2"/>
          <a:stretch/>
        </p:blipFill>
        <p:spPr>
          <a:xfrm>
            <a:off x="8172360" y="6021360"/>
            <a:ext cx="781200" cy="57168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бедренный треугольник 22"/>
          <p:cNvSpPr/>
          <p:nvPr/>
        </p:nvSpPr>
        <p:spPr>
          <a:xfrm>
            <a:off x="8643960" y="0"/>
            <a:ext cx="500040" cy="428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56:59Z</dcterms:created>
  <dc:creator>Нина Валентиновна</dc:creator>
  <dc:description/>
  <dc:language>en-US</dc:language>
  <cp:lastModifiedBy>Маша</cp:lastModifiedBy>
  <dcterms:modified xsi:type="dcterms:W3CDTF">2016-12-06T09:27:33Z</dcterms:modified>
  <cp:revision>12</cp:revision>
  <dc:subject/>
  <dc:title>Слайд 1</dc:title>
</cp:coreProperties>
</file>