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ABE-CBE4-4EE8-8862-CEFC8036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748-FEFA-477E-AFF2-F415A35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69C-89BC-4720-B5D6-37CAD0A9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3C8-EA0C-4B41-81A2-B2CC4BA2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CEAB-1D13-4D47-A409-D74539AE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0023-C56A-4545-8301-195E1231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AC64-FA9F-467E-A0C9-C59FFE9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4201-141B-41C7-85AA-13E5B5E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88DE-5F1B-4FDC-8DCD-D85D5B21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2CF0-D1A0-4F54-85BE-B9A93A01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AA37-25A8-4078-B141-72B7118C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EA8-0324-44A7-8E38-2A9AA3A3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8C37-6FD2-4169-9990-894766DB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23C8-B78B-4B41-9476-6FD8840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3ADE-A0BA-4EC5-965D-8511C62B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4FF1-2B0D-49D0-B315-D0A7BF9F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E0CD-EB03-43A6-87BA-02A7F2C6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B7B71-9AAE-41F9-9DCC-8A6FE861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8F141-A05E-47A7-B39C-1A034EF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FB0C1-6ADE-4D5B-830D-5AA5FF14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72C48-A654-4F3A-9B00-A49ADA48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5ECA7-CA32-4A29-AF6F-F928693C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E41-989B-4200-8FB2-2E2176BE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75490-9E35-47AB-921D-85892164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89FF0-BB81-4064-999C-3C8ADD18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6B524-54B6-438B-9200-0A06379B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2597E-F5A7-41AC-B376-1FA63BF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99F93-BE7F-447C-AADE-BB1D70C1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1EE81-51DC-42C6-8F85-DC13EF1A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DDD00-DE70-4613-A4C8-CC4A69D2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67B4-6D4F-432B-BDB5-C32F22D7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C68C-B3CB-49BA-A40F-B067963F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2B948-C0C5-4499-924B-9A0C802D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04B-FE24-455F-9A37-0578599F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9AD8-BA00-4ACD-B507-5D816DC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5E83-F7D0-4BC6-AB93-B9A811D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95F7-82DD-4ED3-AAB9-32996CC6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F8E9-1821-4B78-8360-7B4ED7E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04A0-ECF8-4C7B-8C4F-2E29E04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B7A9D-EA46-4CA8-A454-E15B2E6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2CE7-7AD7-4D5F-8408-CB1CDF64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301F-9839-4B3C-A3A4-1B6DBB7D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E8A93-320F-47D5-909F-4AA9F3E0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FED5D-DCA6-4DF2-AE2B-8FCD49C9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225-1160-4EF0-9A63-D07D62F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FEDD0-0F75-4769-8024-30B431A4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EBA13-47A1-469F-8CE2-AE185D5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55680-3CD0-48F2-B79C-9EBBBD75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FFE39-F3CF-4FCE-8D49-71CB2E42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48286-51FA-4343-B3C9-251E7751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738B5-DC97-408C-AFCB-49CB493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E203E-FBC4-4BF5-B5DC-CFF1932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190AE-CF78-45F4-B4A6-6D2D17D7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5323D-A39D-4CD1-AD85-29259AC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E4C7A-F5A1-4FA3-B383-7D7C88D4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F2B-0A67-4907-B236-2FD4FDB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7C839-374E-41AA-BE34-BDB4A9A9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CB5CA-88C3-4EA0-A948-7ADD9A28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808DC-A918-4DAB-AE64-DD9C9803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7746C-11C5-4D3B-B815-09E35DB5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26211-4EB5-4A95-AC1D-1659A466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49702-0D41-4302-8C7D-3D28D1FD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EAEDE-0A75-4C0B-AE83-269EC972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35705-7BAC-4DA7-9647-E77C67CB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FA376-E24C-4020-9385-1B7E82CC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1FEC3-D9F1-491B-8E67-72020834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ABE-DB25-40AB-A52C-96375DC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C28F9-143B-46EE-8DD5-DEA0DC6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1E1CF-BF59-41B7-9AD2-26E8D69E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7FA64-E4F3-4E2A-B3E5-261C905E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4842C-E8A6-40B1-B2FB-66CD3A8A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6446A-58FB-4443-81CD-3F764BE6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9C1F9-9577-4656-A5A7-EA88E645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EEF89-F026-44C5-913D-10751086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4FCC8-FF2E-46FB-9A80-AB0080DE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C9E40-FF43-4714-8F3D-2E7DEA43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AB0D5-9233-4346-872D-C5FE3A8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4F4-F364-4828-894E-CB3A928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AF6B6-7759-4206-8168-63FBEAB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8BCA7-19D0-4F8B-A23E-30B858A5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21820-F933-4CC0-828F-50487B9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7CAD2-3B53-454A-B5AE-C00CAAFD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92E6C-3D61-432B-AE17-BEAC1681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7AE-182A-47B2-AD37-EE1A6F3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709E-5760-41B6-9B5D-75C8B1A0A3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DC35-76C0-4E2A-AFCE-4BF77921CD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D69-4605-41B7-9278-40211955F2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e7e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788-DCBE-43DD-A55D-978A2D94DF9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C8D-2451-468A-84F3-32F4FD9501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7B6A-D03F-49F2-9719-F017E2109B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9319-9068-4B10-97EC-0AAEDD82BD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4920" y="1268280"/>
            <a:ext cx="61722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3f9a"/>
                </a:solidFill>
                <a:latin typeface="Century Schoolbook"/>
              </a:rPr>
              <a:t>I`M TALENTED</a:t>
            </a:r>
            <a:endParaRPr b="0" lang="en-US" sz="54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626920" y="49417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Century Schoolbook"/>
              </a:rPr>
              <a:t>By Anastasia Chernov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4000" y="475920"/>
            <a:ext cx="8002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3d68"/>
                </a:solidFill>
                <a:latin typeface="Century Schoolbook"/>
              </a:rPr>
              <a:t>I have a lot of talents. I can ride snowboard. It`s extremely. Every winter my family spends some days on Krasnaya Polyan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2" descr="http://cs623120.vk.me/v623120776/2bee4/QzaVbvuGGTc.jpg"/>
          <p:cNvPicPr/>
          <p:nvPr/>
        </p:nvPicPr>
        <p:blipFill>
          <a:blip r:embed="rId1"/>
          <a:srcRect l="9055" t="19567" r="28740" b="0"/>
          <a:stretch/>
        </p:blipFill>
        <p:spPr>
          <a:xfrm>
            <a:off x="108000" y="2781360"/>
            <a:ext cx="4441680" cy="3816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cs623120.vk.me/v623120776/2bf0c/5FbQQRvtijA.jpg"/>
          <p:cNvPicPr/>
          <p:nvPr/>
        </p:nvPicPr>
        <p:blipFill>
          <a:blip r:embed="rId2"/>
          <a:srcRect l="46850" t="16013" r="0" b="11699"/>
          <a:stretch/>
        </p:blipFill>
        <p:spPr>
          <a:xfrm>
            <a:off x="4500720" y="2781360"/>
            <a:ext cx="4284360" cy="3871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510000" y="765000"/>
            <a:ext cx="56340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83d68"/>
                </a:solidFill>
                <a:latin typeface="Century Schoolbook"/>
              </a:rPr>
              <a:t>I like to skat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83d68"/>
                </a:solidFill>
                <a:latin typeface="Century Schoolbook"/>
              </a:rPr>
              <a:t>It`s interesting!!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http://cs623120.vk.me/v623120776/2bee3/b6cqOOA9cBg.jpg"/>
          <p:cNvPicPr/>
          <p:nvPr/>
        </p:nvPicPr>
        <p:blipFill>
          <a:blip r:embed="rId1"/>
          <a:srcRect l="20768" t="16154" r="0" b="32665"/>
          <a:stretch/>
        </p:blipFill>
        <p:spPr>
          <a:xfrm>
            <a:off x="0" y="1986120"/>
            <a:ext cx="5003640" cy="4871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640" y="1196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b83d68"/>
                </a:solidFill>
                <a:latin typeface="Century Schoolbook"/>
              </a:rPr>
              <a:t>I CAN SING! </a:t>
            </a:r>
            <a:br>
              <a:rPr sz="5400"/>
            </a:br>
            <a:endParaRPr b="0" lang="en-US" sz="54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359" name="Picture 2" descr="http://cs623120.vk.me/v623120776/2befa/kLbkm3pu4HM.jpg"/>
          <p:cNvPicPr/>
          <p:nvPr/>
        </p:nvPicPr>
        <p:blipFill>
          <a:blip r:embed="rId1"/>
          <a:srcRect l="0" t="24307" r="0" b="10860"/>
          <a:stretch/>
        </p:blipFill>
        <p:spPr>
          <a:xfrm>
            <a:off x="0" y="0"/>
            <a:ext cx="4435560" cy="4321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cs623120.vk.me/v623120776/2bf1e/z9gwvwxoyfU.jpg"/>
          <p:cNvPicPr/>
          <p:nvPr/>
        </p:nvPicPr>
        <p:blipFill>
          <a:blip r:embed="rId2"/>
          <a:srcRect l="6688" t="30187" r="17713" b="9475"/>
          <a:stretch/>
        </p:blipFill>
        <p:spPr>
          <a:xfrm>
            <a:off x="3043080" y="3789360"/>
            <a:ext cx="5776920" cy="306864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4284720" y="1557360"/>
            <a:ext cx="457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b83d68"/>
                </a:solidFill>
                <a:latin typeface="Century Schoolbook"/>
                <a:ea typeface="Arial"/>
              </a:rPr>
              <a:t>Draw! </a:t>
            </a:r>
            <a:br>
              <a:rPr sz="1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5092200" y="2421000"/>
            <a:ext cx="29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b83d68"/>
                </a:solidFill>
                <a:latin typeface="Century Schoolbook"/>
                <a:ea typeface="Arial"/>
              </a:rPr>
              <a:t>Danc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9047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3d68"/>
                </a:solidFill>
                <a:latin typeface="Century Schoolbook"/>
              </a:rPr>
              <a:t>BUT MOST OF ALL I LOVE SPORTS</a:t>
            </a:r>
            <a:r>
              <a:rPr b="1" lang="en-US" sz="3200" spc="-1" strike="noStrike">
                <a:solidFill>
                  <a:srgbClr val="b83d68"/>
                </a:solidFill>
                <a:latin typeface="Century Schoolbook"/>
              </a:rPr>
              <a:t>! </a:t>
            </a:r>
            <a:br>
              <a:rPr sz="3200"/>
            </a:b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4500720" y="1628640"/>
            <a:ext cx="41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3d68"/>
                </a:solidFill>
                <a:latin typeface="Century Schoolbook"/>
                <a:ea typeface="Arial"/>
              </a:rPr>
              <a:t>I`m rhythmic gymna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://cs623120.vk.me/v623120776/2bef1/mo7UCDoq1vI.jpg"/>
          <p:cNvPicPr/>
          <p:nvPr/>
        </p:nvPicPr>
        <p:blipFill>
          <a:blip r:embed="rId1"/>
          <a:srcRect l="20079" t="8904" r="13780" b="5776"/>
          <a:stretch/>
        </p:blipFill>
        <p:spPr>
          <a:xfrm>
            <a:off x="395280" y="1125360"/>
            <a:ext cx="3960720" cy="33940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5"/>
          <p:cNvSpPr/>
          <p:nvPr/>
        </p:nvSpPr>
        <p:spPr>
          <a:xfrm>
            <a:off x="108000" y="4795920"/>
            <a:ext cx="4176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83d68"/>
                </a:solidFill>
                <a:latin typeface="Century Schoolbook"/>
                <a:ea typeface="Arial"/>
              </a:rPr>
              <a:t>It`s a beautiful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83d68"/>
                </a:solidFill>
                <a:latin typeface="Century Schoolbook"/>
                <a:ea typeface="Arial"/>
              </a:rPr>
              <a:t>but very hard spo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83d68"/>
                </a:solidFill>
                <a:latin typeface="Century Schoolbook"/>
                <a:ea typeface="Arial"/>
              </a:rPr>
              <a:t> </a:t>
            </a:r>
            <a:r>
              <a:rPr b="1" lang="en-US" sz="2500" spc="-1" strike="noStrike">
                <a:solidFill>
                  <a:srgbClr val="b83d68"/>
                </a:solidFill>
                <a:latin typeface="Century Schoolbook"/>
                <a:ea typeface="Arial"/>
              </a:rPr>
              <a:t>I have to do a lot of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83d68"/>
                </a:solidFill>
                <a:latin typeface="Century Schoolbook"/>
                <a:ea typeface="Arial"/>
              </a:rPr>
              <a:t>work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83d68"/>
                </a:solidFill>
                <a:latin typeface="Century Schoolbook"/>
                <a:ea typeface="Arial"/>
              </a:rPr>
              <a:t> </a:t>
            </a:r>
            <a:r>
              <a:rPr b="1" lang="en-US" sz="2500" spc="-1" strike="noStrike">
                <a:solidFill>
                  <a:srgbClr val="b83d68"/>
                </a:solidFill>
                <a:latin typeface="Century Schoolbook"/>
                <a:ea typeface="Arial"/>
              </a:rPr>
              <a:t>to get a good result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http://cs623120.vk.me/v623120776/2bf15/UghhNmMJv1Y.jpg"/>
          <p:cNvPicPr/>
          <p:nvPr/>
        </p:nvPicPr>
        <p:blipFill>
          <a:blip r:embed="rId2"/>
          <a:stretch/>
        </p:blipFill>
        <p:spPr>
          <a:xfrm>
            <a:off x="406728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83d68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http://cs623120.vk.me/v623120776/2bf27/WgXObWi1V2c.jpg"/>
          <p:cNvPicPr/>
          <p:nvPr/>
        </p:nvPicPr>
        <p:blipFill>
          <a:blip r:embed="rId1"/>
          <a:srcRect l="15354" t="7719" r="20079" b="11699"/>
          <a:stretch/>
        </p:blipFill>
        <p:spPr>
          <a:xfrm>
            <a:off x="179280" y="171360"/>
            <a:ext cx="8064720" cy="66866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5292720" y="2421000"/>
            <a:ext cx="266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  <a:ea typeface="Arial"/>
              </a:rPr>
              <a:t>I have the first adult categ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WE ALL ARE GOOD FRIENDS AND CELEBRATE HOLIDAYS TOGETHER!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372" name="Picture 2" descr="http://cs623120.vk.me/v623120776/2bf03/uXgmVz0ZWYM.jpg"/>
          <p:cNvPicPr/>
          <p:nvPr/>
        </p:nvPicPr>
        <p:blipFill>
          <a:blip r:embed="rId1"/>
          <a:stretch/>
        </p:blipFill>
        <p:spPr>
          <a:xfrm>
            <a:off x="4643280" y="1657440"/>
            <a:ext cx="3457800" cy="5200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cs623120.vk.me/v623120776/2bf30/IMnLOurXd8w.jpg"/>
          <p:cNvPicPr/>
          <p:nvPr/>
        </p:nvPicPr>
        <p:blipFill>
          <a:blip r:embed="rId2"/>
          <a:srcRect l="10175" t="24032" r="14349" b="6670"/>
          <a:stretch/>
        </p:blipFill>
        <p:spPr>
          <a:xfrm>
            <a:off x="539640" y="1658880"/>
            <a:ext cx="3722760" cy="5199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6:39:35Z</dcterms:created>
  <dc:creator>Юля</dc:creator>
  <dc:description/>
  <dc:language>en-US</dc:language>
  <cp:lastModifiedBy>Владимир Макаричев</cp:lastModifiedBy>
  <dcterms:modified xsi:type="dcterms:W3CDTF">2016-12-04T14:06:46Z</dcterms:modified>
  <cp:revision>10</cp:revision>
  <dc:subject/>
  <dc:title>I`M TALENTED</dc:title>
</cp:coreProperties>
</file>