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D524-20DD-48AB-892E-B3CEAEF4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DEF-B572-423D-BA9F-1CD08324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1FB-57BD-4384-93B2-C32A3128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D8C-018A-4EFD-89BC-68F70262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E051-8516-40D1-82E4-7438400E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E2D6-EB7F-486A-BA50-2960D253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0BBF-3261-4FCF-930E-3246161C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2274-2047-4D81-9B77-EAC443AC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2F3C-73E6-494C-81ED-6F1767D3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60BF-1E47-4527-A250-2BB9DD1D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D009-1859-4A5C-ABA3-BF904E58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3215-ED3B-41F0-8428-DB929C71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985E-2648-42FA-9892-331A4177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1CF9-A051-429E-8459-523F3D14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A638-E3CE-4324-B0A4-296BB84E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FB8A-D2F7-4EBA-8441-253F5AD0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6843-637C-4AEB-A132-D09ED31C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5BE9C-57CD-429D-A95F-5E2CFF72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58FFD-E32D-489B-BECC-329D1590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BFABD-516F-40F5-8682-13B29766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A2F82-0A25-44D9-9D97-424ADA24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FFCF9-7BB1-49FF-B862-C5175DF5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ADD-A9A0-4B0F-97B3-5FEB129F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85127-0F6F-488B-8833-EEBAD7AA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9113E-456C-4A97-91A6-3184E658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E0CB5-3035-44C8-B6D6-333EC367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E7C5D-4929-4ACC-8BDD-0F20C0BB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1CB7B-962A-4CFD-B21F-FCD5ED39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39772-5BD3-4EEF-954E-B8E4EF01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F85E4-9166-4A89-AE48-B3348B7F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25B66-6465-4803-B3CA-D38321D1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F2F7F-2679-4145-B67C-99D404EC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65EB5-57E8-482E-8EA7-D56F092B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9E59-70B4-4AB5-B591-30370494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7F168-D41F-4FCA-A50F-C9AF92CE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EC702-8C08-4896-807F-05DF162E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8C80D-523E-4556-A316-1211EC45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92EEC-F1E3-468F-8487-F93BE7FC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18404-3C74-4B65-8732-3FE04C55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3C253-B6A2-4FF2-8857-EBD79B3D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4AE11-CBEA-476F-A3DB-0BCDE6F0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E054B-FD2F-4BE2-8E32-5BB7ED86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EAFD1-9D59-4CF9-A58C-0ED06DD1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621D0E-0684-4BB8-8829-3C8A7644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DF48-D077-486C-BA62-AF9E0823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C04434-DF45-431C-959E-7BBD2B15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1D5B01-4919-41A2-A34E-8CCC833F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09C261-7E60-413B-91A6-2FB72445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8A7B4-065D-47A7-AB1A-61E12814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1C83A6-54E3-40E3-9EAA-A941F2C2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1777A7-A339-4F40-8263-E005DCAB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413E7-8A86-4811-B4BD-49C67304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DD1F03-196C-436F-9AA2-55352564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C57BAB-DB1E-473F-8DD7-279FF2AC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2828F5-6A58-4100-B79F-A85AEDE5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630E-CD5E-41E0-9C28-190E9142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BC2440-6878-445E-8512-089E30CE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807C86-71E6-4017-BE22-72CC473F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3B134C-00BF-4F16-8D1D-7E4D8CA6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4BE931-50EF-4859-9B6A-9E6FC070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B65920-BBA3-490D-B19F-8F8C0550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C8539E-34F7-4798-BDAA-4163D615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6B11A2-C661-4A7A-A19D-0F63C0E1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3E2C2C-AA59-4456-96CD-69914FA0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2E237E-ED93-436C-A451-6A049586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63E048-0085-4E73-835B-D1FD91B0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AD5A-4813-424E-89AC-160FF059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9A0CD9-EE3B-4BA3-B1D7-B18A84AE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BAD29D-0FA6-4EA4-A722-F9A68798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CB48B3-E161-44CC-B15A-A2FD813A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2A96D1-B662-4957-82CC-F6C447DB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1E592F-D0BC-4466-BC89-081777E0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910D59-E97E-47DE-8042-4D930811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878EA2-FF87-4E43-B04A-7B602BF6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289265-2DCF-442C-9E08-E1FCBB99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FBC98-FC53-4659-A39E-C6E9E7E1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03F520-1FAE-41BD-B9BC-6ECD62A8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F793-6D05-4A18-9043-20013506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C9C792-C432-43B3-B797-7F2F9F7B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570C58-ED9E-4CBC-8A55-27878125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D15FFD-C644-4D57-A233-DAC0709F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7C56EB-E9C1-46EF-8896-44DEEBD3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F0A745-C849-4286-A7B9-2D4B0A14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33D-586E-4CEE-9A0B-7E99A4BD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823D-2470-407B-9382-027BE0C3819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9FA1-4F08-4780-B8F7-A016D4E4AB9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0DE3-9F2E-476B-8022-2A39EAE4D66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1B3C-4469-44E1-8CEF-00779C941DB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FE43-935B-4F28-8126-8B0506772BE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D8C3-4B5A-490E-A0AD-B0308427E51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10FE-ECE6-484B-8A03-E502355AFB0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34920" y="1773000"/>
            <a:ext cx="714348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ФОРМЫ И МЕТОДЫ РАБОТЫ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С РОДИТЕЛЯМ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340000" y="4868640"/>
            <a:ext cx="650088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ы и методы работы с родителями должны быть направлены на повышение педагогической культуры родителей, на укрепление взаимодействия детского сада и семьи, на усиление ее воспитательного потенциал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468360" y="333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апы взаимоотношений с родителям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кругленный прямоугольник 4"/>
          <p:cNvSpPr/>
          <p:nvPr/>
        </p:nvSpPr>
        <p:spPr>
          <a:xfrm>
            <a:off x="809640" y="1693800"/>
            <a:ext cx="2736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44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вайте познакомимся!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Скругленный прямоугольник 5"/>
          <p:cNvSpPr/>
          <p:nvPr/>
        </p:nvSpPr>
        <p:spPr>
          <a:xfrm>
            <a:off x="3203640" y="2997360"/>
            <a:ext cx="273672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44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вайте подружим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кругленный прямоугольник 9"/>
          <p:cNvSpPr/>
          <p:nvPr/>
        </p:nvSpPr>
        <p:spPr>
          <a:xfrm>
            <a:off x="5219640" y="4508640"/>
            <a:ext cx="27370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44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вайте узнавать вмес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8"/>
          <p:cNvSpPr/>
          <p:nvPr/>
        </p:nvSpPr>
        <p:spPr>
          <a:xfrm>
            <a:off x="1339200" y="112536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1 эта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1"/>
          <p:cNvSpPr/>
          <p:nvPr/>
        </p:nvSpPr>
        <p:spPr>
          <a:xfrm>
            <a:off x="4025160" y="242424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2 эта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2"/>
          <p:cNvSpPr/>
          <p:nvPr/>
        </p:nvSpPr>
        <p:spPr>
          <a:xfrm>
            <a:off x="5947560" y="393372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3 эта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500040" y="2205000"/>
          <a:ext cx="7786800" cy="3376800"/>
        </p:xfrm>
        <a:graphic>
          <a:graphicData uri="http://schemas.openxmlformats.org/drawingml/2006/table">
            <a:tbl>
              <a:tblPr/>
              <a:tblGrid>
                <a:gridCol w="3890880"/>
                <a:gridCol w="3895920"/>
              </a:tblGrid>
              <a:tr h="487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радицион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традицион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9360">
                <a:tc>
                  <a:txBody>
                    <a:bodyPr lIns="0" rIns="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● 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ительские собр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● 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упповые и общесадовские конферен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● 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педаго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●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дивидуальные кармаш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● 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сещения на д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● 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ительские тренин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● 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ску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● 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сихологические разми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● 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руглые ст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● 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ктику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● 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ительские веч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● 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ительские ч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● 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ительские рин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Rectangle 1"/>
          <p:cNvSpPr/>
          <p:nvPr/>
        </p:nvSpPr>
        <p:spPr>
          <a:xfrm>
            <a:off x="285840" y="48780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ы работы: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аблюдение; беседа; тестирование; анкет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ы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рямоугольник 5"/>
          <p:cNvSpPr/>
          <p:nvPr/>
        </p:nvSpPr>
        <p:spPr>
          <a:xfrm>
            <a:off x="357120" y="214200"/>
            <a:ext cx="82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радиционные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информационно – аналитические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кругленный прямоугольник 5"/>
          <p:cNvSpPr/>
          <p:nvPr/>
        </p:nvSpPr>
        <p:spPr>
          <a:xfrm>
            <a:off x="468360" y="1700280"/>
            <a:ext cx="245088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44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ологические сре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кругленный прямоугольник 6"/>
          <p:cNvSpPr/>
          <p:nvPr/>
        </p:nvSpPr>
        <p:spPr>
          <a:xfrm>
            <a:off x="1303200" y="2637000"/>
            <a:ext cx="2952720" cy="72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о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кругленный прямоугольник 8"/>
          <p:cNvSpPr/>
          <p:nvPr/>
        </p:nvSpPr>
        <p:spPr>
          <a:xfrm>
            <a:off x="2411280" y="3637080"/>
            <a:ext cx="338292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чтовые ящ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кругленный прямоугольник 7"/>
          <p:cNvSpPr/>
          <p:nvPr/>
        </p:nvSpPr>
        <p:spPr>
          <a:xfrm>
            <a:off x="4408560" y="4649760"/>
            <a:ext cx="338292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Книга-эстафе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5"/>
          <p:cNvSpPr/>
          <p:nvPr/>
        </p:nvSpPr>
        <p:spPr>
          <a:xfrm>
            <a:off x="357120" y="214200"/>
            <a:ext cx="821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радиционные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осуговые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ый прямоугольник 7"/>
          <p:cNvSpPr/>
          <p:nvPr/>
        </p:nvSpPr>
        <p:spPr>
          <a:xfrm>
            <a:off x="1332000" y="1916280"/>
            <a:ext cx="3408120" cy="86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местные праздники, развл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10"/>
          <p:cNvSpPr/>
          <p:nvPr/>
        </p:nvSpPr>
        <p:spPr>
          <a:xfrm>
            <a:off x="2900520" y="3119400"/>
            <a:ext cx="3128760" cy="88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семейного  порт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кругленный прямоугольник 11"/>
          <p:cNvSpPr/>
          <p:nvPr/>
        </p:nvSpPr>
        <p:spPr>
          <a:xfrm>
            <a:off x="4433760" y="4365720"/>
            <a:ext cx="3129120" cy="88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выставки, выставки семейного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5"/>
          <p:cNvSpPr/>
          <p:nvPr/>
        </p:nvSpPr>
        <p:spPr>
          <a:xfrm>
            <a:off x="357120" y="214200"/>
            <a:ext cx="821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радиционные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знавательные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кругленный прямоугольник 5"/>
          <p:cNvSpPr/>
          <p:nvPr/>
        </p:nvSpPr>
        <p:spPr>
          <a:xfrm>
            <a:off x="5051520" y="1413000"/>
            <a:ext cx="2616120" cy="93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ая библиотека для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кругленный прямоугольник 4"/>
          <p:cNvSpPr/>
          <p:nvPr/>
        </p:nvSpPr>
        <p:spPr>
          <a:xfrm>
            <a:off x="539640" y="1449360"/>
            <a:ext cx="2952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инары - практику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кругленный прямоугольник 6"/>
          <p:cNvSpPr/>
          <p:nvPr/>
        </p:nvSpPr>
        <p:spPr>
          <a:xfrm>
            <a:off x="539640" y="2394000"/>
            <a:ext cx="2952720" cy="72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сультативная помощь специал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кругленный прямоугольник 7"/>
          <p:cNvSpPr/>
          <p:nvPr/>
        </p:nvSpPr>
        <p:spPr>
          <a:xfrm>
            <a:off x="4978440" y="3924360"/>
            <a:ext cx="266364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ий брифин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Скругленный прямоугольник 8"/>
          <p:cNvSpPr/>
          <p:nvPr/>
        </p:nvSpPr>
        <p:spPr>
          <a:xfrm>
            <a:off x="509760" y="3365640"/>
            <a:ext cx="2952720" cy="181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тельские собрания и консультации в нетрадицион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кругленный прямоугольник 9"/>
          <p:cNvSpPr/>
          <p:nvPr/>
        </p:nvSpPr>
        <p:spPr>
          <a:xfrm>
            <a:off x="4978440" y="5183280"/>
            <a:ext cx="2663640" cy="84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ая / родительская гости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Скругленный прямоугольник 11"/>
          <p:cNvSpPr/>
          <p:nvPr/>
        </p:nvSpPr>
        <p:spPr>
          <a:xfrm>
            <a:off x="5003640" y="2690640"/>
            <a:ext cx="2664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 с педагогическим содерж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кругленный прямоугольник 10"/>
          <p:cNvSpPr/>
          <p:nvPr/>
        </p:nvSpPr>
        <p:spPr>
          <a:xfrm>
            <a:off x="539640" y="5307120"/>
            <a:ext cx="2952720" cy="72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стер-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5"/>
          <p:cNvSpPr/>
          <p:nvPr/>
        </p:nvSpPr>
        <p:spPr>
          <a:xfrm>
            <a:off x="17640" y="44280"/>
            <a:ext cx="89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радиционные н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аглядно-информационны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информационно-ознакомительные; информационно-просветительские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Скругленный прямоугольник 5"/>
          <p:cNvSpPr/>
          <p:nvPr/>
        </p:nvSpPr>
        <p:spPr>
          <a:xfrm>
            <a:off x="3995640" y="3860640"/>
            <a:ext cx="2449440" cy="94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нь открытых просмотров занятий и других видов деятельности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кругленный прямоугольник 4"/>
          <p:cNvSpPr/>
          <p:nvPr/>
        </p:nvSpPr>
        <p:spPr>
          <a:xfrm>
            <a:off x="468360" y="1692360"/>
            <a:ext cx="244800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нь / неделя открытых двер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Скругленный прямоугольник 6"/>
          <p:cNvSpPr/>
          <p:nvPr/>
        </p:nvSpPr>
        <p:spPr>
          <a:xfrm>
            <a:off x="1619280" y="2708280"/>
            <a:ext cx="2952720" cy="72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мини-библиот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Скругленный прямоугольник 9"/>
          <p:cNvSpPr/>
          <p:nvPr/>
        </p:nvSpPr>
        <p:spPr>
          <a:xfrm>
            <a:off x="4897440" y="5084640"/>
            <a:ext cx="3095640" cy="849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уск газеты Д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187280" y="1700280"/>
            <a:ext cx="84297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  желание пойти на контакт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  заинтересованность в общени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  видение в другом равного партнер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  готовность принять иную точку зрени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  выбор интересных значимых те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  тактич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438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ГАЕМЫЕ УСПЕШНОГО ОБЩЕНИЯ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2:38:25Z</dcterms:created>
  <dc:creator>Ольга</dc:creator>
  <dc:description/>
  <dc:language>en-US</dc:language>
  <cp:lastModifiedBy>Пользователь</cp:lastModifiedBy>
  <dcterms:modified xsi:type="dcterms:W3CDTF">2016-11-24T10:33:35Z</dcterms:modified>
  <cp:revision>78</cp:revision>
  <dc:subject/>
  <dc:title>ФОРМЫ И МЕТОДЫ РАБОТЫ  С РОДИТЕЛЯМИ</dc:title>
</cp:coreProperties>
</file>