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WHOOSH.WAV" ContentType="audio/x-wav"/>
  <Override PartName="/ppt/media/image8.png" ContentType="image/png"/>
  <Override PartName="/ppt/media/image1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7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CAMERA.WAV" ContentType="audio/x-wav"/>
  <Override PartName="/ppt/media/image2.jpeg" ContentType="image/jpeg"/>
  <Override PartName="/ppt/media/image3.wmf" ContentType="image/x-wmf"/>
  <Override PartName="/ppt/media/image5.png" ContentType="image/png"/>
  <Override PartName="/ppt/media/image13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A92E-C36A-423D-9AD3-AF8B525EC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D78-8673-466F-8B26-42A0B6CD1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54ED-9185-47DB-ACD9-731699988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7D1A-4660-4F00-9E8B-374627954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13D1-A5D0-42EC-9E73-54E03C2A1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1E9-9DBB-4DBB-8DF5-91FB46171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F729-33CB-4174-A549-770F63DD3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F4B-CE0E-4E08-B265-D10F9AE8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FFA-486A-41E1-B92B-DE51104F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4BC-547C-49A6-AA3F-476B6FE1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0AC-B8E3-4F7E-8EFE-BDF46970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40C-FFA1-40AA-BB63-44AE8CA4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F62-D9D3-41BC-BE9E-A1C303E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D60-A1B2-47AF-8637-790C75E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16C-873B-4908-9F34-6D9320BB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3CC-E8CA-47DE-B796-32F649D6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275-F5E7-43FD-A58D-9E73F13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E19-273F-4809-8799-776156A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BDD-2BB3-4968-964C-1EEBCD2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0C87-61C9-4F9B-A380-16895B352F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26"/>
          <p:cNvGraphicFramePr/>
          <p:nvPr/>
        </p:nvGraphicFramePr>
        <p:xfrm>
          <a:off x="-423720" y="0"/>
          <a:ext cx="95677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0"/>
                    <a:ext cx="9567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28400" y="1484280"/>
            <a:ext cx="8358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личностно ориентированном уроке актуализируются </a:t>
            </a: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знания, полученные на других  уроках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 жизненный опыт учащих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субъектный  опыт учеников)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н предмет анализ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 знания, полученные на уроке, обогатят опыт учащих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187280" y="549360"/>
            <a:ext cx="660888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4000" y="1484280"/>
            <a:ext cx="8820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71680" y="162864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 личностно  ориентированном подходе учитель  должен  постара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здать  условия  для самомотивации школьниками  собственной деятельности и самоцелеполаг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900000" y="765000"/>
            <a:ext cx="7458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1026"/>
          <p:cNvSpPr/>
          <p:nvPr/>
        </p:nvSpPr>
        <p:spPr>
          <a:xfrm>
            <a:off x="0" y="0"/>
            <a:ext cx="9144000" cy="670572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27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6781680" y="685800"/>
            <a:ext cx="2362320" cy="20908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028"/>
          <p:cNvSpPr txBox="1"/>
          <p:nvPr/>
        </p:nvSpPr>
        <p:spPr>
          <a:xfrm>
            <a:off x="1143000" y="990720"/>
            <a:ext cx="3809880" cy="1876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обходим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озд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дагогическу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ред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4" name="WordArt 1029"/>
          <p:cNvSpPr txBox="1"/>
          <p:nvPr/>
        </p:nvSpPr>
        <p:spPr>
          <a:xfrm rot="34800">
            <a:off x="4038480" y="380880"/>
            <a:ext cx="2452680" cy="12430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влияющую</a:t>
            </a:r>
            <a:endParaRPr b="0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на разные аспекты</a:t>
            </a:r>
            <a:endParaRPr b="0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и стороны</a:t>
            </a:r>
            <a:endParaRPr b="0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развития личности,</a:t>
            </a:r>
            <a:endParaRPr b="0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AutoShape 1030"/>
          <p:cNvSpPr/>
          <p:nvPr/>
        </p:nvSpPr>
        <p:spPr>
          <a:xfrm>
            <a:off x="6389640" y="3608280"/>
            <a:ext cx="2144880" cy="1415160"/>
          </a:xfrm>
          <a:prstGeom prst="wedgeRoundRectCallout">
            <a:avLst>
              <a:gd name="adj1" fmla="val -51912"/>
              <a:gd name="adj2" fmla="val -64087"/>
              <a:gd name="adj3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77ff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в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ений, событий, свойств, законов  и закономерностей, отношений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31"/>
          <p:cNvSpPr/>
          <p:nvPr/>
        </p:nvSpPr>
        <p:spPr>
          <a:xfrm>
            <a:off x="1066680" y="525780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рамках данного подхода можно вести речь о комплексном развитии эмоционально-образной, когнитивной, деятельностной сфер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228600" y="2590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оздать условия для появления у учащихся мотива к самоизменению, личностному ро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2438280" y="3886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оздать условия для возможности к реализации «Я – концепции» («Я – могу» - «я – хочу» - «я – нравлюс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4"/>
          <p:cNvSpPr/>
          <p:nvPr/>
        </p:nvSpPr>
        <p:spPr>
          <a:xfrm>
            <a:off x="4267080" y="22860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оздать условия для приобретения учащимися средств познания и исследования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85880" y="1557360"/>
            <a:ext cx="785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На личностно ориентированном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учитель создает условия для усвоения образовательного стандарта, учитывая индивидуальные особенности учеников, а для развития познавательной активности оставляет «белые пятна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о ходу изучения нового материала задает вопросы,  на которые ученики самостоятельно найдут ответы, если захо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ситуация выбора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95280" y="692280"/>
            <a:ext cx="837576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09600" y="1568880"/>
            <a:ext cx="8834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Чтобы развивать мыслительные операции у  учеников, нужны  индивидуальны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заданий таких должно быть очень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чтобы каждый ученик смог выбрать задание по душе, исходя из своих особенносте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этом этапе урока очень важно создать ситуацию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84360" y="476280"/>
            <a:ext cx="75326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4240" y="1732320"/>
            <a:ext cx="7783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личностно ориентированном уроке – двойной результа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  объективный – отм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  субъективный – </a:t>
            </a:r>
            <a:r>
              <a:rPr b="1" i="1" lang="ru-RU" sz="3600" spc="-1" strike="noStrike" u="sng">
                <a:solidFill>
                  <a:srgbClr val="9900cc"/>
                </a:solidFill>
                <a:uFillTx/>
                <a:latin typeface="Times New Roman"/>
                <a:ea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осознание школьниками собственной  деятель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ее результатов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71640" y="836640"/>
            <a:ext cx="72500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6"/>
          <p:cNvSpPr txBox="1"/>
          <p:nvPr/>
        </p:nvSpPr>
        <p:spPr>
          <a:xfrm>
            <a:off x="826920" y="333360"/>
            <a:ext cx="172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к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2771640" y="2276640"/>
            <a:ext cx="3889080" cy="2638080"/>
            <a:chOff x="2771640" y="2276640"/>
            <a:chExt cx="3889080" cy="2638080"/>
          </a:xfrm>
        </p:grpSpPr>
        <p:sp>
          <p:nvSpPr>
            <p:cNvPr id="99" name="AutoShape 8"/>
            <p:cNvSpPr/>
            <p:nvPr/>
          </p:nvSpPr>
          <p:spPr>
            <a:xfrm>
              <a:off x="2771640" y="2276640"/>
              <a:ext cx="3889080" cy="2638080"/>
            </a:xfrm>
            <a:custGeom>
              <a:avLst/>
              <a:gdLst>
                <a:gd name="textAreaLeft" fmla="*/ 887760 w 3889080"/>
                <a:gd name="textAreaRight" fmla="*/ 3001320 w 3889080"/>
                <a:gd name="textAreaTop" fmla="*/ 602280 h 2638080"/>
                <a:gd name="textAreaBottom" fmla="*/ 2035800 h 26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3379320" y="3093480"/>
              <a:ext cx="291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личностно ориентированный ур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0">
            <a:hlinkClick r:id="rId1" action="ppaction://hlinksldjump"/>
          </p:cNvPr>
          <p:cNvSpPr/>
          <p:nvPr/>
        </p:nvSpPr>
        <p:spPr>
          <a:xfrm>
            <a:off x="250920" y="1655640"/>
            <a:ext cx="2361960" cy="1322280"/>
          </a:xfrm>
          <a:prstGeom prst="can">
            <a:avLst>
              <a:gd name="adj" fmla="val 2044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субъектного опыта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627280" y="1989000"/>
            <a:ext cx="1447920" cy="38124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6443640" y="1557360"/>
            <a:ext cx="2406600" cy="1695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bf9f"/>
              </a:gs>
              <a:gs pos="50000">
                <a:srgbClr val="ffffff"/>
              </a:gs>
              <a:gs pos="100000">
                <a:srgbClr val="ffbf9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е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flipH="1">
            <a:off x="5003640" y="1916280"/>
            <a:ext cx="1447920" cy="380880"/>
          </a:xfrm>
          <a:custGeom>
            <a:avLst/>
            <a:gdLst>
              <a:gd name="textAreaLeft" fmla="*/ 230040 w 1447920"/>
              <a:gd name="textAreaRight" fmla="*/ 1073520 w 14479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24000" y="3429000"/>
            <a:ext cx="1874520" cy="2344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выбо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сех этапах, где только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flipV="1">
            <a:off x="2268360" y="4508640"/>
            <a:ext cx="1447920" cy="57456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77080" y="3429000"/>
            <a:ext cx="1905120" cy="2134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дидактически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flipH="1" flipV="1">
            <a:off x="5508000" y="4508640"/>
            <a:ext cx="1376280" cy="380880"/>
          </a:xfrm>
          <a:custGeom>
            <a:avLst/>
            <a:gdLst>
              <a:gd name="textAreaLeft" fmla="*/ 218520 w 1376280"/>
              <a:gd name="textAreaRight" fmla="*/ 1020240 w 1376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5867280" y="5805360"/>
            <a:ext cx="2186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1332000" y="5877000"/>
            <a:ext cx="2519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3635280" y="4724280"/>
            <a:ext cx="649440" cy="100836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 flipH="1">
            <a:off x="5148360" y="4724280"/>
            <a:ext cx="622080" cy="107964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3059280" y="176040"/>
            <a:ext cx="3168360" cy="1467000"/>
          </a:xfrm>
          <a:prstGeom prst="can">
            <a:avLst>
              <a:gd name="adj" fmla="val 25023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е  индивидуальных особенностей  учеников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500720" y="162864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0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4"/>
          <p:cNvSpPr/>
          <p:nvPr/>
        </p:nvSpPr>
        <p:spPr>
          <a:xfrm>
            <a:off x="431640" y="260280"/>
            <a:ext cx="8712360" cy="623736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285920"/>
            <a:ext cx="78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 – это множество субъек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 каждого из которых своя высота, своя планка, свое особенное и неповторимое «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ы всегда должны об э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мнить – только тогда мы сможем помочь нашим ученикам с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пе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7000"/>
                            </p:stCondLst>
                            <p:childTnLst>
                              <p:par>
                                <p:cTn id="6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9000"/>
                            </p:stCondLst>
                            <p:childTnLst>
                              <p:par>
                                <p:cTn id="6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>
            <a:off x="2857680" y="1214280"/>
            <a:ext cx="5541840" cy="294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кьянова М.И.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о ориентирова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utoShape 8" descr=""/>
          <p:cNvPicPr/>
          <p:nvPr/>
        </p:nvPicPr>
        <p:blipFill>
          <a:blip r:embed="rId1"/>
          <a:stretch/>
        </p:blipFill>
        <p:spPr>
          <a:xfrm>
            <a:off x="695160" y="3913200"/>
            <a:ext cx="5608800" cy="2616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Советую  прочит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"/>
                            </p:stCondLst>
                            <p:childTnLst>
                              <p:par>
                                <p:cTn id="7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714240" y="714240"/>
            <a:ext cx="7802640" cy="346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иманская И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личностно ориентированного обучения в современной шк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: Сентябрь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MCj04107870000[1]"/>
          <p:cNvPicPr/>
          <p:nvPr/>
        </p:nvPicPr>
        <p:blipFill>
          <a:blip r:embed="rId1"/>
          <a:stretch/>
        </p:blipFill>
        <p:spPr>
          <a:xfrm>
            <a:off x="2928960" y="4071960"/>
            <a:ext cx="2735280" cy="202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?id=9988955&amp;tov=5"/>
          <p:cNvPicPr/>
          <p:nvPr/>
        </p:nvPicPr>
        <p:blipFill>
          <a:blip r:embed="rId1"/>
          <a:stretch/>
        </p:blipFill>
        <p:spPr>
          <a:xfrm>
            <a:off x="324000" y="4437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9988955&amp;tov=5"/>
          <p:cNvPicPr/>
          <p:nvPr/>
        </p:nvPicPr>
        <p:blipFill>
          <a:blip r:embed="rId2"/>
          <a:stretch/>
        </p:blipFill>
        <p:spPr>
          <a:xfrm>
            <a:off x="6227640" y="333360"/>
            <a:ext cx="2592360" cy="2252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gradFill rotWithShape="0">
            <a:gsLst>
              <a:gs pos="0">
                <a:srgbClr val="fef3fe"/>
              </a:gs>
              <a:gs pos="100000">
                <a:srgbClr val="fba3f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55640" y="2133720"/>
            <a:ext cx="691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ИЕНТИРОВАН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проявления познавательной активности уче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достижения этой це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нообразных форм и методов учебной деятельности, позволяющих раскрывать субъективный опыт уча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атмосферы заинтересованности каждого ученика в работе клас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учащихся к высказываниям, использованию различных способов выполнения заданий без боязни ошибиться, получить неправильный отв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деятельности ученика не только по конечному результату (правильно неправильно), но и по процессу его дости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ение стремления ученика находить свой способ работы (решения задачи): анализировать способы работы других учеников в ходе урока, выбирать и осваивать наиболее рациональ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едагогических ситуаций общения на уроке, позволяющих каждому ученику проявлять инициативу, самостоятельность, избирательность в способах работы, создание обстановки для естественного самовыражения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требования к личностно-ориентированному у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у учителя учебного плана проведения урока в зависимости от готовности клас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блемных творческих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, позволяющих ученику самому выбирать тип, вид и форму материала (словесную, графическую, условно-символическую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ложительного эмоционального настроя на работу всех учеников в ходе уро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детьми в конце урока не только того, что «мы узнали» (чем овладели), но и того, что понравилось (не понравилось) и почему, что бы хотелось выполнить ещё раз, а сделать по-друго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учеников к выбору и самостоятельному использованию разных способов выполнения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(поощрение) при опросе на уроке не только правильного ответа ученика, но и  анализ того, как ученик рассуждал, какой способ использовал, почему и в чём ошибал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, выставляемая ученику в конце урока, должна аргументироваться по ряду параметров: правильность, самостоятельность, оригина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дании на дом называется не только тема и объём задания, но подробно разъясняется, как следует рационально организовать свою учебную работу при выполнении домашнего за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эффективности проведения личностно-ориентированного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ь учителя на уроке с личностно-ориентированной направленностью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ложительного эмоционального настроя на работу всех учеников в ходе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в начале урока не только темы, но и организации учебной деятельности в ходе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, позволяющих ученику самому выбирать тип, вид и форму материала (словесную, графическую, условно-символическую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блемных творческих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учеников к выбору и самостоятельному использованию различных способов выполнения зад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(поощрение) при опросе на уроке не только правильного ответа ученика, но и анализ того, как ученик рассуждал, какой способ использовал, почему ошибся и в чё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детьми в конце урока не только того, что «мы узнали» (чем овладели), но и того, что понравилось (не понравилось) и почему, что бы хотелось выполнить еще раз, а что сделать по-друг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а, выставляемая ученику в конце урока, должна аргументироваться по ряду параметров: правильности, самостоятельности, оригина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дании на дом называется не только тема и объем задания, но и подробно разъясняется, как следует рационально организовать свою учебную работу при выполнении домашнего за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14400" y="304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Сравнительные особенности традиционной и инновационной педаг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236232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914400" y="235440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20040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е знаний, умений и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67280" y="2286000"/>
            <a:ext cx="281952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2887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14400" y="2819520"/>
            <a:ext cx="228600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характери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352680" y="296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Школа памя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867280" y="2940120"/>
            <a:ext cx="289584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Школа развит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33520" y="349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914400" y="3429000"/>
            <a:ext cx="228600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ладающий тип и характер взаимо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200400" y="34974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бъект - объек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867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бъект - субъек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33520" y="4311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914400" y="4335480"/>
            <a:ext cx="2286000" cy="3373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из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00400" y="4335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Делай как 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867280" y="4311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е навред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33520" y="47163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914400" y="4724280"/>
            <a:ext cx="228600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и стиль взаимо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200400" y="4844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итар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867280" y="48448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мократ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380880" y="6019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533520" y="5987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ологичность, закрыт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5867280" y="518148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логичность,   открытость,  рефлекс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914400" y="6087960"/>
            <a:ext cx="2286000" cy="337320"/>
          </a:xfrm>
          <a:prstGeom prst="rect">
            <a:avLst/>
          </a:prstGeom>
          <a:solidFill>
            <a:srgbClr val="c3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ы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3200400" y="5943600"/>
            <a:ext cx="2666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5867280" y="5943600"/>
            <a:ext cx="2895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ов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ле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52"/>
          <p:cNvGrpSpPr/>
          <p:nvPr/>
        </p:nvGrpSpPr>
        <p:grpSpPr>
          <a:xfrm>
            <a:off x="380880" y="1676520"/>
            <a:ext cx="8382240" cy="4952880"/>
            <a:chOff x="380880" y="1676520"/>
            <a:chExt cx="8382240" cy="4952880"/>
          </a:xfrm>
        </p:grpSpPr>
        <p:sp>
          <p:nvSpPr>
            <p:cNvPr id="158" name="Text Box 32"/>
            <p:cNvSpPr/>
            <p:nvPr/>
          </p:nvSpPr>
          <p:spPr>
            <a:xfrm>
              <a:off x="457200" y="1752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0080"/>
                  </a:solidFill>
                  <a:latin typeface="Arial"/>
                </a:rPr>
                <a:t>№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3"/>
            <p:cNvSpPr/>
            <p:nvPr/>
          </p:nvSpPr>
          <p:spPr>
            <a:xfrm>
              <a:off x="3200400" y="16765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800080"/>
                  </a:solidFill>
                  <a:latin typeface="Times New Roman"/>
                </a:rPr>
                <a:t>Традиционная  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4"/>
            <p:cNvSpPr/>
            <p:nvPr/>
          </p:nvSpPr>
          <p:spPr>
            <a:xfrm>
              <a:off x="5867280" y="1676520"/>
              <a:ext cx="289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800080"/>
                  </a:solidFill>
                  <a:latin typeface="Times New Roman"/>
                </a:rPr>
                <a:t>Инновационная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«Способностн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35"/>
            <p:cNvGrpSpPr/>
            <p:nvPr/>
          </p:nvGrpSpPr>
          <p:grpSpPr>
            <a:xfrm>
              <a:off x="380880" y="1676520"/>
              <a:ext cx="8382240" cy="4952880"/>
              <a:chOff x="380880" y="1676520"/>
              <a:chExt cx="8382240" cy="4952880"/>
            </a:xfrm>
          </p:grpSpPr>
          <p:sp>
            <p:nvSpPr>
              <p:cNvPr id="162" name="Line 36"/>
              <p:cNvSpPr/>
              <p:nvPr/>
            </p:nvSpPr>
            <p:spPr>
              <a:xfrm>
                <a:off x="380880" y="167652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380880" y="167652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8763120" y="167652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914400" y="167652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3200400" y="167652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1"/>
              <p:cNvSpPr/>
              <p:nvPr/>
            </p:nvSpPr>
            <p:spPr>
              <a:xfrm>
                <a:off x="5867280" y="167652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2"/>
              <p:cNvSpPr/>
              <p:nvPr/>
            </p:nvSpPr>
            <p:spPr>
              <a:xfrm>
                <a:off x="380880" y="220968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Rectangle 43"/>
          <p:cNvSpPr/>
          <p:nvPr/>
        </p:nvSpPr>
        <p:spPr>
          <a:xfrm>
            <a:off x="1572480" y="1068480"/>
            <a:ext cx="59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Характеристики образователь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4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5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380880" y="66294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380880" y="34290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000"/>
                            </p:stCondLst>
                            <p:childTnLst>
                              <p:par>
                                <p:cTn id="87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5257800"/>
            <a:ext cx="2286000" cy="2764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0505"/>
                </a:solidFill>
                <a:latin typeface="Times New Roman"/>
              </a:rPr>
              <a:t>«Формула обуч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14400" y="3809880"/>
            <a:ext cx="22860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й тип деятельности осваиваемый ученик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14400" y="33210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ущий принци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14400" y="152388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9"/>
          <p:cNvGrpSpPr/>
          <p:nvPr/>
        </p:nvGrpSpPr>
        <p:grpSpPr>
          <a:xfrm>
            <a:off x="380880" y="914400"/>
            <a:ext cx="8382240" cy="4952880"/>
            <a:chOff x="380880" y="914400"/>
            <a:chExt cx="8382240" cy="4952880"/>
          </a:xfrm>
        </p:grpSpPr>
        <p:sp>
          <p:nvSpPr>
            <p:cNvPr id="179" name="Text Box 7"/>
            <p:cNvSpPr/>
            <p:nvPr/>
          </p:nvSpPr>
          <p:spPr>
            <a:xfrm>
              <a:off x="457200" y="99072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0080"/>
                  </a:solidFill>
                  <a:latin typeface="Times New Roman"/>
                </a:rPr>
                <a:t>№  </a:t>
              </a:r>
              <a:r>
                <a:rPr b="0" lang="ru-RU" sz="1400" spc="-1" strike="noStrike">
                  <a:solidFill>
                    <a:srgbClr val="80008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200400" y="91440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800080"/>
                  </a:solidFill>
                  <a:latin typeface="Times New Roman"/>
                </a:rPr>
                <a:t>Традиционная  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5867280" y="914400"/>
              <a:ext cx="289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800080"/>
                  </a:solidFill>
                  <a:latin typeface="Times New Roman"/>
                </a:rPr>
                <a:t>Инновационная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«Способностная»</a:t>
              </a:r>
              <a:r>
                <a:rPr b="0" lang="ru-RU" sz="16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800080"/>
                  </a:solidFill>
                  <a:latin typeface="Times New Roman"/>
                </a:rPr>
                <a:t>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0"/>
            <p:cNvGrpSpPr/>
            <p:nvPr/>
          </p:nvGrpSpPr>
          <p:grpSpPr>
            <a:xfrm>
              <a:off x="380880" y="914400"/>
              <a:ext cx="8382240" cy="4952880"/>
              <a:chOff x="380880" y="914400"/>
              <a:chExt cx="8382240" cy="4952880"/>
            </a:xfrm>
          </p:grpSpPr>
          <p:sp>
            <p:nvSpPr>
              <p:cNvPr id="183" name="Line 11"/>
              <p:cNvSpPr/>
              <p:nvPr/>
            </p:nvSpPr>
            <p:spPr>
              <a:xfrm>
                <a:off x="380880" y="91440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>
                <a:off x="38088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>
                <a:off x="876312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>
                <a:off x="91440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>
                <a:off x="320040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>
                <a:off x="586728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>
                <a:off x="380880" y="144756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Rectangle 18"/>
          <p:cNvSpPr/>
          <p:nvPr/>
        </p:nvSpPr>
        <p:spPr>
          <a:xfrm>
            <a:off x="1573920" y="230040"/>
            <a:ext cx="59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Характеристики образователь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80880" y="1440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200400" y="1515960"/>
            <a:ext cx="2590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люстративно-объясн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67280" y="1440000"/>
            <a:ext cx="28958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ого из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стично-поисковый, эвр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тель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380880" y="32004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457200" y="3321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3276720" y="3276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давли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867280" y="32688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ыращи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380880" y="3726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3200400" y="391464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продуктивный, воспроизводя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5867280" y="382284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дуктивный,  Творческий,       Проблем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80880" y="4952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457200" y="494496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200400" y="50212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ния – репродуктив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867280" y="502128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ая деятельность  -  рефлексия  -  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5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60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6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5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9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914400" y="4343400"/>
            <a:ext cx="22860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ция уче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14400" y="2406600"/>
            <a:ext cx="22860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914400" y="1568520"/>
            <a:ext cx="2286000" cy="337320"/>
          </a:xfrm>
          <a:prstGeom prst="rect">
            <a:avLst/>
          </a:prstGeom>
          <a:solidFill>
            <a:srgbClr val="ff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ы усво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0"/>
          <p:cNvGrpSpPr/>
          <p:nvPr/>
        </p:nvGrpSpPr>
        <p:grpSpPr>
          <a:xfrm>
            <a:off x="380880" y="914400"/>
            <a:ext cx="8382240" cy="4952880"/>
            <a:chOff x="380880" y="914400"/>
            <a:chExt cx="8382240" cy="4952880"/>
          </a:xfrm>
        </p:grpSpPr>
        <p:sp>
          <p:nvSpPr>
            <p:cNvPr id="211" name="Text Box 6"/>
            <p:cNvSpPr/>
            <p:nvPr/>
          </p:nvSpPr>
          <p:spPr>
            <a:xfrm>
              <a:off x="457200" y="99072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№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собен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3200400" y="91440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</a:rPr>
                <a:t>Традиционная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«Знаниев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5867280" y="914400"/>
              <a:ext cx="289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</a:rPr>
                <a:t>Инновационная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«Способностная» педагог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9"/>
            <p:cNvGrpSpPr/>
            <p:nvPr/>
          </p:nvGrpSpPr>
          <p:grpSpPr>
            <a:xfrm>
              <a:off x="380880" y="914400"/>
              <a:ext cx="8382240" cy="4952880"/>
              <a:chOff x="380880" y="914400"/>
              <a:chExt cx="8382240" cy="4952880"/>
            </a:xfrm>
          </p:grpSpPr>
          <p:sp>
            <p:nvSpPr>
              <p:cNvPr id="215" name="Line 10"/>
              <p:cNvSpPr/>
              <p:nvPr/>
            </p:nvSpPr>
            <p:spPr>
              <a:xfrm>
                <a:off x="380880" y="91440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38088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876312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>
                <a:off x="91440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320040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867280" y="914400"/>
                <a:ext cx="0" cy="495288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380880" y="1447560"/>
                <a:ext cx="8382240" cy="0"/>
              </a:xfrm>
              <a:prstGeom prst="line">
                <a:avLst/>
              </a:prstGeom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Rectangle 17"/>
          <p:cNvSpPr/>
          <p:nvPr/>
        </p:nvSpPr>
        <p:spPr>
          <a:xfrm>
            <a:off x="1580400" y="23004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Характеристики образовательных мод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380880" y="156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3200400" y="15526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учивание, деятельность по алгорит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867280" y="155268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исковая мыслительная деятельность, рефлек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12708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380880" y="22096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57200" y="2354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200400" y="236232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итель информации, хранитель норм и традиц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5867280" y="243036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тор сотрудничества, Консультан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3200400" y="3381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пагандист предметно – дисциплинар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5867280" y="34210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яющий поисковой работой учащихся, консульт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380880" y="4267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457200" y="433548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200400" y="52578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мотива к личностному ро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5867280" y="525780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интереса к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777840" y="426888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ссив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6523200" y="42688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ив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3487680" y="472608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интерес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5943600" y="46483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мотива к самосовершенствовани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ДАГОГИЧЕСКИЕ ТЕХНОЛОГИИ, ОТРАЖАЮЩИЕ ЛИЧНОСТНО-ОРИЕНТИРОВАННЫ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Calibri"/>
              </a:rPr>
              <a:t>ОБУЧЕНИЕ В СОТРУДНИЧЕСТ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МЕТОД ПРОЕ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alibri"/>
              </a:rPr>
              <a:t>РАЗНОУРОВНЕВ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ИНТЕРНЕТ -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ГУМАННО-ЛИЧНОСТНАЯ ( Ш.А.Амонашвил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Object 4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2743200" cy="214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ИНЦИПЫ ОБУЧЕНИЯ В СОТРУДНИЧЕ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214200" y="1357200"/>
            <a:ext cx="89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учащихся формируются учителем.  При этом в каждой группе должен быть сильный ученик, средний и слабый (если группа состоит из трех учащихся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е дается одно задание, но при его выполнении предусматривается распределение ролей между участниками групп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ся работа всей группы (т.е. оценка ставится одна на всю группу);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выбирает ученика группы, который должен отчитаться за зад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Object 4" descr=""/>
          <p:cNvPicPr/>
          <p:nvPr/>
        </p:nvPicPr>
        <p:blipFill>
          <a:blip r:embed="rId1"/>
          <a:stretch/>
        </p:blipFill>
        <p:spPr>
          <a:xfrm>
            <a:off x="2666880" y="5029200"/>
            <a:ext cx="3546720" cy="124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8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8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иемов, действий учащихся в их определенной последовательности для до-стижения поставленной задачи – решения определенной проблемы, значимой для учащихся и оформленной в виде некоего конечного проду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Object 4" descr=""/>
          <p:cNvPicPr/>
          <p:nvPr/>
        </p:nvPicPr>
        <p:blipFill>
          <a:blip r:embed="rId1"/>
          <a:stretch/>
        </p:blipFill>
        <p:spPr>
          <a:xfrm>
            <a:off x="2362320" y="4844880"/>
            <a:ext cx="3276360" cy="17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ЫЕ ТРЕБОВАНИЯ К МЕТОДУ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личие значимой в исследо-вательском, творческом плане проблемы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актическая,теоретическая значимость предполагаемых ре-зульта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амостоятельная (индивиду-альная, парная,  групповая) дея-тельность учащихся на уроке или во внеурочно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руктурирование содержа-тельной части проекта (с  ука-занием поэтапных результатов и распределением роле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2920" y="14288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сследователь-ских методов:определение про-блемы, вытекающих из нее задач исследования, выдвиже-ние гипотезы их решения, обсуждение методов исследо-вания, оформление конечных результатов, анализ  полу-ченных  данных,  подведение итогов, корректировка, выводы (использование в ходе совместного исследования  метода "мозговой атаки",  "круглого стола", творческих отчетов, защиты проекта, п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20" y="333360"/>
            <a:ext cx="84297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ехнология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ориентированного обучения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 устранить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 из  главных  противоречий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образовании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между разнообразием  интересов  и  дарований  школьник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  одной сторо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и единым  для всех  образова- тельным  стандартом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  другой  сторо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35280" y="1125360"/>
            <a:ext cx="64101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очему  именно  ЛОО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50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НОУРОВНЕВОЕ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азноуровневым обучением мы понимаем такую организацию учебно-воспитательного процесса, при которой КАЖДЫЙ ученик имеет возможность овладевать учебным материалом по отдельным учебным  предметам школьной программы на разном уровне (“А”, “В”, “С”), но не  ниже базового, в зависимости от ЕГО способностей и индивидуальных особенностей.  При этом за критерий оценки деятельности ученика  принимаются его УСИЛИЯ по овладению этим материалом, творческому его примен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Object 0" descr=""/>
          <p:cNvPicPr/>
          <p:nvPr/>
        </p:nvPicPr>
        <p:blipFill>
          <a:blip r:embed="rId1"/>
          <a:stretch/>
        </p:blipFill>
        <p:spPr>
          <a:xfrm>
            <a:off x="5572080" y="4643280"/>
            <a:ext cx="124308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c0000"/>
                </a:solidFill>
                <a:latin typeface="Calibri"/>
              </a:rPr>
              <a:t>  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4c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 организации индивидуального подхода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 обучению учителем учитываются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едующие особенности учащих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91440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4c0000"/>
                </a:solidFill>
                <a:latin typeface="Calibri"/>
              </a:rPr>
              <a:t>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-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овень усвоения необходим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ний и уме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способности и интерес к изучени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м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c0000"/>
                </a:solidFill>
                <a:latin typeface="Calibri"/>
              </a:rPr>
              <a:t>  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4c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оответствии с выявленными  способностями к изучению   предмета, класс условно делится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груп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-я группа</a:t>
            </a:r>
            <a:r>
              <a:rPr b="1" i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-  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ащиеся с низким темп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воения матери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я группа</a:t>
            </a: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-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щиеся со средним темп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воения материа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я группа</a:t>
            </a:r>
            <a:r>
              <a:rPr b="1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-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с высоким темп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воения материа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c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ятельность учител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8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деление учащихся на групп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по  уровню знаний, интересам,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способностям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50000"/>
              </a:lnSpc>
              <a:spcBef>
                <a:spcPts val="8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разработка или подбор заданий  в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соответствии с выявленным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уровнями знаний, интересами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способностями  учащихся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3400" spc="-1" strike="noStrike">
                <a:solidFill>
                  <a:srgbClr val="006600"/>
                </a:solidFill>
                <a:latin typeface="Calibri"/>
              </a:rPr>
              <a:t>оценивание деятельности учащихся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934320" y="0"/>
          <a:ext cx="2209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0"/>
                    <a:ext cx="2209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9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9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9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9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дифференцированного обучения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1 группы учащихся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5840" y="2000160"/>
            <a:ext cx="94485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52400" indent="-4680">
              <a:lnSpc>
                <a:spcPct val="30000"/>
              </a:lnSpc>
              <a:spcBef>
                <a:spcPts val="2276"/>
              </a:spcBef>
              <a:buClr>
                <a:srgbClr val="4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удить  интерес  к  предмету  пут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3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спользования  посильных   задач  учебны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3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граммных средств, позволяющих учени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3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ботать в соответствии с его индивидуаль-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3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ыми  способностям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-4680">
              <a:lnSpc>
                <a:spcPct val="40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ликвидировать  пробелы в  знаниях 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4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мениях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-4680">
              <a:lnSpc>
                <a:spcPct val="40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формировать умение осуществля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4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амостоятельную деятель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>
              <a:lnSpc>
                <a:spcPct val="4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 образц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24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6" descr="C:\Program Files\Microsoft Office\Clipart\standard\stddir4\pe01821_.wmf"/>
          <p:cNvPicPr/>
          <p:nvPr/>
        </p:nvPicPr>
        <p:blipFill>
          <a:blip r:embed="rId1"/>
          <a:stretch/>
        </p:blipFill>
        <p:spPr>
          <a:xfrm>
            <a:off x="6724800" y="4114800"/>
            <a:ext cx="241920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305280" y="27432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33480">
              <a:spcBef>
                <a:spcPts val="2449"/>
              </a:spcBef>
              <a:buClr>
                <a:srgbClr val="4c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развить    устойчивый   интерес   к    предме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3480">
              <a:spcBef>
                <a:spcPts val="24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закрепить и  повторить  имеющиеся  знания  и способы  действий,  актуализировать  имеющиеся знания для успешного изучения нового 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3480">
              <a:spcBef>
                <a:spcPts val="24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сформировать         умение        самостоятельно работать над задачей или с учебным программным сред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Object 5"/>
          <p:cNvGraphicFramePr/>
          <p:nvPr/>
        </p:nvGraphicFramePr>
        <p:xfrm>
          <a:off x="0" y="0"/>
          <a:ext cx="28954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954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3429000" y="4287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       дифференцированного обучения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2 группы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9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9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57360" y="0"/>
            <a:ext cx="50720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00"/>
                </a:solidFill>
                <a:latin typeface="Calibri"/>
              </a:rPr>
              <a:t>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       дифференцированного обучения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3 группы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97180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244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развить устойчивый интерес к предме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4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сформировать новые способы действий, умение решать задачи повышенной сложности, нестандартные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4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8080"/>
                </a:solidFill>
                <a:latin typeface="Calibri"/>
              </a:rPr>
              <a:t>развить умение самостоятельно работать над составлением алгоритма или с учебным программным сред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0" y="0"/>
          <a:ext cx="28018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801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бор заданий для  группового и индивидуального   выполнения учитель должен  осуществлять  с  учето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4200" y="221436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обязательных результатов 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межпредметных связей;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alibri"/>
              </a:rPr>
              <a:t>практической направлен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" name="Object 33"/>
          <p:cNvGraphicFramePr/>
          <p:nvPr/>
        </p:nvGraphicFramePr>
        <p:xfrm>
          <a:off x="6143760" y="4500720"/>
          <a:ext cx="2641320" cy="22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4500720"/>
                    <a:ext cx="26413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76438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00"/>
                </a:solidFill>
                <a:latin typeface="Calibri"/>
              </a:rPr>
              <a:t>     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ровни усвоения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знаний учащими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репродуктив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реконструктивный;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творче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5715000" y="3929040"/>
          <a:ext cx="327672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929040"/>
                    <a:ext cx="3276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0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5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1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Calibri"/>
              </a:rPr>
              <a:t>ИСПОЛЬЗОВАНИЕ РЕСУРСОВ 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400" y="14288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ключения материалов сети в содержание  урока, т.е.  интегрирования их в программу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амостоятельного поиска информации учащимися в рамках работы над проек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амостоятельного изучения, углубления первого или второго изучаемого иностранного языка, ликвидации пробелов в знаниях, умениях, навык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амостоятельной подготовки к сдаче экзамена экстерн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истематического изучения определенного курса       иностранного языка дистанционно под руководством преподавател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Object 6" descr=""/>
          <p:cNvPicPr/>
          <p:nvPr/>
        </p:nvPicPr>
        <p:blipFill>
          <a:blip r:embed="rId1"/>
          <a:stretch/>
        </p:blipFill>
        <p:spPr>
          <a:xfrm>
            <a:off x="6786720" y="4786200"/>
            <a:ext cx="1533240" cy="161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2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76280"/>
            <a:ext cx="8229960" cy="52135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Личностно ориентированное обучение предполагает,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 первую очередь,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нание особенностей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каждого ученик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Calibri"/>
              </a:rPr>
              <a:t>для этого проводится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Calibri"/>
              </a:rPr>
              <a:t>ДИАГНОСТИКА по систем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cc"/>
                </a:solidFill>
                <a:latin typeface="Calibri"/>
              </a:rPr>
              <a:t>В.А.Киричука «Универсал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:\Program Files\Microsoft Office\Clipart\standard\stddir4\pe01821_.wmf"/>
          <p:cNvPicPr/>
          <p:nvPr/>
        </p:nvPicPr>
        <p:blipFill>
          <a:blip r:embed="rId1"/>
          <a:stretch/>
        </p:blipFill>
        <p:spPr>
          <a:xfrm>
            <a:off x="6572160" y="3962520"/>
            <a:ext cx="241956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РОБЛЕМЫ ПРИ РАБОТЕ В С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еткое понимание того факта, что Интернет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ожет заменить собой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изация деятельности учащихся в с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ка учащихся к работе в Интернет, с его информационными    ресур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ультура коммуникации, сетевого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Object 7"/>
          <p:cNvGraphicFramePr/>
          <p:nvPr/>
        </p:nvGraphicFramePr>
        <p:xfrm>
          <a:off x="70722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22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0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852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6600"/>
                </a:solidFill>
                <a:latin typeface="Calibri"/>
              </a:rPr>
              <a:t>Педагогические воздействия на ученика должны адресоваться не только к его уму, но и к чувствам, причем, чем младше ученик, тем больше внимания должно быть уделено его эмоциональной сфере (наглядность, дидактические игры, кружковая и внеклассная работа…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0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«Если ученик в школе не научилс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сам ничего творить, то в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он всегда будет только подраж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копировать, так как мало таки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которые бы, научившись копиров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умели сделать самостояте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приложение этих сведений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                                          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Л. Толстой</a:t>
            </a:r>
            <a:r>
              <a:rPr b="0" i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" descr="mso236BC"/>
          <p:cNvPicPr/>
          <p:nvPr/>
        </p:nvPicPr>
        <p:blipFill>
          <a:blip r:embed="rId1"/>
          <a:stretch/>
        </p:blipFill>
        <p:spPr>
          <a:xfrm>
            <a:off x="5143680" y="0"/>
            <a:ext cx="4000320" cy="243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5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1680" y="57132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.Н.Чинарев: «Индивидуализация обучения на уроках физической культуры в свете новых нормативных документо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.А.Самойлов: «Реализация личностно ориентиро-ванного подхода в преподавании биолог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А.П.Панкова: «Технологии: сотрудничества, коллек-тивного взаимообучения, гуманно-личностна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.Я.Кужекина: «Реализация тем самообразования учителей математики на уроках и во внеклассной работ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.И.Шигова: «Экология душ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ледование учащихся проводится на 4 уровня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зичес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циаль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нтеллектуаль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ухов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ются методики «Социум», «ДВОР», «Ценностные ориентации», «Родители-дети», «ШТУРМ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ителя овладели диагностикой и анализом   результатов. Теперь  стоит задача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ладения и применения в работе 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ех этап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ру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8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"/>
          <p:cNvGrpSpPr/>
          <p:nvPr/>
        </p:nvGrpSpPr>
        <p:grpSpPr>
          <a:xfrm>
            <a:off x="1258920" y="260280"/>
            <a:ext cx="6841800" cy="6264000"/>
            <a:chOff x="1258920" y="260280"/>
            <a:chExt cx="6841800" cy="6264000"/>
          </a:xfrm>
        </p:grpSpPr>
        <p:grpSp>
          <p:nvGrpSpPr>
            <p:cNvPr id="64" name="Group 5"/>
            <p:cNvGrpSpPr/>
            <p:nvPr/>
          </p:nvGrpSpPr>
          <p:grpSpPr>
            <a:xfrm>
              <a:off x="1347120" y="470520"/>
              <a:ext cx="6637320" cy="5909040"/>
              <a:chOff x="1347120" y="470520"/>
              <a:chExt cx="6637320" cy="5909040"/>
            </a:xfrm>
          </p:grpSpPr>
          <p:sp>
            <p:nvSpPr>
              <p:cNvPr id="65" name="Freeform 6"/>
              <p:cNvSpPr/>
              <p:nvPr/>
            </p:nvSpPr>
            <p:spPr>
              <a:xfrm>
                <a:off x="1347120" y="470520"/>
                <a:ext cx="6637320" cy="59090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2318040" y="1763280"/>
                <a:ext cx="4767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AutoShape 8"/>
            <p:cNvSpPr/>
            <p:nvPr/>
          </p:nvSpPr>
          <p:spPr>
            <a:xfrm>
              <a:off x="1258920" y="260280"/>
              <a:ext cx="6841800" cy="62640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9"/>
          <p:cNvSpPr/>
          <p:nvPr/>
        </p:nvSpPr>
        <p:spPr>
          <a:xfrm>
            <a:off x="1692360" y="170028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дсчитано, что 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  свою  жизнь  пров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рядка  25 000  уро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  ученик  за  11 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ещает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коло 11, 5  тыся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э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к  недооценивать  нельз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70640" y="1296720"/>
            <a:ext cx="7000200" cy="451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9900cc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особенно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личностно  ориентированног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2411280" y="907920"/>
            <a:ext cx="63262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514600" y="5330880"/>
            <a:ext cx="6264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498760" y="4164120"/>
            <a:ext cx="61880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84360" y="2997360"/>
            <a:ext cx="6291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2481120" y="1986120"/>
            <a:ext cx="62517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 rot="5400000">
            <a:off x="-1760400" y="2974680"/>
            <a:ext cx="6072120" cy="112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ЭТАПЫ 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37:36Z</dcterms:created>
  <dc:creator>User</dc:creator>
  <dc:description/>
  <dc:language>en-US</dc:language>
  <cp:lastModifiedBy>Admin</cp:lastModifiedBy>
  <dcterms:modified xsi:type="dcterms:W3CDTF">2001-01-05T01:50:56Z</dcterms:modified>
  <cp:revision>64</cp:revision>
  <dc:subject/>
  <dc:title>Слайд 1</dc:title>
</cp:coreProperties>
</file>