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F36-2381-4AFC-BCF8-03776CD5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06B-445B-457D-A7E1-C2F11759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75E-5480-494D-B7EA-21D195C7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594-2F6C-40C4-88CD-AB034D8C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7F51-F6FE-4F08-9975-CF8A7AA2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8774-596B-4213-8488-9E61EB0B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1A96-0504-4DB1-8719-E0E3F813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A8B0-210D-4406-B12D-CF4AAC10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A223-1F84-48AC-83D0-E592B0BA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AC07-C6CF-4462-AF7E-EF3ADAC7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E6E4-9F62-4FBE-942D-07DE6C58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303-9DF1-454C-8769-BD64EE6B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9428-165A-4E1F-BE2D-4FBF93DB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8C66-7E26-49E8-8B9D-A3D0DAED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647B-2A75-44BD-B688-97226033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FFE1-47BD-453C-8627-A4F7F9EB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5476-A4D9-492E-884D-CC359241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835-F062-4A42-9E3A-13438C3F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8F4-B21E-49CF-ADF6-02211D92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C7D-5F38-4ACC-914D-F610FFED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9A7-1741-45C9-9875-A17EBF98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73C-599B-4CC8-A80B-8A629F1A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36E-6895-4309-951A-A6A33983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31A-AF48-4DC2-A170-559A8A28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C78D-207C-4A5C-9A9B-DECEA51AA7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8303-787D-420A-ADF8-E530AE1051D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424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ганизация мониторинга оценки качества 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00720" y="4214520"/>
            <a:ext cx="464328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Мельниченко ( Бабенко) А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осещение зан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ЭКСПЕРТНАЯ КАРТА АНАЛИЗА ЗАНЯТ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ещающий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ат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____» _________________ 200__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сто проведения заняти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.И.О. педагога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ворческое объединение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_________________________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ема занятия: «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___________________________________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Цель посещения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сутствовал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_______ воспитан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ачественные характеристики занят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822240"/>
                <a:gridCol w="4078440"/>
                <a:gridCol w="1477800"/>
                <a:gridCol w="1436760"/>
                <a:gridCol w="1328760"/>
              </a:tblGrid>
              <a:tr h="1059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лана-конспекта занятия и его оформл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занятия: сообщение темы, постановка целей и зада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чность и последовательность этапов заня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дение итогов каждого этапа заня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сообразность распределения врем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оретический уровень изложения материа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ая рабо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фективность использованных методов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0" y="0"/>
          <a:ext cx="9144000" cy="6967440"/>
        </p:xfrm>
        <a:graphic>
          <a:graphicData uri="http://schemas.openxmlformats.org/drawingml/2006/table">
            <a:tbl>
              <a:tblPr/>
              <a:tblGrid>
                <a:gridCol w="592200"/>
                <a:gridCol w="4321080"/>
                <a:gridCol w="1355760"/>
                <a:gridCol w="1440000"/>
                <a:gridCol w="1434960"/>
              </a:tblGrid>
              <a:tr h="1226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мет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фективность использованных методов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ная  сторона заня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язь занятия с жизнью и практик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индивидуального подхода к воспитанника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 труда воспитан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едение итогов заня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ветствие содержания занятия его задача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ческая грамотность педаго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ение навыками самоанализ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проведенного занят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роверка индивидуальной папки педаг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апка педагога включает в себ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олненный на момент проверки журна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олненная на момент проверки рабочая програм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разовательная программ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струкции по охране тру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лан работы с обучающимис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лан работы с родителя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еющиеся публикации, сертификаты, грамоты, благодар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итерии провер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1006560"/>
          <a:ext cx="9144000" cy="5859360"/>
        </p:xfrm>
        <a:graphic>
          <a:graphicData uri="http://schemas.openxmlformats.org/drawingml/2006/table">
            <a:tbl>
              <a:tblPr/>
              <a:tblGrid>
                <a:gridCol w="442800"/>
                <a:gridCol w="1629000"/>
                <a:gridCol w="2714400"/>
                <a:gridCol w="1944720"/>
                <a:gridCol w="1508040"/>
                <a:gridCol w="90504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ое мастерство педаг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е условия работы творческого объеди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журнала учета работы творческого объеди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сть и качество заполнения журна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жур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деятельности творческого объеди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составления календарно-тематического план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календарно- тематического пла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образовательной программ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е календарно-тематического планирования учебному плану образовательной программ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та реализации образовательной программы согласно календарно-тематическому планирова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образовательной программы, календарно- тематического пла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системы учебных занятий в соответствии с календарно- тематическим планирова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поурочного планирования, его соответствие календарно- тематическому планирова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поурочных планов, календарно- тематического пла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69840"/>
          <a:ext cx="9144000" cy="6738840"/>
        </p:xfrm>
        <a:graphic>
          <a:graphicData uri="http://schemas.openxmlformats.org/drawingml/2006/table">
            <a:tbl>
              <a:tblPr/>
              <a:tblGrid>
                <a:gridCol w="357120"/>
                <a:gridCol w="1465200"/>
                <a:gridCol w="2606760"/>
                <a:gridCol w="2000160"/>
                <a:gridCol w="1500480"/>
                <a:gridCol w="121428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монитор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метры монитор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ксация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препода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е темы занятия цели, задачам, содержанию материа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уровня методической грамотности педаг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пектный анали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ертная к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занятия, логичность и последовательность этапов в его структуре, рациональность распределения времени на каждом этап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уровня методической грамотности педаг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пектный анали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ертная к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ие и эффективность использования различных форм, методов и средств обуч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уровня методической грамотности педаг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пектный анали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ертная к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6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ое влияние занятия. Культура труда воспитанников, выполнение уставных требований по технике безопасност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уровня методической грамотности педаг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пектный анали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ертная к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педагогом навыками самоанализа заня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уровня методической грамотности педаг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пектный анали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ертная к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0" y="0"/>
          <a:ext cx="9144000" cy="2741760"/>
        </p:xfrm>
        <a:graphic>
          <a:graphicData uri="http://schemas.openxmlformats.org/drawingml/2006/table">
            <a:tbl>
              <a:tblPr/>
              <a:tblGrid>
                <a:gridCol w="565200"/>
                <a:gridCol w="1603440"/>
                <a:gridCol w="2074680"/>
                <a:gridCol w="1981440"/>
                <a:gridCol w="1697040"/>
                <a:gridCol w="12222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мониторин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метры мониторин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ксация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орческие способности воспитан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индивидуального развития воспитан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 динамики развития воспитанников в творческом объедине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ст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литическая справка диа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Прямоугольник 4"/>
          <p:cNvSpPr/>
          <p:nvPr/>
        </p:nvSpPr>
        <p:spPr>
          <a:xfrm>
            <a:off x="500040" y="3714840"/>
            <a:ext cx="814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результатов диагностики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амооценка профессиональных умений педагог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полнение экспертных карт и обобщение результа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кспертная оценка профессионального мастерства педагог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ставление обобщенной экспертной карты по итогам диагностики.</a:t>
            </a:r>
            <a:br>
              <a:rPr sz="1800"/>
            </a:b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бсуждение итогов диагностики и принятие управленческих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"/>
          <p:cNvPicPr/>
          <p:nvPr/>
        </p:nvPicPr>
        <p:blipFill>
          <a:blip r:embed="rId2"/>
          <a:srcRect l="24310" t="7490" r="25284" b="5349"/>
          <a:stretch/>
        </p:blipFill>
        <p:spPr>
          <a:xfrm>
            <a:off x="1143000" y="714240"/>
            <a:ext cx="6643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"/>
          <p:cNvPicPr/>
          <p:nvPr/>
        </p:nvPicPr>
        <p:blipFill>
          <a:blip r:embed="rId2"/>
          <a:srcRect l="24011" t="8022" r="25284" b="5881"/>
          <a:stretch/>
        </p:blipFill>
        <p:spPr>
          <a:xfrm>
            <a:off x="1785960" y="0"/>
            <a:ext cx="5143320" cy="44290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3"/>
          <a:srcRect l="25079" t="19252" r="25190" b="27274"/>
          <a:stretch/>
        </p:blipFill>
        <p:spPr>
          <a:xfrm>
            <a:off x="1785960" y="4357800"/>
            <a:ext cx="5143320" cy="25002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42840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грамма проведения мониторин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397160"/>
          <a:ext cx="9144000" cy="5151240"/>
        </p:xfrm>
        <a:graphic>
          <a:graphicData uri="http://schemas.openxmlformats.org/drawingml/2006/table">
            <a:tbl>
              <a:tblPr/>
              <a:tblGrid>
                <a:gridCol w="1857240"/>
                <a:gridCol w="728676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а 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ец сентяб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оставление списков групп обучающихся по направлен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о октяб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олнение преподавателями критериев эффектив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езд педагогического коллектива на семинар-тренинг по сплочению и разработки проектов на текущи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ение списков работников, аттестуемых в текущем учебном году, составление плана индивидуальных консульт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ение и реализация плана работы с участниками профессиональных конкур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межуточный смотр папки педагог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щение занятий, индивидуальное тестирование педагог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щение занятий, индивидуальное тестирование педагог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списка на курсы повышения квалификации на следующий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ие школьным методистом программ на следующи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ец апре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оставление папки педагога  с необходимыми документ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участники процесса образ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42960" y="1599840"/>
            <a:ext cx="8043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ающие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одител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едагог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связи с наличием трех участников, оценка должна проводится не только по направлению образования с точки зрения качества предлагаемого материала педагогами, но и с точки зрения усвоения материала обучающимися и вовлечения в процесс обучения родител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олько совокупность работы всех трех компонентов позволит повысить уровень качества образова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нципы отбора показателей оценки кач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ация на требования внешних пользова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потребностей системы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нимизация системы показателей с учетом потребностей разных уровней управления системой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струментальность и технологичность используемых показателей (с учетом существующих возможностей сбора данных, методик измерений, анализа и интерпретации данных, подготовленности потребителей к их восприятию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альность использования источников первичных данных для определения показателей качества и эффективности образования (с учетом возможности их многократного использования и экономической обоснованност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ерархичность системы показа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поставимость системы показателей с международными аналог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е морально-этических норм в отборе показател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ащие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 проведения анкетирования учащихся для выявления успешности освоения программ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дварительна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омежуточна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тогова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286160" y="2214720"/>
          <a:ext cx="4857840" cy="1428480"/>
        </p:xfrm>
        <a:graphic>
          <a:graphicData uri="http://schemas.openxmlformats.org/drawingml/2006/table">
            <a:tbl>
              <a:tblPr/>
              <a:tblGrid>
                <a:gridCol w="925560"/>
                <a:gridCol w="1606680"/>
                <a:gridCol w="23256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лет в объедин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посещаемых объеди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286160" y="3857760"/>
          <a:ext cx="4857840" cy="1439640"/>
        </p:xfrm>
        <a:graphic>
          <a:graphicData uri="http://schemas.openxmlformats.org/drawingml/2006/table">
            <a:tbl>
              <a:tblPr/>
              <a:tblGrid>
                <a:gridCol w="1001880"/>
                <a:gridCol w="1157040"/>
                <a:gridCol w="1465560"/>
                <a:gridCol w="1233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ми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выступ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 призовых м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посещаемых объеди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9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286160" y="5418000"/>
          <a:ext cx="4857840" cy="1440000"/>
        </p:xfrm>
        <a:graphic>
          <a:graphicData uri="http://schemas.openxmlformats.org/drawingml/2006/table">
            <a:tbl>
              <a:tblPr/>
              <a:tblGrid>
                <a:gridCol w="1001880"/>
                <a:gridCol w="1157040"/>
                <a:gridCol w="1465560"/>
                <a:gridCol w="1233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ми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выступ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 призовых м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посещаемых объеди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индивидуального уровня обучающего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2920" y="866880"/>
          <a:ext cx="8858160" cy="5616360"/>
        </p:xfrm>
        <a:graphic>
          <a:graphicData uri="http://schemas.openxmlformats.org/drawingml/2006/table">
            <a:tbl>
              <a:tblPr/>
              <a:tblGrid>
                <a:gridCol w="2836800"/>
                <a:gridCol w="6021360"/>
              </a:tblGrid>
              <a:tr h="315720">
                <a:tc>
                  <a:txBody>
                    <a:bodyPr lIns="18720" rIns="18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епень применения знаний и умений на практи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личество исследовательских работ, прое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личество победителей и призеров выставок, конкур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личество призеров исследовательских конкурсов и прое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Компетентность в сфере самостоятельной познавате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ровень сформированности мыслительных операций: обобщения, сравнения, анализа, синтеза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ровень владения исследовательскими методами (наблюдение, эксперимент, статистические методы, социологическая диагностика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976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Информационно- коммуникативная компетентность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мение осуществлять поиск информации в источниках разного типа, в том числе  Интерн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епень развития рефлексивных навыков, самостоятельности позиции в оценке различной информ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пособность учащихся к сотрудничеству на всех этапах коллектив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индивидуального уровня обучающего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71760"/>
          <a:ext cx="9144000" cy="4822560"/>
        </p:xfrm>
        <a:graphic>
          <a:graphicData uri="http://schemas.openxmlformats.org/drawingml/2006/table">
            <a:tbl>
              <a:tblPr/>
              <a:tblGrid>
                <a:gridCol w="2928960"/>
                <a:gridCol w="6215040"/>
              </a:tblGrid>
              <a:tr h="236052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Социальная компетен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ровень сформированности психологической устойчивости к негативным социальным явлени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мение осуществлять выбор решения на основе оценки альтернати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епень проявления личной инициативы учащихся.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становление позитивных социальных взаимоотношений с окружающи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ровень воспитанности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щая оценка воспитанности уча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ровень сформированности нравственных качеств лич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ля детей, совершивших правонаруш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Сохранение здоровья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блюдение норм СанПиН в образовательном процесс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сутствие травматиз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епень психологической комфортности учащегос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0" y="1214280"/>
          <a:ext cx="9144000" cy="316080"/>
        </p:xfrm>
        <a:graphic>
          <a:graphicData uri="http://schemas.openxmlformats.org/drawingml/2006/table">
            <a:tbl>
              <a:tblPr/>
              <a:tblGrid>
                <a:gridCol w="2928960"/>
                <a:gridCol w="6215040"/>
              </a:tblGrid>
              <a:tr h="316080">
                <a:tc>
                  <a:txBody>
                    <a:bodyPr lIns="18720" rIns="18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дагогические работ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новные параметры, включенные в показатели и критерии эффективности педагогического работник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урсы повышения квалифик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хождение  аттестации педагогических работник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астие в конференциях, профессиональных конкурсах и т.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ведение открытых занятий и распространение собственного педагогического опы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зультативность участия обучающихся в конкурсах и т.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ответствие реализуемых программы современным требованиям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дивидуальное тестирование педагог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ится раз в год, для выявления проблем и затруднений педагогического работ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ывается на следующих показателях: работа с документами, группой, родите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олагает определение «слабых» мест и составление индивидуального плана по их устран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http://rushkolnik.ru/tw_files2/urls_3/94/d-93456/img4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дивидуальное тестирование педагог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ключает в себя следующие этап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ещение за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полнение педагогом индивидуальной анк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оверка индивидуальной папки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8T16:13:16Z</dcterms:created>
  <dc:creator>Nastya</dc:creator>
  <dc:description/>
  <dc:language>en-US</dc:language>
  <cp:lastModifiedBy>Nastya</cp:lastModifiedBy>
  <dcterms:modified xsi:type="dcterms:W3CDTF">2016-04-27T04:55:32Z</dcterms:modified>
  <cp:revision>16</cp:revision>
  <dc:subject/>
  <dc:title>Организация мониторинга оценки качества образования</dc:title>
</cp:coreProperties>
</file>