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0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45.png" ContentType="image/png"/>
  <Override PartName="/ppt/media/image35.png" ContentType="image/png"/>
  <Override PartName="/ppt/media/image32.jpeg" ContentType="image/jpeg"/>
  <Override PartName="/ppt/media/image46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png" ContentType="image/png"/>
  <Override PartName="/ppt/media/image37.png" ContentType="image/png"/>
  <Override PartName="/ppt/media/image34.jpeg" ContentType="image/jpeg"/>
  <Override PartName="/ppt/media/image7.jpeg" ContentType="image/jpeg"/>
  <Override PartName="/ppt/media/image56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13.jpeg" ContentType="image/jpeg"/>
  <Override PartName="/ppt/media/image28.jpeg" ContentType="image/jpeg"/>
  <Override PartName="/ppt/media/image51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52.jpeg" ContentType="image/jpeg"/>
  <Override PartName="/ppt/media/image11.png" ContentType="image/png"/>
  <Override PartName="/ppt/media/image48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375-0E39-471B-9DBD-B959D30CB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25C-A41F-4168-8964-27B82F157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1F5F-7214-4D7E-810D-C7809F9F6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6ED-113C-4BC1-846C-B7E0B6DA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D88-EDE3-4087-8990-11B3275B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F35-84D4-4232-B291-AFDA01BC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07D-CCB8-47F4-A99B-8E1372C1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0EE8-B46D-4313-A745-E3BCED56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3E5D-3C7D-4702-A33B-69A101B2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4EBA-42A8-4E00-AB84-4FB649DD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10A5-3C40-4C7E-AF44-36B1B0B4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825-295F-49EF-96DD-4242183F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0DB-5A9A-486E-A053-F99E2DD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A89F-895C-49D4-A985-8F72A989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6B6-1872-4519-9C20-157FBB97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ECF4-73F1-4374-91AB-2C9836C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9473-EA96-4D31-9F64-43D04E0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BC83-6EDE-4FB7-81E0-8782CE9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60BE-9FEF-401B-8F2C-D3CB981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CC26-84F6-4CAD-9877-F0E78763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630-06D3-47BB-AA00-3011450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282-FEA2-4477-B5BF-ACFCE95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9FF-A4EE-4A70-9959-358656D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6B8-DD5A-4DCB-9BD8-1CFF78EA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938-3980-4817-8F17-01897E54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260-8EFC-4FD9-96E7-84F77BD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D9D-FC59-4CC1-BBAB-1EE85F7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E0B-FE73-4533-99E9-A4A40F490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BC8-29F9-48D1-85E0-0A44C2087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jpeg"/><Relationship Id="rId14" Type="http://schemas.openxmlformats.org/officeDocument/2006/relationships/image" Target="../media/image50.jpeg"/><Relationship Id="rId15" Type="http://schemas.openxmlformats.org/officeDocument/2006/relationships/image" Target="../media/image51.jpeg"/><Relationship Id="rId16" Type="http://schemas.openxmlformats.org/officeDocument/2006/relationships/image" Target="../media/image52.jpeg"/><Relationship Id="rId17" Type="http://schemas.openxmlformats.org/officeDocument/2006/relationships/image" Target="../media/image53.jpeg"/><Relationship Id="rId18" Type="http://schemas.openxmlformats.org/officeDocument/2006/relationships/image" Target="../media/image54.jpe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nsportal.ru/" TargetMode="External"/><Relationship Id="rId5" Type="http://schemas.openxmlformats.org/officeDocument/2006/relationships/image" Target="../media/image55.pn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7.png"/><Relationship Id="rId5" Type="http://schemas.openxmlformats.org/officeDocument/2006/relationships/hyperlink" Target="mailto:tatyana.@mail.ru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школа\Desktop\школа.JPG"/>
          <p:cNvPicPr/>
          <p:nvPr/>
        </p:nvPicPr>
        <p:blipFill>
          <a:blip r:embed="rId1"/>
          <a:stretch/>
        </p:blipFill>
        <p:spPr>
          <a:xfrm>
            <a:off x="108000" y="241200"/>
            <a:ext cx="8928000" cy="1603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4920" y="333000"/>
            <a:ext cx="84978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-Андосовская  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3124080" y="2181240"/>
            <a:ext cx="581364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Визитная 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Бузанова  Татьяна  Владимировна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  русского 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таж педагогической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2 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браз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шее профессиональное (АГПИ  им. А. П. Гайда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валификационной категория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66760" y="590220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Педагогическое кредо: «Творить,  пробовать,  искать  и развиватьс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школа\Desktop\DSCF5177 - копия.JPG"/>
          <p:cNvPicPr/>
          <p:nvPr/>
        </p:nvPicPr>
        <p:blipFill>
          <a:blip r:embed="rId2"/>
          <a:stretch/>
        </p:blipFill>
        <p:spPr>
          <a:xfrm>
            <a:off x="125280" y="2133720"/>
            <a:ext cx="2913120" cy="346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15а"/>
          <p:cNvPicPr/>
          <p:nvPr/>
        </p:nvPicPr>
        <p:blipFill>
          <a:blip r:embed="rId3"/>
          <a:stretch/>
        </p:blipFill>
        <p:spPr>
          <a:xfrm>
            <a:off x="324000" y="29520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287280" y="544680"/>
            <a:ext cx="8569440" cy="54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mbria"/>
                <a:ea typeface="Times New Roman"/>
              </a:rPr>
              <a:t>Общеучебные умения и навы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mbria"/>
                <a:ea typeface="Times New Roman"/>
              </a:rPr>
              <a:t>формирующиеся в проектно- исследовательской 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е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ые (исследовательск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и навыки работы в сотрудничестве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онные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твечать на незапланирован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15а"/>
          <p:cNvPicPr/>
          <p:nvPr/>
        </p:nvPicPr>
        <p:blipFill>
          <a:blip r:embed="rId3"/>
          <a:stretch/>
        </p:blipFill>
        <p:spPr>
          <a:xfrm>
            <a:off x="258840" y="33336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08" name="Прямоугольник 2" descr=""/>
          <p:cNvPicPr/>
          <p:nvPr/>
        </p:nvPicPr>
        <p:blipFill>
          <a:blip r:embed="rId4"/>
          <a:stretch/>
        </p:blipFill>
        <p:spPr>
          <a:xfrm>
            <a:off x="341280" y="554040"/>
            <a:ext cx="85536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15а"/>
          <p:cNvPicPr/>
          <p:nvPr/>
        </p:nvPicPr>
        <p:blipFill>
          <a:blip r:embed="rId3"/>
          <a:stretch/>
        </p:blipFill>
        <p:spPr>
          <a:xfrm>
            <a:off x="287280" y="317520"/>
            <a:ext cx="8569440" cy="59770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13" name="Текст 2" descr=""/>
          <p:cNvPicPr/>
          <p:nvPr/>
        </p:nvPicPr>
        <p:blipFill>
          <a:blip r:embed="rId4"/>
          <a:stretch/>
        </p:blipFill>
        <p:spPr>
          <a:xfrm>
            <a:off x="311040" y="262080"/>
            <a:ext cx="846144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58720" y="1052640"/>
          <a:ext cx="8026560" cy="5084640"/>
        </p:xfrm>
        <a:graphic>
          <a:graphicData uri="http://schemas.openxmlformats.org/drawingml/2006/table">
            <a:tbl>
              <a:tblPr/>
              <a:tblGrid>
                <a:gridCol w="2476440"/>
                <a:gridCol w="2775240"/>
                <a:gridCol w="2774880"/>
              </a:tblGrid>
              <a:tr h="8236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ое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-исследовательская 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Целевая установка у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хорошую отмет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ить свои способности, сделать важное де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рганизационные формы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е индивидуальной, парной и групповой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Источники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один — два источ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ные источники из разных областей зн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едметная обла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учебный предмет.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содержание полипредмет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Характер работы по содержа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р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сочетание теоретических и практических методов иссле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езентация или зашита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язательна.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15а"/>
          <p:cNvPicPr/>
          <p:nvPr/>
        </p:nvPicPr>
        <p:blipFill>
          <a:blip r:embed="rId3"/>
          <a:stretch/>
        </p:blipFill>
        <p:spPr>
          <a:xfrm>
            <a:off x="324000" y="29520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9" name="Прямоугольник 1"/>
          <p:cNvSpPr/>
          <p:nvPr/>
        </p:nvSpPr>
        <p:spPr>
          <a:xfrm>
            <a:off x="287280" y="223920"/>
            <a:ext cx="8569440" cy="59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ambria"/>
                <a:ea typeface="Times New Roman"/>
              </a:rPr>
              <a:t>Актуальные преимущества использования метода проектно-исследовательской   деятель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1. Получение навыков самостоятельного поиска и обработки необходимой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2. Повышение мотивации учащихся в уч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3. Процесс обучения становится самомотивируе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4. Активизация познавательных интересов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5. Повышение самооцен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6. Предоставление каждому возможност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7. Развитие творческих способностей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8. Вовлечение всех учащихся в коллективную мыслительную 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9. Развитие коммуникативных навыков, умения работать в колл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10. Получение навыков презентации себя и своей работы в различных 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1313"/>
                </a:solidFill>
                <a:latin typeface="Times New Roman"/>
                <a:ea typeface="Times New Roman"/>
              </a:rPr>
              <a:t>11. Практическая значимость большинства проектов позволяет готовить подростков к жизни в соци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15а"/>
          <p:cNvPicPr/>
          <p:nvPr/>
        </p:nvPicPr>
        <p:blipFill>
          <a:blip r:embed="rId3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  <p:grpSp>
        <p:nvGrpSpPr>
          <p:cNvPr id="223" name="Группа 4"/>
          <p:cNvGrpSpPr/>
          <p:nvPr/>
        </p:nvGrpSpPr>
        <p:grpSpPr>
          <a:xfrm>
            <a:off x="520560" y="382680"/>
            <a:ext cx="8388360" cy="5997600"/>
            <a:chOff x="520560" y="382680"/>
            <a:chExt cx="8388360" cy="5997600"/>
          </a:xfrm>
        </p:grpSpPr>
        <p:sp>
          <p:nvSpPr>
            <p:cNvPr id="224" name="Прямоугольник 2"/>
            <p:cNvSpPr/>
            <p:nvPr/>
          </p:nvSpPr>
          <p:spPr>
            <a:xfrm>
              <a:off x="793440" y="1800360"/>
              <a:ext cx="7777440" cy="1577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оугольник 6"/>
            <p:cNvSpPr/>
            <p:nvPr/>
          </p:nvSpPr>
          <p:spPr>
            <a:xfrm>
              <a:off x="793440" y="3383640"/>
              <a:ext cx="7777440" cy="1396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оугольник 7"/>
            <p:cNvSpPr/>
            <p:nvPr/>
          </p:nvSpPr>
          <p:spPr>
            <a:xfrm>
              <a:off x="793440" y="4751640"/>
              <a:ext cx="7777440" cy="16286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Трапеция 3"/>
            <p:cNvSpPr/>
            <p:nvPr/>
          </p:nvSpPr>
          <p:spPr>
            <a:xfrm>
              <a:off x="520560" y="382680"/>
              <a:ext cx="8388360" cy="1417680"/>
            </a:xfrm>
            <a:prstGeom prst="pie">
              <a:avLst/>
            </a:prstGeom>
            <a:solidFill>
              <a:srgbClr val="3333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Реализованные  проек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Прямоугольник 1"/>
          <p:cNvSpPr/>
          <p:nvPr/>
        </p:nvSpPr>
        <p:spPr>
          <a:xfrm>
            <a:off x="1238400" y="1995480"/>
            <a:ext cx="143964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6948360" y="5013360"/>
            <a:ext cx="165600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Творческий  экологический  проек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5084640" y="4971960"/>
            <a:ext cx="1525680" cy="1416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тилизация  былины  о  школьной жизн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3154320" y="4995720"/>
            <a:ext cx="144000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2"/>
          <p:cNvSpPr/>
          <p:nvPr/>
        </p:nvSpPr>
        <p:spPr>
          <a:xfrm>
            <a:off x="1187280" y="5013360"/>
            <a:ext cx="158436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 «История  Конституции- основа  демократ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3139920" y="1971720"/>
            <a:ext cx="144144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«Летние  рад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1239840" y="3514680"/>
            <a:ext cx="1436760" cy="135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5"/>
          <p:cNvSpPr/>
          <p:nvPr/>
        </p:nvSpPr>
        <p:spPr>
          <a:xfrm>
            <a:off x="3137040" y="3498840"/>
            <a:ext cx="1441440" cy="132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6"/>
          <p:cNvSpPr/>
          <p:nvPr/>
        </p:nvSpPr>
        <p:spPr>
          <a:xfrm>
            <a:off x="5076720" y="3500280"/>
            <a:ext cx="1441440" cy="133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 «Поэзия  времён  ВО вой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7"/>
          <p:cNvSpPr/>
          <p:nvPr/>
        </p:nvSpPr>
        <p:spPr>
          <a:xfrm>
            <a:off x="6959520" y="3530520"/>
            <a:ext cx="144000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 «Сказки А.С. Пушк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8"/>
          <p:cNvSpPr/>
          <p:nvPr/>
        </p:nvSpPr>
        <p:spPr>
          <a:xfrm>
            <a:off x="5100480" y="1962000"/>
            <a:ext cx="144000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«Путешествие в  страну  Нареч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9"/>
          <p:cNvSpPr/>
          <p:nvPr/>
        </p:nvSpPr>
        <p:spPr>
          <a:xfrm>
            <a:off x="6931080" y="1998720"/>
            <a:ext cx="1439640" cy="13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«Моя  малая  род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187280" y="215748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«Портрет с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1"/>
          <p:cNvSpPr/>
          <p:nvPr/>
        </p:nvSpPr>
        <p:spPr>
          <a:xfrm>
            <a:off x="1244520" y="363708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здание  книжки-малы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2987640" y="3645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амять  сильнее  време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3132000" y="5013360"/>
            <a:ext cx="158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 «Достойные  внимания знаки  препин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9" descr="Копия DSCF4110"/>
          <p:cNvPicPr/>
          <p:nvPr/>
        </p:nvPicPr>
        <p:blipFill>
          <a:blip r:embed="rId4"/>
          <a:stretch/>
        </p:blipFill>
        <p:spPr>
          <a:xfrm>
            <a:off x="38160" y="4857840"/>
            <a:ext cx="2733480" cy="1866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Копия DSCF4116"/>
          <p:cNvPicPr/>
          <p:nvPr/>
        </p:nvPicPr>
        <p:blipFill>
          <a:blip r:embed="rId5"/>
          <a:stretch/>
        </p:blipFill>
        <p:spPr>
          <a:xfrm>
            <a:off x="2789280" y="3789360"/>
            <a:ext cx="1495440" cy="28288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C:\Users\школа\Pictures\Фото  мои\DSCF9075.JPG"/>
          <p:cNvPicPr/>
          <p:nvPr/>
        </p:nvPicPr>
        <p:blipFill>
          <a:blip r:embed="rId6"/>
          <a:stretch/>
        </p:blipFill>
        <p:spPr>
          <a:xfrm>
            <a:off x="0" y="2265480"/>
            <a:ext cx="3292560" cy="2469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IMG_3108"/>
          <p:cNvPicPr/>
          <p:nvPr/>
        </p:nvPicPr>
        <p:blipFill>
          <a:blip r:embed="rId7"/>
          <a:stretch/>
        </p:blipFill>
        <p:spPr>
          <a:xfrm>
            <a:off x="6353280" y="3321000"/>
            <a:ext cx="2651040" cy="33847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248" name="Рисунок 30" descr="C:\Users\школа\Desktop\Моя  папка\Проекты\DSC06433.JPG"/>
          <p:cNvPicPr/>
          <p:nvPr/>
        </p:nvPicPr>
        <p:blipFill>
          <a:blip r:embed="rId8"/>
          <a:stretch/>
        </p:blipFill>
        <p:spPr>
          <a:xfrm>
            <a:off x="25560" y="382680"/>
            <a:ext cx="3146400" cy="4044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31" descr="C:\Users\школа\Desktop\Моя  папка\Проекты\DSC06432.JPG"/>
          <p:cNvPicPr/>
          <p:nvPr/>
        </p:nvPicPr>
        <p:blipFill>
          <a:blip r:embed="rId9"/>
          <a:stretch/>
        </p:blipFill>
        <p:spPr>
          <a:xfrm>
            <a:off x="7012080" y="782640"/>
            <a:ext cx="1869840" cy="25160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2" descr="C:\Users\школа\Desktop\Моя  папка\Проекты\DSC06430.JPG"/>
          <p:cNvPicPr/>
          <p:nvPr/>
        </p:nvPicPr>
        <p:blipFill>
          <a:blip r:embed="rId10"/>
          <a:stretch/>
        </p:blipFill>
        <p:spPr>
          <a:xfrm>
            <a:off x="3241800" y="777960"/>
            <a:ext cx="1858680" cy="25016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3" descr="C:\Users\школа\Desktop\Моя  папка\Проекты\DSC06429.JPG"/>
          <p:cNvPicPr/>
          <p:nvPr/>
        </p:nvPicPr>
        <p:blipFill>
          <a:blip r:embed="rId11"/>
          <a:stretch/>
        </p:blipFill>
        <p:spPr>
          <a:xfrm>
            <a:off x="5103720" y="782640"/>
            <a:ext cx="1859040" cy="2496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5" descr="C:\Users\школа\Desktop\Моя  папка\Проекты\DSC06428.JPG"/>
          <p:cNvPicPr/>
          <p:nvPr/>
        </p:nvPicPr>
        <p:blipFill>
          <a:blip r:embed="rId12"/>
          <a:stretch/>
        </p:blipFill>
        <p:spPr>
          <a:xfrm>
            <a:off x="5610240" y="1719360"/>
            <a:ext cx="2000160" cy="2708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6" descr="C:\Users\школа\Desktop\Моя  папка\Проекты\DSC06434.JPG"/>
          <p:cNvPicPr/>
          <p:nvPr/>
        </p:nvPicPr>
        <p:blipFill>
          <a:blip r:embed="rId13"/>
          <a:stretch/>
        </p:blipFill>
        <p:spPr>
          <a:xfrm>
            <a:off x="2441520" y="2548080"/>
            <a:ext cx="3159360" cy="223200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3" descr="G:\DCIM\101NIKON\DSCN0212.JPG"/>
          <p:cNvPicPr/>
          <p:nvPr/>
        </p:nvPicPr>
        <p:blipFill>
          <a:blip r:embed="rId14"/>
          <a:stretch/>
        </p:blipFill>
        <p:spPr>
          <a:xfrm>
            <a:off x="3890880" y="4697280"/>
            <a:ext cx="28958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15а"/>
          <p:cNvPicPr/>
          <p:nvPr/>
        </p:nvPicPr>
        <p:blipFill>
          <a:blip r:embed="rId3"/>
          <a:stretch/>
        </p:blipFill>
        <p:spPr>
          <a:xfrm>
            <a:off x="324000" y="29520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258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259" name="Заголовок 1" descr=""/>
          <p:cNvPicPr/>
          <p:nvPr/>
        </p:nvPicPr>
        <p:blipFill>
          <a:blip r:embed="rId4"/>
          <a:stretch/>
        </p:blipFill>
        <p:spPr>
          <a:xfrm>
            <a:off x="457200" y="85680"/>
            <a:ext cx="8229600" cy="134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5"/>
          <a:stretch/>
        </p:blipFill>
        <p:spPr>
          <a:xfrm>
            <a:off x="468360" y="1417680"/>
            <a:ext cx="83613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15а"/>
          <p:cNvPicPr/>
          <p:nvPr/>
        </p:nvPicPr>
        <p:blipFill>
          <a:blip r:embed="rId3"/>
          <a:stretch/>
        </p:blipFill>
        <p:spPr>
          <a:xfrm>
            <a:off x="287280" y="295200"/>
            <a:ext cx="8569440" cy="5977080"/>
          </a:xfrm>
          <a:prstGeom prst="rect">
            <a:avLst/>
          </a:prstGeom>
          <a:ln w="0">
            <a:noFill/>
          </a:ln>
        </p:spPr>
      </p:pic>
      <p:sp>
        <p:nvSpPr>
          <p:cNvPr id="264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3276720" y="162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728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mbria"/>
                <a:ea typeface="Calibri"/>
              </a:rPr>
              <a:t>Показатели качества освоения обучающимися                           образовательных  програм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ие три года в педагогической  работе наблюдается  положительная  динамика  учебных  достижений  учащихся  при  100%            успеваемости (результаты представлены в таблице  и на диаграмме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учебных достижений обучающихся по русскому 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08000" y="2639880"/>
          <a:ext cx="5227920" cy="1521000"/>
        </p:xfrm>
        <a:graphic>
          <a:graphicData uri="http://schemas.openxmlformats.org/drawingml/2006/table">
            <a:tbl>
              <a:tblPr/>
              <a:tblGrid>
                <a:gridCol w="1170000"/>
                <a:gridCol w="1276560"/>
                <a:gridCol w="1568520"/>
                <a:gridCol w="1212840"/>
              </a:tblGrid>
              <a:tr h="73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обучающихся (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е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ия  (чел/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спевающих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/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/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22"/>
          <p:cNvSpPr/>
          <p:nvPr/>
        </p:nvSpPr>
        <p:spPr>
          <a:xfrm>
            <a:off x="2063880" y="317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9" descr=""/>
          <p:cNvPicPr/>
          <p:nvPr/>
        </p:nvPicPr>
        <p:blipFill>
          <a:blip r:embed="rId4"/>
          <a:stretch/>
        </p:blipFill>
        <p:spPr>
          <a:xfrm>
            <a:off x="1158840" y="4221000"/>
            <a:ext cx="6769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15а"/>
          <p:cNvPicPr/>
          <p:nvPr/>
        </p:nvPicPr>
        <p:blipFill>
          <a:blip r:embed="rId3"/>
          <a:stretch/>
        </p:blipFill>
        <p:spPr>
          <a:xfrm>
            <a:off x="287280" y="295200"/>
            <a:ext cx="8569440" cy="5977080"/>
          </a:xfrm>
          <a:prstGeom prst="rect">
            <a:avLst/>
          </a:prstGeom>
          <a:ln w="0">
            <a:noFill/>
          </a:ln>
        </p:spPr>
      </p:pic>
      <p:sp>
        <p:nvSpPr>
          <p:cNvPr id="274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3276720" y="162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7280" y="29520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ambria"/>
                <a:ea typeface="Calibri"/>
              </a:rPr>
              <a:t>Показатели качества освоения обучающимися                                   образовательных 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2063880" y="317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22600" y="1676520"/>
          <a:ext cx="5184720" cy="1865160"/>
        </p:xfrm>
        <a:graphic>
          <a:graphicData uri="http://schemas.openxmlformats.org/drawingml/2006/table">
            <a:tbl>
              <a:tblPr/>
              <a:tblGrid>
                <a:gridCol w="1392120"/>
                <a:gridCol w="1320840"/>
                <a:gridCol w="1244520"/>
                <a:gridCol w="1227240"/>
              </a:tblGrid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обучающихся (че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е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ия  (чел/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спевающих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/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/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/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1"/>
          <p:cNvSpPr/>
          <p:nvPr/>
        </p:nvSpPr>
        <p:spPr>
          <a:xfrm>
            <a:off x="395280" y="1108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учебных достижений обучающихся по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0" descr=""/>
          <p:cNvPicPr/>
          <p:nvPr/>
        </p:nvPicPr>
        <p:blipFill>
          <a:blip r:embed="rId4"/>
          <a:stretch/>
        </p:blipFill>
        <p:spPr>
          <a:xfrm>
            <a:off x="981000" y="3637080"/>
            <a:ext cx="6840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ккк"/>
          <p:cNvPicPr/>
          <p:nvPr/>
        </p:nvPicPr>
        <p:blipFill>
          <a:blip r:embed="rId2"/>
          <a:stretch/>
        </p:blipFill>
        <p:spPr>
          <a:xfrm>
            <a:off x="3492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mbria"/>
              </a:rPr>
              <a:t>Результативность профессионально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mbria"/>
              </a:rPr>
              <a:t>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mbria"/>
              </a:rPr>
              <a:t>педагогической деятельност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mbria"/>
              <a:ea typeface="Cambria"/>
            </a:endParaRPr>
          </a:p>
        </p:txBody>
      </p:sp>
      <p:sp>
        <p:nvSpPr>
          <p:cNvPr id="286" name="Прямоугольник 1"/>
          <p:cNvSpPr/>
          <p:nvPr/>
        </p:nvSpPr>
        <p:spPr>
          <a:xfrm>
            <a:off x="3276720" y="16286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461880" y="1625760"/>
            <a:ext cx="1584360" cy="2109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4"/>
          <a:stretch/>
        </p:blipFill>
        <p:spPr>
          <a:xfrm>
            <a:off x="2166840" y="1598760"/>
            <a:ext cx="1603440" cy="2139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5"/>
          <a:stretch/>
        </p:blipFill>
        <p:spPr>
          <a:xfrm>
            <a:off x="3884760" y="1592280"/>
            <a:ext cx="1590480" cy="2127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6"/>
          <a:stretch/>
        </p:blipFill>
        <p:spPr>
          <a:xfrm>
            <a:off x="5580000" y="160164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7"/>
          <a:stretch/>
        </p:blipFill>
        <p:spPr>
          <a:xfrm>
            <a:off x="449280" y="275436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"/>
          <p:cNvPicPr/>
          <p:nvPr/>
        </p:nvPicPr>
        <p:blipFill>
          <a:blip r:embed="rId8"/>
          <a:stretch/>
        </p:blipFill>
        <p:spPr>
          <a:xfrm>
            <a:off x="2205000" y="268128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"/>
          <p:cNvPicPr/>
          <p:nvPr/>
        </p:nvPicPr>
        <p:blipFill>
          <a:blip r:embed="rId9"/>
          <a:stretch/>
        </p:blipFill>
        <p:spPr>
          <a:xfrm>
            <a:off x="3933720" y="2655720"/>
            <a:ext cx="1536840" cy="2054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"/>
          <p:cNvPicPr/>
          <p:nvPr/>
        </p:nvPicPr>
        <p:blipFill>
          <a:blip r:embed="rId10"/>
          <a:stretch/>
        </p:blipFill>
        <p:spPr>
          <a:xfrm>
            <a:off x="5613480" y="2654280"/>
            <a:ext cx="1542960" cy="2054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"/>
          <p:cNvPicPr/>
          <p:nvPr/>
        </p:nvPicPr>
        <p:blipFill>
          <a:blip r:embed="rId11"/>
          <a:stretch/>
        </p:blipFill>
        <p:spPr>
          <a:xfrm>
            <a:off x="7307280" y="158904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" descr=""/>
          <p:cNvPicPr/>
          <p:nvPr/>
        </p:nvPicPr>
        <p:blipFill>
          <a:blip r:embed="rId12"/>
          <a:stretch/>
        </p:blipFill>
        <p:spPr>
          <a:xfrm>
            <a:off x="7307280" y="2693880"/>
            <a:ext cx="1495440" cy="2057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6" descr="F:\Учитель года\Грамоты\Олимпиады. 2016.JPG"/>
          <p:cNvPicPr/>
          <p:nvPr/>
        </p:nvPicPr>
        <p:blipFill>
          <a:blip r:embed="rId13"/>
          <a:stretch/>
        </p:blipFill>
        <p:spPr>
          <a:xfrm>
            <a:off x="460440" y="4076640"/>
            <a:ext cx="1547640" cy="2189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F:\Учитель года\Грамоты\За подготовку победителей и призёров в конкурсах. 2008-2009.JPG"/>
          <p:cNvPicPr/>
          <p:nvPr/>
        </p:nvPicPr>
        <p:blipFill>
          <a:blip r:embed="rId14"/>
          <a:stretch/>
        </p:blipFill>
        <p:spPr>
          <a:xfrm>
            <a:off x="2214720" y="4095720"/>
            <a:ext cx="1587240" cy="2170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9" descr="F:\Учитель года\Грамоты\Кириллица. 2016.JPG"/>
          <p:cNvPicPr/>
          <p:nvPr/>
        </p:nvPicPr>
        <p:blipFill>
          <a:blip r:embed="rId15"/>
          <a:stretch/>
        </p:blipFill>
        <p:spPr>
          <a:xfrm>
            <a:off x="3932280" y="4110120"/>
            <a:ext cx="1542960" cy="2170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0" descr="F:\Учитель года\Грамоты\За подготовку победителя обл. конкурса С малой Родины начинается Россия.2012.JPG"/>
          <p:cNvPicPr/>
          <p:nvPr/>
        </p:nvPicPr>
        <p:blipFill>
          <a:blip r:embed="rId16"/>
          <a:stretch/>
        </p:blipFill>
        <p:spPr>
          <a:xfrm>
            <a:off x="5603760" y="4118040"/>
            <a:ext cx="1563840" cy="2173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1" descr="F:\Учитель года\Грамоты\Молод. фил. чемпионат. 2011.JPG"/>
          <p:cNvPicPr/>
          <p:nvPr/>
        </p:nvPicPr>
        <p:blipFill>
          <a:blip r:embed="rId17"/>
          <a:stretch/>
        </p:blipFill>
        <p:spPr>
          <a:xfrm>
            <a:off x="7307280" y="4110120"/>
            <a:ext cx="1422360" cy="2074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2" descr="F:\Учитель года\Грамоты\Мин-во обр.2015.JPG"/>
          <p:cNvPicPr/>
          <p:nvPr/>
        </p:nvPicPr>
        <p:blipFill>
          <a:blip r:embed="rId18"/>
          <a:stretch/>
        </p:blipFill>
        <p:spPr>
          <a:xfrm>
            <a:off x="3379680" y="1628640"/>
            <a:ext cx="327996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15а"/>
          <p:cNvPicPr/>
          <p:nvPr/>
        </p:nvPicPr>
        <p:blipFill>
          <a:blip r:embed="rId3"/>
          <a:stretch/>
        </p:blipFill>
        <p:spPr>
          <a:xfrm>
            <a:off x="324000" y="26028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10"/>
          <p:cNvSpPr/>
          <p:nvPr/>
        </p:nvSpPr>
        <p:spPr>
          <a:xfrm>
            <a:off x="755640" y="836640"/>
            <a:ext cx="720720" cy="4897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4897440"/>
              <a:gd name="textAreaBottom" fmla="*/ 4862520 h 4897440"/>
            </a:gdLst>
            <a:ahLst/>
            <a:rect l="textAreaLeft" t="textAreaTop" r="textAreaRight" b="textAreaBottom"/>
            <a:pathLst>
              <a:path w="21600" h="146714">
                <a:moveTo>
                  <a:pt x="3600" y="0"/>
                </a:moveTo>
                <a:arcTo wR="3600" hR="3600" stAng="16200000" swAng="-5400000"/>
                <a:lnTo>
                  <a:pt x="0" y="143114"/>
                </a:lnTo>
                <a:arcTo wR="3600" hR="3600" stAng="10800000" swAng="-5400000"/>
                <a:lnTo>
                  <a:pt x="18000" y="146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1476360" y="2421000"/>
            <a:ext cx="216072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476360" y="3213000"/>
            <a:ext cx="2158920" cy="86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476360" y="4221000"/>
            <a:ext cx="216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476360" y="5013360"/>
            <a:ext cx="2160720" cy="64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476360" y="1773360"/>
            <a:ext cx="216072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476360" y="907920"/>
            <a:ext cx="2160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 rot="16200000">
            <a:off x="-1162800" y="2826720"/>
            <a:ext cx="489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едагогическ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1511280" y="10335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МО учителей гуманитарного  цик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1547640" y="1773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МО учителей  русского 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1547640" y="2349360"/>
            <a:ext cx="21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ные и практические  семин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403280" y="3141720"/>
            <a:ext cx="22320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 в социальной сети работников     образова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porta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1619280" y="4292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крытые у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1547640" y="404640"/>
            <a:ext cx="66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28"/>
          <p:cNvSpPr txBox="1"/>
          <p:nvPr/>
        </p:nvSpPr>
        <p:spPr>
          <a:xfrm>
            <a:off x="503280" y="277920"/>
            <a:ext cx="824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ранслируемость  практических достижений профессиональной деятельности.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1547640" y="4941720"/>
            <a:ext cx="18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тупление на педагогических сове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1" descr=""/>
          <p:cNvPicPr/>
          <p:nvPr/>
        </p:nvPicPr>
        <p:blipFill>
          <a:blip r:embed="rId5"/>
          <a:stretch/>
        </p:blipFill>
        <p:spPr>
          <a:xfrm>
            <a:off x="3962520" y="3645000"/>
            <a:ext cx="4665600" cy="2039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3" descr="DSCF1892"/>
          <p:cNvPicPr/>
          <p:nvPr/>
        </p:nvPicPr>
        <p:blipFill>
          <a:blip r:embed="rId6"/>
          <a:stretch/>
        </p:blipFill>
        <p:spPr>
          <a:xfrm>
            <a:off x="4626000" y="965160"/>
            <a:ext cx="33670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15а"/>
          <p:cNvPicPr/>
          <p:nvPr/>
        </p:nvPicPr>
        <p:blipFill>
          <a:blip r:embed="rId3"/>
          <a:stretch/>
        </p:blipFill>
        <p:spPr>
          <a:xfrm>
            <a:off x="324000" y="260280"/>
            <a:ext cx="8569080" cy="597708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22" descr=""/>
          <p:cNvPicPr/>
          <p:nvPr/>
        </p:nvPicPr>
        <p:blipFill>
          <a:blip r:embed="rId4"/>
          <a:stretch/>
        </p:blipFill>
        <p:spPr>
          <a:xfrm>
            <a:off x="396720" y="1195560"/>
            <a:ext cx="8296560" cy="1871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3"/>
          <p:cNvSpPr/>
          <p:nvPr/>
        </p:nvSpPr>
        <p:spPr>
          <a:xfrm>
            <a:off x="2050920" y="3428280"/>
            <a:ext cx="65660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Неграмотным человеком завтрашнего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будет не тот, кто не умеет чит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 тот, кто не научился учить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Тофф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15а"/>
          <p:cNvPicPr/>
          <p:nvPr/>
        </p:nvPicPr>
        <p:blipFill>
          <a:blip r:embed="rId3"/>
          <a:stretch/>
        </p:blipFill>
        <p:spPr>
          <a:xfrm>
            <a:off x="324000" y="33336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539640" y="476280"/>
            <a:ext cx="806472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тературы и 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чков А.В. Метод проектов в современной школе. – М.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хрушева Л.М. Применение проективного метода на уроках русского языка. Л.М.Вахрушева //Русский язык. – 2007. - №14. – С. 35-3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зеев В.В. «Метод проектов» как частный случай интегративной технологии обучения./ «Директор школы», № 6, 199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кова Т. Проектные технологии на уроках и во внеурочной деятельности. / «Народное образование», № 7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педагогические и информационные технологии в системе образования. Учеб. пособие для студ. пед. вузов и системы повыш. квалиф. пед. кадров/ Полат Е. С. и др.Под ред Е. С. Полат. — М.,: Издательский центр «Академия», 1999, — 224 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омова Н.Ю. Учебные проекты: его возможности. / «Учитель», № 4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омова Н.Ю. Учебные проекты: методология поиска. / «Учитель», № 1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венков А.И. Я – исследователь. Самара: ООО «Учебная литература»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колова Ю.А. Учебный проект и возможности его реализации на уроках русского языка. Ю.А.Соколова // Русский язык в школе. – 2008. – №3. – С. 3 – 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упницкая М.А. Новые педагогические технологии: учимся работать над проектами: рекомендации для учащихся, учителей и родителей / М.А.Ступницкая;  художник А.А.Селиванов. – Ярославль: Академия развития, 2008. С. 7- 1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Щукина Г.И. Активизация познавательной деятельности в учебном процессе. – М., 197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444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44444"/>
                </a:solidFill>
                <a:latin typeface="Times New Roman"/>
                <a:ea typeface="Times New Roman"/>
              </a:rPr>
              <a:t>Селевко Г. К. Педагогические технологии на основе информационно-коммуникационных средств. — М.: Просвещение, 2005. — С. 100—1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13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http://минобрнауки.рф/документы/922/файл/748/ФГОС_НОО.pdf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«Intel» «Обучение для будущего» Проектная деятельность в информационной образовательной среде 21 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15а"/>
          <p:cNvPicPr/>
          <p:nvPr/>
        </p:nvPicPr>
        <p:blipFill>
          <a:blip r:embed="rId3"/>
          <a:stretch/>
        </p:blipFill>
        <p:spPr>
          <a:xfrm>
            <a:off x="324000" y="29520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331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1"/>
          <p:cNvSpPr/>
          <p:nvPr/>
        </p:nvSpPr>
        <p:spPr>
          <a:xfrm>
            <a:off x="468360" y="174456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a"/>
                </a:solidFill>
                <a:latin typeface="Calibri"/>
                <a:ea typeface="SimSu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978200" y="31082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tatyana.buzanova.72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5а"/>
          <p:cNvPicPr/>
          <p:nvPr/>
        </p:nvPicPr>
        <p:blipFill>
          <a:blip r:embed="rId3"/>
          <a:stretch/>
        </p:blipFill>
        <p:spPr>
          <a:xfrm>
            <a:off x="324000" y="260280"/>
            <a:ext cx="8569080" cy="4969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4"/>
          <p:cNvSpPr txBox="1"/>
          <p:nvPr/>
        </p:nvSpPr>
        <p:spPr>
          <a:xfrm>
            <a:off x="539640" y="333360"/>
            <a:ext cx="727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Условия формирования личного вклада</a:t>
            </a: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педагога в развитие образования</a:t>
            </a: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</p:txBody>
      </p:sp>
      <p:sp>
        <p:nvSpPr>
          <p:cNvPr id="103" name="Прямоугольник с двумя скругленными противолежащими углами 5"/>
          <p:cNvSpPr/>
          <p:nvPr/>
        </p:nvSpPr>
        <p:spPr>
          <a:xfrm>
            <a:off x="395280" y="1125360"/>
            <a:ext cx="2664000" cy="4059360"/>
          </a:xfrm>
          <a:custGeom>
            <a:avLst/>
            <a:gdLst>
              <a:gd name="textAreaLeft" fmla="*/ 75600 w 2664000"/>
              <a:gd name="textAreaRight" fmla="*/ 2588400 w 2664000"/>
              <a:gd name="textAreaTop" fmla="*/ 198000 h 4059360"/>
              <a:gd name="textAreaBottom" fmla="*/ 3861360 h 4059360"/>
            </a:gdLst>
            <a:ahLst/>
            <a:rect l="textAreaLeft" t="textAreaTop" r="textAreaRight" b="textAreaBottom"/>
            <a:pathLst>
              <a:path w="4286250" h="2500312">
                <a:moveTo>
                  <a:pt x="416727" y="0"/>
                </a:moveTo>
                <a:lnTo>
                  <a:pt x="4286250" y="0"/>
                </a:lnTo>
                <a:lnTo>
                  <a:pt x="4286250" y="2083585"/>
                </a:lnTo>
                <a:cubicBezTo>
                  <a:pt x="4286250" y="2313736"/>
                  <a:pt x="4099674" y="2500312"/>
                  <a:pt x="3869523" y="2500312"/>
                </a:cubicBezTo>
                <a:lnTo>
                  <a:pt x="0" y="2500312"/>
                </a:lnTo>
                <a:lnTo>
                  <a:pt x="0" y="416727"/>
                </a:lnTo>
                <a:cubicBezTo>
                  <a:pt x="0" y="186575"/>
                  <a:pt x="186575" y="0"/>
                  <a:pt x="416727" y="0"/>
                </a:cubicBezTo>
                <a:cubicBezTo>
                  <a:pt x="416727" y="0"/>
                  <a:pt x="416727" y="0"/>
                  <a:pt x="416727" y="0"/>
                </a:cubicBezTo>
                <a:close/>
              </a:path>
            </a:pathLst>
          </a:cu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с двумя скругленными противолежащими углами 5"/>
          <p:cNvSpPr/>
          <p:nvPr/>
        </p:nvSpPr>
        <p:spPr>
          <a:xfrm>
            <a:off x="3147840" y="1076400"/>
            <a:ext cx="2881440" cy="4032000"/>
          </a:xfrm>
          <a:prstGeom prst="pi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с двумя скругленными противолежащими углами 5"/>
          <p:cNvSpPr/>
          <p:nvPr/>
        </p:nvSpPr>
        <p:spPr>
          <a:xfrm>
            <a:off x="6084720" y="1125360"/>
            <a:ext cx="2735280" cy="4032360"/>
          </a:xfrm>
          <a:custGeom>
            <a:avLst/>
            <a:gdLst>
              <a:gd name="textAreaLeft" fmla="*/ 77760 w 2735280"/>
              <a:gd name="textAreaRight" fmla="*/ 2657520 w 2735280"/>
              <a:gd name="textAreaTop" fmla="*/ 196560 h 4032360"/>
              <a:gd name="textAreaBottom" fmla="*/ 3835800 h 4032360"/>
            </a:gdLst>
            <a:ahLst/>
            <a:rect l="textAreaLeft" t="textAreaTop" r="textAreaRight" b="textAreaBottom"/>
            <a:pathLst>
              <a:path w="4286250" h="2500312">
                <a:moveTo>
                  <a:pt x="416727" y="0"/>
                </a:moveTo>
                <a:lnTo>
                  <a:pt x="4286250" y="0"/>
                </a:lnTo>
                <a:lnTo>
                  <a:pt x="4286250" y="2083585"/>
                </a:lnTo>
                <a:cubicBezTo>
                  <a:pt x="4286250" y="2313736"/>
                  <a:pt x="4099674" y="2500312"/>
                  <a:pt x="3869523" y="2500312"/>
                </a:cubicBezTo>
                <a:lnTo>
                  <a:pt x="0" y="2500312"/>
                </a:lnTo>
                <a:lnTo>
                  <a:pt x="0" y="416727"/>
                </a:lnTo>
                <a:cubicBezTo>
                  <a:pt x="0" y="186575"/>
                  <a:pt x="186575" y="0"/>
                  <a:pt x="416727" y="0"/>
                </a:cubicBezTo>
                <a:cubicBezTo>
                  <a:pt x="416727" y="0"/>
                  <a:pt x="416727" y="0"/>
                  <a:pt x="416727" y="0"/>
                </a:cubicBezTo>
                <a:close/>
              </a:path>
            </a:pathLst>
          </a:custGeom>
          <a:solidFill>
            <a:srgbClr val="cc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468360" y="1125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Научно-исследователь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203640" y="1484280"/>
            <a:ext cx="266364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ебный кабинет как творческая мастерская учителя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Техническ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компьюте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обеспе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е оборуд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а оборуд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3203640" y="1125360"/>
            <a:ext cx="28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Методиче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156360" y="1125360"/>
            <a:ext cx="266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Организационно-педагогические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95280" y="1989000"/>
            <a:ext cx="2592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психолого-педагогической литературы, изучение педагогического опыта по организации проектно-исследовательской деятельности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6443640" y="2349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6300720" y="242100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6156360" y="2060640"/>
            <a:ext cx="266364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 в  работе ШМО, педагогического совета и Р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 в творческих групп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  в  профессиональных  педагогических  сообществах,  в т.ч сетев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5а"/>
          <p:cNvPicPr/>
          <p:nvPr/>
        </p:nvPicPr>
        <p:blipFill>
          <a:blip r:embed="rId3"/>
          <a:stretch/>
        </p:blipFill>
        <p:spPr>
          <a:xfrm>
            <a:off x="324000" y="260280"/>
            <a:ext cx="849600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7"/>
          <p:cNvSpPr txBox="1"/>
          <p:nvPr/>
        </p:nvSpPr>
        <p:spPr>
          <a:xfrm>
            <a:off x="1116000" y="404640"/>
            <a:ext cx="648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Актуальность личного вклада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 </a:t>
            </a: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в развитие образования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68360" y="220500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4"/>
          <p:cNvSpPr/>
          <p:nvPr/>
        </p:nvSpPr>
        <p:spPr>
          <a:xfrm rot="3418800">
            <a:off x="369360" y="2086200"/>
            <a:ext cx="411120" cy="360360"/>
          </a:xfrm>
          <a:prstGeom prst="rect">
            <a:avLst/>
          </a:prstGeom>
          <a:solidFill>
            <a:srgbClr val="ccccff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4"/>
          <p:cNvSpPr/>
          <p:nvPr/>
        </p:nvSpPr>
        <p:spPr>
          <a:xfrm rot="3418800">
            <a:off x="442440" y="3167280"/>
            <a:ext cx="411120" cy="360360"/>
          </a:xfrm>
          <a:prstGeom prst="rect">
            <a:avLst/>
          </a:prstGeom>
          <a:solidFill>
            <a:srgbClr val="ccccff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4"/>
          <p:cNvSpPr/>
          <p:nvPr/>
        </p:nvSpPr>
        <p:spPr>
          <a:xfrm rot="3418800">
            <a:off x="442440" y="4318200"/>
            <a:ext cx="411120" cy="360360"/>
          </a:xfrm>
          <a:prstGeom prst="rect">
            <a:avLst/>
          </a:prstGeom>
          <a:solidFill>
            <a:srgbClr val="ccccff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1116000" y="2852640"/>
            <a:ext cx="763272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1042920" y="1700280"/>
            <a:ext cx="77058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ектно-исследовательский метод – это инноваци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етод обучения, соединяющий учебно-познав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понент, игровой, научный и творче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1116000" y="4149720"/>
            <a:ext cx="763272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ектно-исследовательская деятельность является способ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стижения личностных, метапредметных и предметных УУ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едусмотренных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547640" y="220500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258920" y="2924280"/>
            <a:ext cx="7345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ектно-исследовательская деятельность способствует повышению эффективности и качества образования, предопределяет успешность всего последующего 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15а"/>
          <p:cNvPicPr/>
          <p:nvPr/>
        </p:nvPicPr>
        <p:blipFill>
          <a:blip r:embed="rId3"/>
          <a:stretch/>
        </p:blipFill>
        <p:spPr>
          <a:xfrm>
            <a:off x="287280" y="230040"/>
            <a:ext cx="856944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6"/>
          <p:cNvSpPr txBox="1"/>
          <p:nvPr/>
        </p:nvSpPr>
        <p:spPr>
          <a:xfrm>
            <a:off x="611280" y="260280"/>
            <a:ext cx="7705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Теоретическое обоснование личного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 </a:t>
            </a: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вклада в развитие образования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105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ящей основой нашей дидактики пусть будет исследование и открытие метода, при котором учащихся меньше бы учили, учащиеся больше бы учились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.А. Коменск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4"/>
          <a:stretch/>
        </p:blipFill>
        <p:spPr>
          <a:xfrm>
            <a:off x="2987640" y="2276640"/>
            <a:ext cx="1332000" cy="158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5"/>
          <a:stretch/>
        </p:blipFill>
        <p:spPr>
          <a:xfrm>
            <a:off x="900000" y="2276640"/>
            <a:ext cx="1366920" cy="1582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6"/>
          <a:stretch/>
        </p:blipFill>
        <p:spPr>
          <a:xfrm>
            <a:off x="5003640" y="2276640"/>
            <a:ext cx="1430640" cy="1584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755640" y="3860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.А.Каме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2627280" y="378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059280" y="3860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жон Дь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11280" y="5661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61128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5148360" y="3860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Т. Ша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8" descr=""/>
          <p:cNvPicPr/>
          <p:nvPr/>
        </p:nvPicPr>
        <p:blipFill>
          <a:blip r:embed="rId7"/>
          <a:stretch/>
        </p:blipFill>
        <p:spPr>
          <a:xfrm>
            <a:off x="7380360" y="2276640"/>
            <a:ext cx="1193760" cy="1512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9"/>
          <p:cNvSpPr/>
          <p:nvPr/>
        </p:nvSpPr>
        <p:spPr>
          <a:xfrm>
            <a:off x="7236000" y="3789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.И. Нов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" descr="4746700_1243787396_img190"/>
          <p:cNvPicPr/>
          <p:nvPr/>
        </p:nvPicPr>
        <p:blipFill>
          <a:blip r:embed="rId8"/>
          <a:stretch/>
        </p:blipFill>
        <p:spPr>
          <a:xfrm>
            <a:off x="900000" y="4221000"/>
            <a:ext cx="1308240" cy="15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2"/>
          <p:cNvSpPr/>
          <p:nvPr/>
        </p:nvSpPr>
        <p:spPr>
          <a:xfrm>
            <a:off x="754200" y="574668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4" descr=""/>
          <p:cNvPicPr/>
          <p:nvPr/>
        </p:nvPicPr>
        <p:blipFill>
          <a:blip r:embed="rId9"/>
          <a:stretch/>
        </p:blipFill>
        <p:spPr>
          <a:xfrm>
            <a:off x="2987640" y="4221000"/>
            <a:ext cx="1295280" cy="1511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5"/>
          <p:cNvSpPr/>
          <p:nvPr/>
        </p:nvSpPr>
        <p:spPr>
          <a:xfrm>
            <a:off x="2843280" y="573408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.Н. Скат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5003640" y="57466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К. Селев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7236000" y="5805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И. Щу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3" descr="C:\Users\школа\Pictures\Селевко Г.К..jpg"/>
          <p:cNvPicPr/>
          <p:nvPr/>
        </p:nvPicPr>
        <p:blipFill>
          <a:blip r:embed="rId10"/>
          <a:stretch/>
        </p:blipFill>
        <p:spPr>
          <a:xfrm>
            <a:off x="5003640" y="4221000"/>
            <a:ext cx="1368720" cy="1622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C:\Users\школа\Pictures\Щукина.jpg"/>
          <p:cNvPicPr/>
          <p:nvPr/>
        </p:nvPicPr>
        <p:blipFill>
          <a:blip r:embed="rId11"/>
          <a:srcRect l="0" t="0" r="0" b="12711"/>
          <a:stretch/>
        </p:blipFill>
        <p:spPr>
          <a:xfrm>
            <a:off x="7236000" y="4221000"/>
            <a:ext cx="144936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15а"/>
          <p:cNvPicPr/>
          <p:nvPr/>
        </p:nvPicPr>
        <p:blipFill>
          <a:blip r:embed="rId3"/>
          <a:stretch/>
        </p:blipFill>
        <p:spPr>
          <a:xfrm>
            <a:off x="387360" y="325440"/>
            <a:ext cx="8569440" cy="5904000"/>
          </a:xfrm>
          <a:prstGeom prst="rect">
            <a:avLst/>
          </a:prstGeom>
          <a:ln w="0">
            <a:noFill/>
          </a:ln>
        </p:spPr>
      </p:pic>
      <p:sp>
        <p:nvSpPr>
          <p:cNvPr id="154" name="Горизонтальный свиток 36"/>
          <p:cNvSpPr/>
          <p:nvPr/>
        </p:nvSpPr>
        <p:spPr>
          <a:xfrm>
            <a:off x="371520" y="1038240"/>
            <a:ext cx="8343720" cy="14619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39640" y="1268280"/>
            <a:ext cx="79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ель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1600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Цель и задачи педагогической деятельности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3059280" y="1989000"/>
            <a:ext cx="2663640" cy="719280"/>
            <a:chOff x="3059280" y="1989000"/>
            <a:chExt cx="2663640" cy="719280"/>
          </a:xfrm>
        </p:grpSpPr>
        <p:grpSp>
          <p:nvGrpSpPr>
            <p:cNvPr id="158" name="Group 12"/>
            <p:cNvGrpSpPr/>
            <p:nvPr/>
          </p:nvGrpSpPr>
          <p:grpSpPr>
            <a:xfrm>
              <a:off x="3059280" y="2053080"/>
              <a:ext cx="2663640" cy="655200"/>
              <a:chOff x="3059280" y="2053080"/>
              <a:chExt cx="2663640" cy="655200"/>
            </a:xfrm>
          </p:grpSpPr>
          <p:sp>
            <p:nvSpPr>
              <p:cNvPr id="159" name="Oval 13"/>
              <p:cNvSpPr/>
              <p:nvPr/>
            </p:nvSpPr>
            <p:spPr>
              <a:xfrm>
                <a:off x="3088440" y="2073960"/>
                <a:ext cx="2634480" cy="6343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4"/>
              <p:cNvSpPr/>
              <p:nvPr/>
            </p:nvSpPr>
            <p:spPr>
              <a:xfrm>
                <a:off x="3059280" y="2053080"/>
                <a:ext cx="2634480" cy="63432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Oval 15"/>
            <p:cNvSpPr/>
            <p:nvPr/>
          </p:nvSpPr>
          <p:spPr>
            <a:xfrm>
              <a:off x="3184920" y="1989000"/>
              <a:ext cx="2384280" cy="6015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3215880" y="1991880"/>
              <a:ext cx="2323440" cy="58752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3239640" y="1998360"/>
              <a:ext cx="2210760" cy="54936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3356640" y="2009520"/>
              <a:ext cx="1948320" cy="44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9"/>
          <p:cNvSpPr/>
          <p:nvPr/>
        </p:nvSpPr>
        <p:spPr>
          <a:xfrm>
            <a:off x="370836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20"/>
          <p:cNvSpPr txBox="1"/>
          <p:nvPr/>
        </p:nvSpPr>
        <p:spPr>
          <a:xfrm>
            <a:off x="3780000" y="2060640"/>
            <a:ext cx="122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7" name="AutoShape 74"/>
          <p:cNvSpPr/>
          <p:nvPr/>
        </p:nvSpPr>
        <p:spPr>
          <a:xfrm>
            <a:off x="468360" y="2852640"/>
            <a:ext cx="381636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6"/>
          <p:cNvSpPr/>
          <p:nvPr/>
        </p:nvSpPr>
        <p:spPr>
          <a:xfrm>
            <a:off x="1332000" y="115884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условия для формирования творческой  активности  учащихся  через  активизацию познавательного интереса и самостоятельного приобретения знаний  в  процессе проектно-исследовательской 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9"/>
          <p:cNvSpPr/>
          <p:nvPr/>
        </p:nvSpPr>
        <p:spPr>
          <a:xfrm>
            <a:off x="4572000" y="4076640"/>
            <a:ext cx="4176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0"/>
          <p:cNvSpPr/>
          <p:nvPr/>
        </p:nvSpPr>
        <p:spPr>
          <a:xfrm>
            <a:off x="4500720" y="2852640"/>
            <a:ext cx="4248000" cy="10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1"/>
          <p:cNvSpPr/>
          <p:nvPr/>
        </p:nvSpPr>
        <p:spPr>
          <a:xfrm>
            <a:off x="468360" y="410040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4"/>
          <p:cNvSpPr/>
          <p:nvPr/>
        </p:nvSpPr>
        <p:spPr>
          <a:xfrm>
            <a:off x="468360" y="4100400"/>
            <a:ext cx="393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вать творческую активность через вовлечение в классно-урочную и во внеурочную проектно-исследовательскую деятельност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5"/>
          <p:cNvSpPr/>
          <p:nvPr/>
        </p:nvSpPr>
        <p:spPr>
          <a:xfrm>
            <a:off x="4500720" y="2852640"/>
            <a:ext cx="39589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ить отношения взаимопонимания, взаимопомощи между учителем, учениками, род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4572000" y="4076640"/>
            <a:ext cx="41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ширять возможности для самостоятельной и творческой деятельности учащихся, для успешного развития познавательной активности обучаю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7"/>
          <p:cNvSpPr/>
          <p:nvPr/>
        </p:nvSpPr>
        <p:spPr>
          <a:xfrm>
            <a:off x="700092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395280" y="286236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сить психолого-педагогическую компетентность всех участников образовательного процес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1332000" y="115740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ть условия для формирования творческой  активности  учащихся  через  активизацию познавательного интереса и самостоятельного приобретения знаний  в  процессе проектно-исследовательской 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tucco_1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777777"/>
            </a:solidFill>
            <a:miter/>
          </a:ln>
        </p:spPr>
      </p:pic>
      <p:pic>
        <p:nvPicPr>
          <p:cNvPr id="179" name="Picture 3" descr="stucco_117"/>
          <p:cNvPicPr/>
          <p:nvPr/>
        </p:nvPicPr>
        <p:blipFill>
          <a:blip r:embed="rId2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ккк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5а"/>
          <p:cNvPicPr/>
          <p:nvPr/>
        </p:nvPicPr>
        <p:blipFill>
          <a:blip r:embed="rId4"/>
          <a:stretch/>
        </p:blipFill>
        <p:spPr>
          <a:xfrm>
            <a:off x="324000" y="26028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17"/>
          <p:cNvSpPr txBox="1"/>
          <p:nvPr/>
        </p:nvSpPr>
        <p:spPr>
          <a:xfrm>
            <a:off x="1187280" y="40464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Ведущая педагогическая идея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366840" y="1955880"/>
            <a:ext cx="8208720" cy="21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395280" y="1955880"/>
            <a:ext cx="799308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овать проектно-исследовательскую деятельность таким образом, чтобы она способствовала формированию исследовательских умений, включению учащихся в собственный исследовательский поиск через разработку системы упражнений  и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8" descr=""/>
          <p:cNvPicPr/>
          <p:nvPr/>
        </p:nvPicPr>
        <p:blipFill>
          <a:blip r:embed="rId5"/>
          <a:stretch/>
        </p:blipFill>
        <p:spPr>
          <a:xfrm>
            <a:off x="3348000" y="4295880"/>
            <a:ext cx="28274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tucco_1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777777"/>
            </a:solidFill>
            <a:miter/>
          </a:ln>
        </p:spPr>
      </p:pic>
      <p:pic>
        <p:nvPicPr>
          <p:cNvPr id="187" name="Picture 3" descr="stucco_117"/>
          <p:cNvPicPr/>
          <p:nvPr/>
        </p:nvPicPr>
        <p:blipFill>
          <a:blip r:embed="rId2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ккк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15а"/>
          <p:cNvPicPr/>
          <p:nvPr/>
        </p:nvPicPr>
        <p:blipFill>
          <a:blip r:embed="rId4"/>
          <a:stretch/>
        </p:blipFill>
        <p:spPr>
          <a:xfrm>
            <a:off x="324000" y="26028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7"/>
          <p:cNvSpPr txBox="1"/>
          <p:nvPr/>
        </p:nvSpPr>
        <p:spPr>
          <a:xfrm>
            <a:off x="324000" y="404640"/>
            <a:ext cx="85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a1fbe"/>
                </a:solidFill>
                <a:latin typeface="Cambria"/>
              </a:rPr>
              <a:t>Деятельностный  аспект  личного  вклада педагога  в развитие  образования.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0a1fbe"/>
              </a:solidFill>
              <a:latin typeface="Cambria"/>
              <a:ea typeface="Cambria"/>
            </a:endParaRPr>
          </a:p>
        </p:txBody>
      </p:sp>
      <p:sp>
        <p:nvSpPr>
          <p:cNvPr id="191" name="AutoShape 19"/>
          <p:cNvSpPr/>
          <p:nvPr/>
        </p:nvSpPr>
        <p:spPr>
          <a:xfrm>
            <a:off x="366840" y="1628640"/>
            <a:ext cx="8526240" cy="432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НО-ИССЛЕДОВАТЕЛЬ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разовательная технолог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ющая решение 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, творческой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уководством специалиста   (учителя, родителей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которого реализуется научный мет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я (вне зависимости от области исслед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stucco_117"/>
          <p:cNvPicPr/>
          <p:nvPr/>
        </p:nvPicPr>
        <p:blipFill>
          <a:blip r:embed="rId1"/>
          <a:stretch/>
        </p:blipFill>
        <p:spPr>
          <a:xfrm>
            <a:off x="2556000" y="1413000"/>
            <a:ext cx="3975120" cy="3975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ккк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15а"/>
          <p:cNvPicPr/>
          <p:nvPr/>
        </p:nvPicPr>
        <p:blipFill>
          <a:blip r:embed="rId3"/>
          <a:stretch/>
        </p:blipFill>
        <p:spPr>
          <a:xfrm>
            <a:off x="324000" y="295200"/>
            <a:ext cx="8569080" cy="5977080"/>
          </a:xfrm>
          <a:prstGeom prst="rect">
            <a:avLst/>
          </a:prstGeom>
          <a:ln w="0">
            <a:noFill/>
          </a:ln>
        </p:spPr>
      </p:pic>
      <p:sp>
        <p:nvSpPr>
          <p:cNvPr id="195" name="WordArt 9"/>
          <p:cNvSpPr txBox="1"/>
          <p:nvPr/>
        </p:nvSpPr>
        <p:spPr>
          <a:xfrm>
            <a:off x="684360" y="333360"/>
            <a:ext cx="755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368280" y="620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проектно – исследовательской 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ые, творческие навыки учащих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 их самостоятельно конструировать свои зн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ться в информационном пространст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ритическ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навыки познавательной, исследовательской и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03:52:03Z</dcterms:created>
  <dc:creator>Brusova</dc:creator>
  <dc:description/>
  <dc:language>en-US</dc:language>
  <cp:lastModifiedBy>школа</cp:lastModifiedBy>
  <dcterms:modified xsi:type="dcterms:W3CDTF">2016-12-06T20:53:36Z</dcterms:modified>
  <cp:revision>198</cp:revision>
  <dc:subject/>
  <dc:title>Слайд 1</dc:title>
</cp:coreProperties>
</file>