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A5C-630E-4D6F-94D3-27B644F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611-07B0-45DD-B1FE-15F7E24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A9B-A825-4C5E-A3D9-9F8A4F09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C73-69C6-4E50-B33A-674CDE6B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1EA6-6E56-431C-A420-1E0BCAC1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120-17D9-41BE-BA13-B0245D5D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B9E-4AD9-46F7-B749-B458199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66C-EB3E-4E09-B808-BD0C44B4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C3B-44D0-4CF3-B298-10E0326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30A-85E6-469E-B8AB-04F45A7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7C02-A69E-4C40-A4A9-2EC9315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72F-739A-4562-B107-FCE2F116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D2C7-8C33-48B2-9C43-3A479B6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FC83-5C45-4B69-BC87-8380C273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EC7D-67E4-4E8A-B3BA-80384AE7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98BD-F932-48B9-94F2-A9B12FDC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5E40-A25E-4BF8-A59E-6D4A5FE7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186-26CF-49A1-8FD3-9D8A233F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B2A-E6A7-4FAA-8A73-3018F9D7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7D7-B4FF-4BE8-84E8-22347F1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1E8-1A85-490F-9732-08B23DE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692-752E-4F6F-905A-74FD601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E2F-1403-464D-BB62-31FBBD5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9D3-747E-449F-99CC-F5D54C3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B465-BD60-40A4-A5B5-8B81929709B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533-0B81-4D6D-9D19-AE6DA7938C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Guy Fawkes’ Night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Ночь Гая Фокс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ate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n the night of November 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а: в ночь на 5 ноябр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ymbol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reworks, bonfi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мвол: фейерверк, костёр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Main hero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: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n effigy of Guy Fawk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Главный герой: чучело Гая Фокс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Гай Фок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752480" y="2394000"/>
            <a:ext cx="556272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История происхождения праздник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эту ночь, пятую после Хэллоуина, отличается провал Порохового заговора, когда группа католиков – заговорщиков попыталась взорвать Парламент Великобритании в Лондоне. В ночь на 5 ноября 1605 года, во время тронной речи протестантского короля Якова 1, когда,  кроме него, в здании Палаты лордов присутствовали бы члены обеих палат парламента и верховные представители судебной власти страны, Гай Фокс пытался поджечь в подвале вестминстерского дворца бочки с порохом. Один из соучастников предупредил королевского Лорда Уильяма Паркера, четвертого барона Монтигла, о намечавшемся взрыве и сказал, чтобы тот же приходил на следующий день в здание дворца. Он предупредил короля, и на следующий день Гай был арестован и предупредил короля, и на следующий день Гай был арестован и отвезён в Тауэ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Арест Гая Фокс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733400" y="2009880"/>
            <a:ext cx="56772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В Великобритании в ночь Гая Фокса зажигают фейерверки и костры, на которых сжигают чучело Гая Фокса. А накануне дети выпрашивают монетки «для отличного парня Гая», чтоб накупить петард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96880" y="2666880"/>
            <a:ext cx="6148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216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81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29T14:05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