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D39-5691-4F80-A879-3B50D51C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E28-526E-4EFC-8618-4DEE1A6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7059C-425E-4760-9AFE-E79F130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03A0B-3150-463F-A7F3-0F681F81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7B682-D0E0-4F95-9595-ED1DEF8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9BC94-91FF-4169-9EE8-02F3352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7BE1D-8958-4751-A599-37CE9B9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7B575-AA02-4DF4-9C4F-91CB5DA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45418-A475-41EC-B793-257EC6D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8E4A6-2534-4852-9CF4-A9AA469A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7B3A2-7E00-44F9-8E71-358AB3DB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2C213-4A66-4F96-8CD0-1CFD4FD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39A-A762-477D-AA70-6803A681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3A5C6-F783-4201-B1EB-16D89CD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B4FFF-020F-4E13-95CC-39ADD692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9F405-6340-4B27-B12F-C9AF2F8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A9A28-EDBC-4578-AE6F-EED8788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29A1E-EAB3-4D66-8F83-E650E33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63C8D-2C9A-4FED-9061-7B18A4C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1A48A-A4F2-433D-8F58-243245D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0D20A-CA85-4868-8A1D-E356A4A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A3D9A-05C9-4DF3-ABAC-7D119BA7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284C-87AB-4ADF-9FEF-4FD65E71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FC4-AA43-46E6-8DB8-947E960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26192-A2F7-410A-B291-023C2442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7CC5A-4B2B-458A-B12D-96A52B14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BCDE6-87E6-4D58-87EA-4B7CC0F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2479-C0BF-4399-B9E9-38271C7C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50478-3DF2-4AB1-8952-4547C77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0D78-0396-46DD-AFC5-6B8C40B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F7795-EA37-4FC0-9F14-498B174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2F2DD-05D6-4732-9D9E-2C2F272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1C67-83A3-4D97-975E-37EDE2BD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729ED-D931-4970-B390-2D572A5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167-5472-4B85-ADA5-7E1B071C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9CA9-6F42-49B2-B0FD-BC4960F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49A60-10B0-4615-8363-D696783C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B1ED3-357E-469B-9E3A-20EEE5B7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31155-C79B-4A65-BC05-23151F49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A0079-4100-42A1-ABC5-7434AD6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4CD8A-DFF3-487D-A56C-40E2372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7E94A-0E2B-4013-9DBA-97264805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13EE2-C4D9-4234-B1CC-6F424B9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ABC7E-4CB4-4098-8B97-934B3F7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64268-4448-447A-98B0-A1A81A0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6887-C606-476E-936A-54E5E377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7DC1-6550-494D-AAE8-5C9B8A0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A56C9-64A7-4CD2-911A-2893B69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C1D3-23C9-4319-92CF-E5F889E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06C95-023F-4B2A-A868-59C64DA3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ADFA4-4FCC-42CF-8687-0F187D2F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1387B-99A3-4428-9E12-5A9798DC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3BE77-40D0-476A-9521-346E67C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5E14A-6119-4044-B421-E4B8C15D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44B5F-EFF2-4BCA-82EF-4ADBBBC0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17207-E351-4930-B6C6-466CA17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EA42-FA41-4477-9CA8-6D33747A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F677C-F03F-473B-AA1C-D1A71EB9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AA5CE-B4AA-4576-BAA5-9422109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4B66E-8922-4D7E-9BA5-D02DC78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46807-A87E-48EA-9041-CE03006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34C65-C16C-40B9-B3B8-320BCE7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5477A-E615-47A3-B510-5E0C44DD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27078-1F87-47C1-907D-0F90000D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C9CFC-51DC-40B7-BCFF-4080B3BC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0DA2E-2984-40DA-860E-33090E07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022CC-4B48-4548-AC23-8B6F2E2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0C2D-DE5A-4CB1-BCB4-6AC410D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D3AC1-0F2A-4405-8791-6C54DAD1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4BF3D-9824-41EB-9103-3E7FAFED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142D4-52DF-4434-BA34-2B3C4B9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54A2A-30DB-416C-B2C2-D597EC8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56046-F7BE-4815-BCCD-2833D179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C7B48-E092-471E-B11E-B7F74BB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15CEF-61CB-441F-BFB7-9CBD5CA2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82536-B9C2-40F6-8807-0C6F15D4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8B6E0-1118-41C3-9D1D-DEB0B1C7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A902C-7133-4ACC-AB59-901323A2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645-F759-4D06-855C-4501D6A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2EBC8-854E-4DB0-B7A7-42888FB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02CD4-9665-4B27-A112-CD6179B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6792C-C796-452F-8C26-6036070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20BF1-CF03-4ACE-98FD-0B08B642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A5B2E-BA6C-44F8-8B4B-DA03EEAE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C1477-77B4-4A45-BD2E-C700607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E118C-9005-4715-A565-4489FA2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699DD-8E17-4006-8478-26A7544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E996A-7539-4948-82F0-C3E0928A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FA16A-B719-4C6F-8AE4-221DF4A6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26B8-322F-4686-B034-F1FEBAC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69D25-E1B4-4E50-9DA7-9BEBA41A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03CC9-1CF4-4131-BA0A-B9C6037C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604BE-BBDA-4C40-9269-6B564FEC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92EC8-482F-47F9-BEE9-8D5B21C6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CDEC5-32CA-4681-8CC5-8622CD2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93F10-55FD-4937-B396-EB0328F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F1B26-D704-42BD-92CD-D3EF7530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D8BE5-0F6C-4313-A3CB-6518E9B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42DCC-737A-4EBD-B6DF-B3D5EF8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6F3AD-020B-49D3-AE25-9C666257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6F99-3825-4021-9E52-42A9C9C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A9357-E7E8-4636-ACB2-F737385A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84992-3107-4B66-B768-F951D1CF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6E6C6-729A-4239-B34C-F6DAA6FD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4839C-41EF-41DF-BD50-727AB24B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340ED-1A63-4419-A258-80609C98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3004D-DAED-492B-9132-4B722BF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37178-CDC1-4469-9F12-6DD6F26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6D878-1451-4868-B970-E367903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98076-291A-4B56-84B2-2C46573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0DA4F-F930-4CA8-862F-E5C77D8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908-E7B2-4728-AAFA-65644AD5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A667-8F52-437B-9130-FDB81A7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86C41-D6FD-4B5F-BEC2-C0006F4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B9F47-54E7-4E2F-8475-B664431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DBBC9-CBDC-4F20-9B3E-AFAFE26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14507-EF18-4401-B30D-0E36E21B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5479DF-98DC-474E-AEF5-DC0545A5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B07A3-F47B-4AA6-BE39-4D257DE2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A53B9-D207-4908-9406-412F242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2502A-B185-4617-8067-D3D21CA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AA00F-F729-4406-91A0-32C3108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CFD6B-1AD5-4B30-A283-5693F2F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B553-102F-4D21-81FC-D5F2467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61164F-6F67-4F1E-90DC-7F3B49C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D98EF-A429-488B-A87E-543132D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3583E-9705-485C-BF52-0A1167E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45E5E-B9ED-4567-8ED5-C67BDF5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A906C-DA2F-4FF2-804E-D61AB05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13560-A988-400B-A195-ECCE8926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6B581-4EED-40E6-A2F0-8C1873A0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7EAD-16A0-47D3-8AAC-F4DAE902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A2CF-6571-4E68-908E-233548A3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11D-B7B5-4617-B668-1D751BEA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BDA8-C183-459F-9AF9-D8CEF14D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3D4D-A21A-484A-8A1E-D19DC14A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02D0-9B69-4DFC-A2DC-1743C828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9111-7E03-46E2-A50A-F1820CC3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285A-69B3-4239-9D52-89AD4D17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BB4-4F83-4EF1-80BB-03D24F36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1A6A-93F2-498D-963D-2FB4495C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38DE-C341-4E2B-BEC5-58DCACC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CC54-F5E1-48DD-B2B6-2576CEE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CA2E-56DD-4228-B21F-277EA816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47CD-E49A-4A0C-A513-296CF99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3D18-D6AE-42C5-AE59-A1E575BA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36CB-37E7-4BAF-80EF-D1E825A3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5E2B-880B-440D-9957-FDF6ECD6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D663-9008-44B3-9A90-0B233EE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5FD2-42E9-4248-89CC-9B4E5C24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19F-2DB4-40AD-A530-48175C8E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0C81-CDA8-48A9-A8A8-04431B4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1DE4-1249-44B0-9588-3BABC3D5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0B66-EAC8-4090-A695-6B414A0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02C8-A144-4B80-BEDD-7942DEE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5C5C-F7D9-45C5-8EF0-35AE4AE3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7F26-ACB4-4282-BB60-878363D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00607-DCED-445C-ADC7-FD08F583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DA06-0119-4F3B-8117-60C680FD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B26B-DC80-4E08-B581-CDE84B70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6834-4327-4B04-8311-B625E84E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176-AEAA-4DF5-9DBA-DE806C8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20F0-EDF1-4E9E-A14A-3A5FEA7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08BAF-030B-4CAD-8858-64F0426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5F2E-1556-4D60-8401-EADDA97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8984F-D6B5-4FA4-9DE2-2DE7E0D1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25F1-45EB-4D9A-938A-6B2E4D71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8CB8-4D49-452A-B9AE-C6F9CB2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97262-4C29-41D5-847F-5A5CF86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705E-2872-4FAC-A861-6A32D8F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6D48-8D31-4C74-A81B-5735B43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FEC9-12F1-4C26-91B7-353BEE3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310-C116-46C9-8D6D-50E7A4F5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4053-5F11-4768-A26D-11385BBD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E59D-49D3-4D67-AE9B-232C7722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782D-6AD6-4B84-B0C1-403B8379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D3309-0F01-48DE-9197-D3BD5AE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DA4E-38B8-4A1C-8DB1-2787B9A2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4884-2DBE-401A-BE0A-93E26B89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D850-1898-4187-9015-DAB19AE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73A0E-43F2-4EF0-94B8-DBBC7B6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36418-F8D4-44A1-A013-9B7D7110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171E-D4A2-473C-9265-136289E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AF4-7B20-4E19-9ABC-1C2F60AF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1589-EF27-4638-9BD8-42F07B5F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C50F-3074-43AF-831F-C7698968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51E2-1F40-471E-9FA2-829ED974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235D-7E35-4DA9-954A-FC698FFE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2EEE-B309-4460-BD6D-DEF7D9A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9E61B-7D08-4227-B29E-E86EEC3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8D36-9277-4FA2-AA1D-499C4713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A047-992F-4DF7-B33F-9F779DFE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43FB-5240-481F-9057-BB63992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BB3F-2B74-432A-8985-DC2AB067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B0F-A12F-4818-9FA0-C37E162F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F2E6-BE47-4F2B-8A6D-37F7CC0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2AB7-A172-4A4E-A73F-BC661DD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4E2A-8775-4E88-BE6B-A6EB740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2DCC-7810-46A6-9745-67AF49E5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5DF0-1A23-4547-84BB-596A2993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36D2-0D09-4168-91EE-B60FDD43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2497-B4CB-4B98-8762-6928D46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C6EDA-EB00-4238-A23B-DE47E85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ADC3-5464-41EF-A28F-EEAF205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CEC4-616D-4469-A43C-11FBBCE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C9E-359A-4684-B9DC-FE0B46E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128A2-9431-46EC-B079-AA3D7F7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FDD9-B79D-4821-BA85-1BFEADE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819B-222A-4D34-BA3F-F7D8DD0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EE8B-F15F-44F4-8E04-EECEF93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C793-3706-4C89-A216-4637E16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D13D-B9A0-4C34-AC7A-11DBB099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ED9F5-05AF-4CA6-875F-CDEF9A5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92C0A-0EA8-4DA8-B0A2-A4EDD459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FB284-27E1-4D8A-910C-A3EF392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7505-AD5A-4137-B32D-4F47DFD6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397-C3E7-4C95-BADF-3C09AD8D30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838-673D-403F-94FD-73F3A91267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8A9B-5748-4AF0-819D-91E3BEF85E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016C-E8D3-4D4D-BE50-C7952EAB7C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6DB-A309-4C41-9F51-AF9B2FAC10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2BD-356E-49A7-A7CF-3F0825D309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56B7-33AC-42B9-8823-4355EB060F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A1D0-174D-4201-A38F-4944D59193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55F-E398-4797-AADD-17AE96171C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238-1BD7-4E92-8668-01BEC45C23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747B-F7E4-4F30-ABE5-C88527F486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F2B-005D-4C49-A6D6-ED50DC5B8A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D10-9BF1-46DE-81A2-B9D5F43B65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564-A1F2-48EA-8057-A9957E4745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D21D-85D9-414A-86B7-57599750B9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4876-D917-49B2-B80B-5880A9BA74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90E-2372-48FE-85B1-EF9CDC5ECC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1E1-62F5-414E-A924-21CCD81A27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6" name="TextBox 1"/>
          <p:cNvSpPr/>
          <p:nvPr/>
        </p:nvSpPr>
        <p:spPr>
          <a:xfrm>
            <a:off x="1608120" y="5732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еревянный духовой инструмент, прообраз современной фле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2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527640" cy="1582920"/>
          </a:xfrm>
          <a:prstGeom prst="rect">
            <a:avLst/>
          </a:prstGeom>
          <a:ln w="0">
            <a:noFill/>
          </a:ln>
        </p:spPr>
      </p:pic>
      <p:pic>
        <p:nvPicPr>
          <p:cNvPr id="778" name="Dudka-Dudochka_(mp3.cc).mp3" descr=""/>
          <p:cNvPicPr/>
          <p:nvPr/>
        </p:nvPicPr>
        <p:blipFill>
          <a:blip r:embed="rId2"/>
          <a:stretch/>
        </p:blipFill>
        <p:spPr>
          <a:xfrm>
            <a:off x="977760" y="47642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Russlan And Ludmilla (Overture) _ Orchestra Of Mariinsky Theatre.mp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ольник 1"/>
          <p:cNvSpPr/>
          <p:nvPr/>
        </p:nvSpPr>
        <p:spPr>
          <a:xfrm>
            <a:off x="2568960" y="372960"/>
            <a:ext cx="43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ды орке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12"/>
          <p:cNvSpPr/>
          <p:nvPr/>
        </p:nvSpPr>
        <p:spPr>
          <a:xfrm>
            <a:off x="3429000" y="2133720"/>
            <a:ext cx="228600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кест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1"/>
          <p:cNvSpPr/>
          <p:nvPr/>
        </p:nvSpPr>
        <p:spPr>
          <a:xfrm>
            <a:off x="192240" y="1638360"/>
            <a:ext cx="25905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9"/>
          <p:cNvSpPr/>
          <p:nvPr/>
        </p:nvSpPr>
        <p:spPr>
          <a:xfrm>
            <a:off x="6477120" y="167652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571680" y="342900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6172200" y="33526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8"/>
          <p:cNvSpPr/>
          <p:nvPr/>
        </p:nvSpPr>
        <p:spPr>
          <a:xfrm>
            <a:off x="1828800" y="48769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кес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5257800" y="48769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а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Рисун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832720"/>
          </a:xfrm>
          <a:prstGeom prst="rect">
            <a:avLst/>
          </a:prstGeom>
          <a:ln w="0">
            <a:noFill/>
          </a:ln>
        </p:spPr>
      </p:pic>
      <p:sp>
        <p:nvSpPr>
          <p:cNvPr id="816" name="TextBox 2"/>
          <p:cNvSpPr/>
          <p:nvPr/>
        </p:nvSpPr>
        <p:spPr>
          <a:xfrm>
            <a:off x="468360" y="6381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СТАВ СИМФОНИЧЕСКОГО ОРК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2"/>
          <p:cNvSpPr/>
          <p:nvPr/>
        </p:nvSpPr>
        <p:spPr>
          <a:xfrm>
            <a:off x="755640" y="692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 поле береза стоя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поле кудрявая стоя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, люли, стоя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екому березу залома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му кудряву залома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, люли, залом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 пойду,пойду, погуля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ую березу залом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, люли, залом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режу я с березы три прут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ю из них я три гуд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, люли три гу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5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6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968720" cy="60930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2"/>
          <p:cNvSpPr/>
          <p:nvPr/>
        </p:nvSpPr>
        <p:spPr>
          <a:xfrm>
            <a:off x="2232000" y="3938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РТИ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Рисунок 2" descr=""/>
          <p:cNvPicPr/>
          <p:nvPr/>
        </p:nvPicPr>
        <p:blipFill>
          <a:blip r:embed="rId1"/>
          <a:stretch/>
        </p:blipFill>
        <p:spPr>
          <a:xfrm>
            <a:off x="4110120" y="0"/>
            <a:ext cx="5033880" cy="3645000"/>
          </a:xfrm>
          <a:prstGeom prst="rect">
            <a:avLst/>
          </a:prstGeom>
          <a:ln w="0">
            <a:noFill/>
          </a:ln>
        </p:spPr>
      </p:pic>
      <p:pic>
        <p:nvPicPr>
          <p:cNvPr id="822" name="Рисунок 3" descr=""/>
          <p:cNvPicPr/>
          <p:nvPr/>
        </p:nvPicPr>
        <p:blipFill>
          <a:blip r:embed="rId2"/>
          <a:stretch/>
        </p:blipFill>
        <p:spPr>
          <a:xfrm>
            <a:off x="0" y="3645000"/>
            <a:ext cx="4110120" cy="3233520"/>
          </a:xfrm>
          <a:prstGeom prst="rect">
            <a:avLst/>
          </a:prstGeom>
          <a:ln w="0">
            <a:noFill/>
          </a:ln>
        </p:spPr>
      </p:pic>
      <p:pic>
        <p:nvPicPr>
          <p:cNvPr id="823" name="Рисунок 5" descr=""/>
          <p:cNvPicPr/>
          <p:nvPr/>
        </p:nvPicPr>
        <p:blipFill>
          <a:blip r:embed="rId3"/>
          <a:stretch/>
        </p:blipFill>
        <p:spPr>
          <a:xfrm>
            <a:off x="0" y="-14400"/>
            <a:ext cx="4110120" cy="365940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6" descr=""/>
          <p:cNvPicPr/>
          <p:nvPr/>
        </p:nvPicPr>
        <p:blipFill>
          <a:blip r:embed="rId4"/>
          <a:stretch/>
        </p:blipFill>
        <p:spPr>
          <a:xfrm>
            <a:off x="4110120" y="3645000"/>
            <a:ext cx="50133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0" name="TextBox 1"/>
          <p:cNvSpPr/>
          <p:nvPr/>
        </p:nvSpPr>
        <p:spPr>
          <a:xfrm>
            <a:off x="1042920" y="5661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Этот струнный инструмент по праву называют «королевой оркес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Рисунок 2" descr=""/>
          <p:cNvPicPr/>
          <p:nvPr/>
        </p:nvPicPr>
        <p:blipFill>
          <a:blip r:embed="rId1"/>
          <a:stretch/>
        </p:blipFill>
        <p:spPr>
          <a:xfrm>
            <a:off x="7201080" y="400536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782" name="Instrumentalnaya_muzika-Ochen_krasivaya_melodiyaromantichnaya_Skripka.mp3" descr=""/>
          <p:cNvPicPr/>
          <p:nvPr/>
        </p:nvPicPr>
        <p:blipFill>
          <a:blip r:embed="rId2"/>
          <a:stretch/>
        </p:blipFill>
        <p:spPr>
          <a:xfrm>
            <a:off x="1459080" y="4529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97384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"/>
          <p:cNvGraphicFramePr/>
          <p:nvPr/>
        </p:nvGraphicFramePr>
        <p:xfrm>
          <a:off x="1763640" y="404640"/>
          <a:ext cx="5905440" cy="476568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4" name="TextBox 1"/>
          <p:cNvSpPr/>
          <p:nvPr/>
        </p:nvSpPr>
        <p:spPr>
          <a:xfrm>
            <a:off x="755640" y="537372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нопочки и дырочки, мелодичный зву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нт подул в него, стихли всё вок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корей мне дай отве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инструмент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Рисунок 2" descr=""/>
          <p:cNvPicPr/>
          <p:nvPr/>
        </p:nvPicPr>
        <p:blipFill>
          <a:blip r:embed="rId1"/>
          <a:stretch/>
        </p:blipFill>
        <p:spPr>
          <a:xfrm>
            <a:off x="5722920" y="4508640"/>
            <a:ext cx="3421080" cy="2341440"/>
          </a:xfrm>
          <a:prstGeom prst="rect">
            <a:avLst/>
          </a:prstGeom>
          <a:ln w="0">
            <a:noFill/>
          </a:ln>
        </p:spPr>
      </p:pic>
      <p:pic>
        <p:nvPicPr>
          <p:cNvPr id="786" name="Klarnet-Solo_(shax-dag.ru).mp3" descr=""/>
          <p:cNvPicPr/>
          <p:nvPr/>
        </p:nvPicPr>
        <p:blipFill>
          <a:blip r:embed="rId2"/>
          <a:stretch/>
        </p:blipFill>
        <p:spPr>
          <a:xfrm>
            <a:off x="755640" y="4334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8039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8" name="TextBox 1"/>
          <p:cNvSpPr/>
          <p:nvPr/>
        </p:nvSpPr>
        <p:spPr>
          <a:xfrm>
            <a:off x="900000" y="55166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дарный инструмент, имеющий конусообразную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2" descr=""/>
          <p:cNvPicPr/>
          <p:nvPr/>
        </p:nvPicPr>
        <p:blipFill>
          <a:blip r:embed="rId1"/>
          <a:stretch/>
        </p:blipFill>
        <p:spPr>
          <a:xfrm>
            <a:off x="0" y="3573360"/>
            <a:ext cx="2641680" cy="1943280"/>
          </a:xfrm>
          <a:prstGeom prst="rect">
            <a:avLst/>
          </a:prstGeom>
          <a:ln w="0">
            <a:noFill/>
          </a:ln>
        </p:spPr>
      </p:pic>
      <p:pic>
        <p:nvPicPr>
          <p:cNvPr id="790" name="Muslit - 1 - Гайдн Симфония 103 Es-dur с тремоло литавр - Вступление (Adagio) - 1 часть - экспозиция (Allegro con spirito).mp3" descr=""/>
          <p:cNvPicPr/>
          <p:nvPr/>
        </p:nvPicPr>
        <p:blipFill>
          <a:blip r:embed="rId2"/>
          <a:stretch/>
        </p:blipFill>
        <p:spPr>
          <a:xfrm>
            <a:off x="7236000" y="46832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2" name="TextBox 1"/>
          <p:cNvSpPr/>
          <p:nvPr/>
        </p:nvSpPr>
        <p:spPr>
          <a:xfrm>
            <a:off x="53964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Музыкальное направление, сочетающее в себе черты европейской и афроамериканской музыкаль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Рисунок 2" descr=""/>
          <p:cNvPicPr/>
          <p:nvPr/>
        </p:nvPicPr>
        <p:blipFill>
          <a:blip r:embed="rId1"/>
          <a:stretch/>
        </p:blipFill>
        <p:spPr>
          <a:xfrm>
            <a:off x="6426360" y="4071960"/>
            <a:ext cx="2701800" cy="1557360"/>
          </a:xfrm>
          <a:prstGeom prst="rect">
            <a:avLst/>
          </a:prstGeom>
          <a:ln w="0">
            <a:noFill/>
          </a:ln>
        </p:spPr>
      </p:pic>
      <p:pic>
        <p:nvPicPr>
          <p:cNvPr id="794" name="henry krieger big jazz instrumental.mp3" descr=""/>
          <p:cNvPicPr/>
          <p:nvPr/>
        </p:nvPicPr>
        <p:blipFill>
          <a:blip r:embed="rId2"/>
          <a:stretch/>
        </p:blipFill>
        <p:spPr>
          <a:xfrm>
            <a:off x="1154160" y="454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59634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TextBox 1"/>
          <p:cNvSpPr/>
          <p:nvPr/>
        </p:nvSpPr>
        <p:spPr>
          <a:xfrm>
            <a:off x="46836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Знайте, они с барабаном сосед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ны  из позолоченной м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тия их не пустяк, не бездел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узыке тоже бываю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Рисунок 2" descr=""/>
          <p:cNvPicPr/>
          <p:nvPr/>
        </p:nvPicPr>
        <p:blipFill>
          <a:blip r:embed="rId1"/>
          <a:stretch/>
        </p:blipFill>
        <p:spPr>
          <a:xfrm>
            <a:off x="6516720" y="4076640"/>
            <a:ext cx="2519280" cy="2809800"/>
          </a:xfrm>
          <a:prstGeom prst="rect">
            <a:avLst/>
          </a:prstGeom>
          <a:ln w="0">
            <a:noFill/>
          </a:ln>
        </p:spPr>
      </p:pic>
      <p:pic>
        <p:nvPicPr>
          <p:cNvPr id="798" name="Wav-Library-Net_Sound_4501.mp3" descr=""/>
          <p:cNvPicPr/>
          <p:nvPr/>
        </p:nvPicPr>
        <p:blipFill>
          <a:blip r:embed="rId2"/>
          <a:stretch/>
        </p:blipFill>
        <p:spPr>
          <a:xfrm>
            <a:off x="1459080" y="4567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424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0" name="TextBox 1"/>
          <p:cNvSpPr/>
          <p:nvPr/>
        </p:nvSpPr>
        <p:spPr>
          <a:xfrm>
            <a:off x="755640" y="551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амый высокий по звучанию медный духовой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Рисунок 2" descr=""/>
          <p:cNvPicPr/>
          <p:nvPr/>
        </p:nvPicPr>
        <p:blipFill>
          <a:blip r:embed="rId1"/>
          <a:stretch/>
        </p:blipFill>
        <p:spPr>
          <a:xfrm>
            <a:off x="5219640" y="3994200"/>
            <a:ext cx="3919680" cy="1536480"/>
          </a:xfrm>
          <a:prstGeom prst="rect">
            <a:avLst/>
          </a:prstGeom>
          <a:ln w="0">
            <a:noFill/>
          </a:ln>
        </p:spPr>
      </p:pic>
      <p:pic>
        <p:nvPicPr>
          <p:cNvPr id="802" name="труба.mp3" descr=""/>
          <p:cNvPicPr/>
          <p:nvPr/>
        </p:nvPicPr>
        <p:blipFill>
          <a:blip r:embed="rId2"/>
          <a:stretch/>
        </p:blipFill>
        <p:spPr>
          <a:xfrm>
            <a:off x="1185840" y="46832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28390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1763640" y="404640"/>
          <a:ext cx="5905440" cy="4664160"/>
        </p:xfrm>
        <a:graphic>
          <a:graphicData uri="http://schemas.openxmlformats.org/drawingml/2006/table">
            <a:tbl>
              <a:tblPr/>
              <a:tblGrid>
                <a:gridCol w="844560"/>
                <a:gridCol w="841320"/>
                <a:gridCol w="844560"/>
                <a:gridCol w="844560"/>
                <a:gridCol w="844560"/>
                <a:gridCol w="841320"/>
                <a:gridCol w="844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ea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Box 1"/>
          <p:cNvSpPr/>
          <p:nvPr/>
        </p:nvSpPr>
        <p:spPr>
          <a:xfrm>
            <a:off x="611280" y="549360"/>
            <a:ext cx="424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ЛШЕБНАЯ ПАЛОЧКА ДИРИЖ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C:\Users\User\Desktop\музыка\открытый урок музыки\разное к уроку\conductor_1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05:32:02Z</dcterms:created>
  <dc:creator>Таечка</dc:creator>
  <dc:description/>
  <dc:language>en-US</dc:language>
  <cp:lastModifiedBy>1</cp:lastModifiedBy>
  <dcterms:modified xsi:type="dcterms:W3CDTF">2016-12-06T12:08:36Z</dcterms:modified>
  <cp:revision>26</cp:revision>
  <dc:subject/>
  <dc:title>Слайд 1</dc:title>
</cp:coreProperties>
</file>