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wmf" ContentType="image/x-wmf"/>
  <Override PartName="/ppt/media/image15.gif" ContentType="image/gif"/>
  <Override PartName="/ppt/media/image3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1.gif" ContentType="image/gif"/>
  <Override PartName="/ppt/media/image6.wmf" ContentType="image/x-wmf"/>
  <Override PartName="/ppt/media/image5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998-4A53-42AF-A9F9-F399DF1F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40F-3757-4D04-8DBD-46F9E7E5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AF6-3020-41B6-A9FE-7BAFCDB0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016-9414-42BD-8297-58061806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F6CD-724F-42DA-A7EA-3F3EEA35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F58F-F1EA-47CC-A300-653B375E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C312-5481-4841-870F-C7B20B88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0A94-D067-45A4-8381-E2E1E3D4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588C-7CC1-4A4A-8950-4C19F025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7E43-4EB1-4117-B491-AB3918DC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852F-B2EF-4382-BB1D-FCCDA28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645-08DE-4D80-A32A-42899C22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3D0F-9330-498B-92E8-E4C2C5A3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AD03-E68C-4736-AC3E-B79808EB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7B94-E56C-4C41-A6C6-8E5591F7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3F1C-FFC6-4FBC-8A4C-DDA02F8A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3023-6B16-4B8D-B257-22D3EEE3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208-894D-4038-A411-54C5370B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B73-7AF0-48CC-A957-03752375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215-0637-4DC5-8DC6-7FF8EE9D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7C4-D139-41A2-893E-F51E8BEA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E2E-CDD1-45B3-AD57-7FCA4BC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BAE-908D-448A-8464-9978D3D4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ED9-C7A3-4DCF-B7C4-5ECAC399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1F5A-8C09-4D4D-B603-202303708F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7779-7EBA-4BC5-BA7F-4E9E613C3B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зентац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68000" y="3886200"/>
            <a:ext cx="6264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ирхайдарова Людмила Александро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У Светловская СО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1728720" cy="718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96360" y="90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полни таблиц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82600" y="2017800"/>
          <a:ext cx="3810240" cy="4114440"/>
        </p:xfrm>
        <a:graphic>
          <a:graphicData uri="http://schemas.openxmlformats.org/drawingml/2006/table">
            <a:tbl>
              <a:tblPr/>
              <a:tblGrid>
                <a:gridCol w="1270080"/>
                <a:gridCol w="1269720"/>
                <a:gridCol w="127044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c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кв.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кв.д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61000" y="1989000"/>
            <a:ext cx="2592360" cy="403236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split dir="in" orient="horz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6кв.с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д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27640" y="2017800"/>
            <a:ext cx="3830400" cy="3138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split dir="in" orient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8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413039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e4a8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С каким понятием познакомились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0bd9"/>
                </a:solidFill>
                <a:latin typeface="Comic Sans MS"/>
              </a:rPr>
              <a:t>Что такое площадь фигур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Как  найти площадь четырехугольника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19280" y="476280"/>
            <a:ext cx="590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тог уро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25000">
    <p:split dir="in" orient="horz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060640"/>
            <a:ext cx="7128000" cy="23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ем спасибо за работу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5157720"/>
            <a:ext cx="7559640" cy="1171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75596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split dir="in" orient="horz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5072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Математика Н. Б  Истомина 3 класс 2003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7300"/>
                </a:solidFill>
                <a:latin typeface="Comic Sans MS"/>
              </a:rPr>
              <a:t>Математика « Контрольные работы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7300"/>
                </a:solidFill>
                <a:latin typeface="Comic Sans MS"/>
              </a:rPr>
              <a:t>Н.Б.Истомина 2004 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omic Sans MS"/>
              </a:rPr>
              <a:t>Тесты по математик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« Рабочая тетрадь №2»  3 клас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372360" y="333360"/>
            <a:ext cx="1944720" cy="160668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split dir="in" orient="horz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7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лощадь фигу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ли: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знакомство с понятием «площадь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1a0bd9"/>
                </a:solidFill>
                <a:latin typeface="Comic Sans MS"/>
              </a:rPr>
              <a:t>и формулой нахождения площад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0bd9"/>
                </a:solidFill>
                <a:latin typeface="Comic Sans MS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1a0bd9"/>
                </a:solidFill>
                <a:latin typeface="Comic Sans MS"/>
              </a:rPr>
              <a:t>фигу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0bd9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- развитие логического мышления ,</a:t>
            </a:r>
            <a:r>
              <a:rPr b="0" lang="en-US" sz="2800" spc="-1" strike="noStrike">
                <a:solidFill>
                  <a:srgbClr val="1a0bd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0bd9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800080"/>
                </a:solidFill>
                <a:latin typeface="Comic Sans MS"/>
              </a:rPr>
              <a:t>-умения работать в пар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0bd9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воспитывать аккуратность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   точность при оформлении  реш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да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25000">
    <p:split dir="in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7650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0bd9"/>
                </a:solidFill>
                <a:latin typeface="Comic Sans MS"/>
              </a:rPr>
              <a:t>Понятие площад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f01"/>
                </a:solidFill>
                <a:latin typeface="Comic Sans MS"/>
              </a:rPr>
              <a:t>Единицы измерения площад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Формулы нахождения площад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Решение задач. №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Задача №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итератур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25000">
    <p:split dir="in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Понятие площад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128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Площадь фигуры </a:t>
            </a:r>
            <a:r>
              <a:rPr b="0" lang="en-US" sz="2800" spc="-1" strike="noStrike">
                <a:solidFill>
                  <a:srgbClr val="800080"/>
                </a:solidFill>
                <a:latin typeface="Comic Sans MS"/>
              </a:rPr>
              <a:t>показывает, какую часть поверхности занимает данная фигур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31291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split dir="in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Единицы измерения площад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2920" y="206064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1 кв см=100кв м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1кв дм=100кв с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1кв м=100кв д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1а=100кв 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1га=100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1га 10000кв 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2664000" cy="314640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split dir="in" orient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cf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ормулы нахождения площад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=a*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ир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в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4581360"/>
            <a:ext cx="9144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4292640"/>
            <a:ext cx="1657440" cy="14191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2492280"/>
            <a:ext cx="314640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5661000"/>
            <a:ext cx="1656000" cy="9144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08720" y="6021360"/>
            <a:ext cx="1008360" cy="485640"/>
          </a:xfrm>
          <a:prstGeom prst="rightArrow">
            <a:avLst>
              <a:gd name="adj1" fmla="val 50000"/>
              <a:gd name="adj2" fmla="val 5190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39528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split dir="in" orient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072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Задача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№1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колько квадратов составляет площадь фигур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4005360"/>
          <a:ext cx="2448000" cy="2174400"/>
        </p:xfrm>
        <a:graphic>
          <a:graphicData uri="http://schemas.openxmlformats.org/drawingml/2006/table">
            <a:tbl>
              <a:tblPr/>
              <a:tblGrid>
                <a:gridCol w="793080"/>
                <a:gridCol w="860040"/>
                <a:gridCol w="794880"/>
              </a:tblGrid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716360" y="4149720"/>
          <a:ext cx="3806640" cy="1800360"/>
        </p:xfrm>
        <a:graphic>
          <a:graphicData uri="http://schemas.openxmlformats.org/drawingml/2006/table">
            <a:tbl>
              <a:tblPr/>
              <a:tblGrid>
                <a:gridCol w="949320"/>
                <a:gridCol w="952200"/>
                <a:gridCol w="952560"/>
                <a:gridCol w="95256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</p:spTree>
  </p:cSld>
  <p:transition spd="med" advTm="25000">
    <p:split dir="in" orient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Задача№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Найди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</a:t>
            </a: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 прямоугольн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=7</a:t>
            </a: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b=5c</a:t>
            </a:r>
            <a:r>
              <a:rPr b="0" lang="ru-RU" sz="2800" spc="-1" strike="noStrike">
                <a:solidFill>
                  <a:srgbClr val="66ff33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4005360"/>
            <a:ext cx="2714400" cy="1728720"/>
          </a:xfrm>
          <a:prstGeom prst="wedgeRectCallout">
            <a:avLst>
              <a:gd name="adj1" fmla="val 50000"/>
              <a:gd name="adj2" fmla="val -2226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6093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600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6021360"/>
            <a:ext cx="8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6000" y="4724280"/>
            <a:ext cx="10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224080" cy="324972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split dir="in" orient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№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1  9кв , 8к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№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2  35кв.с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3527640" cy="293364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split dir="in" orient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08:20:25Z</dcterms:created>
  <dc:creator>a</dc:creator>
  <dc:description/>
  <dc:language>en-US</dc:language>
  <cp:lastModifiedBy>User</cp:lastModifiedBy>
  <dcterms:modified xsi:type="dcterms:W3CDTF">2007-11-28T17:33:09Z</dcterms:modified>
  <cp:revision>51</cp:revision>
  <dc:subject/>
  <dc:title>Слайд 1</dc:title>
</cp:coreProperties>
</file>