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3619B8C-277D-4AC1-9CB1-9D9A6E8A0032}" type="doc">
      <dgm:prSet loTypeId="urn:microsoft.com/office/officeart/2005/8/layout/pyramid2" loCatId="pyramid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8E889D99-1AD9-46A5-B67D-2422C123B078}">
      <dgm:prSet/>
      <dgm:spPr/>
      <dgm:t>
        <a:bodyPr/>
        <a:lstStyle/>
        <a:p>
          <a:pPr rtl="0"/>
          <a:r>
            <a:rPr lang="ru-RU" b="1" dirty="0" smtClean="0"/>
            <a:t>Основные пути развития профессиональной компетентности педагога</a:t>
          </a:r>
          <a:r>
            <a:rPr lang="ru-RU" dirty="0" smtClean="0"/>
            <a:t>:</a:t>
          </a:r>
          <a:br>
            <a:rPr lang="ru-RU" dirty="0" smtClean="0"/>
          </a:br>
          <a:r>
            <a:rPr lang="ru-RU" dirty="0" smtClean="0"/>
            <a:t> - Работа в методических объединениях, творческих группах;</a:t>
          </a:r>
          <a:br>
            <a:rPr lang="ru-RU" dirty="0" smtClean="0"/>
          </a:br>
          <a:r>
            <a:rPr lang="ru-RU" dirty="0" smtClean="0"/>
            <a:t> - Исследовательская деятельность;</a:t>
          </a:r>
          <a:br>
            <a:rPr lang="ru-RU" dirty="0" smtClean="0"/>
          </a:br>
          <a:r>
            <a:rPr lang="ru-RU" dirty="0" smtClean="0"/>
            <a:t> - Инновационная деятельность, освоение новых образовательных технологий;</a:t>
          </a:r>
          <a:br>
            <a:rPr lang="ru-RU" dirty="0" smtClean="0"/>
          </a:br>
          <a:r>
            <a:rPr lang="ru-RU" dirty="0" smtClean="0"/>
            <a:t> - Разработка современной методической продукции; </a:t>
          </a:r>
          <a:br>
            <a:rPr lang="ru-RU" dirty="0" smtClean="0"/>
          </a:br>
          <a:r>
            <a:rPr lang="ru-RU" dirty="0" smtClean="0"/>
            <a:t> - Активное участие в педагогических конкурсах и фестивалях;</a:t>
          </a:r>
          <a:br>
            <a:rPr lang="ru-RU" dirty="0" smtClean="0"/>
          </a:br>
          <a:r>
            <a:rPr lang="ru-RU" dirty="0" smtClean="0"/>
            <a:t> - Обобщение  собственного педагогического опыта;</a:t>
          </a:r>
          <a:br>
            <a:rPr lang="ru-RU" dirty="0" smtClean="0"/>
          </a:br>
          <a:r>
            <a:rPr lang="ru-RU" dirty="0" smtClean="0"/>
            <a:t> - Использование ИКТ и др.</a:t>
          </a:r>
          <a:br>
            <a:rPr lang="ru-RU" dirty="0" smtClean="0"/>
          </a:br>
          <a:r>
            <a:rPr lang="ru-RU" dirty="0" smtClean="0"/>
            <a:t>         </a:t>
          </a:r>
          <a:r>
            <a:rPr lang="ru-RU" b="1" dirty="0" smtClean="0"/>
            <a:t>Готовность к непрерывному образованию в течение всей жизни.</a:t>
          </a:r>
          <a:r>
            <a:rPr lang="ru-RU" dirty="0" smtClean="0"/>
            <a:t/>
          </a:r>
          <a:br>
            <a:rPr lang="ru-RU" dirty="0" smtClean="0"/>
          </a:br>
          <a:r>
            <a:rPr lang="ru-RU" dirty="0" smtClean="0"/>
            <a:t>  </a:t>
          </a:r>
          <a:endParaRPr lang="ru-RU" dirty="0"/>
        </a:p>
      </dgm:t>
    </dgm:pt>
    <dgm:pt modelId="{4B31838D-F99A-4A71-BBBA-43384F353742}" type="parTrans" cxnId="{E85CD01E-9C17-44EF-BA9B-361F947D006C}">
      <dgm:prSet/>
      <dgm:spPr/>
      <dgm:t>
        <a:bodyPr/>
        <a:lstStyle/>
        <a:p>
          <a:endParaRPr lang="ru-RU"/>
        </a:p>
      </dgm:t>
    </dgm:pt>
    <dgm:pt modelId="{34DCDE69-6E8A-4209-A5E3-2130EA864EF8}" type="sibTrans" cxnId="{E85CD01E-9C17-44EF-BA9B-361F947D006C}">
      <dgm:prSet/>
      <dgm:spPr/>
      <dgm:t>
        <a:bodyPr/>
        <a:lstStyle/>
        <a:p>
          <a:endParaRPr lang="ru-RU"/>
        </a:p>
      </dgm:t>
    </dgm:pt>
    <dgm:pt modelId="{5CFCFF7F-8E17-400B-A243-2FC4FC968C99}" type="pres">
      <dgm:prSet presAssocID="{83619B8C-277D-4AC1-9CB1-9D9A6E8A0032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8EC7E918-5606-4612-899D-A79AEF686867}" type="pres">
      <dgm:prSet presAssocID="{83619B8C-277D-4AC1-9CB1-9D9A6E8A0032}" presName="pyramid" presStyleLbl="node1" presStyleIdx="0" presStyleCnt="1"/>
      <dgm:spPr/>
    </dgm:pt>
    <dgm:pt modelId="{68DDB100-9657-4733-AFFA-6B61544D66C0}" type="pres">
      <dgm:prSet presAssocID="{83619B8C-277D-4AC1-9CB1-9D9A6E8A0032}" presName="theList" presStyleCnt="0"/>
      <dgm:spPr/>
    </dgm:pt>
    <dgm:pt modelId="{74BB4431-ECE1-4C03-A97A-2C766EDEB097}" type="pres">
      <dgm:prSet presAssocID="{8E889D99-1AD9-46A5-B67D-2422C123B078}" presName="aNode" presStyleLbl="fgAcc1" presStyleIdx="0" presStyleCnt="1" custScaleX="204097" custScaleY="1406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C12265E-0605-47F2-A484-F373E90E9B25}" type="pres">
      <dgm:prSet presAssocID="{8E889D99-1AD9-46A5-B67D-2422C123B078}" presName="aSpace" presStyleCnt="0"/>
      <dgm:spPr/>
    </dgm:pt>
  </dgm:ptLst>
  <dgm:cxnLst>
    <dgm:cxn modelId="{C9EE73D7-5B9A-4582-BBCE-BAA206185E4D}" type="presOf" srcId="{8E889D99-1AD9-46A5-B67D-2422C123B078}" destId="{74BB4431-ECE1-4C03-A97A-2C766EDEB097}" srcOrd="0" destOrd="0" presId="urn:microsoft.com/office/officeart/2005/8/layout/pyramid2"/>
    <dgm:cxn modelId="{6DB8C136-095C-4F5B-B1BE-2F8584543F60}" type="presOf" srcId="{83619B8C-277D-4AC1-9CB1-9D9A6E8A0032}" destId="{5CFCFF7F-8E17-400B-A243-2FC4FC968C99}" srcOrd="0" destOrd="0" presId="urn:microsoft.com/office/officeart/2005/8/layout/pyramid2"/>
    <dgm:cxn modelId="{E85CD01E-9C17-44EF-BA9B-361F947D006C}" srcId="{83619B8C-277D-4AC1-9CB1-9D9A6E8A0032}" destId="{8E889D99-1AD9-46A5-B67D-2422C123B078}" srcOrd="0" destOrd="0" parTransId="{4B31838D-F99A-4A71-BBBA-43384F353742}" sibTransId="{34DCDE69-6E8A-4209-A5E3-2130EA864EF8}"/>
    <dgm:cxn modelId="{D8CF7F77-BD93-4E94-9831-7D261E0C1D3C}" type="presParOf" srcId="{5CFCFF7F-8E17-400B-A243-2FC4FC968C99}" destId="{8EC7E918-5606-4612-899D-A79AEF686867}" srcOrd="0" destOrd="0" presId="urn:microsoft.com/office/officeart/2005/8/layout/pyramid2"/>
    <dgm:cxn modelId="{964592C7-4E1D-44EB-B884-F054A3B50773}" type="presParOf" srcId="{5CFCFF7F-8E17-400B-A243-2FC4FC968C99}" destId="{68DDB100-9657-4733-AFFA-6B61544D66C0}" srcOrd="1" destOrd="0" presId="urn:microsoft.com/office/officeart/2005/8/layout/pyramid2"/>
    <dgm:cxn modelId="{96C461BA-89F6-4B82-94CF-CE33E192E024}" type="presParOf" srcId="{68DDB100-9657-4733-AFFA-6B61544D66C0}" destId="{74BB4431-ECE1-4C03-A97A-2C766EDEB097}" srcOrd="0" destOrd="0" presId="urn:microsoft.com/office/officeart/2005/8/layout/pyramid2"/>
    <dgm:cxn modelId="{FE28F62D-021D-4290-AEF5-BB7EB1619A1F}" type="presParOf" srcId="{68DDB100-9657-4733-AFFA-6B61544D66C0}" destId="{2C12265E-0605-47F2-A484-F373E90E9B25}" srcOrd="1" destOrd="0" presId="urn:microsoft.com/office/officeart/2005/8/layout/pyramid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8EC7E918-5606-4612-899D-A79AEF686867}">
      <dsp:nvSpPr>
        <dsp:cNvPr id="0" name=""/>
        <dsp:cNvSpPr/>
      </dsp:nvSpPr>
      <dsp:spPr>
        <a:xfrm>
          <a:off x="77098" y="0"/>
          <a:ext cx="5425868" cy="5425868"/>
        </a:xfrm>
        <a:prstGeom prst="triangl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74BB4431-ECE1-4C03-A97A-2C766EDEB097}">
      <dsp:nvSpPr>
        <dsp:cNvPr id="0" name=""/>
        <dsp:cNvSpPr/>
      </dsp:nvSpPr>
      <dsp:spPr>
        <a:xfrm>
          <a:off x="954379" y="544489"/>
          <a:ext cx="7198121" cy="3982935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68580" tIns="68580" rIns="68580" bIns="68580" numCol="1" spcCol="1270" anchor="ctr" anchorCtr="0">
          <a:noAutofit/>
        </a:bodyPr>
        <a:lstStyle/>
        <a:p>
          <a:pPr lvl="0" algn="ctr" defTabSz="8001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b="1" kern="1200" dirty="0" smtClean="0"/>
            <a:t>Основные пути развития профессиональной компетентности педагога</a:t>
          </a:r>
          <a:r>
            <a:rPr lang="ru-RU" sz="1800" kern="1200" dirty="0" smtClean="0"/>
            <a:t>:</a:t>
          </a:r>
          <a:br>
            <a:rPr lang="ru-RU" sz="1800" kern="1200" dirty="0" smtClean="0"/>
          </a:br>
          <a:r>
            <a:rPr lang="ru-RU" sz="1800" kern="1200" dirty="0" smtClean="0"/>
            <a:t> - Работа в методических объединениях, творческих группах;</a:t>
          </a:r>
          <a:br>
            <a:rPr lang="ru-RU" sz="1800" kern="1200" dirty="0" smtClean="0"/>
          </a:br>
          <a:r>
            <a:rPr lang="ru-RU" sz="1800" kern="1200" dirty="0" smtClean="0"/>
            <a:t> - Исследовательская деятельность;</a:t>
          </a:r>
          <a:br>
            <a:rPr lang="ru-RU" sz="1800" kern="1200" dirty="0" smtClean="0"/>
          </a:br>
          <a:r>
            <a:rPr lang="ru-RU" sz="1800" kern="1200" dirty="0" smtClean="0"/>
            <a:t> - Инновационная деятельность, освоение новых образовательных технологий;</a:t>
          </a:r>
          <a:br>
            <a:rPr lang="ru-RU" sz="1800" kern="1200" dirty="0" smtClean="0"/>
          </a:br>
          <a:r>
            <a:rPr lang="ru-RU" sz="1800" kern="1200" dirty="0" smtClean="0"/>
            <a:t> - Разработка современной методической продукции; </a:t>
          </a:r>
          <a:br>
            <a:rPr lang="ru-RU" sz="1800" kern="1200" dirty="0" smtClean="0"/>
          </a:br>
          <a:r>
            <a:rPr lang="ru-RU" sz="1800" kern="1200" dirty="0" smtClean="0"/>
            <a:t> - Активное участие в педагогических конкурсах и фестивалях;</a:t>
          </a:r>
          <a:br>
            <a:rPr lang="ru-RU" sz="1800" kern="1200" dirty="0" smtClean="0"/>
          </a:br>
          <a:r>
            <a:rPr lang="ru-RU" sz="1800" kern="1200" dirty="0" smtClean="0"/>
            <a:t> - Обобщение  собственного педагогического опыта;</a:t>
          </a:r>
          <a:br>
            <a:rPr lang="ru-RU" sz="1800" kern="1200" dirty="0" smtClean="0"/>
          </a:br>
          <a:r>
            <a:rPr lang="ru-RU" sz="1800" kern="1200" dirty="0" smtClean="0"/>
            <a:t> - Использование ИКТ и др.</a:t>
          </a:r>
          <a:br>
            <a:rPr lang="ru-RU" sz="1800" kern="1200" dirty="0" smtClean="0"/>
          </a:br>
          <a:r>
            <a:rPr lang="ru-RU" sz="1800" kern="1200" dirty="0" smtClean="0"/>
            <a:t>         </a:t>
          </a:r>
          <a:r>
            <a:rPr lang="ru-RU" sz="1800" b="1" kern="1200" dirty="0" smtClean="0"/>
            <a:t>Готовность к непрерывному образованию в течение всей жизни.</a:t>
          </a:r>
          <a:r>
            <a:rPr lang="ru-RU" sz="1800" kern="1200" dirty="0" smtClean="0"/>
            <a:t/>
          </a:r>
          <a:br>
            <a:rPr lang="ru-RU" sz="1800" kern="1200" dirty="0" smtClean="0"/>
          </a:br>
          <a:r>
            <a:rPr lang="ru-RU" sz="1800" kern="1200" dirty="0" smtClean="0"/>
            <a:t>  </a:t>
          </a:r>
          <a:endParaRPr lang="ru-RU" sz="1800" kern="1200" dirty="0"/>
        </a:p>
      </dsp:txBody>
      <dsp:txXfrm>
        <a:off x="954379" y="544489"/>
        <a:ext cx="7198121" cy="3982935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73D95F-A9C6-4786-824A-6DD0B0447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160" cy="37285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6080" y="4722840"/>
            <a:ext cx="54086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10"/>
          </p:nvPr>
        </p:nvSpPr>
        <p:spPr>
          <a:xfrm>
            <a:off x="3829680" y="9443520"/>
            <a:ext cx="29293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ED4625-14E2-4513-B227-019A7A2E043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160" cy="37285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6080" y="4722840"/>
            <a:ext cx="54086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1"/>
          </p:nvPr>
        </p:nvSpPr>
        <p:spPr>
          <a:xfrm>
            <a:off x="3829680" y="9443520"/>
            <a:ext cx="29293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3EE436-F31A-43EF-9F33-C5541B228A9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160" cy="3728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6080" y="4722840"/>
            <a:ext cx="54086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12"/>
          </p:nvPr>
        </p:nvSpPr>
        <p:spPr>
          <a:xfrm>
            <a:off x="3829680" y="9443520"/>
            <a:ext cx="29293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C48AAA-71FA-4EDC-89D3-9FCEB857585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8023-92E7-4222-94F9-5AE8ADF4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2DC7-7DBB-4D93-8E54-023F08A4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8A44-0ED7-4D23-B175-ED9FFF15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A74-17D4-404D-998F-6ADCBC5B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5993-AE96-40C7-8B2A-310BCB90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7D88-F92C-4792-99B8-30823457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2B0C-8409-4B08-8CD3-C7FD5E6B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C55B-40D6-4FC3-BFF6-E15B0A38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662D-F40B-4142-81D9-23406008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240" cy="49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ACB6-4026-4929-8C94-A17059A9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82BA-351D-43BF-BC22-6423CD17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12D2-CAD3-4AE8-9344-0B652703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70E1-9517-4C03-85E3-3B51D9A2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D50B-B9CF-4A2E-BBAB-15F2322B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C65E-DB3A-4B17-8557-DBFA8591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CC14-4153-4CFA-8E24-0B82C40B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C04E-7D3F-4F3E-8839-5EC3A602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CBF6-3A1D-419D-945C-0FF2A9C4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94EF-B608-4AD2-920A-E6B306CB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BAA2-5572-452E-97B2-7DCCE4A1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240" cy="49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9D43-FCB7-4B95-9A51-63737C45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2700-6374-4D25-8E90-9A5EEC50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FBE9-39CC-4A42-AF90-5ECDF7AA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036B-3266-4F38-867D-967BF468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algn="tl" blurRad="129960" dir="2700000" dist="101314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algn="tl" blurRad="129960" dir="2700000" dist="101314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algn="tl" blurRad="129960" dir="2700000" dist="101314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algn="tl" blurRad="129960" dir="2700000" dist="101314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algn="tl" blurRad="129960" dir="2700000" dist="101314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algn="tl" blurRad="129960" dir="2700000" dist="101314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algn="tl" blurRad="129960" dir="2700000" dist="101314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algn="tl" blurRad="129960" dir="2700000" dist="101314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algn="tl" blurRad="129960" dir="2700000" dist="101314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algn="tl" blurRad="129960" dir="2700000" dist="101314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algn="tl" blurRad="129960" dir="2700000" dist="101314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algn="tl" blurRad="129960" dir="2700000" dist="101314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algn="tl" blurRad="129960" dir="2700000" dist="101314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dt" idx="1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3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4E5C68-3960-4829-96E7-FD5E948F9FF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algn="tl" blurRad="129960" dir="2700000" dist="101314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algn="tl" blurRad="129960" dir="2700000" dist="101314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algn="tl" blurRad="129960" dir="2700000" dist="101314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algn="tl" blurRad="129960" dir="2700000" dist="101314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algn="tl" blurRad="129960" dir="2700000" dist="101314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9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algn="tl" blurRad="129960" dir="2700000" dist="101314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0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algn="tl" blurRad="129960" dir="2700000" dist="101314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algn="tl" blurRad="129960" dir="2700000" dist="101314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algn="tl" blurRad="129960" dir="2700000" dist="101314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algn="tl" blurRad="129960" dir="2700000" dist="101314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algn="tl" blurRad="129960" dir="2700000" dist="101314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algn="tl" blurRad="129960" dir="2700000" dist="101314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algn="tl" blurRad="129960" dir="2700000" dist="101314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99B8E5-4A98-44AD-96BE-5C811497ACD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5214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езентация на тему:</a:t>
            </a:r>
            <a:br>
              <a:rPr sz="44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спешный педагог»</a:t>
            </a:r>
            <a:br>
              <a:rPr sz="44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акеева С.М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БДОУ «Детский сад №28»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1640" y="1124640"/>
            <a:ext cx="8568720" cy="5214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профессии педагог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есть свое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нельзя».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дагог не должен быт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ерым!   </a:t>
            </a:r>
            <a:br>
              <a:rPr sz="3200"/>
            </a:br>
            <a:br>
              <a:rPr sz="3200"/>
            </a:b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Рисунок 2"/>
          <p:cNvSpPr/>
          <p:nvPr/>
        </p:nvSpPr>
        <p:spPr>
          <a:xfrm>
            <a:off x="5076000" y="1412640"/>
            <a:ext cx="3608640" cy="446400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1143000"/>
            <a:ext cx="8115120" cy="5000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Мастерство учителя –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специальность, которой надо учиться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.С. Макаренко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038293098"/>
              </p:ext>
            </p:extLst>
          </p:nvPr>
        </p:nvGraphicFramePr>
        <p:xfrm>
          <a:off x="251640" y="908640"/>
          <a:ext cx="8229240" cy="54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8286480" cy="5714640"/>
          </a:xfrm>
          <a:prstGeom prst="rect">
            <a:avLst/>
          </a:prstGeom>
          <a:solidFill>
            <a:srgbClr val="d9d9d9"/>
          </a:solidFill>
          <a:ln w="28440">
            <a:noFill/>
          </a:ln>
          <a:effectLst>
            <a:outerShdw dist="12600" dir="5400000" blurRad="108000" rotWithShape="0">
              <a:srgbClr val="000000"/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мидж педагога + портрет педагога-профессионала = успешность педагога, но  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только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при условии постоянной работы над собой.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429400" cy="5714640"/>
          </a:xfrm>
          <a:prstGeom prst="rect">
            <a:avLst/>
          </a:prstGeom>
          <a:solidFill>
            <a:srgbClr val="d9d9d9"/>
          </a:solidFill>
          <a:ln w="28440">
            <a:noFill/>
          </a:ln>
          <a:effectLst>
            <a:outerShdw dist="12600" dir="5400000" blurRad="108000" rotWithShape="0">
              <a:srgbClr val="000000"/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ред современным педагогом поставлена сложная задача - воспитать активную, творческую, мыслящую личность,стремящуюся познать мир, себя и себя в мире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Данная задача решается, если рядом с ребенком –успешный педагог, подлинно творческая личность. 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лько видя в себе личность, педагог может в каждом ребенке увидеть неповторимую личность .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146800" cy="4946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1" name="Рисунок 2" descr="ВОСПИТАТЕЛЬ.jpg"/>
          <p:cNvPicPr/>
          <p:nvPr/>
        </p:nvPicPr>
        <p:blipFill>
          <a:blip r:embed="rId1"/>
          <a:stretch/>
        </p:blipFill>
        <p:spPr>
          <a:xfrm>
            <a:off x="3131640" y="1484640"/>
            <a:ext cx="3037680" cy="2304000"/>
          </a:xfrm>
          <a:prstGeom prst="rect">
            <a:avLst/>
          </a:prstGeom>
          <a:ln w="0">
            <a:noFill/>
          </a:ln>
          <a:effectLst>
            <a:glow rad="101520">
              <a:srgbClr val="be2dc3">
                <a:alpha val="40000"/>
              </a:srgbClr>
            </a:glow>
            <a:outerShdw algn="ctr" blurRad="225360" dir="5228255" dist="50462">
              <a:srgbClr val="000000">
                <a:alpha val="33000"/>
              </a:srgbClr>
            </a:outerShdw>
          </a:effectLst>
          <a:scene3d>
            <a:camera fov="3300000" prst="perspectiveFront">
              <a:rot lat="486000" lon="19530000" rev="174000"/>
            </a:camera>
            <a:lightRig dir="t" rig="harsh">
              <a:rot lat="0" lon="0" rev="3000000"/>
            </a:lightRig>
          </a:scene3d>
          <a:sp3d extrusionH="254000" contourW="19050">
            <a:bevelT prst="angle" w="82550" h="44450"/>
            <a:bevelB prst="angle" w="82550" h="44450"/>
            <a:contourClr>
              <a:srgbClr val="ffffff"/>
            </a:contourClr>
          </a:sp3d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229240" cy="5071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Успешный педагог это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дача, исход дела (обязательно результат)  +   общественное признание (популярность)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Нужно уметь делиться        своим успехом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640" y="836640"/>
            <a:ext cx="8229240" cy="5646240"/>
          </a:xfrm>
          <a:prstGeom prst="rect">
            <a:avLst/>
          </a:prstGeom>
          <a:solidFill>
            <a:srgbClr val="d9d9d9"/>
          </a:solidFill>
          <a:ln w="38160">
            <a:noFill/>
          </a:ln>
          <a:effectLst>
            <a:outerShdw dist="12600" dir="5400000" blurRad="108000" rotWithShape="0">
              <a:srgbClr val="000000"/>
            </a:outerShdw>
          </a:effectLst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спешный педагог соответствует критериям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1. Профессиональным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2. Психологическим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3. Личностным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7" name="Рисунок 2" descr="детский рисунок.jpg"/>
          <p:cNvPicPr/>
          <p:nvPr/>
        </p:nvPicPr>
        <p:blipFill>
          <a:blip r:embed="rId1"/>
          <a:stretch/>
        </p:blipFill>
        <p:spPr>
          <a:xfrm rot="1020000">
            <a:off x="5192640" y="3772080"/>
            <a:ext cx="3178440" cy="2259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240" cy="5665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</a:rPr>
              <a:t>Педагогические  критерии успешности: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профессионализм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творчество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логическое мышлени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инновационная работ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</a:rPr>
              <a:t>э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диция</a:t>
            </a:r>
            <a:br>
              <a:rPr sz="2800"/>
            </a:br>
            <a:r>
              <a:rPr b="1" lang="ru-RU" sz="2800" spc="-1" strike="noStrike">
                <a:solidFill>
                  <a:srgbClr val="424456"/>
                </a:solidFill>
                <a:latin typeface="Times New Roman"/>
              </a:rPr>
              <a:t>- 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теллек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самоанализ</a:t>
            </a:r>
            <a:br>
              <a:rPr sz="2800"/>
            </a:br>
            <a:r>
              <a:rPr b="0" lang="ru-RU" sz="2800" spc="-1" strike="noStrike">
                <a:solidFill>
                  <a:srgbClr val="424456"/>
                </a:solidFill>
                <a:latin typeface="Times New Roman"/>
              </a:rPr>
              <a:t>- с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</a:rPr>
              <a:t>амообразование 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640" y="692640"/>
            <a:ext cx="8496720" cy="5288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Психологические критерии успешности:</a:t>
            </a:r>
            <a:br>
              <a:rPr sz="32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общени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интерес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мотивац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отношение « педагог- ребенок»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учет индивидуальных особенностей ребенка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640" y="764640"/>
            <a:ext cx="8229240" cy="5000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accent4">
                    <a:lumMod val="75000"/>
                  </a:schemeClr>
                </a:solidFill>
                <a:latin typeface="Times New Roman"/>
              </a:rPr>
              <a:t>Личностные критерии успешности педагога:</a:t>
            </a: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эмоциональность, выразительность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творческое начало лично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организаторские способно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чувство юмор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инициативность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настойчивость</a:t>
            </a:r>
            <a:br>
              <a:rPr sz="2800"/>
            </a:br>
            <a:r>
              <a:rPr b="1" lang="ru-RU" sz="2800" spc="-1" strike="noStrike">
                <a:solidFill>
                  <a:srgbClr val="424456"/>
                </a:solidFill>
                <a:latin typeface="Times New Roman"/>
              </a:rPr>
              <a:t>- 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циплинированность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429000"/>
            <a:ext cx="8229240" cy="2785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способствует формированию установленных критериев?</a:t>
            </a:r>
            <a:endParaRPr b="0" lang="ru-RU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Рисунок 2"/>
          <p:cNvSpPr/>
          <p:nvPr/>
        </p:nvSpPr>
        <p:spPr>
          <a:xfrm>
            <a:off x="2267640" y="764640"/>
            <a:ext cx="4868640" cy="331200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5214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5000" bIns="45000"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Имидж – статусный образ.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Влюбленный в детей и увлеченный своей работой педагог интуитивно и сознательно выбирает те модели поведения, которые наиболее адекватны к достоинству детей и их актуальным потребностям. Имидж такого педагога безупречен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 Виктор Максимович Шепель, доктор философских наук) </a:t>
            </a:r>
            <a:br>
              <a:rPr sz="3200"/>
            </a:b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640" y="548640"/>
            <a:ext cx="8229240" cy="6071760"/>
          </a:xfrm>
          <a:prstGeom prst="rect">
            <a:avLst/>
          </a:prstGeom>
          <a:solidFill>
            <a:srgbClr val="d9d9d9"/>
          </a:solidFill>
          <a:ln w="38160">
            <a:solidFill>
              <a:srgbClr val="ffc000"/>
            </a:solidFill>
            <a:round/>
          </a:ln>
          <a:effectLst>
            <a:outerShdw dist="12600" dir="5400000" blurRad="108000" rotWithShape="0">
              <a:srgbClr val="000000"/>
            </a:outerShdw>
          </a:effectLst>
        </p:spPr>
        <p:txBody>
          <a:bodyPr lIns="90000" rIns="90000" tIns="45000" bIns="45000"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ru-RU" sz="3100" spc="-1" strike="noStrike">
                <a:solidFill>
                  <a:srgbClr val="424456"/>
                </a:solidFill>
                <a:latin typeface="Times New Roman"/>
              </a:rPr>
              <a:t> 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100" spc="-1" strike="noStrike">
                <a:solidFill>
                  <a:srgbClr val="424456"/>
                </a:solidFill>
                <a:latin typeface="Times New Roman"/>
              </a:rPr>
              <a:t>Модель имиджа педагога</a:t>
            </a:r>
            <a:br>
              <a:rPr sz="3100"/>
            </a:br>
            <a:br>
              <a:rPr sz="31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ru-RU" sz="2200" spc="-1" strike="noStrike">
                <a:solidFill>
                  <a:srgbClr val="424456"/>
                </a:solidFill>
                <a:latin typeface="Times New Roman"/>
              </a:rPr>
              <a:t>В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уальная привлекательность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424456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шне привлекательные люди легче добиваются симпатий окружающих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хоженность, стиль, одежда, цвет, аксессуары, макияж, лицо, руки</a:t>
            </a:r>
            <a:r>
              <a:rPr b="0" lang="ru-RU" sz="2000" spc="-1" strike="noStrike">
                <a:solidFill>
                  <a:srgbClr val="424456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нешняя атрибутика классического стиля внушает уважение</a:t>
            </a:r>
            <a:r>
              <a:rPr b="0" lang="ru-RU" sz="2200" spc="-1" strike="noStrike">
                <a:solidFill>
                  <a:srgbClr val="424456"/>
                </a:solidFill>
                <a:latin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ru-RU" sz="2200" spc="-1" strike="noStrike">
                <a:solidFill>
                  <a:srgbClr val="424456"/>
                </a:solidFill>
                <a:latin typeface="Times New Roman"/>
              </a:rPr>
              <a:t>В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ербальное повед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 донести информацию не только словом, но 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нтонацией, темпом речи, паузой 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.д.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ru-RU" sz="2200" spc="-1" strike="noStrike">
                <a:solidFill>
                  <a:srgbClr val="424456"/>
                </a:solidFill>
                <a:latin typeface="Times New Roman"/>
              </a:rPr>
              <a:t> Н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евербально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едение </a:t>
            </a:r>
            <a:r>
              <a:rPr b="0" lang="ru-RU" sz="2000" spc="-1" strike="noStrike">
                <a:solidFill>
                  <a:srgbClr val="424456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явление культуры, как личной, так и национальной)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нимательный взгляд, доброжелательная улыбка, приветливые жест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йствуют располагающе. Важно помнить, что поясняющая жестикуляция с детьми способствует лучшему усвоению информации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- Манеры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показатель культурного уровня человека. Это отражение его нравственности и интеллекта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200" spc="-1" strike="noStrike">
                <a:solidFill>
                  <a:srgbClr val="424456"/>
                </a:solidFill>
                <a:latin typeface="Times New Roman"/>
              </a:rPr>
              <a:t>Э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ик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речевой, неречевой) (интонация, выбор слов и построение фраз; жесты приветствия, прощания, знаки внимания и т.п.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200" spc="-1" strike="noStrike">
                <a:solidFill>
                  <a:srgbClr val="424456"/>
                </a:solidFill>
                <a:latin typeface="Times New Roman"/>
              </a:rPr>
              <a:t>О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аяни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ительность, юмор)</a:t>
            </a:r>
            <a:br>
              <a:rPr sz="2000"/>
            </a:br>
            <a:r>
              <a:rPr b="0" lang="ru-RU" sz="2000" spc="-1" strike="noStrike">
                <a:solidFill>
                  <a:srgbClr val="424456"/>
                </a:solidFill>
                <a:latin typeface="Times New Roman"/>
              </a:rPr>
              <a:t>                                     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Ищите свою «породу»!</a:t>
            </a:r>
            <a:br>
              <a:rPr sz="2200"/>
            </a:b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Городская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1936</TotalTime>
  <Application>LibreOffice/7.4.7.2$Linux_X86_64 LibreOffice_project/40$Build-2</Application>
  <AppVersion>15.0000</AppVersion>
  <Words>82</Words>
  <Paragraphs>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02:48:17Z</dcterms:created>
  <dc:creator>user</dc:creator>
  <dc:description/>
  <dc:language>en-US</dc:language>
  <cp:lastModifiedBy>Светик</cp:lastModifiedBy>
  <cp:lastPrinted>2016-11-15T04:52:45Z</cp:lastPrinted>
  <dcterms:modified xsi:type="dcterms:W3CDTF">2016-11-16T13:56:15Z</dcterms:modified>
  <cp:revision>69</cp:revision>
  <dc:subject/>
  <dc:title>Педсовет «Культура педагогического труда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15</vt:r8>
  </property>
</Properties>
</file>