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B8B-29CB-4AD6-A906-8C8840B3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4DA-D6A7-4680-914B-75B184B1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A4A-4B0C-4A52-9B3A-1E14B062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1B2-159C-4840-9C82-FEDF69B0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7505-1D64-4CF6-96E3-493AE302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B942-719C-4937-A676-84AB0A33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39F0-731C-4EEA-8434-F5E96AB4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336C-6FB0-477C-B165-9EDB3DA0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2FA9-3CCE-4768-989B-13ECFB29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6428-B1D1-4D0B-A285-D9BA709B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3BE9-89DE-4A0F-A34C-659620A6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98F-2FCA-4B80-A9EE-18C4005F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DBE4-5202-4C26-97FA-0153D799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1EAB-6D3C-4B3D-9767-0EC209EA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2395-C11D-4D0E-8F23-726D84EB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E293-D4AA-4340-BCE5-5EB19B06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6679-E0B1-432D-933A-7DA2B74C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884-2248-4C06-A344-740C82FC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EEA-58C4-4D7A-B206-1FB0893E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409-8BB8-4DF5-8F53-2DF9CAFC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1F1-E6B4-4B1A-92F8-09A247A4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832-64F6-44D4-879A-F41A6C73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A1D-9C13-450C-B512-30E1F375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7E7-4AEF-46A3-B37E-4B8D1627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A335-A124-4D4F-93DE-F0E0E752ADC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E6E-3FEB-4B12-8361-74F6A16608A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ГР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2920" y="378900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92360" y="3284640"/>
            <a:ext cx="57531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Крестики-нолики"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е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о если наткнуться на иглы, то они легко обламываются и остаются в теле жертв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6237360"/>
            <a:ext cx="790560" cy="431640"/>
          </a:xfrm>
          <a:custGeom>
            <a:avLst/>
            <a:gdLst>
              <a:gd name="textAreaLeft" fmla="*/ 0 w 790560"/>
              <a:gd name="textAreaRight" fmla="*/ 790920 w 790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Викторина «Правда ли это</a:t>
            </a:r>
            <a:r>
              <a:rPr b="0" lang="en-US" sz="4400" spc="-1" strike="noStrike">
                <a:solidFill>
                  <a:srgbClr val="ffb800"/>
                </a:solidFill>
                <a:latin typeface="Comic Sans MS"/>
              </a:rPr>
              <a:t>?</a:t>
            </a: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Лапки олушей синеют от холода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3771720" cy="273060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7885080" y="6237360"/>
            <a:ext cx="790560" cy="431640"/>
          </a:xfrm>
          <a:custGeom>
            <a:avLst/>
            <a:gdLst>
              <a:gd name="textAreaLeft" fmla="*/ 0 w 790560"/>
              <a:gd name="textAreaRight" fmla="*/ 790920 w 790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е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олушей действительно лапки синего цвета, но это никак не связано с низкой температур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7667640" y="6165720"/>
            <a:ext cx="865080" cy="432000"/>
          </a:xfrm>
          <a:custGeom>
            <a:avLst/>
            <a:gdLst>
              <a:gd name="textAreaLeft" fmla="*/ 0 w 865080"/>
              <a:gd name="textAreaRight" fmla="*/ 865440 w 8650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Викторина «Правда ли это</a:t>
            </a:r>
            <a:r>
              <a:rPr b="0" lang="en-US" sz="4400" spc="-1" strike="noStrike">
                <a:solidFill>
                  <a:srgbClr val="ffb800"/>
                </a:solidFill>
                <a:latin typeface="Comic Sans MS"/>
              </a:rPr>
              <a:t>?</a:t>
            </a: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динокие волки воют на луну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77208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7740720" y="6093000"/>
            <a:ext cx="863640" cy="504720"/>
          </a:xfrm>
          <a:custGeom>
            <a:avLst/>
            <a:gdLst>
              <a:gd name="textAreaLeft" fmla="*/ 0 w 863640"/>
              <a:gd name="textAreaRight" fmla="*/ 864000 w 8636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е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лки воют для того, чтобы предупредить волков других стай о том, что территория заня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885080" y="6308640"/>
            <a:ext cx="719280" cy="360360"/>
          </a:xfrm>
          <a:custGeom>
            <a:avLst/>
            <a:gdLst>
              <a:gd name="textAreaLeft" fmla="*/ 0 w 719280"/>
              <a:gd name="textAreaRight" fmla="*/ 719640 w 719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Викторина «Правда ли это</a:t>
            </a:r>
            <a:r>
              <a:rPr b="0" lang="en-US" sz="4400" spc="-1" strike="noStrike">
                <a:solidFill>
                  <a:srgbClr val="ffb800"/>
                </a:solidFill>
                <a:latin typeface="Comic Sans MS"/>
              </a:rPr>
              <a:t>?</a:t>
            </a: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Кобра танцует под звуки дудочки факира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5800" y="2386080"/>
            <a:ext cx="3772080" cy="254160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956720" y="6237360"/>
            <a:ext cx="718920" cy="431640"/>
          </a:xfrm>
          <a:custGeom>
            <a:avLst/>
            <a:gdLst>
              <a:gd name="textAreaLeft" fmla="*/ 0 w 718920"/>
              <a:gd name="textAreaRight" fmla="*/ 719280 w 718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е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бра не слышит музыки, а следует за движением дудочки, готовая к ата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7956720" y="6237360"/>
            <a:ext cx="718920" cy="431640"/>
          </a:xfrm>
          <a:custGeom>
            <a:avLst/>
            <a:gdLst>
              <a:gd name="textAreaLeft" fmla="*/ 0 w 718920"/>
              <a:gd name="textAreaRight" fmla="*/ 719280 w 718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Викторина «Правда ли это</a:t>
            </a:r>
            <a:r>
              <a:rPr b="0" lang="en-US" sz="4400" spc="-1" strike="noStrike">
                <a:solidFill>
                  <a:srgbClr val="ffb800"/>
                </a:solidFill>
                <a:latin typeface="Comic Sans MS"/>
              </a:rPr>
              <a:t>?</a:t>
            </a: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27640" y="1844640"/>
            <a:ext cx="396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Кончик меча у меч-рыбы отравлен смертоносным мышьяком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23194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7956720" y="6165720"/>
            <a:ext cx="718920" cy="432000"/>
          </a:xfrm>
          <a:custGeom>
            <a:avLst/>
            <a:gdLst>
              <a:gd name="textAreaLeft" fmla="*/ 0 w 718920"/>
              <a:gd name="textAreaRight" fmla="*/ 719280 w 71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е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еч-рыба абсолютно безвред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7812000" y="6021360"/>
            <a:ext cx="792360" cy="647640"/>
          </a:xfrm>
          <a:prstGeom prst="upArrowCallout">
            <a:avLst>
              <a:gd name="adj1" fmla="val 30589"/>
              <a:gd name="adj2" fmla="val 30586"/>
              <a:gd name="adj3" fmla="val 16667"/>
              <a:gd name="adj4" fmla="val 66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Конкурс «Живая букв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манды за одну минуту должны вспомнить название цветка, дерева, насекомого, рыбы, птицы, зверя. За каждое название – 1 бал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6588000" y="5661000"/>
            <a:ext cx="1008360" cy="50472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116000" y="333360"/>
          <a:ext cx="6624720" cy="530532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Правда ли это</a:t>
                      </a: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Что лишнее</a:t>
                      </a: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ff8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ивая бук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17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егенды о цвета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b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а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8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гулка в ле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d2d5"/>
                    </a:solidFill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 рисую натюрмор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de1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оп-кад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5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оссвор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9e74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Конкурс «Живая букв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ве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ре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секо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ы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т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ве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7956720" y="6237360"/>
            <a:ext cx="718920" cy="431640"/>
          </a:xfrm>
          <a:custGeom>
            <a:avLst/>
            <a:gdLst>
              <a:gd name="textAreaLeft" fmla="*/ 0 w 718920"/>
              <a:gd name="textAreaRight" fmla="*/ 719280 w 718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Конкурс «Живая букв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ве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Comic Sans MS"/>
                        </a:rPr>
                        <a:t>Одуван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Comic Sans MS"/>
                        </a:rPr>
                        <a:t>Календ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ре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Comic Sans MS"/>
                        </a:rPr>
                        <a:t>Ольх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Comic Sans MS"/>
                        </a:rPr>
                        <a:t>Кл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секо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Comic Sans MS"/>
                        </a:rPr>
                        <a:t>Ов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Comic Sans MS"/>
                        </a:rPr>
                        <a:t>Ком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ы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Comic Sans MS"/>
                        </a:rPr>
                        <a:t>Оку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Comic Sans MS"/>
                        </a:rPr>
                        <a:t>Кар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т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Comic Sans MS"/>
                        </a:rPr>
                        <a:t>Ор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Comic Sans MS"/>
                        </a:rPr>
                        <a:t>Колиб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ве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Comic Sans MS"/>
                        </a:rPr>
                        <a:t>Ол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Comic Sans MS"/>
                        </a:rPr>
                        <a:t>Ко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7596360" y="6021360"/>
            <a:ext cx="863280" cy="647640"/>
          </a:xfrm>
          <a:prstGeom prst="upArrowCallout">
            <a:avLst>
              <a:gd name="adj1" fmla="val 33327"/>
              <a:gd name="adj2" fmla="val 33324"/>
              <a:gd name="adj3" fmla="val 16667"/>
              <a:gd name="adj4" fmla="val 66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монстрируются слайды с изображениями животных. Команды по очереди угадывают животных. Правильный ответ – 1 бал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7308720" y="5877000"/>
            <a:ext cx="1150920" cy="504720"/>
          </a:xfrm>
          <a:prstGeom prst="rightArrow">
            <a:avLst>
              <a:gd name="adj1" fmla="val 50000"/>
              <a:gd name="adj2" fmla="val 57008"/>
            </a:avLst>
          </a:pr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92360" y="1943280"/>
            <a:ext cx="5327640" cy="36734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7812000" y="6165720"/>
            <a:ext cx="792360" cy="503280"/>
          </a:xfrm>
          <a:custGeom>
            <a:avLst/>
            <a:gdLst>
              <a:gd name="textAreaLeft" fmla="*/ 0 w 792360"/>
              <a:gd name="textAreaRight" fmla="*/ 792720 w 792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763640" y="1871640"/>
            <a:ext cx="5151600" cy="386388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7812000" y="6093000"/>
            <a:ext cx="720720" cy="50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7812000" y="6093000"/>
            <a:ext cx="720720" cy="50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835280" y="1828800"/>
            <a:ext cx="50893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812000" y="6093000"/>
            <a:ext cx="720720" cy="50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979640" y="1716120"/>
            <a:ext cx="460836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7812000" y="6093000"/>
            <a:ext cx="720720" cy="50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676520" y="2076480"/>
            <a:ext cx="5715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7812000" y="6093000"/>
            <a:ext cx="720720" cy="50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979640" y="1900080"/>
            <a:ext cx="4697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7812000" y="6093000"/>
            <a:ext cx="720720" cy="50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763640" y="1828800"/>
            <a:ext cx="52088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Конкурс «Что лишнее</a:t>
            </a: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?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 ряда слов команды по очереди определяют лишнее слово и объясняют свое решение. За правильный ответ 2 балла (один балл за правильное слово, второй - за объяснение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6877080" y="5877000"/>
            <a:ext cx="1224000" cy="431640"/>
          </a:xfrm>
          <a:prstGeom prst="rightArrow">
            <a:avLst>
              <a:gd name="adj1" fmla="val 50000"/>
              <a:gd name="adj2" fmla="val 70892"/>
            </a:avLst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812000" y="6093000"/>
            <a:ext cx="720720" cy="50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835280" y="1828800"/>
            <a:ext cx="51372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7812000" y="6093000"/>
            <a:ext cx="720720" cy="50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763640" y="1828800"/>
            <a:ext cx="504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7812000" y="6093000"/>
            <a:ext cx="720720" cy="50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763640" y="1987560"/>
            <a:ext cx="51134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7812000" y="6093000"/>
            <a:ext cx="720720" cy="50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563840" y="1828800"/>
            <a:ext cx="5940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812000" y="6093000"/>
            <a:ext cx="720720" cy="50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862360" y="1828800"/>
            <a:ext cx="28908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Стоп-кад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790640" y="182880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7524720" y="5950080"/>
            <a:ext cx="934920" cy="647640"/>
          </a:xfrm>
          <a:prstGeom prst="upArrowCallout">
            <a:avLst>
              <a:gd name="adj1" fmla="val 36093"/>
              <a:gd name="adj2" fmla="val 36089"/>
              <a:gd name="adj3" fmla="val 16667"/>
              <a:gd name="adj4" fmla="val 66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9892"/>
                </a:solidFill>
                <a:latin typeface="Comic Sans MS"/>
              </a:rPr>
              <a:t>Конкурс «Анаграммы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мандам за две минуты необходимо переставить буквы так, чтобы получилось название цвет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 каждый правильный ответ – 1 балл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7596360" y="602136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d498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9892"/>
                </a:solidFill>
                <a:latin typeface="Comic Sans MS"/>
              </a:rPr>
              <a:t>Конкурс «Анаграммы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тс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адулен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ытабр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цаг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докив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игасол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дзанеб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ихрема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7812000" y="6021360"/>
            <a:ext cx="720720" cy="576360"/>
          </a:xfrm>
          <a:prstGeom prst="upArrowCallout">
            <a:avLst>
              <a:gd name="adj1" fmla="val 31264"/>
              <a:gd name="adj2" fmla="val 31262"/>
              <a:gd name="adj3" fmla="val 16667"/>
              <a:gd name="adj4" fmla="val 66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8bdb"/>
                </a:solidFill>
                <a:latin typeface="Comic Sans MS"/>
              </a:rPr>
              <a:t>Конкурс «Прогулка в лес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ступила весна, солнце пригрело землю. Распустились почки, зацвели первые цветы. Люди чаще стали проводить время на природе. Представьте, что вы собрались устроить пикник на лесной полянке. Какие правила поведения в лесу нужно помнить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беждает команда, давшая больше правильных ответ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7667640" y="5950080"/>
            <a:ext cx="865080" cy="647640"/>
          </a:xfrm>
          <a:prstGeom prst="upArrowCallout">
            <a:avLst>
              <a:gd name="adj1" fmla="val 33397"/>
              <a:gd name="adj2" fmla="val 33394"/>
              <a:gd name="adj3" fmla="val 16667"/>
              <a:gd name="adj4" fmla="val 66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e185"/>
                </a:solidFill>
                <a:latin typeface="Comic Sans MS"/>
              </a:rPr>
              <a:t>Конкурс «Я рисую натюрморт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мандам раздаются комплекты разрезанных картинок. Команды должны восстановить картинки. Побеждает команда, выполнившая задание перв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7596360" y="5805360"/>
            <a:ext cx="936360" cy="719280"/>
          </a:xfrm>
          <a:prstGeom prst="upArrowCallout">
            <a:avLst>
              <a:gd name="adj1" fmla="val 32548"/>
              <a:gd name="adj2" fmla="val 32545"/>
              <a:gd name="adj3" fmla="val 16667"/>
              <a:gd name="adj4" fmla="val 66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Конкурс «Что лишнее</a:t>
            </a: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?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рот, дождевой червь, многоножка, личинка майского жука, стрекоз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тучая мышь, голубь, страус, бабочка, летучая рыб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ошадь, заяц, суслик, кошка, хомя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бака, рысь, коза, корова, лошад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6732720" y="5877000"/>
            <a:ext cx="934920" cy="431640"/>
          </a:xfrm>
          <a:prstGeom prst="rightArrow">
            <a:avLst>
              <a:gd name="adj1" fmla="val 50000"/>
              <a:gd name="adj2" fmla="val 54149"/>
            </a:avLst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нкурс «Легенды о цветах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 каком цветке идет реч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 правильный ответ – 1 бал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7451640" y="6165720"/>
            <a:ext cx="1008000" cy="358920"/>
          </a:xfrm>
          <a:prstGeom prst="rightArrow">
            <a:avLst>
              <a:gd name="adj1" fmla="val 50000"/>
              <a:gd name="adj2" fmla="val 70211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Конкурс «Легенды о цветах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атинское название этого цветка в переводе означает «молочно-белый цветок». Легенда гласит, что когда Адам и Ева были изгнаны из рая, шел сильный снег. Чтобы как-то успокоить и согреть ее, некоторые снежинки превратились в цветы. С тех пор это цветок стал символом надеж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7308720" y="6237360"/>
            <a:ext cx="1008360" cy="360360"/>
          </a:xfrm>
          <a:prstGeom prst="rightArrow">
            <a:avLst>
              <a:gd name="adj1" fmla="val 50000"/>
              <a:gd name="adj2" fmla="val 69955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Подснежник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7308720" y="6165720"/>
            <a:ext cx="1079640" cy="432000"/>
          </a:xfrm>
          <a:prstGeom prst="rightArrow">
            <a:avLst>
              <a:gd name="adj1" fmla="val 50000"/>
              <a:gd name="adj2" fmla="val 62479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Конкурс «Легенды о цветах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одина этого цветка – Персия. Однажды в апреле богиня цветов Флора спустилась на землю. Перемешав все цветы и краски, она начала ими осыпать луга и поля. Дойдя до северных уголков земли, богиня обнаружила что краски закончились и осталась только одна – лиловая. Тогда Флора брызнула эту краску на кусты, и на них выросли красивые цвет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7308720" y="6237360"/>
            <a:ext cx="1008360" cy="360360"/>
          </a:xfrm>
          <a:prstGeom prst="rightArrow">
            <a:avLst>
              <a:gd name="adj1" fmla="val 50000"/>
              <a:gd name="adj2" fmla="val 69955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Сирень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7308720" y="6165720"/>
            <a:ext cx="1079640" cy="432000"/>
          </a:xfrm>
          <a:prstGeom prst="rightArrow">
            <a:avLst>
              <a:gd name="adj1" fmla="val 50000"/>
              <a:gd name="adj2" fmla="val 62479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Конкурс «Легенды о цветах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Англии этот цветок воспет поэтами. В сказках он служит колыбелью для малюток фей и эльфов. Его родина – Персия, откуда он перекочевал в Турцию, а затем – в Европу. Этим цветком славится Голландия. Когда-то одна луковица этого цветка стоила, как целый д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6237360"/>
            <a:ext cx="1008360" cy="360360"/>
          </a:xfrm>
          <a:prstGeom prst="rightArrow">
            <a:avLst>
              <a:gd name="adj1" fmla="val 50000"/>
              <a:gd name="adj2" fmla="val 69955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Тюльпан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7740720" y="5950080"/>
            <a:ext cx="863640" cy="647640"/>
          </a:xfrm>
          <a:prstGeom prst="upArrowCallout">
            <a:avLst>
              <a:gd name="adj1" fmla="val 33341"/>
              <a:gd name="adj2" fmla="val 33338"/>
              <a:gd name="adj3" fmla="val 16667"/>
              <a:gd name="adj4" fmla="val 66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745"/>
                </a:solidFill>
                <a:latin typeface="Comic Sans MS"/>
              </a:rPr>
              <a:t>Конкурс «Кроссворд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ремя выполнения задания – 3 ми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ждое разгаданное слово – 1 бал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 равенстве баллов побеждает команда, первой выполнившая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7451640" y="60930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745"/>
                </a:solidFill>
                <a:latin typeface="Comic Sans MS"/>
              </a:rPr>
              <a:t>Кроссворд «Животные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71640" y="1125360"/>
          <a:ext cx="7200720" cy="5023080"/>
        </p:xfrm>
        <a:graphic>
          <a:graphicData uri="http://schemas.openxmlformats.org/drawingml/2006/table">
            <a:tbl>
              <a:tblPr/>
              <a:tblGrid>
                <a:gridCol w="431640"/>
                <a:gridCol w="720720"/>
                <a:gridCol w="647640"/>
                <a:gridCol w="720720"/>
                <a:gridCol w="801720"/>
                <a:gridCol w="692280"/>
                <a:gridCol w="665280"/>
                <a:gridCol w="649080"/>
                <a:gridCol w="625680"/>
                <a:gridCol w="623880"/>
                <a:gridCol w="622080"/>
              </a:tblGrid>
              <a:tr h="36828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россворд "Животные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7236000" y="6237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b9e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e745"/>
                </a:solidFill>
                <a:latin typeface="Comic Sans MS"/>
              </a:rPr>
              <a:t>Кроссворд «Животные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4920" y="691920"/>
            <a:ext cx="4321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ерен, да не ворон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Шесть ног без копыт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ежит – воет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адет – землю ро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.    Живет в лесу 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хает, как разбойник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юди его боятся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А он людей боитс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убовато, серовато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 полю рыщет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Телят, овец ищ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е зверь, не птица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А нос, как спица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етит - кричит, сидит – молчи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то его убьет,свою кровь проль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9800" y="764640"/>
            <a:ext cx="399420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5.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е ездок, а со шпора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е сторож, а всех буди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6.  Бог из глины лепил антилопу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о имел слишком маленький   опы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н, конечно, старался, как мог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И теперь у нас есть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7.  Бела, как снег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ерна, как жук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ертится, как бес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А повертка в лес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8.  Из куста шипуля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 ногу тяпул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7451640" y="6021360"/>
            <a:ext cx="865440" cy="576360"/>
          </a:xfrm>
          <a:prstGeom prst="upArrowCallout">
            <a:avLst>
              <a:gd name="adj1" fmla="val 37542"/>
              <a:gd name="adj2" fmla="val 37539"/>
              <a:gd name="adj3" fmla="val 16667"/>
              <a:gd name="adj4" fmla="val 66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615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елый медведь, лев, антилопа, гиена, койо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йка, буревестник, рыбный филин, зимородок, скворец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ит, морж, осьминог, носорог, аку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740720" y="5950080"/>
            <a:ext cx="863640" cy="647640"/>
          </a:xfrm>
          <a:prstGeom prst="upArrowCallout">
            <a:avLst>
              <a:gd name="adj1" fmla="val 33341"/>
              <a:gd name="adj2" fmla="val 33338"/>
              <a:gd name="adj3" fmla="val 16667"/>
              <a:gd name="adj4" fmla="val 66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Викторина «Правда ли это</a:t>
            </a:r>
            <a:r>
              <a:rPr b="0" lang="en-US" sz="4400" spc="-1" strike="noStrike">
                <a:solidFill>
                  <a:srgbClr val="ffb800"/>
                </a:solidFill>
                <a:latin typeface="Comic Sans MS"/>
              </a:rPr>
              <a:t>?</a:t>
            </a: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вопросы викторины команды одновременно отвечают «да» или «нет», поднимая соответствующие карточки. Каждый правильный ответ – 1 бал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6443640" y="5589720"/>
            <a:ext cx="1297080" cy="503280"/>
          </a:xfrm>
          <a:prstGeom prst="rightArrow">
            <a:avLst>
              <a:gd name="adj1" fmla="val 50000"/>
              <a:gd name="adj2" fmla="val 64431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Викторина «Правда ли это</a:t>
            </a:r>
            <a:r>
              <a:rPr b="0" lang="en-US" sz="4400" spc="-1" strike="noStrike">
                <a:solidFill>
                  <a:srgbClr val="ffb800"/>
                </a:solidFill>
                <a:latin typeface="Comic Sans MS"/>
              </a:rPr>
              <a:t>?</a:t>
            </a: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жьи коровки кусаются, когда рассержены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4920" y="1828800"/>
            <a:ext cx="2449440" cy="3657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0" y="623736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е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гда божьим коровкам досаждают, из их суставов сочится кровеобразная едкая жидкость, раздражающая кож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7885080" y="6165720"/>
            <a:ext cx="790560" cy="503280"/>
          </a:xfrm>
          <a:custGeom>
            <a:avLst/>
            <a:gdLst>
              <a:gd name="textAreaLeft" fmla="*/ 0 w 790560"/>
              <a:gd name="textAreaRight" fmla="*/ 790920 w 7905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Викторина «Правда ли это</a:t>
            </a:r>
            <a:r>
              <a:rPr b="0" lang="en-US" sz="4400" spc="-1" strike="noStrike">
                <a:solidFill>
                  <a:srgbClr val="ffb800"/>
                </a:solidFill>
                <a:latin typeface="Comic Sans MS"/>
              </a:rPr>
              <a:t>?</a:t>
            </a: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Дикобраз стреляет своими иглами во врагов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52400" y="1828800"/>
            <a:ext cx="363852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7885080" y="6165720"/>
            <a:ext cx="790560" cy="432000"/>
          </a:xfrm>
          <a:custGeom>
            <a:avLst/>
            <a:gdLst>
              <a:gd name="textAreaLeft" fmla="*/ 0 w 790560"/>
              <a:gd name="textAreaRight" fmla="*/ 790920 w 7905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9:39:16Z</dcterms:created>
  <dc:creator>Кабанет директора</dc:creator>
  <dc:description/>
  <dc:language>en-US</dc:language>
  <cp:lastModifiedBy>Кабинет ЗАВУЧа</cp:lastModifiedBy>
  <dcterms:modified xsi:type="dcterms:W3CDTF">2012-03-08T13:53:13Z</dcterms:modified>
  <cp:revision>7</cp:revision>
  <dc:subject/>
  <dc:title>ИГРА</dc:title>
</cp:coreProperties>
</file>