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014-5AFE-4A10-9CDD-4E893766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A9E-62D3-4068-ABB4-C49A51EF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F08-F395-4185-965E-98533E92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398-75DC-4087-B5FC-66DC9FC7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E8C-3898-427E-B100-F5DD9B13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567-66D3-477E-BCBA-0E39EEDC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235-1F0D-4D9D-B231-A809B2F8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A78-F9B8-40BB-8E0C-3D0C784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11C-071F-4E2D-9346-4D81C842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FFB-6EA6-4E0E-9F08-24B6C8D4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F4A-A079-47E1-8C4B-FC5CF75E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D46-6396-4D82-8103-6C8846B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D467-041B-4F42-BDE3-646BC8C41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G_0001"/>
          <p:cNvPicPr/>
          <p:nvPr/>
        </p:nvPicPr>
        <p:blipFill>
          <a:blip r:embed="rId2"/>
          <a:stretch/>
        </p:blipFill>
        <p:spPr>
          <a:xfrm>
            <a:off x="7543800" y="277920"/>
            <a:ext cx="1600200" cy="2998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IMG"/>
          <p:cNvPicPr/>
          <p:nvPr/>
        </p:nvPicPr>
        <p:blipFill>
          <a:blip r:embed="rId3"/>
          <a:stretch/>
        </p:blipFill>
        <p:spPr>
          <a:xfrm>
            <a:off x="304920" y="3809880"/>
            <a:ext cx="1511280" cy="2660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Граф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P110313_08"/>
          <p:cNvPicPr/>
          <p:nvPr/>
        </p:nvPicPr>
        <p:blipFill>
          <a:blip r:embed="rId4"/>
          <a:stretch/>
        </p:blipFill>
        <p:spPr>
          <a:xfrm>
            <a:off x="2819520" y="3276720"/>
            <a:ext cx="4140000" cy="31035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685800" y="1528920"/>
            <a:ext cx="693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 клетки вправо, 1 клетка вниз, 1 клетка влево, 1 клетка вниз, 3 клетки вправо, 1 клетка вниз, 4 клетки вправо, 2 клетки вниз, 9 клеток влево, 3 клетки вверх, 1 клетка вправо, 1 клетка вверх, 1 клетка влево, 1 клетка ввер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://img0.liveinternet.ru/images/attach/c/10/108/932/108932410_Katrinchi_Po_schuchemu_veleniyu.jpg"/>
          <p:cNvPicPr/>
          <p:nvPr/>
        </p:nvPicPr>
        <p:blipFill>
          <a:blip r:embed="rId5"/>
          <a:stretch/>
        </p:blipFill>
        <p:spPr>
          <a:xfrm>
            <a:off x="76320" y="457200"/>
            <a:ext cx="89913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_0001"/>
          <p:cNvPicPr/>
          <p:nvPr/>
        </p:nvPicPr>
        <p:blipFill>
          <a:blip r:embed="rId2"/>
          <a:stretch/>
        </p:blipFill>
        <p:spPr>
          <a:xfrm>
            <a:off x="7543800" y="277920"/>
            <a:ext cx="1600200" cy="299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G"/>
          <p:cNvPicPr/>
          <p:nvPr/>
        </p:nvPicPr>
        <p:blipFill>
          <a:blip r:embed="rId3"/>
          <a:stretch/>
        </p:blipFill>
        <p:spPr>
          <a:xfrm>
            <a:off x="304920" y="3809880"/>
            <a:ext cx="1511280" cy="2660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Граф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P110313_08"/>
          <p:cNvPicPr/>
          <p:nvPr/>
        </p:nvPicPr>
        <p:blipFill>
          <a:blip r:embed="rId4"/>
          <a:stretch/>
        </p:blipFill>
        <p:spPr>
          <a:xfrm>
            <a:off x="2819520" y="3276720"/>
            <a:ext cx="4140000" cy="3103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685800" y="1528920"/>
            <a:ext cx="6934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 клетки вправо, 1 клетка вниз, 1 клетка влево, 1 клетка вниз, 3 клетки вправо, 1 клетка вниз, 4 клетки вправо, 2 клетки вниз, 9 клеток влево, 3 клетки вверх, 1 клетка вправо, 1 клетка вверх, 1 клетка влево, 1 клетка ввер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000680" y="4983120"/>
            <a:ext cx="57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8"/>
          <p:cNvGrpSpPr/>
          <p:nvPr/>
        </p:nvGrpSpPr>
        <p:grpSpPr>
          <a:xfrm>
            <a:off x="6553080" y="4952880"/>
            <a:ext cx="2133720" cy="1524240"/>
            <a:chOff x="6553080" y="4952880"/>
            <a:chExt cx="2133720" cy="1524240"/>
          </a:xfrm>
        </p:grpSpPr>
        <p:pic>
          <p:nvPicPr>
            <p:cNvPr id="54" name="Picture 4" descr="IMG_0007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21337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86"/>
            <p:cNvSpPr/>
            <p:nvPr/>
          </p:nvSpPr>
          <p:spPr>
            <a:xfrm>
              <a:off x="6553080" y="4952880"/>
              <a:ext cx="278280" cy="173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7"/>
            <p:cNvSpPr/>
            <p:nvPr/>
          </p:nvSpPr>
          <p:spPr>
            <a:xfrm>
              <a:off x="8408520" y="6302880"/>
              <a:ext cx="278280" cy="174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03"/>
          <p:cNvSpPr/>
          <p:nvPr/>
        </p:nvSpPr>
        <p:spPr>
          <a:xfrm>
            <a:off x="762120" y="2286000"/>
            <a:ext cx="1066680" cy="11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2"/>
          <p:cNvSpPr/>
          <p:nvPr/>
        </p:nvSpPr>
        <p:spPr>
          <a:xfrm flipV="1">
            <a:off x="2057400" y="2514600"/>
            <a:ext cx="419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9"/>
          <p:cNvSpPr/>
          <p:nvPr/>
        </p:nvSpPr>
        <p:spPr>
          <a:xfrm>
            <a:off x="4038480" y="41148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3"/>
          <p:cNvSpPr/>
          <p:nvPr/>
        </p:nvSpPr>
        <p:spPr>
          <a:xfrm>
            <a:off x="1981080" y="3505320"/>
            <a:ext cx="34308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6"/>
          <p:cNvSpPr/>
          <p:nvPr/>
        </p:nvSpPr>
        <p:spPr>
          <a:xfrm>
            <a:off x="1981080" y="1905120"/>
            <a:ext cx="5335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1"/>
          <p:cNvSpPr/>
          <p:nvPr/>
        </p:nvSpPr>
        <p:spPr>
          <a:xfrm>
            <a:off x="1752480" y="3809880"/>
            <a:ext cx="609840" cy="51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1"/>
          <p:cNvSpPr/>
          <p:nvPr/>
        </p:nvSpPr>
        <p:spPr>
          <a:xfrm>
            <a:off x="5715000" y="41148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5867280" y="23623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4038480" y="2286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4"/>
          <p:cNvSpPr/>
          <p:nvPr/>
        </p:nvSpPr>
        <p:spPr>
          <a:xfrm>
            <a:off x="380880" y="76464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устые кружочки написать только 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0"/>
          <p:cNvSpPr/>
          <p:nvPr/>
        </p:nvSpPr>
        <p:spPr>
          <a:xfrm>
            <a:off x="4481640" y="18216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4"/>
          <p:cNvSpPr/>
          <p:nvPr/>
        </p:nvSpPr>
        <p:spPr>
          <a:xfrm>
            <a:off x="3186000" y="227880"/>
            <a:ext cx="27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6"/>
          <p:cNvSpPr/>
          <p:nvPr/>
        </p:nvSpPr>
        <p:spPr>
          <a:xfrm>
            <a:off x="1800" y="29876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3"/>
          <p:cNvSpPr/>
          <p:nvPr/>
        </p:nvSpPr>
        <p:spPr>
          <a:xfrm>
            <a:off x="2819520" y="3505320"/>
            <a:ext cx="1066680" cy="1110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3"/>
          <p:cNvSpPr/>
          <p:nvPr/>
        </p:nvSpPr>
        <p:spPr>
          <a:xfrm>
            <a:off x="2819520" y="1828800"/>
            <a:ext cx="1066680" cy="11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3"/>
          <p:cNvSpPr/>
          <p:nvPr/>
        </p:nvSpPr>
        <p:spPr>
          <a:xfrm>
            <a:off x="4495680" y="3581280"/>
            <a:ext cx="1067040" cy="11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3"/>
          <p:cNvSpPr/>
          <p:nvPr/>
        </p:nvSpPr>
        <p:spPr>
          <a:xfrm>
            <a:off x="4572000" y="1828800"/>
            <a:ext cx="1066680" cy="11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3"/>
          <p:cNvSpPr/>
          <p:nvPr/>
        </p:nvSpPr>
        <p:spPr>
          <a:xfrm>
            <a:off x="6248520" y="3581280"/>
            <a:ext cx="1066680" cy="11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"/>
          <p:cNvSpPr/>
          <p:nvPr/>
        </p:nvSpPr>
        <p:spPr>
          <a:xfrm>
            <a:off x="6324480" y="1828800"/>
            <a:ext cx="1067040" cy="111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019360" y="6038280"/>
            <a:ext cx="344160" cy="34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7010280" y="5715000"/>
            <a:ext cx="3812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6705720" y="5105520"/>
            <a:ext cx="3808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1143000" y="6019920"/>
            <a:ext cx="3808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2209680" y="5638680"/>
            <a:ext cx="3812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438280" y="5029200"/>
            <a:ext cx="3812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743200" y="15274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полене написана цифра. Назвать соседей этой цифр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152280" y="350532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3703680" y="2301840"/>
            <a:ext cx="57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5181480" y="3200400"/>
            <a:ext cx="3048120" cy="2666880"/>
            <a:chOff x="5181480" y="3200400"/>
            <a:chExt cx="3048120" cy="2666880"/>
          </a:xfrm>
        </p:grpSpPr>
        <p:pic>
          <p:nvPicPr>
            <p:cNvPr id="86" name="Picture 6" descr="IMG_0007"/>
            <p:cNvPicPr/>
            <p:nvPr/>
          </p:nvPicPr>
          <p:blipFill>
            <a:blip r:embed="rId2"/>
            <a:stretch/>
          </p:blipFill>
          <p:spPr>
            <a:xfrm>
              <a:off x="5181480" y="3200400"/>
              <a:ext cx="30481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7"/>
            <p:cNvSpPr/>
            <p:nvPr/>
          </p:nvSpPr>
          <p:spPr>
            <a:xfrm>
              <a:off x="5181480" y="3200400"/>
              <a:ext cx="397440" cy="304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831800" y="5562360"/>
              <a:ext cx="397440" cy="304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Прямоугольник 36"/>
          <p:cNvSpPr/>
          <p:nvPr/>
        </p:nvSpPr>
        <p:spPr>
          <a:xfrm>
            <a:off x="762120" y="1413000"/>
            <a:ext cx="6095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родолжай – не зева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– это 2 + …                             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– это 3 + 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– это 4 + 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– это 3 + 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– это 2 +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opup_img" descr="ANd9GcQkCh75jH6UI9V3b-E2YD7_mNco-bGt8crYd-MKWafRHb2LXz0FsnEhUA"/>
          <p:cNvPicPr/>
          <p:nvPr/>
        </p:nvPicPr>
        <p:blipFill>
          <a:blip r:embed="rId2"/>
          <a:stretch/>
        </p:blipFill>
        <p:spPr>
          <a:xfrm>
            <a:off x="228600" y="457200"/>
            <a:ext cx="4424400" cy="357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7960" y="1066320"/>
            <a:ext cx="4267080" cy="41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ять зелёных лягуша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есочке в ряд лежа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ому из пяти брат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хотелось искупать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льным же неохо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вращаться вновь в  боло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лько лягушат осталось  лежать на песке?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533520" y="4495680"/>
            <a:ext cx="381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яной поймал в первый раз 4 лягушек, а во второй раз 3 лягушек. Сколько всего лягушек поймал Водяно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1676520" y="457200"/>
            <a:ext cx="600048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5835600" cy="37339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0"/>
          <p:cNvSpPr/>
          <p:nvPr/>
        </p:nvSpPr>
        <p:spPr>
          <a:xfrm>
            <a:off x="380880" y="304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фигура лишняя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2</cp:lastModifiedBy>
  <dcterms:modified xsi:type="dcterms:W3CDTF">2015-10-01T12:16:4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